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EC31-A641-4ABA-BDA7-F39B988D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9AD-778A-40C1-8D3D-3F20688C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792-35E5-450C-B1AF-810E8412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F88-E12D-4D10-8BE1-15B27734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5511-F36D-40F6-8A6E-1EEF69F3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62C5-5B6D-4143-99C1-5FBDF621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ED8E-FEC6-4DF8-90DE-FEE146ED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F97F-86E9-4B58-BA98-A3412AB5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247E-8448-4677-82D8-7DAFF424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8CC6-9E7B-4175-8D68-BFFDF73E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EF98-8844-4FDD-9FC0-DF8FFDA7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45E-24AF-4C07-93A0-CDBEAAA5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E0A8-7DC4-4472-A979-A74E8203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4318-A684-423A-86A5-BBAA9A59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F9F1-7348-4AC7-9B8A-898C6C18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A2CB-FDFB-46AF-AF21-CF087284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4724-518A-4E89-AD82-E4808F38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9969-9691-4143-8A38-74CD9388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4790C-87ED-4D08-9F1B-7A1070B6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1391B-6770-4054-AC1C-B0CACA00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1344-FA8A-41C6-8E4E-97C002C3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B908F-3DBE-467C-8AD2-FE70E8B0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88B-FAD8-4D27-8A75-C29CFF1D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A4E8-014D-403F-9AEB-D0F92F4B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7C91C-DA5C-46AF-918E-FC656536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6DA26-3D71-4B14-B928-DB2C712E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2C279-36C4-4E98-8820-5CBDED00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5BC48-9AB4-48F5-966E-4F9FC475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229C-C39A-4C7B-B0CF-B766B707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3E9F9-4748-48B7-8BD8-E74EDB64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CBFB5-AD50-485E-B975-F73CFC3E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C72F1-9A4C-45E8-A1BE-F817BE4E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4E829-7794-46B6-BAE1-2CD493FD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372-72B7-4F89-8BCF-1CE6C99F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EDCF2-4A44-4178-81E9-0CC600A1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6069E-8661-47EA-A804-9E68FDE6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58B89-5B2B-4D24-9FD9-F68DD298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E73FA-3163-4E7E-B64C-0FCA68D4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A5AA6-E8C6-430E-9CA4-FD8A742A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DA6BB-11C6-48F7-A7FD-62B479C6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80D22-CAA6-48E4-BBA3-C6A30C56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7A3C3-184C-4C39-B2ED-A3515DF9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CB06E-B95E-4506-9053-7B755836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B9A-1F6B-4306-A597-A70A649E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B86-6818-49A4-A3B4-93169793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941-86FA-48EF-B38A-6C4E1003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A66-D416-4392-BD6B-7EF7D8B5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2C1-CEA6-47EE-8E43-90A49320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F98C-1FF4-4919-B508-A77D8F0043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D8B5-9558-4B49-82CE-554F672D26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C978-F363-460F-B0BB-D2C85DECE8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41D2-48C9-4E3E-868E-0973B3EAC2B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826920" y="1052640"/>
            <a:ext cx="86061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f"/>
                </a:solidFill>
                <a:latin typeface="Comic Sans MS"/>
              </a:rPr>
              <a:t>I ca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f"/>
                </a:solidFill>
                <a:latin typeface="Comic Sans MS"/>
              </a:rPr>
              <a:t>write an Easter poem in French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81080" y="260280"/>
            <a:ext cx="876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545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7-06-25T16:18:11Z</dcterms:modified>
  <cp:revision>44</cp:revision>
  <dc:subject/>
  <dc:title>Slide 1</dc:title>
</cp:coreProperties>
</file>