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BBC-6E5B-4847-B96F-DA662CE4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946-B768-4ADD-BE7E-CD3C050A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742-72D4-40F7-A09D-6DDBB50E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61A-4F16-4B11-B401-648E3A86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04DF-6BB2-48C9-B2C2-083306BC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C7F9-287A-4C8F-A7E4-D3E4D8EF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647-A03C-4CE7-8BE5-609AADA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1C7-2F7F-40AD-9B7C-0CF0117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542-A0F7-45C5-8C11-BFE3D7B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141-F5F3-4FA3-A255-89300942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B68-B890-4DAF-9935-9C14FFB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914-53A3-4B14-A3FD-BE93445A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F41-56A1-4163-A42E-E3CF1EF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E6D-4FC6-4787-8148-4B18901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FB5D-1236-4795-8F37-072B42BB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14B2-0715-474C-8AC9-EB3F086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1F5-EF69-4C4E-97E3-324BC9EB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22CB-7482-47A1-97F6-28267EEF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DE4E-001A-4376-B2AB-657F55FC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89C9-6CB3-49C1-942A-563207D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F0EB-563F-4AFC-9B67-5C541A9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C28E-3535-44A9-A966-4A3E86D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FD6-AC5F-42A4-A79C-F113CE3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E298-D7D5-42B2-8F74-50E9066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BE00-9B46-42AA-BF1F-6814CBF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9E48-C02F-4AD2-B8D2-F166A46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464E-6F7E-4ACD-9F24-94E031A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6640-CF73-4B5B-8476-B2FC342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DDD9-636A-4A73-B0AB-A327B22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80CE-F24F-4FE2-93BA-BD1916CE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F12C-AB48-4054-BBB8-B26BC44B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27D9-BA26-49B9-ABD2-143ACF52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1CCF-F7F8-4051-B07B-E15265C5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EB4-8ED8-48F0-B1F4-4A6C7263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B3A1-05CD-46B2-B7AA-57268974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ED22-00F3-4C5E-BDEC-E723E25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54A6-B2C1-4BF2-A85E-39FDBA0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61F3-B123-440C-877E-F8EA0C3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DA17-C49F-43BC-821D-8EB3220D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4D80-E68C-400E-8FFF-FF2CF55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E524-0FCA-4131-8160-040E48B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D231-2EA4-41F4-A197-AB3C8F5F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D553-8269-44D1-A79A-90749581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AEE-719B-4F68-A393-796F3CB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1CA-7ED5-48FD-8567-59793E2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EE0-9DCA-49E2-906A-57B2F2B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8A6-ACF2-49A9-89F3-884276C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E6A-E519-444C-AF9E-75A154F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ACA-2D11-4281-989F-1C36BE1A1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2AC-5BD2-47FB-B6ED-CE4847228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160-C77F-4D98-A697-0B1664B4C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580-151F-466A-8FE1-C71559E0DE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826920" y="1052640"/>
            <a:ext cx="8606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omic Sans MS"/>
              </a:rPr>
              <a:t>write an Easter poem in French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876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45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7-06-25T16:18:11Z</dcterms:modified>
  <cp:revision>44</cp:revision>
  <dc:subject/>
  <dc:title>Slide 1</dc:title>
</cp:coreProperties>
</file>