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EAC-D910-4F1B-978C-EB4A9F82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3F7-735C-401C-BCD2-1CAA15B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491-F10A-4609-9D19-2494AC6A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94E-80B2-448C-ADFE-58DB3249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965-C548-4CD8-8C78-158D3FA8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BB8-E934-4A69-AC8C-4AEC71C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5BF-CBB5-488C-8B31-7986BC2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6B0-CF57-49C0-9B6F-C1FE786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BFD-B1D0-4260-BD84-DD60399E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429-C7D5-4038-9E3C-C77C1E0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ABC-BCC3-4863-8698-0DA447F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725-88C0-4191-A5B8-21F2D2D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EFF-DCCB-4AF1-AD31-A8EF751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67A8-0B48-4E51-8B9C-9A87D7C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D4CC-4B3D-4AEE-90DC-9C2BFF1A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E35-2995-4C99-B08A-0C2708BE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6882-0519-415C-925F-45854724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EC8A-06DE-4A79-9CA4-9E74AD12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5806-6E33-4221-B7EE-BB8CDECA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1646-80AE-4B35-84B2-0E51B936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43B3-F86A-4131-B808-989341C0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10E7-7240-4F68-BA78-020AFA5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CAE-C878-4DBE-8A23-57E9231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26BD-9FA5-420F-9489-4435FC61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4C55-9370-4805-BD30-21A26DE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E638-F798-4620-9B99-D3D8B86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06CE-76B9-4D7F-8D0E-ED74829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C426-86B4-48FB-B49A-76FC93A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7733-9FB9-4A31-B99B-7FA4BB68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4AFE-4797-4FAB-B699-529B6B1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FD51-FBA4-4A5E-A64A-9B9B6D4A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0D82-A9C0-4C9F-B623-BCD1B54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E844-5271-4B6F-940B-CD61389B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C55-BFED-443B-9F3C-E5C5E138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4505-0D47-433F-8D90-A143929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B967-277D-4DCE-ADD3-2687343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E8ED-7A88-4DFB-BF23-9ED9BC3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037A-CE02-477E-A1A2-0DB4195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9CBA-F8F5-4773-9B43-1BED1C8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E681-0329-43FB-BD34-FFC29EA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47C1-4D2F-4B5F-B5B3-9EEE74B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DF21-4896-4CA7-AF1E-1C15C5C4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233B-8549-44B6-8A47-6CD1E340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AC7-263E-4E8C-9E29-EE4A3D8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7F9-83A0-41BA-891A-325BD00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5E3-6186-4D80-9AD4-6F84FF2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27-3195-4474-A5B4-DFAA7BF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291-8F53-4AF9-9A10-E03E20D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4B2-1935-4F79-B422-5D0ECDA0E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8CFD-D744-411B-B52B-BE0765E827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588-E30A-4000-BE5F-3E75AA79A3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892-2331-4179-A3C3-747CC18B3FF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1280" y="227664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nn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264360" y="2276640"/>
            <a:ext cx="26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rng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http://cliparts.co/cliparts/8iA/669/8iA669KyT.gif"/>
          <p:cNvPicPr/>
          <p:nvPr/>
        </p:nvPicPr>
        <p:blipFill>
          <a:blip r:embed="rId3"/>
          <a:srcRect l="11223" t="0" r="30150" b="0"/>
          <a:stretch/>
        </p:blipFill>
        <p:spPr>
          <a:xfrm>
            <a:off x="3311640" y="71280"/>
            <a:ext cx="273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"/>
          <p:cNvGrpSpPr/>
          <p:nvPr/>
        </p:nvGrpSpPr>
        <p:grpSpPr>
          <a:xfrm>
            <a:off x="6877080" y="4437000"/>
            <a:ext cx="2160720" cy="2264400"/>
            <a:chOff x="6877080" y="4437000"/>
            <a:chExt cx="2160720" cy="2264400"/>
          </a:xfrm>
        </p:grpSpPr>
        <p:sp>
          <p:nvSpPr>
            <p:cNvPr id="173" name="Text Box 11"/>
            <p:cNvSpPr/>
            <p:nvPr/>
          </p:nvSpPr>
          <p:spPr>
            <a:xfrm>
              <a:off x="6877080" y="5876280"/>
              <a:ext cx="21607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chi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en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174" name="Picture 4" descr="http://images.clipartpanda.com/dog-clip-art-TN_dogs_jack_russell_terrier.jpg"/>
            <p:cNvPicPr/>
            <p:nvPr/>
          </p:nvPicPr>
          <p:blipFill>
            <a:blip r:embed="rId4"/>
            <a:stretch/>
          </p:blipFill>
          <p:spPr>
            <a:xfrm>
              <a:off x="7386840" y="4437000"/>
              <a:ext cx="1242720" cy="14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7:28Z</dcterms:modified>
  <cp:revision>71</cp:revision>
  <dc:subject/>
  <dc:title>Slide 1</dc:title>
</cp:coreProperties>
</file>