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5AC-8A10-4919-939D-71AA0DBD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CEF-51AD-467C-BA9E-6D3B87A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F16-E935-4225-A641-B4FEFA6D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73D-FCD5-4D6F-B365-AD2B728A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D7F5-2F02-4E21-A2A7-1E526B00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268-D47B-40D0-90E2-831FFFA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F711-D73C-4A2A-BC00-FBBEA8AC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22AD-F0C1-492F-84DE-7C15B2D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E81A-F66C-44B8-859A-430AA9CF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A671-DE60-427C-AC53-37B80662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9C8E-37B2-4CAE-8CB5-F46EC1C2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3EC-62EE-4F0D-80F2-961E9F9E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BD42-257C-4426-AFC1-AD29BD0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E7C-A0F5-441F-8FA4-250197D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88AE-37AD-40E6-8BAE-17FADA43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8FC-350C-4548-8C65-0DB2EF27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87BD-9459-41D0-988E-21DDFD34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7BC7-6AB8-4532-8E7B-C00A5D04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8BE8-1227-4D51-A752-0B884C12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E1E0-E290-49CB-B267-D576136A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4F93-77C5-462A-84F8-7C144AE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3C8C-CBFB-4B85-AD82-30A63C78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415-25AA-444E-B855-764D774A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D7D2-E6E2-411E-ACA0-8B6B9ADD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AAAE-97D0-4656-830F-D193595A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F3BD-E8C8-476C-9694-0D1BC66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D3A0-4A78-408E-9EA1-9B89962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6AE6-8112-406F-8A21-EEBCC60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A3C6-5504-4AA2-8022-7C120659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C72E-472E-4E46-B830-FADA857B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FE10-F8F7-4B69-94D2-BB3029D4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31C7-D2CF-4EF6-AA80-B08D8491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A98B-4B30-40A6-9DBF-2031FFF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879-5ECB-4099-9384-08EE4847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8B22-9A94-4004-8B7B-EC385328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72BA-0E34-4907-A971-2B78D8DD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3F7A-14A4-44AB-A3CC-79677589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E063-6D41-44F7-838E-74B2E7F2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26BF-ED2C-4A44-B3F6-6B22AAD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631D-BBFC-4DA2-AE8E-A707866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44F8-8E0F-491D-88B5-CDAD4B57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ACD1-BBE0-4BDA-80CB-39393EF4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CAB2-04BA-47DE-8214-6FE76A14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C52-D33F-4D67-9A14-C7EF3355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199-BE61-4A48-B703-51BCD4FA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91C-E896-4BD7-8BDA-9A63199E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7EA-91E2-4DD3-84CD-81BA224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3A8-5315-4252-B01F-343AE5C1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7D5-E921-4E44-9C5B-E7D9762B52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26E-6843-459E-9AA3-F49B50F387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B7A-6488-4442-86E9-14E04924D3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197-DD89-4B15-89F8-205EDE91FAB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n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4" descr="MC900129223[1]"/>
          <p:cNvPicPr/>
          <p:nvPr/>
        </p:nvPicPr>
        <p:blipFill>
          <a:blip r:embed="rId1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900015916[1]"/>
          <p:cNvPicPr/>
          <p:nvPr/>
        </p:nvPicPr>
        <p:blipFill>
          <a:blip r:embed="rId2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11280" y="227664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enn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264360" y="2276640"/>
            <a:ext cx="26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arng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2" descr="http://cliparts.co/cliparts/8iA/669/8iA669KyT.gif"/>
          <p:cNvPicPr/>
          <p:nvPr/>
        </p:nvPicPr>
        <p:blipFill>
          <a:blip r:embed="rId3"/>
          <a:srcRect l="11223" t="0" r="30150" b="0"/>
          <a:stretch/>
        </p:blipFill>
        <p:spPr>
          <a:xfrm>
            <a:off x="3311640" y="71280"/>
            <a:ext cx="273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"/>
          <p:cNvGrpSpPr/>
          <p:nvPr/>
        </p:nvGrpSpPr>
        <p:grpSpPr>
          <a:xfrm>
            <a:off x="6877080" y="4437000"/>
            <a:ext cx="2160720" cy="2264400"/>
            <a:chOff x="6877080" y="4437000"/>
            <a:chExt cx="2160720" cy="2264400"/>
          </a:xfrm>
        </p:grpSpPr>
        <p:sp>
          <p:nvSpPr>
            <p:cNvPr id="173" name="Text Box 11"/>
            <p:cNvSpPr/>
            <p:nvPr/>
          </p:nvSpPr>
          <p:spPr>
            <a:xfrm>
              <a:off x="6877080" y="5876280"/>
              <a:ext cx="21607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Arial Black"/>
                </a:rPr>
                <a:t>chi</a:t>
              </a:r>
              <a:r>
                <a:rPr b="0" lang="en-GB" sz="4800" spc="-1" strike="noStrike">
                  <a:solidFill>
                    <a:srgbClr val="ff0000"/>
                  </a:solidFill>
                  <a:latin typeface="Arial Black"/>
                </a:rPr>
                <a:t>en</a:t>
              </a:r>
              <a:endParaRPr b="0" lang="en-US" sz="4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174" name="Picture 4" descr="http://images.clipartpanda.com/dog-clip-art-TN_dogs_jack_russell_terrier.jpg"/>
            <p:cNvPicPr/>
            <p:nvPr/>
          </p:nvPicPr>
          <p:blipFill>
            <a:blip r:embed="rId4"/>
            <a:stretch/>
          </p:blipFill>
          <p:spPr>
            <a:xfrm>
              <a:off x="7386840" y="4437000"/>
              <a:ext cx="1242720" cy="143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7:28Z</dcterms:modified>
  <cp:revision>71</cp:revision>
  <dc:subject/>
  <dc:title>Slide 1</dc:title>
</cp:coreProperties>
</file>