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5F5-CEDC-4C38-8E53-E24BED03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53B-889C-4643-89A3-4139544F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EC4-B194-4D4F-B2A4-B2C29E9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06B-2A25-474B-ACB2-6B4A0D88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38B2-2EB2-4AD0-B7A7-CB73714C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6A43-C38A-4217-B00C-A43734C8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9987-B966-4673-901E-8CFC61C0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CEAC-F20C-46A3-BAAD-B9B8847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67D6-BD05-47AF-A655-E3B09490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5D59-3464-4FDA-80A7-B6C1651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18DD-1B70-47EA-B105-BCF5426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072-8686-474B-8946-80C448EA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7B86-A498-4325-B090-25E4F54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D9C-1278-4092-B776-793462D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EFEA-1077-4A0B-B258-0119A309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56FE-4225-4EDE-A959-75294C9D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5783-A62B-4504-964E-7EA368C7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A5B5-A71A-483E-8E69-234CA4C5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F16C-4F98-40F2-893F-122500E3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7487-52CD-4F8A-B14E-44DC60C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11B3-5F61-4DCE-9B35-9BE5619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2B0F-2328-4A07-B6FF-E710A70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F99-3E40-478B-97C9-38338EBF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6508-CDF1-4D86-A981-DFF6E4DE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B9C7-7F7C-4852-9E35-9FB8077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4847-7B28-4399-B333-688D406A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4B67-40C3-4655-A3C6-49678F3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931B-337B-4AAB-9DBA-5132DC15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F04F-75D9-4F85-AF97-28A7D6BD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791B-4B9C-4926-A711-02164B3A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FC37-13BC-4E77-949A-66908DEA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41DD-5214-49F0-B6CB-9FF1CF7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6900-8E95-4101-970A-D0B66782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164-74E1-4CAC-9900-592A722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F2A7-C2F1-42BE-8C00-030ABEE9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06EB-173A-4237-A273-3425796B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A587-6B74-4A4F-97C9-1D4A808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E456-EE65-4153-ACFE-057C864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17E9-554A-4189-AFB2-5CE11F47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A983-CB1B-459A-A621-06842394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9A7B3-D3DC-4067-8853-687FA1BD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2787-B22A-4369-98BD-D15E7E75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2B3B-DE6A-4173-B446-0337C426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78B-B4FD-45E5-BD8A-64FB8EB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547-7C4F-4984-9225-76E5789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FA5-DE59-41D3-B1AF-5320600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E64-EC82-46F3-9819-54B4CBB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631-DB77-4D1D-B7DA-820DF56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5CF1-E965-49E2-8D69-AD4259A4D9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904-D9C6-4038-A2CE-891126CC21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BB3-9C26-4B45-AF2E-F9BB7C538E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F23-CFDE-4600-B740-E9B1D8557FD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r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4" descr="MC900129223[1]"/>
          <p:cNvPicPr/>
          <p:nvPr/>
        </p:nvPicPr>
        <p:blipFill>
          <a:blip r:embed="rId1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900015916[1]"/>
          <p:cNvPicPr/>
          <p:nvPr/>
        </p:nvPicPr>
        <p:blipFill>
          <a:blip r:embed="rId2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128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ur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264360" y="2276640"/>
            <a:ext cx="26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ay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2919240" y="853920"/>
            <a:ext cx="34531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203640" y="350028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èr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Picture 4" descr="MC900129223[1]"/>
          <p:cNvPicPr/>
          <p:nvPr/>
        </p:nvPicPr>
        <p:blipFill>
          <a:blip r:embed="rId1"/>
          <a:stretch/>
        </p:blipFill>
        <p:spPr>
          <a:xfrm>
            <a:off x="684360" y="620640"/>
            <a:ext cx="2017440" cy="137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MC900015916[1]"/>
          <p:cNvPicPr/>
          <p:nvPr/>
        </p:nvPicPr>
        <p:blipFill>
          <a:blip r:embed="rId2"/>
          <a:stretch/>
        </p:blipFill>
        <p:spPr>
          <a:xfrm>
            <a:off x="6877080" y="620640"/>
            <a:ext cx="1728720" cy="1357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11280" y="227664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ear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264360" y="2276640"/>
            <a:ext cx="26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air”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862360" y="1055520"/>
            <a:ext cx="357660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8:13Z</dcterms:modified>
  <cp:revision>81</cp:revision>
  <dc:subject/>
  <dc:title>Slide 1</dc:title>
</cp:coreProperties>
</file>