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960-06A2-4FF1-A04D-39AAB387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FC7-46A3-4951-B911-3DC74A1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94C-458C-4B0E-94BE-B79AB3FA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AE6-E034-40FB-A861-C8EE1EEE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8DB-8815-4E63-84AF-ADAEB7C3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C320-28D3-4E10-9965-F641D43C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A2C-5734-47B6-9DCC-E336AAEF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5FEF-2FA6-4E43-961D-2E2FB82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6ED-140D-43E8-96B1-03533980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B1CC-2551-4B59-95CC-7F03471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A3E7-A00E-44D0-88A9-683A979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41E-A5B3-46A0-B198-0195849E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9EF-E6EE-4148-B559-18BDFDCC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F79A-C5C8-47AC-8C22-F86CED4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36EF-1048-4584-8CEE-AC9375F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ED2-DB99-4A3D-B279-0540C98A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1968-D1E2-4620-A9F0-2DA4105E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46EA-ED40-4357-85D8-C15E44E3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D2F2-C96A-4491-8708-78E03801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1682-E9B2-4935-A2E3-8F2F08A1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F19A-39EF-4B22-BAF4-90E24AA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9FCD-D32A-4039-B201-958106F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365-585F-4020-A7EE-8FCF205C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3D56-9926-4205-9218-A9BDDD8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030F-F929-4AA7-B170-10A0E0C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958F-B40E-4F25-9262-228319F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004E-599C-4FBC-A8B3-5489309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A6D8-A2E1-457E-9F4B-AB86588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A713-F7E6-45ED-AA44-4A8A4370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2015-B15F-48EE-BDCA-0B356321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1168-2603-4B9D-AE5C-AE27848D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1D09-4A5F-4341-B2F4-0E87423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D9ED-CCB8-4272-8E18-1944007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EC1-A59D-4E94-B813-4B7A67D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9940-5799-4083-84E8-6A1D0EDC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2585-6352-47A3-B37B-01C27D4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9280-0635-4631-A796-A2BA2DBD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B60F-6DCD-4A0F-909E-5B35C35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C6E5-B408-4A26-92D7-34C811B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243C-4D95-4BC9-B521-70886A7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4F27-046F-49BC-84E5-89F6B93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63B6-317E-4892-8EFE-72169A75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4706-22CF-4E30-BDD5-2FA38FF7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B25-923F-4A4F-AC08-037C2AF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8D7-E4F8-4338-9790-B69A5A6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FE7-9DD3-41E0-B0C5-B0C4F2A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E47-C122-45FB-AD90-88C43A8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C7F-74AE-450A-AABF-9A48A4A5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110-FA15-4BA5-9504-3B2D5D96D9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479-2E2F-4CE3-9EB0-88CC58CE35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D5B-A316-4A60-A6BC-7F60709BA3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D4C8-3DA5-4CA4-9882-52CEAAF4D66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r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u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264360" y="2276640"/>
            <a:ext cx="26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y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2919240" y="853920"/>
            <a:ext cx="3453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èr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a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264360" y="2276640"/>
            <a:ext cx="26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i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862360" y="1055520"/>
            <a:ext cx="357660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8:13Z</dcterms:modified>
  <cp:revision>81</cp:revision>
  <dc:subject/>
  <dc:title>Slide 1</dc:title>
</cp:coreProperties>
</file>