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CA65-3834-44B1-8B3C-1D5F01F7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E519-D6F8-4D60-BA7F-40278A63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180-C79E-48E7-8524-F917E9C6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947-5891-4D77-B66D-D5B91A47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B772-1DAB-412C-8542-35C36A50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808F-BA69-4998-8D02-05ED9D7A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0FF7-9252-48CD-9023-516C7EA8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51C4-B73B-4E66-8F89-D40DFCB1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45CF-A887-475A-9EEC-70F06A69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351D-EFC9-4E71-BB8E-114BD75D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0E3F-4779-48E4-BC02-1ABAA6F2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45E-D208-4EB2-9081-6FC6A96C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2485-9D26-4B35-B274-E93791E7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4FA3-8242-4C58-A6DD-009D7B9B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FD0A-E0ED-4024-AA01-9D69575B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DF26-ADF6-4854-8552-ABF1500C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DBB4-74AF-4FBF-A14A-9F03085C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CB3E4-B6A5-44BF-B26E-CD6100D4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FEBBE-E5B1-4D8E-8D6B-42E392BE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04E72-C7BF-4D8B-9CBD-6DA93459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55564-4BD8-4914-B749-B5DE4AEC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2C9A7-18B3-407E-9B42-3C6AD6CF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3D6-40B2-4B01-AD00-6A72783D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1AE98-87C6-4931-BB92-2216CA9C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1032-B83F-4C45-95C9-FDAA1B63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75EB9-200D-4ABD-9980-8312DEED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1D2AC-F7FC-4577-9CD5-7DE9F865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D4A82-4CE8-4BE8-A27C-86C7678A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1C111-C120-4785-828C-6BC3B61D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12433-1708-4495-806F-88462A59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22CAF-8021-4F70-B9C8-643CA103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8AF2C-60D0-4335-BDDC-6946F207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CA036-32A5-49A6-9E30-ECE05384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BDD-F12A-43A3-B724-16F765A3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8869D-15D8-4ABE-94AC-E4F2D047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DF7EA-0672-4B3F-A4F3-81651C6F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36F58-DC4C-4D02-8F0E-53B547DF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5CA7E-B3EE-41B6-A6E0-CD42AF46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85F3E-6F6A-4A51-B869-4FEF85F9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151C2-D835-430C-AA4C-0E4D2B42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625D4-E602-4030-B3A1-A97E38DC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CE076-549D-4CC8-A869-FBFFCF9C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97EDD-9164-4A33-ABD8-89710CFB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C3B-A3FA-4C3C-A8FA-702F13D2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452-6A58-4B0D-9675-57DF00F2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994-CFE0-4F4B-8705-C9CCEB12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6495-61D4-4517-9821-423CE1B5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414-231B-4508-A02F-57C4DB41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D31C-E598-47FC-A647-E9E07D8875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4601-5C14-4307-8A52-35F873A138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979A-06A8-4EB0-ACF9-E7B5FAB3FF9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ACB0-2049-4F1E-BE34-69F7B96BD46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28840" y="404640"/>
            <a:ext cx="2900520" cy="3095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03640" y="3500280"/>
            <a:ext cx="29527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ou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28840" y="404640"/>
            <a:ext cx="2900520" cy="3095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03640" y="3500280"/>
            <a:ext cx="29527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ou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50920" y="3860640"/>
            <a:ext cx="2952720" cy="2480760"/>
            <a:chOff x="250920" y="3860640"/>
            <a:chExt cx="2952720" cy="248076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430200" y="3860640"/>
              <a:ext cx="259236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50920" y="5516280"/>
              <a:ext cx="29527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Arial Black"/>
                </a:rPr>
                <a:t>tr</a:t>
              </a:r>
              <a:r>
                <a:rPr b="0" lang="en-GB" sz="4800" spc="-1" strike="noStrike">
                  <a:solidFill>
                    <a:srgbClr val="ff0000"/>
                  </a:solidFill>
                  <a:latin typeface="Arial Black"/>
                </a:rPr>
                <a:t>ou</a:t>
              </a:r>
              <a:r>
                <a:rPr b="0" lang="en-GB" sz="4800" spc="-1" strike="noStrike">
                  <a:solidFill>
                    <a:srgbClr val="000000"/>
                  </a:solidFill>
                  <a:latin typeface="Arial Black"/>
                </a:rPr>
                <a:t>sse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263700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bouteil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40464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ch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27280" y="3573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bij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3280" y="443700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bouch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88000" y="1890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o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155736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nf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14972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lu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87640" y="57340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esp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64000" y="227664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jau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2000" y="34290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han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84720" y="595008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ving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59280" y="1052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octob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26920" y="263700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bouteil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40464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ch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3573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bij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43280" y="443700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bouch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1890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o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155736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nf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414972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lu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57340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esp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64000" y="227664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jau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12000" y="34290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han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84720" y="595008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ving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1052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octob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549360"/>
            <a:ext cx="576360" cy="57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333360"/>
            <a:ext cx="64764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8920" y="2781360"/>
            <a:ext cx="576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19640" y="3716280"/>
            <a:ext cx="64764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76720" y="4581360"/>
            <a:ext cx="64764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47640" y="549360"/>
            <a:ext cx="2592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o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ro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ou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fo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40360" y="549360"/>
            <a:ext cx="259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u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ou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r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c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012680" cy="1119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39640" y="1484280"/>
            <a:ext cx="1016280" cy="928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684360" y="2492280"/>
            <a:ext cx="825480" cy="882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324000" y="3500280"/>
            <a:ext cx="1231920" cy="986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4643280" y="-100080"/>
            <a:ext cx="1325880" cy="1513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4788000" y="1628640"/>
            <a:ext cx="1182600" cy="862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4716360" y="2708280"/>
            <a:ext cx="1170000" cy="792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9"/>
          <a:stretch/>
        </p:blipFill>
        <p:spPr>
          <a:xfrm>
            <a:off x="5003640" y="3573360"/>
            <a:ext cx="943200" cy="1295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V="1">
            <a:off x="4427640" y="4365720"/>
            <a:ext cx="100800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9-02T08:25:30Z</dcterms:modified>
  <cp:revision>34</cp:revision>
  <dc:subject/>
  <dc:title>Slide 1</dc:title>
</cp:coreProperties>
</file>