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4A11-5296-4731-8EC4-63A4326BF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629B-5FA9-4CF0-BE64-8AFF5F93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109B-B20E-4630-A0A5-2411862CF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F400-C74D-4BC2-AF83-58031977D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025C-C623-4F54-B20E-9D0871807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03FC-B2A2-4BAF-96A5-D1C6FA7B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6C58-A81C-4279-BF3D-8886F627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90E4-B56D-463D-9070-C676603E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3502-DE28-446C-9C54-02EEDA3A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E87C-7982-4315-855B-C3813665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2E87-D813-4888-86F3-75E78761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98E3-76CA-4CBC-AB50-89405358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3623-E955-4F7B-AF99-70A0BC04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2107-3B8B-424D-8A40-EF885B5E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1A22-D763-49F0-A25C-C52E4CEB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B727-A525-4E3D-B31E-DD0D9A725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D5A9C-1FC8-4809-880B-E39FF2011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8D4C1-E326-4C17-8FE3-51D243EB3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0407C-A9DF-4ECC-8C42-C73B3533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A5CB3-82EF-4D69-8146-641B3FD1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F9AB6-071B-4272-BBD3-292121CE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230AB-B654-46B0-9072-E7FF9014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C596-2470-471A-976D-6FDF3CBF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F4750-900F-4CA0-AE2A-29F2E9AD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03EE3-8A80-4D51-8455-6CFF7229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8FAAF-10BD-4872-82BD-0EDC6747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9873B-8AD2-4015-96E8-4D524E28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B9590-CF96-4E82-98B7-0E9676AD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0B0FC-AB74-48EF-B347-9212220EE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E89F4-0B56-4013-AE7A-F63162432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DBF77-9533-46EC-8146-2E6F271EE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B3A1E-3CD8-471B-97ED-4589498C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0B0A3-149E-45F2-A55C-B4F601F5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1684-B60C-462C-AE4A-4CA33A5D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04BD3-FCA8-459C-A562-E7D48F16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0CCBD-8097-4628-AAAF-BE61D721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36282-3E48-417E-9536-9F3034C6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6DEBC-3B36-407A-B3F7-B12F4C14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FB223-7C46-4120-A67F-602705EF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F0FA1-8355-4949-8201-0C1B7078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EF9CD-61C5-4A7E-874B-480A1319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CADE0-86B6-4286-A011-FD24FCF69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AD13A-1E00-4B50-9BD0-62FB60B52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6931-6AA7-421A-8D90-052DB41C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420F-CB97-425F-B1A2-2DCD8A62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B68C-3C33-46D3-B951-4469C07D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9996-0B1B-4CC5-BC84-517DE15C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917C-729D-42EA-84DF-16DA845B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570C-5ABF-47BB-85EC-582DDC67170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7D32-47D9-4251-ACE2-10DEAC16E96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C347-D6CF-4C0A-86BD-8EEC5DF4A5F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41EE-65BF-4DA0-85B3-70D20C8E858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228840" y="404640"/>
            <a:ext cx="2900520" cy="3095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203640" y="3500280"/>
            <a:ext cx="295272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 Black"/>
              </a:rPr>
              <a:t>ou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228840" y="404640"/>
            <a:ext cx="2900520" cy="3095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03640" y="3500280"/>
            <a:ext cx="295272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 Black"/>
              </a:rPr>
              <a:t>ou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50920" y="3860640"/>
            <a:ext cx="2952720" cy="2480760"/>
            <a:chOff x="250920" y="3860640"/>
            <a:chExt cx="2952720" cy="2480760"/>
          </a:xfrm>
        </p:grpSpPr>
        <p:pic>
          <p:nvPicPr>
            <p:cNvPr id="169" name="" descr=""/>
            <p:cNvPicPr/>
            <p:nvPr/>
          </p:nvPicPr>
          <p:blipFill>
            <a:blip r:embed="rId3"/>
            <a:stretch/>
          </p:blipFill>
          <p:spPr>
            <a:xfrm>
              <a:off x="430200" y="3860640"/>
              <a:ext cx="2592360" cy="16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250920" y="5516280"/>
              <a:ext cx="295272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000000"/>
                  </a:solidFill>
                  <a:latin typeface="Arial Black"/>
                </a:rPr>
                <a:t>tr</a:t>
              </a:r>
              <a:r>
                <a:rPr b="0" lang="en-GB" sz="4800" spc="-1" strike="noStrike">
                  <a:solidFill>
                    <a:srgbClr val="ff0000"/>
                  </a:solidFill>
                  <a:latin typeface="Arial Black"/>
                </a:rPr>
                <a:t>ou</a:t>
              </a:r>
              <a:r>
                <a:rPr b="0" lang="en-GB" sz="4800" spc="-1" strike="noStrike">
                  <a:solidFill>
                    <a:srgbClr val="000000"/>
                  </a:solidFill>
                  <a:latin typeface="Arial Black"/>
                </a:rPr>
                <a:t>sse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26920" y="2637000"/>
            <a:ext cx="29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bouteil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26920" y="404640"/>
            <a:ext cx="29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ch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627280" y="357336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bij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43280" y="4437000"/>
            <a:ext cx="29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bouch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588000" y="18900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ou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08000" y="1557360"/>
            <a:ext cx="29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nfa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5640" y="414972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plu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87640" y="573408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espa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64000" y="2276640"/>
            <a:ext cx="29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jau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2000" y="342900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hans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84720" y="5950080"/>
            <a:ext cx="29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ving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59280" y="105264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octob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826920" y="2637000"/>
            <a:ext cx="29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bouteil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26920" y="404640"/>
            <a:ext cx="29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ch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357336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bij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43280" y="4437000"/>
            <a:ext cx="29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bouch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88000" y="18900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ou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08000" y="1557360"/>
            <a:ext cx="29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nfa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5640" y="414972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plu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87640" y="573408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espa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64000" y="2276640"/>
            <a:ext cx="29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jau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12000" y="342900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hans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84720" y="5950080"/>
            <a:ext cx="29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ving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59280" y="105264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octob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47640" y="549360"/>
            <a:ext cx="576360" cy="57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04000" y="333360"/>
            <a:ext cx="64764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58920" y="2781360"/>
            <a:ext cx="57636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19640" y="3716280"/>
            <a:ext cx="64764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76720" y="4581360"/>
            <a:ext cx="64764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47640" y="549360"/>
            <a:ext cx="259272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pou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ro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ou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fou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940360" y="549360"/>
            <a:ext cx="25923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sou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pou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tr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c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1012680" cy="11192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539640" y="1484280"/>
            <a:ext cx="1016280" cy="9288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684360" y="2492280"/>
            <a:ext cx="825480" cy="8827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324000" y="3500280"/>
            <a:ext cx="1231920" cy="986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4643280" y="-100080"/>
            <a:ext cx="1325880" cy="15130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4788000" y="1628640"/>
            <a:ext cx="1182600" cy="862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8"/>
          <a:stretch/>
        </p:blipFill>
        <p:spPr>
          <a:xfrm>
            <a:off x="4716360" y="2708280"/>
            <a:ext cx="1170000" cy="792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9"/>
          <a:stretch/>
        </p:blipFill>
        <p:spPr>
          <a:xfrm>
            <a:off x="5003640" y="3573360"/>
            <a:ext cx="943200" cy="12956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flipV="1">
            <a:off x="4427640" y="4365720"/>
            <a:ext cx="1008000" cy="287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4-09-02T08:25:30Z</dcterms:modified>
  <cp:revision>34</cp:revision>
  <dc:subject/>
  <dc:title>Slide 1</dc:title>
</cp:coreProperties>
</file>