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B8F-058B-419A-87B1-6FB0F31C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B5F-E925-4919-B13C-D21567E7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74F-E1F1-45F4-BDB8-C9F5C7AB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FB2-63A6-4396-8A28-EC1618D3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8DCA-5A6B-411E-B528-156D7800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E0F8-BA93-4EC2-9E1A-315D4677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D2BB-F9E4-4D1D-AEAE-4EB86743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2376-7605-4B16-BA75-100A2C57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9727-BD7D-49FB-8D8D-AD5C1615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7FF0-9AC4-403D-BED8-6B869D4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DD53-3F70-450A-B22B-C3D7D17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04C-8314-4C73-8E57-9895DCE0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50C7-DE74-4AB5-92A4-48960C24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BE2F-1949-42C5-A963-AC1A6EDD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46B1-CD03-489B-B1E6-54B857C5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6BF4-88E3-40DB-B851-08B41217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4B45-E880-42B6-AC67-06604326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DD4DC-3BF7-4E0B-9DA9-2F1F3F87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894D-BA31-4A34-9439-8F278A98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F44F-B458-4FC3-B38F-BD768D68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C40C-00BF-45E6-9D56-66D90502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06A9-C11E-457D-94E4-5BBE0087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AED-CD5A-416A-AD65-69BBA645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1BA6-9424-4782-A102-137C88DA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BA65-B5B5-42A6-9467-F655EF4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FFA8-7186-4A84-A976-12F8934C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2BD3-7ACC-4FCB-A13D-A06AB300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9C97-4BF5-49AC-97A6-DF7E1F46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BE71-C0A0-41EA-8B96-F6322255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7273-7EAB-4DAE-9511-CDE87679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21470-5550-493E-95F6-55178ED5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4ACB-86A9-4134-A802-C0467085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C376-0147-49FE-9EA4-0C3B0ECA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813-1A1C-4C71-9FF4-239548B3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6EB9-2089-43F2-8657-3A7728C2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67A4-6DBB-40FB-8BA1-3C25B550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F42E-453D-4364-A553-310B6B87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DCAE-1439-4CCF-B5F3-C7C37B5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1F03-ABA1-447F-A763-45F488A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85B8-2FEB-4B73-9150-AEE7A67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4BD5-8A56-4D70-8D79-EEB305F3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8E74-4DEC-447C-90DB-C35D3CE4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EDAF9-9B75-4B48-8CB0-E5FEF59A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A55-5A56-4B6A-92B7-BEFCCB3C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0E5-981A-4592-8D61-1C983379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F31-98C1-4BAB-969C-B8A2FF1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764-E3BC-4759-B9AD-FA850DB5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09C-3A8D-4452-BE41-64E6BF48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2707-113D-4232-B598-1983F08E22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3F1B-D30E-4AE1-9ED5-7DE5BE2237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7173-F9B7-4849-909C-5D34BAC0AE7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FBF3-B6E2-48DD-896C-1E29D85B6A1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87640" y="549360"/>
            <a:ext cx="5183280" cy="5411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32000" y="6381720"/>
            <a:ext cx="4896000" cy="0"/>
          </a:xfrm>
          <a:prstGeom prst="line">
            <a:avLst/>
          </a:prstGeom>
          <a:ln w="127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79640" y="692280"/>
            <a:ext cx="6638760" cy="5060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32000" y="6381720"/>
            <a:ext cx="4896000" cy="0"/>
          </a:xfrm>
          <a:prstGeom prst="line">
            <a:avLst/>
          </a:prstGeom>
          <a:ln w="127080">
            <a:solidFill>
              <a:srgbClr val="98e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19640" y="549360"/>
            <a:ext cx="4749480" cy="520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19640" y="6381720"/>
            <a:ext cx="4895640" cy="0"/>
          </a:xfrm>
          <a:prstGeom prst="line">
            <a:avLst/>
          </a:prstGeom>
          <a:ln w="127080">
            <a:solidFill>
              <a:srgbClr val="98e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419640" y="476280"/>
            <a:ext cx="4917960" cy="5214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19640" y="6308640"/>
            <a:ext cx="4895640" cy="0"/>
          </a:xfrm>
          <a:prstGeom prst="line">
            <a:avLst/>
          </a:prstGeom>
          <a:ln w="127080">
            <a:solidFill>
              <a:srgbClr val="98e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5808600" cy="5313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32000" y="6381720"/>
            <a:ext cx="4896000" cy="0"/>
          </a:xfrm>
          <a:prstGeom prst="line">
            <a:avLst/>
          </a:prstGeom>
          <a:ln w="127080">
            <a:solidFill>
              <a:srgbClr val="98e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3803760" cy="6046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51280" y="6453360"/>
            <a:ext cx="4896000" cy="0"/>
          </a:xfrm>
          <a:prstGeom prst="line">
            <a:avLst/>
          </a:prstGeom>
          <a:ln w="127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7348680" cy="3978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59280" y="5300640"/>
            <a:ext cx="4895640" cy="0"/>
          </a:xfrm>
          <a:prstGeom prst="line">
            <a:avLst/>
          </a:prstGeom>
          <a:ln w="127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supermarche"/>
          <p:cNvPicPr/>
          <p:nvPr/>
        </p:nvPicPr>
        <p:blipFill>
          <a:blip r:embed="rId2"/>
          <a:stretch/>
        </p:blipFill>
        <p:spPr>
          <a:xfrm>
            <a:off x="4211640" y="333360"/>
            <a:ext cx="156204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79" name="Picture 7" descr="ecole"/>
          <p:cNvPicPr/>
          <p:nvPr/>
        </p:nvPicPr>
        <p:blipFill>
          <a:blip r:embed="rId3"/>
          <a:stretch/>
        </p:blipFill>
        <p:spPr>
          <a:xfrm>
            <a:off x="1692360" y="4581360"/>
            <a:ext cx="2160360" cy="16480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80" name="Picture 8" descr="eglise"/>
          <p:cNvPicPr/>
          <p:nvPr/>
        </p:nvPicPr>
        <p:blipFill>
          <a:blip r:embed="rId4"/>
          <a:stretch/>
        </p:blipFill>
        <p:spPr>
          <a:xfrm>
            <a:off x="5651640" y="4149720"/>
            <a:ext cx="1522440" cy="2421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81" name="Picture 10" descr="hopital"/>
          <p:cNvPicPr/>
          <p:nvPr/>
        </p:nvPicPr>
        <p:blipFill>
          <a:blip r:embed="rId5"/>
          <a:stretch/>
        </p:blipFill>
        <p:spPr>
          <a:xfrm>
            <a:off x="6948360" y="33336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82" name="Picture 11" descr="parc"/>
          <p:cNvPicPr/>
          <p:nvPr/>
        </p:nvPicPr>
        <p:blipFill>
          <a:blip r:embed="rId6"/>
          <a:stretch/>
        </p:blipFill>
        <p:spPr>
          <a:xfrm>
            <a:off x="1042920" y="333360"/>
            <a:ext cx="1754280" cy="16048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83" name="Picture 14" descr="poste"/>
          <p:cNvPicPr/>
          <p:nvPr/>
        </p:nvPicPr>
        <p:blipFill>
          <a:blip r:embed="rId7"/>
          <a:stretch/>
        </p:blipFill>
        <p:spPr>
          <a:xfrm>
            <a:off x="1476360" y="2349360"/>
            <a:ext cx="1655640" cy="1729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84" name="Picture 15" descr="riviere"/>
          <p:cNvPicPr/>
          <p:nvPr/>
        </p:nvPicPr>
        <p:blipFill>
          <a:blip r:embed="rId8"/>
          <a:stretch/>
        </p:blipFill>
        <p:spPr>
          <a:xfrm>
            <a:off x="5003640" y="2492280"/>
            <a:ext cx="2595600" cy="1405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85" name="Text Box 17"/>
          <p:cNvSpPr/>
          <p:nvPr/>
        </p:nvSpPr>
        <p:spPr>
          <a:xfrm>
            <a:off x="25092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348000" y="33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615636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611280" y="2276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4067280" y="24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75564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471636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9-24T14:46:03Z</dcterms:modified>
  <cp:revision>21</cp:revision>
  <dc:subject/>
  <dc:title>Slide 1</dc:title>
</cp:coreProperties>
</file>