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F04-FD8A-4DAA-941B-DCA2E79A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4FD-C7FD-48B2-9081-2A8DC92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767-262D-4386-B6F7-7DDA33DF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253-7889-43A9-A7E4-59F3A65F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E7CC-88B0-461A-B94C-6EA4D28E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A77-D327-4E44-BF07-D16FEF2D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552A-D572-4AEA-A7A2-7E32739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3622-CD6A-4868-8358-C57F8542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B5E0-95F3-47B7-BE5F-23F58770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2646-1120-4825-8C38-259C1F64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3B26-CE85-47AE-BAC9-E7CD5E1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9BC-8469-4D9E-9131-F2CB01D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8F1C-0BA2-4D38-BA4C-BBDCCED8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984F-7D3F-46FC-B7B6-204FFE6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EEFA-6794-443A-800B-33EE660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F1E0-A426-405E-882E-28BFE619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2BE8-BDD2-4395-8C89-61067F8E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3900-9BB2-4B20-813E-464BF7ED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A5BE-984D-42A4-B214-C57D2A7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77A0-8CCF-451D-A09F-9A8AE62D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E280-73CC-4DCC-A6BF-A0D7B768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45CC-6BC8-495F-AB23-0E4ECE8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B9F-5C5D-4348-9131-1A60002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24D9-460E-4B08-AB9E-60BB2A6D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9DF5-D2B2-4A17-91FF-D1FFD34E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2E16-74F2-40EF-9236-F8326D3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A996-E20C-4DE1-B930-1C0CA7E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5CB6-F1DB-40F2-A002-5374B8C4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CF33-1EE5-4FF5-9D90-CF071FC0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287E-C1EA-45B3-8259-730956AE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7A37-ED98-423A-9117-F60A1A9C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BED9F-2FD6-4F30-ACA3-A5FC44FA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F566-3124-42E5-AD80-109578F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222-9A05-4D96-8052-815ADEE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D601-9520-4D77-9226-BB74264F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8092-D9F4-4A89-AAA9-39911D8E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092A-135E-40E2-9EC3-C43E8095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DE24-FFA0-46DB-A191-4ACDC7D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3EC0-DC0D-409E-961B-D974D9A7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EA8C-9037-4CEA-B199-3034A3D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A742-99B6-4F0E-A285-9B9940FE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66D1-DE54-4E8E-8B41-AE4AA27D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9758-C725-407B-B452-23F2288F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536-A6F2-42DF-B427-F493C0AC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6FB-6ED9-4AF0-B5E5-A0349EB2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B97-B634-44CC-B525-FB1EDF1D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93D-0D1C-43A1-A706-29962EB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74F-EE6E-4825-B2D6-F75A044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2A76-C0D7-4AA9-8D23-04AF58353C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A01A-51EE-43D9-BF5F-C0EE4B03ED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899E-51A3-4D04-9289-2FB8D72087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8F14-D409-44C9-9D09-105263F59C6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87640" y="549360"/>
            <a:ext cx="5183280" cy="5411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32000" y="6381720"/>
            <a:ext cx="4896000" cy="0"/>
          </a:xfrm>
          <a:prstGeom prst="line">
            <a:avLst/>
          </a:prstGeom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79640" y="692280"/>
            <a:ext cx="6638760" cy="5060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32000" y="6381720"/>
            <a:ext cx="489600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19640" y="549360"/>
            <a:ext cx="4749480" cy="520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19640" y="6381720"/>
            <a:ext cx="489564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4917960" cy="5214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19640" y="6308640"/>
            <a:ext cx="489564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5808600" cy="5313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32000" y="6381720"/>
            <a:ext cx="489600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3803760" cy="6046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51280" y="6453360"/>
            <a:ext cx="4896000" cy="0"/>
          </a:xfrm>
          <a:prstGeom prst="line">
            <a:avLst/>
          </a:prstGeom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7348680" cy="3978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59280" y="5300640"/>
            <a:ext cx="4895640" cy="0"/>
          </a:xfrm>
          <a:prstGeom prst="line">
            <a:avLst/>
          </a:prstGeom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supermarche"/>
          <p:cNvPicPr/>
          <p:nvPr/>
        </p:nvPicPr>
        <p:blipFill>
          <a:blip r:embed="rId2"/>
          <a:stretch/>
        </p:blipFill>
        <p:spPr>
          <a:xfrm>
            <a:off x="4211640" y="333360"/>
            <a:ext cx="156204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79" name="Picture 7" descr="ecole"/>
          <p:cNvPicPr/>
          <p:nvPr/>
        </p:nvPicPr>
        <p:blipFill>
          <a:blip r:embed="rId3"/>
          <a:stretch/>
        </p:blipFill>
        <p:spPr>
          <a:xfrm>
            <a:off x="1692360" y="4581360"/>
            <a:ext cx="2160360" cy="16480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0" name="Picture 8" descr="eglise"/>
          <p:cNvPicPr/>
          <p:nvPr/>
        </p:nvPicPr>
        <p:blipFill>
          <a:blip r:embed="rId4"/>
          <a:stretch/>
        </p:blipFill>
        <p:spPr>
          <a:xfrm>
            <a:off x="5651640" y="4149720"/>
            <a:ext cx="1522440" cy="2421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81" name="Picture 10" descr="hopital"/>
          <p:cNvPicPr/>
          <p:nvPr/>
        </p:nvPicPr>
        <p:blipFill>
          <a:blip r:embed="rId5"/>
          <a:stretch/>
        </p:blipFill>
        <p:spPr>
          <a:xfrm>
            <a:off x="6948360" y="333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2" name="Picture 11" descr="parc"/>
          <p:cNvPicPr/>
          <p:nvPr/>
        </p:nvPicPr>
        <p:blipFill>
          <a:blip r:embed="rId6"/>
          <a:stretch/>
        </p:blipFill>
        <p:spPr>
          <a:xfrm>
            <a:off x="1042920" y="333360"/>
            <a:ext cx="175428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3" name="Picture 14" descr="poste"/>
          <p:cNvPicPr/>
          <p:nvPr/>
        </p:nvPicPr>
        <p:blipFill>
          <a:blip r:embed="rId7"/>
          <a:stretch/>
        </p:blipFill>
        <p:spPr>
          <a:xfrm>
            <a:off x="1476360" y="2349360"/>
            <a:ext cx="1655640" cy="172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84" name="Picture 15" descr="riviere"/>
          <p:cNvPicPr/>
          <p:nvPr/>
        </p:nvPicPr>
        <p:blipFill>
          <a:blip r:embed="rId8"/>
          <a:stretch/>
        </p:blipFill>
        <p:spPr>
          <a:xfrm>
            <a:off x="5003640" y="249228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85" name="Text Box 17"/>
          <p:cNvSpPr/>
          <p:nvPr/>
        </p:nvSpPr>
        <p:spPr>
          <a:xfrm>
            <a:off x="25092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348000" y="33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615636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611280" y="2276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067280" y="24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75564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471636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9-24T14:46:03Z</dcterms:modified>
  <cp:revision>21</cp:revision>
  <dc:subject/>
  <dc:title>Slide 1</dc:title>
</cp:coreProperties>
</file>