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47E5-8F29-436F-8018-22561DE7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874-9ACC-4B00-82F2-068367BF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AEA-26BD-42EE-A525-0B7D5833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DFE-D9E9-4DE1-9F29-408622AB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B4FB-D7FB-471E-A5C4-34DAE8FE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50F5-9BF9-4423-9721-58FF617D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067E-566A-40D8-AF5B-69F21E51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2F6A-E74D-4191-A01E-92581A00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6F7F-F09E-4BD6-92D7-EBFDA50B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4DB2-AA53-436B-A455-1B2317D7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6074-EA90-423B-9B58-A735EEF2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E36-6812-41B6-A675-77CCA155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541D-D344-4EC4-AA59-85D14BA5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407C-806E-4042-BEB5-B875F57E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DC6A-032E-44E6-9FC6-54755C4C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4AD1-7C55-4AE4-AF88-EFCC3759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3D88-E481-44D6-8330-F76CDE6E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035EE-123E-4309-B93D-E6A60092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EF824-3184-4EAF-8292-C893B744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334EC-BD5D-4E5B-89E8-074C3438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BA9A7-1C48-4F55-9308-AC2D4013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1CE4F-CA21-4E96-8B32-DC1013D5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727-335B-4A65-A662-90B702BF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609E0-0D82-4BB5-953B-471DA545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EDCC0-1835-4C2F-8777-EEE000F0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C0601-00FD-4018-BCDD-3EA40183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38FA1-7F0B-41B6-A086-E664C887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F87AA-EAEA-4A3B-96C6-6BF99B1C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1C4CF-4897-4148-BCA7-A66D6F8D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43705-82B8-4AB1-A711-2A02F6DE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28C17-34DC-483C-833D-047C42C3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8826E-0A24-4581-B2E1-C7B3F00D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C62BB-B5E7-431D-AA3E-AE9A1691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4532-B8CF-4DE0-99B7-FF792E3C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26A82-A61E-49E7-BB76-D7B484A5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FD7A7-E905-4D74-8950-2A5652E7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4B222-FD55-42A9-BF3B-4208B375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45063-2BBD-4155-8618-BB10EC03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28DD4-CA9F-45A2-8DD4-DA3661E8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4A6EB-9471-4C28-B773-62AEFDA9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9E9E1-B18B-46EB-A945-CE47AB66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DC599-1B89-4B9E-B081-79FED3A6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B8FE3-CA16-4A72-9731-0F947837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8E1-A4CC-418A-B9E3-14EA2499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871-8448-4388-BB13-B2B1FEEF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0EC9-FC40-4386-991A-F1FA41A1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BFC-CAB7-4878-B8CF-11F73D3E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487-FC22-4AF2-B486-BA87BBEB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922A-0C68-4A95-9208-E789F6B112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6C6B-F43D-4EEE-8D09-A9059CCA72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D3F8-BF03-41A3-85A7-BA44304D8F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ADEE-0824-4375-B493-6DEDF45AEC1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http://www.landomag.fr/wp-content/uploads/2015/04/imagedes_chiffres_et_des_lettres_01.jpg"/>
          <p:cNvPicPr/>
          <p:nvPr/>
        </p:nvPicPr>
        <p:blipFill>
          <a:blip r:embed="rId1"/>
          <a:stretch/>
        </p:blipFill>
        <p:spPr>
          <a:xfrm>
            <a:off x="324000" y="260280"/>
            <a:ext cx="4979880" cy="3735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i.ytimg.com/vi/h9vH7YGotQc/hqdefault.jpg"/>
          <p:cNvPicPr/>
          <p:nvPr/>
        </p:nvPicPr>
        <p:blipFill>
          <a:blip r:embed="rId2"/>
          <a:stretch/>
        </p:blipFill>
        <p:spPr>
          <a:xfrm>
            <a:off x="442764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Oval 1"/>
          <p:cNvSpPr/>
          <p:nvPr/>
        </p:nvSpPr>
        <p:spPr>
          <a:xfrm>
            <a:off x="324000" y="236520"/>
            <a:ext cx="2232000" cy="2305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33"/>
                </a:solidFill>
                <a:latin typeface="Comic Sans MS"/>
              </a:rPr>
              <a:t>27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4521240" y="1063800"/>
            <a:ext cx="873000" cy="871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7093080" y="10526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4525920" y="1317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4"/>
          <a:stretch/>
        </p:blipFill>
        <p:spPr>
          <a:xfrm>
            <a:off x="5796000" y="1071720"/>
            <a:ext cx="863640" cy="86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5"/>
          <a:stretch/>
        </p:blipFill>
        <p:spPr>
          <a:xfrm>
            <a:off x="3124080" y="13176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6"/>
          <a:stretch/>
        </p:blipFill>
        <p:spPr>
          <a:xfrm>
            <a:off x="3132000" y="105264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75" name="TextBox 8"/>
          <p:cNvSpPr/>
          <p:nvPr/>
        </p:nvSpPr>
        <p:spPr>
          <a:xfrm>
            <a:off x="3132000" y="220500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4427640" y="2205000"/>
            <a:ext cx="96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5867280" y="220500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14"/>
          <p:cNvSpPr/>
          <p:nvPr/>
        </p:nvSpPr>
        <p:spPr>
          <a:xfrm>
            <a:off x="7093080" y="220500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3124080" y="3716280"/>
            <a:ext cx="576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6 x 6 = 3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5 + 4 = 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36 – 9 = 2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11-01T19:28:12Z</dcterms:modified>
  <cp:revision>48</cp:revision>
  <dc:subject/>
  <dc:title>Slide 1</dc:title>
</cp:coreProperties>
</file>