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CF8-7348-4EBE-832E-B66A2D3F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069-D8FA-4C52-8275-E040E48E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854-93E1-454C-AE99-3BF3C79B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B1E-EC9A-4D50-9F6F-71BAE2D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656-C2DA-48D8-8CA7-24679029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6C0-0824-480B-AAA0-C453AD9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077-9029-4755-B761-E6C916F0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0A88-56AD-4D14-93F3-ED426F0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F7CE-2230-41C9-95CD-F8BE54B4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2765-CE42-41B6-B493-D19BAC63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9CA-FEC4-4D22-A973-B175959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B23-38CE-4D4F-908C-8BD7B40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7564-4E01-4EDB-88E6-CC8DD19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AF4B-AE81-4D59-80DB-B413478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B01-F801-4367-85F5-100FE22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B5B-2021-415F-9A85-5C123A55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4E37-D165-4EB0-9D2B-0CE541F7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E564-E51F-47DA-BB56-38D11C8D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3A82-79C2-4017-A828-9096B03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A23F-06EC-4816-A5B5-48288B52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5BFB-39EB-4360-BD41-6B38AF5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3DD4-FFFB-44D1-9E54-3DF2340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8F2-2D31-4512-A122-3CA54B4C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83E5-3792-44E8-88F8-7255289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D08E-26A6-4B24-8C35-92D3E5A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1264-2064-401B-AB3F-7ED0F28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9048-3999-4246-B974-5B643DD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16B7-188D-4900-A6F2-B81834C9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6A03-E9AA-4BCD-901C-6CD318FD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2878-CA50-4200-9724-6DDCEF33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27FB-964D-42AC-ADB6-C50A31EE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28FB-E9D3-4DD8-88B6-50CFCBA3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E482-FA71-4EF4-A9ED-AE47E2B1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E88-E791-4937-8EFE-EE5CBA0E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8666-636D-4DEA-941B-AB874B3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D670-D274-410E-AD4B-005523C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6622-C865-4FC7-8D9A-C883D0B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07BD-6AAC-4B6D-83EE-BE6204C7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D86C-1029-4E03-8CD8-19B59B0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340E-E33F-4953-837F-9C15A71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147D-7101-4F23-9FB3-5EF7687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7271F-869A-4CC9-A5E0-79A93C9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15CE-E8C0-4CE8-9548-1703D6B6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4BC-A965-4D87-821A-23D88C2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6DB-0B79-4BDF-8A99-A0877639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F69-2E97-4568-B46C-186FDDE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E19-02FF-4D4C-AE8C-47FA973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DBF-6403-4948-B109-6EB4FA5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645-F597-4EDD-8F39-3B5138ADF2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3F2-67B6-4540-9990-ABAD56559E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7EE-C7B0-428F-95E4-9642ED3BD9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7B5-7B36-4298-8F6D-CAD48B3AC2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www.landomag.fr/wp-content/uploads/2015/04/imagedes_chiffres_et_des_lettres_01.jpg"/>
          <p:cNvPicPr/>
          <p:nvPr/>
        </p:nvPicPr>
        <p:blipFill>
          <a:blip r:embed="rId1"/>
          <a:stretch/>
        </p:blipFill>
        <p:spPr>
          <a:xfrm>
            <a:off x="324000" y="2602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i.ytimg.com/vi/h9vH7YGotQc/hqdefault.jpg"/>
          <p:cNvPicPr/>
          <p:nvPr/>
        </p:nvPicPr>
        <p:blipFill>
          <a:blip r:embed="rId2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1"/>
          <p:cNvSpPr/>
          <p:nvPr/>
        </p:nvSpPr>
        <p:spPr>
          <a:xfrm>
            <a:off x="324000" y="236520"/>
            <a:ext cx="2232000" cy="23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33"/>
                </a:solidFill>
                <a:latin typeface="Comic Sans MS"/>
              </a:rPr>
              <a:t>2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521240" y="1063800"/>
            <a:ext cx="873000" cy="87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4525920" y="1317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5796000" y="107172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3124080" y="131760"/>
            <a:ext cx="871560" cy="871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tretch/>
        </p:blipFill>
        <p:spPr>
          <a:xfrm>
            <a:off x="3132000" y="1052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8"/>
          <p:cNvSpPr/>
          <p:nvPr/>
        </p:nvSpPr>
        <p:spPr>
          <a:xfrm>
            <a:off x="313200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4427640" y="2205000"/>
            <a:ext cx="9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586728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7093080" y="2205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124080" y="3716280"/>
            <a:ext cx="57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6 x 6 = 3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5 + 4 = 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36 – 9 = 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28:12Z</dcterms:modified>
  <cp:revision>48</cp:revision>
  <dc:subject/>
  <dc:title>Slide 1</dc:title>
</cp:coreProperties>
</file>