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773-7D9A-49ED-A8BE-E6DA9EB1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758-47E9-418C-A367-4B8259AD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695-6E07-4F55-B765-7407BD80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EB8-0C5D-4C5E-8FB5-313E249B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4216-FE1A-4043-9AAA-833414D1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5D7D-71F1-4312-A78B-54D3E32A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F0BD-80CD-48DC-A1FA-1583B5B6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1452-E27D-4823-AA99-5351DD39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DB47-C1AB-4C2D-A4B7-F01C9977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2AAA-66C2-425B-B32C-EAD8A3DB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60D7-5478-47AE-9B09-28288D83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724-793F-464C-8031-A11FC886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E53B-D6CE-40C9-903B-3302B602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C82C-7A7B-4B3F-9AB2-069E7E83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3DEB-D7FD-498C-8D3E-749B08D5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F6E2-1F6B-4B41-AABF-B7798382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C73B-8A29-4EF7-B62B-B192B488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587A-13A2-401D-B1BF-8449BE45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A532-6482-4F9F-B415-BE3EB4E2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FA7B-221F-4E80-8A1D-5B7B3313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3292-DA69-4E22-BDE1-AA37804C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A009-BC9B-4D64-A56E-5484F881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DEB-0AD6-4BCB-8166-0CC203D1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A6EE-93B1-426C-9087-05AB9495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82CA-2F0C-4216-94E3-B97D466F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FB67-A792-4484-9AB7-408B105A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03D4-FADA-4A39-AB12-6900CA01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A240-04CA-427A-9394-8F430B20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90D2-0D67-4D61-A364-26507688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038B-55EF-4E25-8C12-584FB6C1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4DE19-8079-4E9C-896B-26AD1E78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7810-AF43-4863-BA96-9036743C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B1ED-A34F-4E71-8895-454FCA7B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223-A47C-4C62-BFC2-C9FA9812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EF090-94EA-4D77-B878-797B28C5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E1B1E-2B12-4663-8C63-1405C2EC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EA1D7-596A-45CB-8962-152FEE0B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6B90E-5332-440C-8FB2-054D68E4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2C52-E023-40A9-AF00-DF1074E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4234D-46A2-4DAC-B821-EF0DB02B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41E24-DB4E-4E8E-9447-E736ED79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28BCC-E2CC-4800-9110-4696E34E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2FF3-43C1-46DB-ABED-7648BDFE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5CD-ADFF-4823-A96B-C975F4B0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C78-740F-484D-9AA9-C9023348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CE0-9042-4462-B48A-8665421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D34-60FD-4206-AFF3-16581F2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AC7-549B-4319-8D80-B319C62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9698-A428-4F6E-B38D-696765E573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22E3-8F2F-43AB-88CE-5E803D9534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B854-48E9-4607-8312-6EBDE24F1F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FB13-1F24-4095-87F8-2698C6DE54A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179280" y="44280"/>
            <a:ext cx="87854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Plural: add </a:t>
            </a:r>
            <a:r>
              <a:rPr b="1" lang="en-GB" sz="3200" spc="-1" strike="noStrike">
                <a:solidFill>
                  <a:srgbClr val="333333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. 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EXCEPT 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–s/-x stay the same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-eau add </a:t>
            </a:r>
            <a:r>
              <a:rPr b="1" lang="en-GB" sz="3200" spc="-1" strike="noStrike">
                <a:solidFill>
                  <a:srgbClr val="333333"/>
                </a:solidFill>
                <a:latin typeface="Comic Sans MS"/>
              </a:rPr>
              <a:t>x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179280" y="177336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I can make French nouns plura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rtu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h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raigné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7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scargo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8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ingoui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ouri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9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ar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teau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hinocér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2411280" y="2637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ortu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26"/>
          <p:cNvSpPr/>
          <p:nvPr/>
        </p:nvSpPr>
        <p:spPr>
          <a:xfrm>
            <a:off x="2536920" y="3409920"/>
            <a:ext cx="201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raigné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27"/>
          <p:cNvSpPr/>
          <p:nvPr/>
        </p:nvSpPr>
        <p:spPr>
          <a:xfrm>
            <a:off x="2503440" y="4149720"/>
            <a:ext cx="20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escargo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28"/>
          <p:cNvSpPr/>
          <p:nvPr/>
        </p:nvSpPr>
        <p:spPr>
          <a:xfrm>
            <a:off x="2243160" y="486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souri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29"/>
          <p:cNvSpPr/>
          <p:nvPr/>
        </p:nvSpPr>
        <p:spPr>
          <a:xfrm>
            <a:off x="220824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bate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6804000" y="26798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h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6948360" y="34210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32"/>
          <p:cNvSpPr/>
          <p:nvPr/>
        </p:nvSpPr>
        <p:spPr>
          <a:xfrm>
            <a:off x="7308720" y="4149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ingoui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33"/>
          <p:cNvSpPr/>
          <p:nvPr/>
        </p:nvSpPr>
        <p:spPr>
          <a:xfrm>
            <a:off x="7140600" y="486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anar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34"/>
          <p:cNvSpPr/>
          <p:nvPr/>
        </p:nvSpPr>
        <p:spPr>
          <a:xfrm>
            <a:off x="6624720" y="608472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rhinocér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1-25T13:12:53Z</dcterms:modified>
  <cp:revision>154</cp:revision>
  <dc:subject/>
  <dc:title>Slide 1</dc:title>
</cp:coreProperties>
</file>