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89B-85CC-41C7-9B5B-4D1A38DA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85E-DF1E-4054-9736-AA081C7F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9A8-72FF-4E3C-9CD4-F1D804B8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E4F-A9BB-48B1-999D-BC76A414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87E8-6F74-4FB0-8B32-BC74E584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50D6-5F54-48F7-A156-9C325314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47C8-10A7-4A5A-B970-6A50C0E4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6798-7E97-4D67-BAA7-653F9A0A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FFAE-6EAA-42EF-B40E-ED252F24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BD0E-A9F9-4984-BE4C-AB536435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AA01-1F1B-47C3-8222-F89F091E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F1F-F247-48D7-A0A8-F7B9161C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E78F-E65A-46D6-960F-EAF76F98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0F17-4097-4529-A9DB-C4BC0763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3E70-0DF7-4A95-9C3B-BED80CC7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750D-F7CB-45AE-A5BC-7088DA99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20D9-9AB5-4982-9048-0087F136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4ADBC-CBF5-4482-A436-B0F94260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7753B-3138-4D77-9091-C1927975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C4B4A-D26D-4043-855C-81247169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0E60B-1A0C-44CD-BA03-71F785FD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D9125-F415-4FAC-AC1E-3860BA89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5434-3065-4690-B9B1-B91E65DD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42CE1-5723-407F-A70B-9366023A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6CE15-261C-4265-97CF-302CC554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20B94-7499-4811-BF7B-387933E9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1C2A-D944-4455-9A0D-9F7AE4E4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93FCB-0558-4543-B7CA-0A84EF74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9D30C-B505-4857-A35D-399498A5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09C51-4399-46B1-9C1A-D549E734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E4EAD-5A5C-4151-85FF-91940E8A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9BF6C-CF44-4445-A822-D5975B2E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CE252-1E17-448A-85B6-3AA82A4A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D6F-7FC9-4639-8848-89DC932A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706A3-34F5-4E1C-B657-5CF3CEB9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88502-3B46-4926-9601-E1C07B22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B0657-0CF6-4C20-8286-97EC3592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5BC56-810F-4733-9E99-825BF28C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87E16-19BE-4230-A03F-27418A44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B7906-53AE-4C1B-B09D-65691E4C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F5B18-D605-4301-99F3-9A7606C0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43E4F-773F-4FAF-A48C-C30A9D75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B2A68-2DDC-4A75-885E-B3B77763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B5C-9A24-4B6D-B7A3-49637903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A72-8425-4C91-8107-905F6392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6D9-B096-4680-A759-007B425D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5AA-BAF1-480B-9E66-AF3D3ACF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2DA-ED01-4357-884F-3ADB339F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9D9A-48B3-499F-9B9E-FA608B0348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4788-BD9F-41AC-9E71-0425AACC53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8819-2221-43DC-B794-4AD72E664F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720F-933E-413D-ACA2-70C9042D0BA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22"/>
          <p:cNvSpPr/>
          <p:nvPr/>
        </p:nvSpPr>
        <p:spPr>
          <a:xfrm>
            <a:off x="179280" y="44280"/>
            <a:ext cx="878544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Plural: add </a:t>
            </a:r>
            <a:r>
              <a:rPr b="1" lang="en-GB" sz="3200" spc="-1" strike="noStrike">
                <a:solidFill>
                  <a:srgbClr val="333333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.  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EXCEPT 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–s/-x stay the same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-eau add </a:t>
            </a:r>
            <a:r>
              <a:rPr b="1" lang="en-GB" sz="3200" spc="-1" strike="noStrike">
                <a:solidFill>
                  <a:srgbClr val="333333"/>
                </a:solidFill>
                <a:latin typeface="Comic Sans MS"/>
              </a:rPr>
              <a:t>x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179280" y="1773360"/>
            <a:ext cx="878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I can make French nouns plura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rtu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6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h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raigné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7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r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scargot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8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ingoui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ouri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9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ar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teau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hinocéro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2411280" y="2637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tortu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26"/>
          <p:cNvSpPr/>
          <p:nvPr/>
        </p:nvSpPr>
        <p:spPr>
          <a:xfrm>
            <a:off x="2536920" y="3409920"/>
            <a:ext cx="201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araigné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27"/>
          <p:cNvSpPr/>
          <p:nvPr/>
        </p:nvSpPr>
        <p:spPr>
          <a:xfrm>
            <a:off x="2503440" y="4149720"/>
            <a:ext cx="20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escargo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28"/>
          <p:cNvSpPr/>
          <p:nvPr/>
        </p:nvSpPr>
        <p:spPr>
          <a:xfrm>
            <a:off x="2243160" y="486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souri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29"/>
          <p:cNvSpPr/>
          <p:nvPr/>
        </p:nvSpPr>
        <p:spPr>
          <a:xfrm>
            <a:off x="2208240" y="558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bateau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30"/>
          <p:cNvSpPr/>
          <p:nvPr/>
        </p:nvSpPr>
        <p:spPr>
          <a:xfrm>
            <a:off x="6804000" y="26798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h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31"/>
          <p:cNvSpPr/>
          <p:nvPr/>
        </p:nvSpPr>
        <p:spPr>
          <a:xfrm>
            <a:off x="6948360" y="34210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pr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32"/>
          <p:cNvSpPr/>
          <p:nvPr/>
        </p:nvSpPr>
        <p:spPr>
          <a:xfrm>
            <a:off x="7308720" y="414972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pingoui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33"/>
          <p:cNvSpPr/>
          <p:nvPr/>
        </p:nvSpPr>
        <p:spPr>
          <a:xfrm>
            <a:off x="7140600" y="486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anard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34"/>
          <p:cNvSpPr/>
          <p:nvPr/>
        </p:nvSpPr>
        <p:spPr>
          <a:xfrm>
            <a:off x="6624720" y="608472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rhinocéro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6-01-25T13:12:53Z</dcterms:modified>
  <cp:revision>154</cp:revision>
  <dc:subject/>
  <dc:title>Slide 1</dc:title>
</cp:coreProperties>
</file>