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532-B904-4F9D-9447-59BEB73E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862-DA74-4B22-A1A0-CFEA6723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836B-E46B-45BD-BC4B-422855E7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81A-2CBC-4FA5-8FB6-F79B07D1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5CE3-B9C1-44C4-BA65-DDFC36C2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2101-CA31-41DF-856B-47281973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15F3-E8BA-4209-AA61-C5D7C50F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F7BE-601F-45CA-AA51-8CC0F1F4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EA6D-15B6-4AED-BC14-0172F31F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5307-899D-462E-8BEF-C2D453BB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EF96-D91A-47F9-B87B-9071E8F6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B54-9222-461E-B7F2-67D2D1EF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779E-4E46-484B-AF19-F2CDFBAC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A032-7A38-4D78-A7B6-AD703884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D1D5-2E31-4E39-88A9-88FB3484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BDD0-AF1A-45E4-85DD-DBD7BF2A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B99E-2C87-4C6F-98AA-A6668B11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4A0BB-0F44-496F-B7D0-7F116174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E4A2-7ECE-46EE-9AA7-121ECB89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4FD3-91E9-4001-A6CB-5D8BA0A8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CB6F3-8787-4727-AC36-8055BD2C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BFA2D-F812-4435-BBF1-0614CD6E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9AE-7855-425D-863E-F174DCB4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1C6ED-6085-43DE-B746-F3099933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DA76-675F-437D-A7D7-D96E7258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DBD04-F957-4675-9A43-EE497E10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D90C-1267-47E2-A321-F8CF0358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B0674-9F40-447E-9BCE-2D68A1BD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C320B-1176-4F94-858E-83860428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519F-C02B-48B2-B719-E32FE287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1999D-1C86-405A-87D9-969A5C45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E5422-B942-4421-9395-CCE8C857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36310-99B3-4602-AE5A-242F3185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819-16AE-4FBD-9133-EF1976D6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DA66F-4C8D-406D-A5E0-60191E8E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1220F-64A8-4F83-8D9B-1BCD8E77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08795-DD47-4F34-9187-C7E19D32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6B782-3B92-4610-94BC-45E03BC8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E8B5E-591E-48FD-8861-E22F320A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71C58-A9C8-4C0C-BE0C-FF53CE38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60BCE-2013-460C-9F98-8D938DA4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D7BAD-8F87-497C-B47D-378C781A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96307-CC42-4160-9A3C-D3F8F800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6E8-C9F4-4ED4-A7C4-27EF9C32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851-E680-4CED-B7F0-1C6A8CFC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F54-A346-4B1C-A3F4-CFF81353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4BC-1302-444F-B804-6C48CC84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A52-B0B2-4F26-8903-F2C7FC69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1A9F-1B38-4A59-BD23-AEA8492547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4E75-0A6A-4DEF-AF7F-290199E919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EE3F-89D8-40C6-8AAF-020B2CBB25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6E56-F8BB-48E1-BE50-C789A9501F9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179280" y="44280"/>
            <a:ext cx="878544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Plural: add </a:t>
            </a:r>
            <a:r>
              <a:rPr b="1" lang="en-GB" sz="3200" spc="-1" strike="noStrike">
                <a:solidFill>
                  <a:srgbClr val="333333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.  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EXCEPT 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–s/-x stay the same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-eau add </a:t>
            </a:r>
            <a:r>
              <a:rPr b="1" lang="en-GB" sz="3200" spc="-1" strike="noStrike">
                <a:solidFill>
                  <a:srgbClr val="333333"/>
                </a:solidFill>
                <a:latin typeface="Comic Sans MS"/>
              </a:rPr>
              <a:t>x</a:t>
            </a: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179280" y="1773360"/>
            <a:ext cx="878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I can make French nouns plura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uteur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6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vo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usici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7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ssa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élodi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8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hâtea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il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9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uccè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èm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uque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2411280" y="2637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auteu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26"/>
          <p:cNvSpPr/>
          <p:nvPr/>
        </p:nvSpPr>
        <p:spPr>
          <a:xfrm>
            <a:off x="2536920" y="3409920"/>
            <a:ext cx="201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musicie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27"/>
          <p:cNvSpPr/>
          <p:nvPr/>
        </p:nvSpPr>
        <p:spPr>
          <a:xfrm>
            <a:off x="2503440" y="414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mélod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28"/>
          <p:cNvSpPr/>
          <p:nvPr/>
        </p:nvSpPr>
        <p:spPr>
          <a:xfrm>
            <a:off x="1835280" y="486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fi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29"/>
          <p:cNvSpPr/>
          <p:nvPr/>
        </p:nvSpPr>
        <p:spPr>
          <a:xfrm>
            <a:off x="2208240" y="558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thèm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30"/>
          <p:cNvSpPr/>
          <p:nvPr/>
        </p:nvSpPr>
        <p:spPr>
          <a:xfrm>
            <a:off x="6804000" y="26798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vo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31"/>
          <p:cNvSpPr/>
          <p:nvPr/>
        </p:nvSpPr>
        <p:spPr>
          <a:xfrm>
            <a:off x="6948360" y="34210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essai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32"/>
          <p:cNvSpPr/>
          <p:nvPr/>
        </p:nvSpPr>
        <p:spPr>
          <a:xfrm>
            <a:off x="7308720" y="41497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hâteau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33"/>
          <p:cNvSpPr/>
          <p:nvPr/>
        </p:nvSpPr>
        <p:spPr>
          <a:xfrm>
            <a:off x="7140600" y="486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succè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34"/>
          <p:cNvSpPr/>
          <p:nvPr/>
        </p:nvSpPr>
        <p:spPr>
          <a:xfrm>
            <a:off x="7308720" y="56037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bouque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6-01-25T13:03:10Z</dcterms:modified>
  <cp:revision>152</cp:revision>
  <dc:subject/>
  <dc:title>Slide 1</dc:title>
</cp:coreProperties>
</file>