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AFE-48B1-4C31-83C0-92E858DF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364-22D2-4B36-84E4-DF21FD13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5BA-4DA8-4811-B060-516F14DA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8E1-D80A-4942-8A98-A069842C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B2AA-6794-4FEF-8E1B-CC77402C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FF45-35BA-411D-A716-D0F9D95E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33F5-3FBB-4BE5-91D0-A8E18920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C8C4-0D58-403F-9FD5-154BBB0D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E230-413C-48FC-BC37-D54F5B39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4C7D-BDA1-4574-9EF9-CBC42664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694A-36F8-489E-A6E4-BE03A9F8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7F5-7481-4D28-A78C-B61FA0AE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7FAA-519C-47CA-A6C2-A47DDEAB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4455-BEBB-4DF0-A408-BBBDB7CC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8C83-9C6A-4C22-A784-64259705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14F2-090E-42D2-9721-BE0331C7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7EA7-DE2B-464A-8B6E-9938B011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4D30C-423C-46AA-A4D8-84787E46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F916B-2D5B-4BF7-89D1-CA0ACE48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BF1A9-FF18-4C79-ADD1-F642E721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319ED-E5F6-4799-8C1A-DC38A000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B862F-0E59-4EE2-9130-657768C4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647C-1A89-4BF8-B9BC-64981E23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3E766-5AE4-4092-BF6A-5FA4CA31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60D95-7F76-4241-B403-16BE3633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97183-B619-4471-A0A4-4F6D7392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BF0A6-194E-4F57-8B27-F8E7F810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F0BC1-EBF3-4C8F-AE72-58E8791C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3ADF3-C076-43A7-AE68-918DE6F9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51D9E-EAD3-44D4-8304-A7288E98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83B1C-9CEE-45BE-A532-913F0B92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95AB9-3F63-4D1E-8038-EDD6E2EE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11E21-0340-4F4B-88E6-433DA417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FE7-2783-4B9C-BD5E-BFDC4267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0786E-0D10-4BB6-A493-6E1A9336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500D6-EEA8-42A6-80FA-63BD69EE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4B39A-2024-4B71-A3F2-E4C19833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A6317-D63D-4C3D-AB75-237925CE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FA7B7-178C-4E41-B9BD-C4F9CF4E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1250A-D982-477D-8CC6-7C8E1365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6D7D-23FA-4B23-B70B-77E9E1BD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CB166-301D-4C50-BBCA-5022BE02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3C223-8B26-463B-887E-B042089A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A27F-7E56-44F9-8D90-7A0FB8CE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BC2-8DDB-40C5-A869-71496B8E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F5A-6F89-4D76-9D0C-C6DCDB2F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853-6036-45A0-A719-19F66529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2ED-9F05-48C2-982D-AC06CB3E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6096-B8CF-4D8E-829F-A99D47A304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B5B4-8672-4AB3-8FBF-365D918B0E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3A79-00C1-481B-BF75-7329F1CD5F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3AA9-82B8-445A-939C-FF630B1FAE9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22"/>
          <p:cNvSpPr/>
          <p:nvPr/>
        </p:nvSpPr>
        <p:spPr>
          <a:xfrm>
            <a:off x="179280" y="44280"/>
            <a:ext cx="878544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Plural: add </a:t>
            </a:r>
            <a:r>
              <a:rPr b="1" lang="en-GB" sz="3200" spc="-1" strike="noStrike">
                <a:solidFill>
                  <a:srgbClr val="333333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.  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EXCEPT 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–s/-x stay the same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-eau add </a:t>
            </a:r>
            <a:r>
              <a:rPr b="1" lang="en-GB" sz="3200" spc="-1" strike="noStrike">
                <a:solidFill>
                  <a:srgbClr val="333333"/>
                </a:solidFill>
                <a:latin typeface="Comic Sans MS"/>
              </a:rPr>
              <a:t>x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179280" y="1773360"/>
            <a:ext cx="878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I can make French nouns plura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uteur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6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vo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usicie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7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ssai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élodi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8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hâtea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il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9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uccè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èm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uque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2411280" y="2637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auteu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26"/>
          <p:cNvSpPr/>
          <p:nvPr/>
        </p:nvSpPr>
        <p:spPr>
          <a:xfrm>
            <a:off x="2536920" y="3409920"/>
            <a:ext cx="201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musicie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27"/>
          <p:cNvSpPr/>
          <p:nvPr/>
        </p:nvSpPr>
        <p:spPr>
          <a:xfrm>
            <a:off x="2503440" y="4149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mélod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28"/>
          <p:cNvSpPr/>
          <p:nvPr/>
        </p:nvSpPr>
        <p:spPr>
          <a:xfrm>
            <a:off x="1835280" y="486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fi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29"/>
          <p:cNvSpPr/>
          <p:nvPr/>
        </p:nvSpPr>
        <p:spPr>
          <a:xfrm>
            <a:off x="2208240" y="5589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thèm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30"/>
          <p:cNvSpPr/>
          <p:nvPr/>
        </p:nvSpPr>
        <p:spPr>
          <a:xfrm>
            <a:off x="6804000" y="26798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vo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31"/>
          <p:cNvSpPr/>
          <p:nvPr/>
        </p:nvSpPr>
        <p:spPr>
          <a:xfrm>
            <a:off x="6948360" y="34210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essai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32"/>
          <p:cNvSpPr/>
          <p:nvPr/>
        </p:nvSpPr>
        <p:spPr>
          <a:xfrm>
            <a:off x="7308720" y="41497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hâteau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33"/>
          <p:cNvSpPr/>
          <p:nvPr/>
        </p:nvSpPr>
        <p:spPr>
          <a:xfrm>
            <a:off x="7140600" y="486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succè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34"/>
          <p:cNvSpPr/>
          <p:nvPr/>
        </p:nvSpPr>
        <p:spPr>
          <a:xfrm>
            <a:off x="7308720" y="56037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bouque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6-01-25T13:03:10Z</dcterms:modified>
  <cp:revision>152</cp:revision>
  <dc:subject/>
  <dc:title>Slide 1</dc:title>
</cp:coreProperties>
</file>