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B89E-E715-4C08-8E60-8A6BD3274E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3B3B-092C-428B-AC40-8597387955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F0A8-E3DC-481D-B537-1AC3446D17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F5B2-DA38-40AF-8409-2C4FA40ECE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8060-E360-4CD6-A1BF-518C83E0C2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CF7-0B0C-4454-8084-676A40D8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E18-4EF0-4564-B39E-0DE9232D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779-251B-4808-AAE3-DF432E9F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32E-1ED7-40B7-BEE2-205CDA01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7BF3-3453-4B3D-86A1-70039B2D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535A-A367-4373-82EA-C3C5675C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AE42-B796-47E3-B1BC-E8D9CF1C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6BC2-A623-495F-9700-84CB09C4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9C7E-55F0-4D85-9F3C-F7B86428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3911-6D94-4393-BE0A-969EDC61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A9E2-E471-4D05-A51E-A7E9AC2B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FAA-DC71-4128-8956-2A04C97F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5BC3-7980-40D5-8AE1-6B81E232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43A1-DCE5-4F33-B6A3-D9B943D0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DAE7-7C2F-4891-BFA9-D5826FE3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149B-16C9-4E61-A9D5-DE9B5F44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4BE7-289F-41A2-8F85-AEC0912B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66A-2D5B-415E-8E17-01154176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A0F-909D-469E-B5F1-5C1FDBB7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3E5-8699-457A-AD03-3CE3678F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212-3F00-448D-AD60-89029FD5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612-B04E-4DBC-9A17-606AFC54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E772-86CB-4D70-9B95-1E7F7259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CFB1-F7F9-439A-AEF1-1B06DE9A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4917-007F-40B8-99C7-5A7BD0A1350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8319-48C1-47E2-8A6C-04791D9238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70000" y="189000"/>
            <a:ext cx="1616040" cy="17272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2986200" y="45576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ingt mout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08000" y="1916280"/>
            <a:ext cx="210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out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108000" y="3386160"/>
            <a:ext cx="2485800" cy="127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0" y="4557600"/>
            <a:ext cx="248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lairea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3473280" y="2260440"/>
            <a:ext cx="2013120" cy="215424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5689440" y="3035160"/>
            <a:ext cx="223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x 20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2155680" y="1079640"/>
            <a:ext cx="65566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70000" y="189000"/>
            <a:ext cx="1616040" cy="1727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2986200" y="45576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ix-sept blairea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08000" y="1916280"/>
            <a:ext cx="210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mout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108000" y="3386160"/>
            <a:ext cx="2485800" cy="127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9"/>
          <p:cNvSpPr/>
          <p:nvPr/>
        </p:nvSpPr>
        <p:spPr>
          <a:xfrm>
            <a:off x="0" y="4557600"/>
            <a:ext cx="248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blairea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5689440" y="3035160"/>
            <a:ext cx="223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x 17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3"/>
          <a:stretch/>
        </p:blipFill>
        <p:spPr>
          <a:xfrm>
            <a:off x="2771640" y="3025800"/>
            <a:ext cx="2982960" cy="153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2155680" y="1079640"/>
            <a:ext cx="65566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5"/>
          <p:cNvSpPr/>
          <p:nvPr/>
        </p:nvSpPr>
        <p:spPr>
          <a:xfrm>
            <a:off x="2916360" y="4508640"/>
            <a:ext cx="51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vingt-six suric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108000" y="1916280"/>
            <a:ext cx="19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lap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4000" y="527220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uric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5689440" y="3035160"/>
            <a:ext cx="223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x 26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1"/>
          <a:stretch/>
        </p:blipFill>
        <p:spPr>
          <a:xfrm>
            <a:off x="398520" y="90360"/>
            <a:ext cx="1757160" cy="1962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2"/>
          <a:stretch/>
        </p:blipFill>
        <p:spPr>
          <a:xfrm>
            <a:off x="812880" y="3402000"/>
            <a:ext cx="1166760" cy="20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3"/>
          <a:stretch/>
        </p:blipFill>
        <p:spPr>
          <a:xfrm>
            <a:off x="3994200" y="1573200"/>
            <a:ext cx="1757160" cy="307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4"/>
          <a:stretch/>
        </p:blipFill>
        <p:spPr>
          <a:xfrm>
            <a:off x="2155680" y="1079640"/>
            <a:ext cx="65566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5"/>
          <p:cNvSpPr/>
          <p:nvPr/>
        </p:nvSpPr>
        <p:spPr>
          <a:xfrm>
            <a:off x="2916360" y="4508640"/>
            <a:ext cx="51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trente suric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08000" y="1916280"/>
            <a:ext cx="19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lap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54000" y="527220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uric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689440" y="3035160"/>
            <a:ext cx="2230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a"/>
                </a:solidFill>
                <a:latin typeface="Comic Sans MS"/>
              </a:rPr>
              <a:t>x 30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10" descr=""/>
          <p:cNvPicPr/>
          <p:nvPr/>
        </p:nvPicPr>
        <p:blipFill>
          <a:blip r:embed="rId1"/>
          <a:stretch/>
        </p:blipFill>
        <p:spPr>
          <a:xfrm>
            <a:off x="398520" y="90360"/>
            <a:ext cx="1757160" cy="196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2"/>
          <a:stretch/>
        </p:blipFill>
        <p:spPr>
          <a:xfrm>
            <a:off x="812880" y="3402000"/>
            <a:ext cx="1166760" cy="20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3"/>
          <a:stretch/>
        </p:blipFill>
        <p:spPr>
          <a:xfrm>
            <a:off x="3994200" y="1573200"/>
            <a:ext cx="1757160" cy="3079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4"/>
          <a:stretch/>
        </p:blipFill>
        <p:spPr>
          <a:xfrm>
            <a:off x="2155680" y="1079640"/>
            <a:ext cx="65566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8-12-09T19:44:52Z</dcterms:modified>
  <cp:revision>102</cp:revision>
  <dc:subject/>
  <dc:title>TITLE</dc:title>
</cp:coreProperties>
</file>