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AC2B-AF79-4EE0-BED8-6FEEE31166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AE3C-B6AA-4BB1-8AB8-3B82CF7BB6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CC5-8A4A-44E2-A0DB-659412CE82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FAC-6E4C-4C2F-B015-D34A4591CA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BE07-283D-4F5D-939E-96298CB740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E79-3757-4F98-B249-04197D15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6D0-94FD-4A9D-AF05-1AE37473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CF3-8FE0-4FDB-9479-C1753DAA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070-9858-429F-B7A1-0378A6F4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0CD-5788-4B5E-9F38-DA586DA7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C1A2-737E-48D8-8B4A-E8213787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C40A-0A5D-48FF-A446-B92BB7FA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0156-54EF-4619-A70B-F96A06EC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2A65-AA31-4D3D-BBE8-99AA83E4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24C8-D815-4E80-BC8A-F30D87E7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F599-60CB-486A-929B-F378134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5AA-2CA0-401C-AD73-148A55FB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2D58-C680-4F8F-A735-C00D2528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0284-8EA6-45A5-B1D3-FE1ECD7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56D6-F245-43F3-8A06-247F39A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540B-3345-4BA2-85B9-2B046CB8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8F8-587C-4CBF-8E1E-D0BE8F8A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B7C-7105-4B7B-80BA-72D7BB3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857-A742-4839-A05B-865E32EA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7F9-6922-49F6-B05C-C492CEFD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4E0-0CF3-4263-B3ED-76AC3C7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50D-7F2C-4030-921E-0ED591E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6B4-1FD5-4AA3-9424-A0B0665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9B8-E8EA-4CC0-8CBA-3505DE2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45B-B14F-4172-A53C-F81714AAD8A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F3A-73B0-4CD6-B417-7B9B966814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ingt mout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08000" y="1916280"/>
            <a:ext cx="210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out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0" y="4557600"/>
            <a:ext cx="248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irea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3473280" y="2260440"/>
            <a:ext cx="2013120" cy="215424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x-sept blairea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08000" y="1916280"/>
            <a:ext cx="210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out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0" y="4557600"/>
            <a:ext cx="248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irea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17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3"/>
          <a:stretch/>
        </p:blipFill>
        <p:spPr>
          <a:xfrm>
            <a:off x="2771640" y="3025800"/>
            <a:ext cx="2982960" cy="153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ingt-six suric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ap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6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ente suric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ap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3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44:52Z</dcterms:modified>
  <cp:revision>102</cp:revision>
  <dc:subject/>
  <dc:title>TITLE</dc:title>
</cp:coreProperties>
</file>