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D04-E437-4892-90D6-869F6599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893-982A-4BFA-9D23-3DC80EF7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D0E-92D7-4E31-85A2-6EDC0D7E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F24-5283-41C6-A16F-0868A2FA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38DF-A3FD-4977-B9C2-4B7E9D2C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4E01-877C-494F-82E4-5502C608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9DBD-58BC-4559-800D-32AEBD57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1FB-0DF2-4B11-9EB4-D8DB19CE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68D8-3B3F-464E-BEAD-E284E939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F73D-BC2D-41EF-A251-EC958245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D027-846F-4026-AB41-349F2A14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847-5C55-4576-B316-F6377705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1263-7E49-407D-A583-2F8C16E1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5EBA-D6FA-489E-AA88-21A36721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5C18-DEDF-4C54-B6ED-E1042196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DF82-F97F-4926-8233-96D4F576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4973-E782-455B-AA19-7746D832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1B56-3A2F-4DEC-9068-2026A057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81BB-0932-4976-AC93-120BB44F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2925-D6AF-45A8-8C6C-12B41E5B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547E-D1D6-4EE0-8F7B-DF027424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0538-B0DC-4E36-8EC1-20C7FAB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3FB-59D1-49FC-9976-4EF49B68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96F3-A84C-4580-9AB4-57B0BF7C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7DD0-430D-486B-9B21-E90DF8F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AF78-5898-477F-A664-39075A7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17B7-0029-426C-AA45-D4AE0D31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EE7A-D06A-4A6D-BC1C-AEFD30B1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F930-A42D-431F-9CC0-A70009FE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6C2B-46BE-4770-9E54-DBD0F303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618C-4D88-44D2-B24D-4950F777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FB74-9D88-41E1-A9B6-427DC67C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0F37-C076-482C-B4AE-5F1CCD25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4DB-9A05-40BF-B64A-CC83EE2C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19800-2D43-44D1-ABB1-709DA9D9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87CF-C8C5-43A2-85AA-04F36250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1B1C-650C-4610-9F5B-DF3B4AEB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68E7-7A6C-435F-8489-E8A52878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090B-7648-4B34-8B40-5F441DC0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96BE-4849-4FD3-AE11-0F9ABEB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819A-DEA7-4031-922C-0BA8F4A7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3B3B-D9D8-4F16-AFCE-9C7D5C51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1D25F-65C2-482D-B73D-174590C9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D5F-929F-4749-A264-8003CCFA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08D-A38D-407A-BE87-8FB592A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861-A4AE-4960-A867-B7476B7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7A8-44F5-4F90-A6BA-C64A833A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572-C13B-4AD3-99BB-9A28085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6EFB-0BE1-4065-8471-12FF48117F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F6E1-CFCF-41B9-AD76-C02B5ABE59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0205-64F8-49A7-A153-1132C88105F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E773-9D75-4C55-ADC6-F8D88009EFF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supermarche"/>
          <p:cNvPicPr/>
          <p:nvPr/>
        </p:nvPicPr>
        <p:blipFill>
          <a:blip r:embed="rId2"/>
          <a:stretch/>
        </p:blipFill>
        <p:spPr>
          <a:xfrm>
            <a:off x="4211640" y="333360"/>
            <a:ext cx="156204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65" name="Picture 7" descr="ecole"/>
          <p:cNvPicPr/>
          <p:nvPr/>
        </p:nvPicPr>
        <p:blipFill>
          <a:blip r:embed="rId3"/>
          <a:stretch/>
        </p:blipFill>
        <p:spPr>
          <a:xfrm>
            <a:off x="1692360" y="4581360"/>
            <a:ext cx="2160360" cy="16480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66" name="Picture 8" descr="eglise"/>
          <p:cNvPicPr/>
          <p:nvPr/>
        </p:nvPicPr>
        <p:blipFill>
          <a:blip r:embed="rId4"/>
          <a:stretch/>
        </p:blipFill>
        <p:spPr>
          <a:xfrm>
            <a:off x="5651640" y="4149720"/>
            <a:ext cx="1522440" cy="2421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67" name="Picture 10" descr="hopital"/>
          <p:cNvPicPr/>
          <p:nvPr/>
        </p:nvPicPr>
        <p:blipFill>
          <a:blip r:embed="rId5"/>
          <a:stretch/>
        </p:blipFill>
        <p:spPr>
          <a:xfrm>
            <a:off x="6948360" y="33336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68" name="Picture 11" descr="parc"/>
          <p:cNvPicPr/>
          <p:nvPr/>
        </p:nvPicPr>
        <p:blipFill>
          <a:blip r:embed="rId6"/>
          <a:stretch/>
        </p:blipFill>
        <p:spPr>
          <a:xfrm>
            <a:off x="1042920" y="333360"/>
            <a:ext cx="1754280" cy="16048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69" name="Picture 14" descr="poste"/>
          <p:cNvPicPr/>
          <p:nvPr/>
        </p:nvPicPr>
        <p:blipFill>
          <a:blip r:embed="rId7"/>
          <a:stretch/>
        </p:blipFill>
        <p:spPr>
          <a:xfrm>
            <a:off x="1476360" y="2349360"/>
            <a:ext cx="1655640" cy="1729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70" name="Picture 15" descr="riviere"/>
          <p:cNvPicPr/>
          <p:nvPr/>
        </p:nvPicPr>
        <p:blipFill>
          <a:blip r:embed="rId8"/>
          <a:stretch/>
        </p:blipFill>
        <p:spPr>
          <a:xfrm>
            <a:off x="5003640" y="2492280"/>
            <a:ext cx="2595600" cy="1405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71" name="Text Box 17"/>
          <p:cNvSpPr/>
          <p:nvPr/>
        </p:nvSpPr>
        <p:spPr>
          <a:xfrm>
            <a:off x="25092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348000" y="33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15636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611280" y="2276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067280" y="24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75564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471636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bibliotheque"/>
          <p:cNvPicPr/>
          <p:nvPr/>
        </p:nvPicPr>
        <p:blipFill>
          <a:blip r:embed="rId2"/>
          <a:stretch/>
        </p:blipFill>
        <p:spPr>
          <a:xfrm>
            <a:off x="6372360" y="3933720"/>
            <a:ext cx="2520720" cy="189576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79" name="Picture 4" descr="boucherie"/>
          <p:cNvPicPr/>
          <p:nvPr/>
        </p:nvPicPr>
        <p:blipFill>
          <a:blip r:embed="rId3"/>
          <a:stretch/>
        </p:blipFill>
        <p:spPr>
          <a:xfrm>
            <a:off x="611280" y="3716280"/>
            <a:ext cx="2185920" cy="230508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80" name="Picture 5" descr="boulangerie"/>
          <p:cNvPicPr/>
          <p:nvPr/>
        </p:nvPicPr>
        <p:blipFill>
          <a:blip r:embed="rId4"/>
          <a:stretch/>
        </p:blipFill>
        <p:spPr>
          <a:xfrm>
            <a:off x="649440" y="333360"/>
            <a:ext cx="2209680" cy="23749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81" name="Picture 8" descr="epicerie"/>
          <p:cNvPicPr/>
          <p:nvPr/>
        </p:nvPicPr>
        <p:blipFill>
          <a:blip r:embed="rId5"/>
          <a:stretch/>
        </p:blipFill>
        <p:spPr>
          <a:xfrm>
            <a:off x="3564000" y="3716280"/>
            <a:ext cx="2157480" cy="22892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82" name="Picture 11" descr="patisserie"/>
          <p:cNvPicPr/>
          <p:nvPr/>
        </p:nvPicPr>
        <p:blipFill>
          <a:blip r:embed="rId6"/>
          <a:stretch/>
        </p:blipFill>
        <p:spPr>
          <a:xfrm>
            <a:off x="3492360" y="333360"/>
            <a:ext cx="2271960" cy="24289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83" name="Picture 12" descr="poissonnerie"/>
          <p:cNvPicPr/>
          <p:nvPr/>
        </p:nvPicPr>
        <p:blipFill>
          <a:blip r:embed="rId7"/>
          <a:stretch/>
        </p:blipFill>
        <p:spPr>
          <a:xfrm>
            <a:off x="6372360" y="333360"/>
            <a:ext cx="2290680" cy="23749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184" name="Text Box 23"/>
          <p:cNvSpPr/>
          <p:nvPr/>
        </p:nvSpPr>
        <p:spPr>
          <a:xfrm>
            <a:off x="0" y="33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84328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5651640" y="333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-181080" y="3645000"/>
            <a:ext cx="8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843280" y="3716280"/>
            <a:ext cx="7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5580000" y="3860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9-24T14:43:40Z</dcterms:modified>
  <cp:revision>26</cp:revision>
  <dc:subject/>
  <dc:title>Slide 1</dc:title>
</cp:coreProperties>
</file>