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B1B7-EE78-465D-83C8-D7DDC02C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193E-7557-40D8-B9DF-58109815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C06-88E4-4310-863B-E8CF8A95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33A-3791-4AB2-9696-C92CB207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25A1-21C1-45E6-86EC-1A422122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62E4-BF3B-4066-83C6-38845755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609B-E3F7-45A5-8E17-7DE936C8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E5AA-E987-4B50-B12A-B1C06206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2822-F0AA-4489-A787-A68C9460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D56B-FCB6-4911-9D4D-F4B53202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98F3-B53A-4A45-9D95-12EB7888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EDD2-9631-44A6-837C-2B728139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1015-B7C8-4EAC-8BC0-D15BFCF5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3913-E990-403E-8D15-5D2819C8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821B-210E-431E-A633-C11E3683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D476-6F63-4EE4-8297-9A69674A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87A0-F512-4811-B573-1832267B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EF523-C889-41AA-A2FD-3505732C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CE3B5-368A-42AA-A6AF-E68241D4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5E140-5A76-4F14-9052-E9C59E39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9B538-F777-48E7-A6AB-4FBFDDB6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956E8-8A41-49F2-B066-8949D573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4ECB-702E-4A6D-9A65-32667914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D2124-A299-4410-AB6E-FE51C4F1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A5BDE-28B8-4FC9-BB89-BC152928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9FEB7-9D76-4308-B820-1B26110D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46CB5-D2D1-4A80-9C3B-04E22ADE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0FFF1-6BD7-4A61-8655-A35DF1E1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95600-8EC9-4F81-980C-8AD5524A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9F91C-FFAB-4756-A9F6-A95BB1AF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27DA8-D0B2-4B6C-9624-5D55B285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7D1C6-6DA3-4286-98DD-F8AF82B4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11331-041B-483C-BAAE-8E426A6A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6807-84EF-4749-B19F-B4B8907A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D3CA5-C4EA-4981-AD45-366CF446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D0B5F-12F7-4077-8B33-C27C95A9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3DF8E-C661-480F-AA22-AB1CFE7B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1C1C0-33A3-4A6A-B4DE-24062E96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B7C09-CC21-4E63-8037-2B5CF1A7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3D6C2-CCCB-4CA1-9C75-6766A6ED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038BE-3ECA-409B-B10A-C5D94773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45496-CC45-4B61-AA40-AC29020C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99B41-76A9-4A60-8C7E-E702ED1D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A108-AB9A-4B8F-A4B0-37ECC80C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A27-4D17-4065-82BC-515ACC3C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330A-5E1E-4E55-B238-6BE897E6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A3A5-0468-40D9-9536-EE3D799B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F1A2-7500-46BD-9CFD-F8427AE1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0E8B-1A9D-4327-ADDE-394AA55EE1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BC9E-7AF5-46E8-9942-F96CD640C9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6928-7AFE-4194-ADDA-57B288E80D8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BF13-EEA2-47B0-A46E-62C3116C197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supermarche"/>
          <p:cNvPicPr/>
          <p:nvPr/>
        </p:nvPicPr>
        <p:blipFill>
          <a:blip r:embed="rId2"/>
          <a:stretch/>
        </p:blipFill>
        <p:spPr>
          <a:xfrm>
            <a:off x="4211640" y="333360"/>
            <a:ext cx="1562040" cy="165564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165" name="Picture 7" descr="ecole"/>
          <p:cNvPicPr/>
          <p:nvPr/>
        </p:nvPicPr>
        <p:blipFill>
          <a:blip r:embed="rId3"/>
          <a:stretch/>
        </p:blipFill>
        <p:spPr>
          <a:xfrm>
            <a:off x="1692360" y="4581360"/>
            <a:ext cx="2160360" cy="164808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166" name="Picture 8" descr="eglise"/>
          <p:cNvPicPr/>
          <p:nvPr/>
        </p:nvPicPr>
        <p:blipFill>
          <a:blip r:embed="rId4"/>
          <a:stretch/>
        </p:blipFill>
        <p:spPr>
          <a:xfrm>
            <a:off x="5651640" y="4149720"/>
            <a:ext cx="1522440" cy="24210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67" name="Picture 10" descr="hopital"/>
          <p:cNvPicPr/>
          <p:nvPr/>
        </p:nvPicPr>
        <p:blipFill>
          <a:blip r:embed="rId5"/>
          <a:stretch/>
        </p:blipFill>
        <p:spPr>
          <a:xfrm>
            <a:off x="6948360" y="333360"/>
            <a:ext cx="1511280" cy="165564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168" name="Picture 11" descr="parc"/>
          <p:cNvPicPr/>
          <p:nvPr/>
        </p:nvPicPr>
        <p:blipFill>
          <a:blip r:embed="rId6"/>
          <a:stretch/>
        </p:blipFill>
        <p:spPr>
          <a:xfrm>
            <a:off x="1042920" y="333360"/>
            <a:ext cx="1754280" cy="1604880"/>
          </a:xfrm>
          <a:prstGeom prst="rect">
            <a:avLst/>
          </a:prstGeom>
          <a:ln w="38160">
            <a:solidFill>
              <a:srgbClr val="98eee3"/>
            </a:solidFill>
            <a:miter/>
          </a:ln>
        </p:spPr>
      </p:pic>
      <p:pic>
        <p:nvPicPr>
          <p:cNvPr id="169" name="Picture 14" descr="poste"/>
          <p:cNvPicPr/>
          <p:nvPr/>
        </p:nvPicPr>
        <p:blipFill>
          <a:blip r:embed="rId7"/>
          <a:stretch/>
        </p:blipFill>
        <p:spPr>
          <a:xfrm>
            <a:off x="1476360" y="2349360"/>
            <a:ext cx="1655640" cy="172908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70" name="Picture 15" descr="riviere"/>
          <p:cNvPicPr/>
          <p:nvPr/>
        </p:nvPicPr>
        <p:blipFill>
          <a:blip r:embed="rId8"/>
          <a:stretch/>
        </p:blipFill>
        <p:spPr>
          <a:xfrm>
            <a:off x="5003640" y="2492280"/>
            <a:ext cx="2595600" cy="140508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sp>
        <p:nvSpPr>
          <p:cNvPr id="171" name="Text Box 17"/>
          <p:cNvSpPr/>
          <p:nvPr/>
        </p:nvSpPr>
        <p:spPr>
          <a:xfrm>
            <a:off x="250920" y="333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3348000" y="333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6156360" y="333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611280" y="227664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4067280" y="2492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2"/>
          <p:cNvSpPr/>
          <p:nvPr/>
        </p:nvSpPr>
        <p:spPr>
          <a:xfrm>
            <a:off x="755640" y="4581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4716360" y="4581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" descr="bibliotheque"/>
          <p:cNvPicPr/>
          <p:nvPr/>
        </p:nvPicPr>
        <p:blipFill>
          <a:blip r:embed="rId2"/>
          <a:stretch/>
        </p:blipFill>
        <p:spPr>
          <a:xfrm>
            <a:off x="6372360" y="3933720"/>
            <a:ext cx="2520720" cy="189576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79" name="Picture 4" descr="boucherie"/>
          <p:cNvPicPr/>
          <p:nvPr/>
        </p:nvPicPr>
        <p:blipFill>
          <a:blip r:embed="rId3"/>
          <a:stretch/>
        </p:blipFill>
        <p:spPr>
          <a:xfrm>
            <a:off x="611280" y="3716280"/>
            <a:ext cx="2185920" cy="230508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80" name="Picture 5" descr="boulangerie"/>
          <p:cNvPicPr/>
          <p:nvPr/>
        </p:nvPicPr>
        <p:blipFill>
          <a:blip r:embed="rId4"/>
          <a:stretch/>
        </p:blipFill>
        <p:spPr>
          <a:xfrm>
            <a:off x="649440" y="333360"/>
            <a:ext cx="2209680" cy="23749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81" name="Picture 8" descr="epicerie"/>
          <p:cNvPicPr/>
          <p:nvPr/>
        </p:nvPicPr>
        <p:blipFill>
          <a:blip r:embed="rId5"/>
          <a:stretch/>
        </p:blipFill>
        <p:spPr>
          <a:xfrm>
            <a:off x="3564000" y="3716280"/>
            <a:ext cx="2157480" cy="22892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82" name="Picture 11" descr="patisserie"/>
          <p:cNvPicPr/>
          <p:nvPr/>
        </p:nvPicPr>
        <p:blipFill>
          <a:blip r:embed="rId6"/>
          <a:stretch/>
        </p:blipFill>
        <p:spPr>
          <a:xfrm>
            <a:off x="3492360" y="333360"/>
            <a:ext cx="2271960" cy="24289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83" name="Picture 12" descr="poissonnerie"/>
          <p:cNvPicPr/>
          <p:nvPr/>
        </p:nvPicPr>
        <p:blipFill>
          <a:blip r:embed="rId7"/>
          <a:stretch/>
        </p:blipFill>
        <p:spPr>
          <a:xfrm>
            <a:off x="6372360" y="333360"/>
            <a:ext cx="2290680" cy="23749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sp>
        <p:nvSpPr>
          <p:cNvPr id="184" name="Text Box 23"/>
          <p:cNvSpPr/>
          <p:nvPr/>
        </p:nvSpPr>
        <p:spPr>
          <a:xfrm>
            <a:off x="0" y="333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2843280" y="333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5651640" y="333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-181080" y="3645000"/>
            <a:ext cx="8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2843280" y="3716280"/>
            <a:ext cx="72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5580000" y="386064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9-24T14:43:40Z</dcterms:modified>
  <cp:revision>26</cp:revision>
  <dc:subject/>
  <dc:title>Slide 1</dc:title>
</cp:coreProperties>
</file>