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E33-068F-4F7F-B903-D956192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7B6-04FA-40E5-9838-D60BA57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69D-B201-41E2-8E5E-C2485260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E9C-6C6B-4A02-8C52-25F87896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513-7987-48B7-A84A-244E4808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B01-89B5-4683-863B-ABEDE146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6A6-04EA-459B-AA01-CE4EA131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5A8-7479-41E4-9F47-7DD7719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7DB-D4C8-4B2A-AB63-38748FC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EB9-549E-4E8E-BC3D-CB06B97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FFF-E694-458D-B00F-C575D91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A74-5232-433A-9AE2-08D5E3D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5EB-CC18-4773-9A1A-6B08BD2498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nanos_cheese_product2[1]"/>
          <p:cNvPicPr/>
          <p:nvPr/>
        </p:nvPicPr>
        <p:blipFill>
          <a:blip r:embed="rId1"/>
          <a:stretch/>
        </p:blipFill>
        <p:spPr>
          <a:xfrm>
            <a:off x="1042920" y="692280"/>
            <a:ext cx="6986520" cy="548136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792000" y="549360"/>
            <a:ext cx="7525080" cy="583236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NCI_clove_ham[1]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23088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Chocolate[1]"/>
          <p:cNvPicPr/>
          <p:nvPr/>
        </p:nvPicPr>
        <p:blipFill>
          <a:blip r:embed="rId1"/>
          <a:stretch/>
        </p:blipFill>
        <p:spPr>
          <a:xfrm>
            <a:off x="755640" y="363600"/>
            <a:ext cx="7704000" cy="616104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j0405246"/>
          <p:cNvPicPr/>
          <p:nvPr/>
        </p:nvPicPr>
        <p:blipFill>
          <a:blip r:embed="rId1"/>
          <a:srcRect l="11905" t="3928" r="24028" b="6304"/>
          <a:stretch/>
        </p:blipFill>
        <p:spPr>
          <a:xfrm>
            <a:off x="1547640" y="333360"/>
            <a:ext cx="6120000" cy="6120000"/>
          </a:xfrm>
          <a:prstGeom prst="rect">
            <a:avLst/>
          </a:prstGeom>
          <a:ln w="38160">
            <a:solidFill>
              <a:srgbClr val="9ed3d7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lemonade_glass[1]"/>
          <p:cNvPicPr/>
          <p:nvPr/>
        </p:nvPicPr>
        <p:blipFill>
          <a:blip r:embed="rId1"/>
          <a:stretch/>
        </p:blipFill>
        <p:spPr>
          <a:xfrm>
            <a:off x="2556000" y="333360"/>
            <a:ext cx="4319640" cy="6226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Pizza-Capricciosa[1]"/>
          <p:cNvPicPr/>
          <p:nvPr/>
        </p:nvPicPr>
        <p:blipFill>
          <a:blip r:embed="rId1"/>
          <a:srcRect l="5885" t="0" r="2940" b="0"/>
          <a:stretch/>
        </p:blipFill>
        <p:spPr>
          <a:xfrm>
            <a:off x="755640" y="692280"/>
            <a:ext cx="7574040" cy="540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http://www.healthline.com/hlcmsresource/images/diabetesmine/wp-content/uploads/2012/07/Vanilla-Ice-Cream-Cone.jpg"/>
          <p:cNvPicPr/>
          <p:nvPr/>
        </p:nvPicPr>
        <p:blipFill>
          <a:blip r:embed="rId1"/>
          <a:srcRect l="8941" t="4339" r="7237" b="3685"/>
          <a:stretch/>
        </p:blipFill>
        <p:spPr>
          <a:xfrm>
            <a:off x="2411280" y="333360"/>
            <a:ext cx="4537080" cy="6248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1187280" y="260280"/>
            <a:ext cx="6840720" cy="62816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2" descr="PH02763J"/>
          <p:cNvPicPr/>
          <p:nvPr/>
        </p:nvPicPr>
        <p:blipFill>
          <a:blip r:embed="rId1"/>
          <a:stretch/>
        </p:blipFill>
        <p:spPr>
          <a:xfrm>
            <a:off x="755640" y="495360"/>
            <a:ext cx="7704000" cy="5958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</cp:lastModifiedBy>
  <dcterms:modified xsi:type="dcterms:W3CDTF">2016-05-23T11:16:30Z</dcterms:modified>
  <cp:revision>18</cp:revision>
  <dc:subject/>
  <dc:title>John</dc:title>
</cp:coreProperties>
</file>