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050-8D0B-4B6B-8560-DD2603CA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C34-08EB-4723-B4ED-9EB52C0B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9CF-1E25-4A07-BEAC-6661190E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65F-776B-4EA0-AACA-8B7517D0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6D-EBB0-4945-924F-6038C11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D0E-9D0F-43C4-9E49-F0E642D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E58-FB37-4AA2-9EED-94F3F44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891-A741-41DE-9CCF-B5829F36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D4E-9507-4FD8-8FA5-E51805EA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C35-E343-48A8-9F69-AFB9783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F6E-33E1-478B-AF2A-A43E446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5CB-B0A8-46A0-A608-33A5110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15D-252C-41DA-A8F3-AF8298D255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nanos_cheese_product2[1]"/>
          <p:cNvPicPr/>
          <p:nvPr/>
        </p:nvPicPr>
        <p:blipFill>
          <a:blip r:embed="rId1"/>
          <a:stretch/>
        </p:blipFill>
        <p:spPr>
          <a:xfrm>
            <a:off x="1042920" y="692280"/>
            <a:ext cx="6986520" cy="548136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792000" y="549360"/>
            <a:ext cx="7525080" cy="583236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NCI_clove_ham[1]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23088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hocolate[1]"/>
          <p:cNvPicPr/>
          <p:nvPr/>
        </p:nvPicPr>
        <p:blipFill>
          <a:blip r:embed="rId1"/>
          <a:stretch/>
        </p:blipFill>
        <p:spPr>
          <a:xfrm>
            <a:off x="755640" y="363600"/>
            <a:ext cx="7704000" cy="616104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j0405246"/>
          <p:cNvPicPr/>
          <p:nvPr/>
        </p:nvPicPr>
        <p:blipFill>
          <a:blip r:embed="rId1"/>
          <a:srcRect l="11905" t="3928" r="24028" b="6304"/>
          <a:stretch/>
        </p:blipFill>
        <p:spPr>
          <a:xfrm>
            <a:off x="1547640" y="333360"/>
            <a:ext cx="6120000" cy="612000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lemonade_glass[1]"/>
          <p:cNvPicPr/>
          <p:nvPr/>
        </p:nvPicPr>
        <p:blipFill>
          <a:blip r:embed="rId1"/>
          <a:stretch/>
        </p:blipFill>
        <p:spPr>
          <a:xfrm>
            <a:off x="2556000" y="333360"/>
            <a:ext cx="4319640" cy="6226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Pizza-Capricciosa[1]"/>
          <p:cNvPicPr/>
          <p:nvPr/>
        </p:nvPicPr>
        <p:blipFill>
          <a:blip r:embed="rId1"/>
          <a:srcRect l="5885" t="0" r="2940" b="0"/>
          <a:stretch/>
        </p:blipFill>
        <p:spPr>
          <a:xfrm>
            <a:off x="755640" y="692280"/>
            <a:ext cx="757404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http://www.healthline.com/hlcmsresource/images/diabetesmine/wp-content/uploads/2012/07/Vanilla-Ice-Cream-Cone.jpg"/>
          <p:cNvPicPr/>
          <p:nvPr/>
        </p:nvPicPr>
        <p:blipFill>
          <a:blip r:embed="rId1"/>
          <a:srcRect l="8941" t="4339" r="7237" b="3685"/>
          <a:stretch/>
        </p:blipFill>
        <p:spPr>
          <a:xfrm>
            <a:off x="2411280" y="333360"/>
            <a:ext cx="4537080" cy="6248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1187280" y="260280"/>
            <a:ext cx="6840720" cy="62816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PH02763J"/>
          <p:cNvPicPr/>
          <p:nvPr/>
        </p:nvPicPr>
        <p:blipFill>
          <a:blip r:embed="rId1"/>
          <a:stretch/>
        </p:blipFill>
        <p:spPr>
          <a:xfrm>
            <a:off x="755640" y="495360"/>
            <a:ext cx="7704000" cy="5958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6-05-23T11:16:30Z</dcterms:modified>
  <cp:revision>18</cp:revision>
  <dc:subject/>
  <dc:title>John</dc:title>
</cp:coreProperties>
</file>