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1071-5630-42FC-BD36-60DDCCE72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3F3E-4E1F-4EC7-B273-47E039305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C5B7-EDD0-4BB8-A23A-229500C4E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99FD-2D72-454A-AC80-E5768851A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CACC-718E-44C4-960C-E06C29EE4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13D5-4350-408B-8FA6-2869EA4EB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F2B9-0EC5-42BE-9513-E289B6193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55DB-03D3-4FEA-9DAE-34758E7D5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C963-DBB2-48CC-A086-85199BAE7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63D8-103E-427B-9672-EF6CBD78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80A2-888C-4D7D-92E8-934736F1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74D4-7FD4-432A-B249-11847B0D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D6DDA-1867-4E7F-9285-77063DB5D2A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7777080" cy="65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58920" y="189000"/>
            <a:ext cx="6624720" cy="652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8425080" cy="596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58920" y="189000"/>
            <a:ext cx="6553080" cy="65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03280" y="189000"/>
            <a:ext cx="6284880" cy="64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979640" y="189000"/>
            <a:ext cx="5160960" cy="64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820872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569440" cy="5924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19:16:46Z</dcterms:created>
  <dc:creator>Samuel Pickering</dc:creator>
  <dc:description/>
  <dc:language>en-US</dc:language>
  <cp:lastModifiedBy>Clare Seccombe</cp:lastModifiedBy>
  <dcterms:modified xsi:type="dcterms:W3CDTF">2014-04-28T10:20:41Z</dcterms:modified>
  <cp:revision>16</cp:revision>
  <dc:subject/>
  <dc:title> John </dc:title>
</cp:coreProperties>
</file>