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C0E-89BE-4179-AB57-F757E4EE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150-6284-44DE-8155-BAF07AA9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6CB-2FB0-42CD-BF97-F5B3499C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EE0-84CA-4B40-83D1-76B40EDE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4AF-2F49-460B-A1E4-4D3E14A7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C71-4475-4B4E-823A-FE1D6532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EBD-0A8F-4403-8D87-A564F2F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81F-50ED-477F-8D5A-D58476BC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C1A-0D4A-4D32-A818-BF74D446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AE2-D856-45D6-8C48-6E6B5BF5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36D-9F8D-4204-851F-2CC14A92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4BC-3F19-4DCC-AF1A-2822D265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4471-226C-4A54-A0F7-0A1E0E5CE0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77080" cy="65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2472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425080" cy="59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2848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609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569440" cy="592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4-04-28T10:20:41Z</dcterms:modified>
  <cp:revision>16</cp:revision>
  <dc:subject/>
  <dc:title> John </dc:title>
</cp:coreProperties>
</file>