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2A0-8B1A-4418-A479-9FA8DDAC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4EF-A5F6-45D4-BDCF-B521753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80A-8441-4E98-96FF-3BC1CC12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FAD-92E9-4852-AD9C-EDA82C02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CBD-DCD1-430D-A320-7DEE4288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3E33-B271-46EE-A617-A753729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3D1-4F4F-489C-B77E-B9DE9AA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FB0-EFF9-4D40-A42B-0A08C86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1FF3-81B6-4ED9-A843-AC8E6CA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BCC-8C3E-40B8-A0B9-9EF58449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9458-6205-4177-A21A-0E0F143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E79-5207-412A-A8F7-40D8603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0893-7F43-40B7-9952-A526BC6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A36E-217E-4FC9-807C-2DD43BD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7BB2-BC5D-444B-947B-8585F2F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72A-AA28-4E5E-AE0A-ECDE1E8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B80F-4DE5-4CDF-B4EC-D3A87619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2657-39CF-4444-B2FD-7783F2D8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F0DF-3993-4E4A-AFA2-D288E49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3C92-17A0-47E0-AD78-5DF4A07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0464-E117-44C9-917A-0B9D5E61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E7E4-1EA4-4C2B-944F-A43D62A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DFD-04DF-4CB5-B85D-CDAC12AC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A8F9-5D33-45A8-AD8A-6275C693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0895-BD91-4B93-BE10-FF15ABD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0661-5462-438E-A1AF-251FB40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CEC7-89D4-464B-80E9-2B48C23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F09C-EF17-455A-9E75-14F5B1A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1392-E971-49DC-8213-3F047A45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8146-6CA3-4F35-B474-3CA1C67D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EB77-83C0-4C84-9444-2BAE218E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BCC3-1FEC-4804-8BC1-20ADE32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E48F-A82D-4446-A062-C8F619A7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599-4F52-441C-A385-846C6875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B244-3A05-44CD-A521-85D4B50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1DA8-F1D9-4C76-A0CB-2EA24AA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FC25-38BA-481C-9429-8610141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A2E1-AC9C-46F8-A4C6-AF9216C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B85F-9E34-40D0-84EE-26B4672E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0CE7-0497-4CB5-A6F9-801DF36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9C11-D9E1-4E0D-BB8D-870ACFB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AA7D-A753-4D64-AEFB-7F17C423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A2CE-88E7-4CC0-94E7-7C75BA87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8FF-F313-4232-B9C8-14EF4BF1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D0F-55E1-4C31-9B49-4F8FA41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6E1-F38C-4E4A-A015-82E1A39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452-6259-4974-B350-7A15943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470-A6F1-4B33-AD67-E6F5C65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3E7-C57E-4315-A123-4DC5F2F0AB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F81-F292-4C5F-B00B-F9A3643DEF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FDD3-BEC6-4D03-AD27-8A6155F14E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AD4-8F52-4F1A-BBEB-1328CEFEDAF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apiz"/>
          <p:cNvPicPr/>
          <p:nvPr/>
        </p:nvPicPr>
        <p:blipFill>
          <a:blip r:embed="rId1"/>
          <a:stretch/>
        </p:blipFill>
        <p:spPr>
          <a:xfrm>
            <a:off x="2987640" y="189000"/>
            <a:ext cx="2087640" cy="127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boligrafo"/>
          <p:cNvPicPr/>
          <p:nvPr/>
        </p:nvPicPr>
        <p:blipFill>
          <a:blip r:embed="rId2"/>
          <a:stretch/>
        </p:blipFill>
        <p:spPr>
          <a:xfrm>
            <a:off x="324000" y="189000"/>
            <a:ext cx="2376360" cy="75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goma"/>
          <p:cNvPicPr/>
          <p:nvPr/>
        </p:nvPicPr>
        <p:blipFill>
          <a:blip r:embed="rId3"/>
          <a:stretch/>
        </p:blipFill>
        <p:spPr>
          <a:xfrm>
            <a:off x="5292720" y="189000"/>
            <a:ext cx="1295280" cy="771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acapuntas"/>
          <p:cNvPicPr/>
          <p:nvPr/>
        </p:nvPicPr>
        <p:blipFill>
          <a:blip r:embed="rId4"/>
          <a:stretch/>
        </p:blipFill>
        <p:spPr>
          <a:xfrm>
            <a:off x="6877080" y="189000"/>
            <a:ext cx="944640" cy="91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stuche"/>
          <p:cNvPicPr/>
          <p:nvPr/>
        </p:nvPicPr>
        <p:blipFill>
          <a:blip r:embed="rId5"/>
          <a:stretch/>
        </p:blipFill>
        <p:spPr>
          <a:xfrm>
            <a:off x="324000" y="1628640"/>
            <a:ext cx="2808000" cy="182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uaderno"/>
          <p:cNvPicPr/>
          <p:nvPr/>
        </p:nvPicPr>
        <p:blipFill>
          <a:blip r:embed="rId6"/>
          <a:stretch/>
        </p:blipFill>
        <p:spPr>
          <a:xfrm>
            <a:off x="3635280" y="37893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apel"/>
          <p:cNvPicPr/>
          <p:nvPr/>
        </p:nvPicPr>
        <p:blipFill>
          <a:blip r:embed="rId7"/>
          <a:stretch/>
        </p:blipFill>
        <p:spPr>
          <a:xfrm>
            <a:off x="6227640" y="3500280"/>
            <a:ext cx="2808360" cy="15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libro"/>
          <p:cNvPicPr/>
          <p:nvPr/>
        </p:nvPicPr>
        <p:blipFill>
          <a:blip r:embed="rId8"/>
          <a:stretch/>
        </p:blipFill>
        <p:spPr>
          <a:xfrm>
            <a:off x="250920" y="4005360"/>
            <a:ext cx="3024000" cy="1665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rotulador"/>
          <p:cNvPicPr/>
          <p:nvPr/>
        </p:nvPicPr>
        <p:blipFill>
          <a:blip r:embed="rId9"/>
          <a:stretch/>
        </p:blipFill>
        <p:spPr>
          <a:xfrm>
            <a:off x="6588000" y="162864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regla"/>
          <p:cNvPicPr/>
          <p:nvPr/>
        </p:nvPicPr>
        <p:blipFill>
          <a:blip r:embed="rId10"/>
          <a:stretch/>
        </p:blipFill>
        <p:spPr>
          <a:xfrm>
            <a:off x="3564000" y="1700280"/>
            <a:ext cx="280836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stuche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373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1484280"/>
            <a:ext cx="826920" cy="24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619280" y="1989000"/>
            <a:ext cx="7524720" cy="249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estuche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rotulador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948360" y="0"/>
            <a:ext cx="219564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948360" y="2708280"/>
            <a:ext cx="2195640" cy="414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8604360" y="1197000"/>
            <a:ext cx="53964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rotulador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libro"/>
          <p:cNvPicPr/>
          <p:nvPr/>
        </p:nvPicPr>
        <p:blipFill>
          <a:blip r:embed="rId1"/>
          <a:stretch/>
        </p:blipFill>
        <p:spPr>
          <a:xfrm>
            <a:off x="250920" y="952560"/>
            <a:ext cx="8569080" cy="4718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 rot="20015400">
            <a:off x="2195640" y="4868640"/>
            <a:ext cx="8189640" cy="326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956720" y="2060640"/>
            <a:ext cx="1187280" cy="321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 rot="20162400">
            <a:off x="850680" y="758880"/>
            <a:ext cx="8065800" cy="312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2421000"/>
            <a:ext cx="5003640" cy="44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libro"/>
          <p:cNvPicPr/>
          <p:nvPr/>
        </p:nvPicPr>
        <p:blipFill>
          <a:blip r:embed="rId1"/>
          <a:stretch/>
        </p:blipFill>
        <p:spPr>
          <a:xfrm>
            <a:off x="250920" y="952560"/>
            <a:ext cx="8569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oligrafo"/>
          <p:cNvPicPr/>
          <p:nvPr/>
        </p:nvPicPr>
        <p:blipFill>
          <a:blip r:embed="rId1"/>
          <a:stretch/>
        </p:blipFill>
        <p:spPr>
          <a:xfrm>
            <a:off x="503280" y="1052640"/>
            <a:ext cx="8640720" cy="2735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1341360"/>
            <a:ext cx="521964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588000" y="1557360"/>
            <a:ext cx="255600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boligrafo"/>
          <p:cNvPicPr/>
          <p:nvPr/>
        </p:nvPicPr>
        <p:blipFill>
          <a:blip r:embed="rId1"/>
          <a:stretch/>
        </p:blipFill>
        <p:spPr>
          <a:xfrm>
            <a:off x="503280" y="1052640"/>
            <a:ext cx="864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papel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45514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219640" y="0"/>
            <a:ext cx="3924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708360" y="0"/>
            <a:ext cx="392436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284720" y="4149720"/>
            <a:ext cx="3924360" cy="270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apel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9" descr="regl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5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0" y="0"/>
            <a:ext cx="9144000" cy="40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3573360"/>
            <a:ext cx="1042920" cy="165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692360" y="3573360"/>
            <a:ext cx="7451640" cy="165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acapuntas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5954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268280"/>
            <a:ext cx="450072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580000" y="1125360"/>
            <a:ext cx="356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acapuntas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gl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uaderno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05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35280" y="0"/>
            <a:ext cx="496872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050920" y="4653000"/>
            <a:ext cx="496908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uaderno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apiz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29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0" y="0"/>
            <a:ext cx="709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651640" y="0"/>
            <a:ext cx="3492360" cy="43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651640" y="5229360"/>
            <a:ext cx="349236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8244000" y="1700280"/>
            <a:ext cx="900000" cy="43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apiz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oma"/>
          <p:cNvPicPr/>
          <p:nvPr/>
        </p:nvPicPr>
        <p:blipFill>
          <a:blip r:embed="rId1"/>
          <a:stretch/>
        </p:blipFill>
        <p:spPr>
          <a:xfrm>
            <a:off x="1042920" y="1052640"/>
            <a:ext cx="7056360" cy="4203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68360" y="1628640"/>
            <a:ext cx="6875640" cy="338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1547640" cy="52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ma"/>
          <p:cNvPicPr/>
          <p:nvPr/>
        </p:nvPicPr>
        <p:blipFill>
          <a:blip r:embed="rId1"/>
          <a:stretch/>
        </p:blipFill>
        <p:spPr>
          <a:xfrm>
            <a:off x="1042920" y="1052640"/>
            <a:ext cx="7056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2:33Z</dcterms:modified>
  <cp:revision>43</cp:revision>
  <dc:subject/>
  <dc:title>Slide 1</dc:title>
</cp:coreProperties>
</file>