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95A6-D4E8-4050-A584-521E7F285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75F0-D741-4675-8917-B3E91A07E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093E-DC44-4195-89B8-C83DD14A4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7DC5-5D31-424A-9DB0-188C3A560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C1F55-28C1-46C0-B885-4E22C50D6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D8233-EF51-4C73-9FEA-361CF0B59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B2A38-08E6-4BAB-BEEA-5F9ECAB05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F9489-AA40-4537-BC5A-C8F706932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8909E-28AF-4BD0-A568-4154D80B8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A7BCF-7E51-44E6-B8E2-645CB966E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DC50E-94C2-4E67-85A1-955FAB37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A1AB-B124-455B-A052-DCC62C1DB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545FC-DD42-4A69-9AD1-A766D2305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60DA8-F492-4972-B225-C810D2B92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12362-5BFC-43D4-827F-C8B65200C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CDBCB-1B72-4B84-A42F-A39ECAA7C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214CB-F3AA-46E9-87CE-C9CE92831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028A2-8E76-4C5A-9B4F-20F3C7B0D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9D534-0832-4844-94A4-D2E04A6E3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1610E-EB32-454B-AB33-BD0A5998D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CD597-CECA-4B8A-B177-61D5835BA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15AE7-AC47-44CB-8232-F4D10480D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3B3F-95D7-464B-AAAB-26AEE0818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AEBA0-F194-429C-B2C5-2D549219D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C0C47-B190-41E8-AC52-87CA3F2A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3B4C4-11D5-4BC4-9F51-30160D9D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E00D4-E76C-4C6E-AE87-3C04185A0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02A03-25EE-4DBE-BB3F-3241E34BD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4D2B5-8AE9-47E2-9E2A-97D147B06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D1347-AAB9-4088-8AB3-B6EE47803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A1317-1035-41B2-B602-C311C1118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C877E-EA65-41F0-A56B-32B50A71F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D845A-B031-4E6E-AE90-BD2F4CA55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D587-2D36-4CB7-BD47-B759961B3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8F1AB-2F75-4ABE-AF19-BB8CCBC2B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5021D-71B0-4FB6-8625-C6D183B38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5CE0A-11AB-4903-A6D2-ABAE1B7F6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C9077-104C-402B-A47F-A5CD1BD4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982D3-AF80-4E25-8EDC-645C87EE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9886A-048F-4C1D-9F2D-101A78CA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D15F1-1F29-4A6B-A27B-A4CC0A93E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BB0A8-7DAE-47D4-AE52-011979074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33449-2062-4A0F-A570-A9E4762E8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B307-32D5-400E-8729-4F8CF369E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276B-1700-4672-ABD3-52013C432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CF1D-6126-4DCA-9B44-11B97CD2D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CA69-F3A5-43B3-BF52-A52ECB9BF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1471-DA11-40E6-944B-6076030F1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5709B-E6B7-46F7-AD96-4296D0394F5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7CEAE-ED9D-454A-B836-62E1368FF7C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35B45-9274-4929-9882-CBD4B068CE8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2D494-D7A5-4E04-984E-C6E5AAC22817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lapiz"/>
          <p:cNvPicPr/>
          <p:nvPr/>
        </p:nvPicPr>
        <p:blipFill>
          <a:blip r:embed="rId1"/>
          <a:stretch/>
        </p:blipFill>
        <p:spPr>
          <a:xfrm>
            <a:off x="2987640" y="189000"/>
            <a:ext cx="2087640" cy="12794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" descr="boligrafo"/>
          <p:cNvPicPr/>
          <p:nvPr/>
        </p:nvPicPr>
        <p:blipFill>
          <a:blip r:embed="rId2"/>
          <a:stretch/>
        </p:blipFill>
        <p:spPr>
          <a:xfrm>
            <a:off x="324000" y="189000"/>
            <a:ext cx="2376360" cy="7524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goma"/>
          <p:cNvPicPr/>
          <p:nvPr/>
        </p:nvPicPr>
        <p:blipFill>
          <a:blip r:embed="rId3"/>
          <a:stretch/>
        </p:blipFill>
        <p:spPr>
          <a:xfrm>
            <a:off x="5292720" y="189000"/>
            <a:ext cx="1295280" cy="7714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sacapuntas"/>
          <p:cNvPicPr/>
          <p:nvPr/>
        </p:nvPicPr>
        <p:blipFill>
          <a:blip r:embed="rId4"/>
          <a:stretch/>
        </p:blipFill>
        <p:spPr>
          <a:xfrm>
            <a:off x="6877080" y="189000"/>
            <a:ext cx="944640" cy="9190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estuche"/>
          <p:cNvPicPr/>
          <p:nvPr/>
        </p:nvPicPr>
        <p:blipFill>
          <a:blip r:embed="rId5"/>
          <a:stretch/>
        </p:blipFill>
        <p:spPr>
          <a:xfrm>
            <a:off x="324000" y="1628640"/>
            <a:ext cx="2808000" cy="18226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cuaderno"/>
          <p:cNvPicPr/>
          <p:nvPr/>
        </p:nvPicPr>
        <p:blipFill>
          <a:blip r:embed="rId6"/>
          <a:stretch/>
        </p:blipFill>
        <p:spPr>
          <a:xfrm>
            <a:off x="3635280" y="3789360"/>
            <a:ext cx="2448000" cy="16574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papel"/>
          <p:cNvPicPr/>
          <p:nvPr/>
        </p:nvPicPr>
        <p:blipFill>
          <a:blip r:embed="rId7"/>
          <a:stretch/>
        </p:blipFill>
        <p:spPr>
          <a:xfrm>
            <a:off x="6227640" y="3500280"/>
            <a:ext cx="2808360" cy="15303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libro"/>
          <p:cNvPicPr/>
          <p:nvPr/>
        </p:nvPicPr>
        <p:blipFill>
          <a:blip r:embed="rId8"/>
          <a:stretch/>
        </p:blipFill>
        <p:spPr>
          <a:xfrm>
            <a:off x="250920" y="4005360"/>
            <a:ext cx="3024000" cy="16653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0" descr="rotulador"/>
          <p:cNvPicPr/>
          <p:nvPr/>
        </p:nvPicPr>
        <p:blipFill>
          <a:blip r:embed="rId9"/>
          <a:stretch/>
        </p:blipFill>
        <p:spPr>
          <a:xfrm>
            <a:off x="6588000" y="1628640"/>
            <a:ext cx="2160720" cy="557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1" descr="regla"/>
          <p:cNvPicPr/>
          <p:nvPr/>
        </p:nvPicPr>
        <p:blipFill>
          <a:blip r:embed="rId10"/>
          <a:stretch/>
        </p:blipFill>
        <p:spPr>
          <a:xfrm>
            <a:off x="3564000" y="1700280"/>
            <a:ext cx="2808360" cy="14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estuche"/>
          <p:cNvPicPr/>
          <p:nvPr/>
        </p:nvPicPr>
        <p:blipFill>
          <a:blip r:embed="rId1"/>
          <a:stretch/>
        </p:blipFill>
        <p:spPr>
          <a:xfrm>
            <a:off x="395280" y="620640"/>
            <a:ext cx="8280360" cy="537372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3"/>
          <p:cNvSpPr/>
          <p:nvPr/>
        </p:nvSpPr>
        <p:spPr>
          <a:xfrm>
            <a:off x="0" y="0"/>
            <a:ext cx="9144000" cy="2781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0" y="3573360"/>
            <a:ext cx="9144000" cy="3284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0" y="1484280"/>
            <a:ext cx="826920" cy="249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1619280" y="1989000"/>
            <a:ext cx="7524720" cy="249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estuche"/>
          <p:cNvPicPr/>
          <p:nvPr/>
        </p:nvPicPr>
        <p:blipFill>
          <a:blip r:embed="rId1"/>
          <a:stretch/>
        </p:blipFill>
        <p:spPr>
          <a:xfrm>
            <a:off x="395280" y="620640"/>
            <a:ext cx="828036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rotulador"/>
          <p:cNvPicPr/>
          <p:nvPr/>
        </p:nvPicPr>
        <p:blipFill>
          <a:blip r:embed="rId1"/>
          <a:stretch/>
        </p:blipFill>
        <p:spPr>
          <a:xfrm>
            <a:off x="324000" y="1557360"/>
            <a:ext cx="8424720" cy="217332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3"/>
          <p:cNvSpPr/>
          <p:nvPr/>
        </p:nvSpPr>
        <p:spPr>
          <a:xfrm>
            <a:off x="0" y="0"/>
            <a:ext cx="73087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6948360" y="0"/>
            <a:ext cx="2195640" cy="1628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6948360" y="2708280"/>
            <a:ext cx="2195640" cy="4149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8604360" y="1197000"/>
            <a:ext cx="539640" cy="1628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rotulador"/>
          <p:cNvPicPr/>
          <p:nvPr/>
        </p:nvPicPr>
        <p:blipFill>
          <a:blip r:embed="rId1"/>
          <a:stretch/>
        </p:blipFill>
        <p:spPr>
          <a:xfrm>
            <a:off x="324000" y="1557360"/>
            <a:ext cx="842472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libro"/>
          <p:cNvPicPr/>
          <p:nvPr/>
        </p:nvPicPr>
        <p:blipFill>
          <a:blip r:embed="rId1"/>
          <a:stretch/>
        </p:blipFill>
        <p:spPr>
          <a:xfrm>
            <a:off x="250920" y="952560"/>
            <a:ext cx="8569080" cy="471816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3"/>
          <p:cNvSpPr/>
          <p:nvPr/>
        </p:nvSpPr>
        <p:spPr>
          <a:xfrm>
            <a:off x="0" y="0"/>
            <a:ext cx="9144000" cy="2565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4" name="Rectangle 4"/>
          <p:cNvSpPr/>
          <p:nvPr/>
        </p:nvSpPr>
        <p:spPr>
          <a:xfrm rot="20015400">
            <a:off x="2195640" y="4868640"/>
            <a:ext cx="8189640" cy="326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7956720" y="2060640"/>
            <a:ext cx="1187280" cy="321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6" name="Rectangle 6"/>
          <p:cNvSpPr/>
          <p:nvPr/>
        </p:nvSpPr>
        <p:spPr>
          <a:xfrm rot="20162400">
            <a:off x="850680" y="758880"/>
            <a:ext cx="8065800" cy="3120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0" y="2421000"/>
            <a:ext cx="5003640" cy="4437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libro"/>
          <p:cNvPicPr/>
          <p:nvPr/>
        </p:nvPicPr>
        <p:blipFill>
          <a:blip r:embed="rId1"/>
          <a:stretch/>
        </p:blipFill>
        <p:spPr>
          <a:xfrm>
            <a:off x="250920" y="952560"/>
            <a:ext cx="8569080" cy="47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boligrafo"/>
          <p:cNvPicPr/>
          <p:nvPr/>
        </p:nvPicPr>
        <p:blipFill>
          <a:blip r:embed="rId1"/>
          <a:stretch/>
        </p:blipFill>
        <p:spPr>
          <a:xfrm>
            <a:off x="503280" y="1052640"/>
            <a:ext cx="8640720" cy="273528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3"/>
          <p:cNvSpPr/>
          <p:nvPr/>
        </p:nvSpPr>
        <p:spPr>
          <a:xfrm>
            <a:off x="0" y="0"/>
            <a:ext cx="9144000" cy="1773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0" y="2852640"/>
            <a:ext cx="9144000" cy="4005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0" y="1341360"/>
            <a:ext cx="5219640" cy="1773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6588000" y="1557360"/>
            <a:ext cx="2556000" cy="1773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boligrafo"/>
          <p:cNvPicPr/>
          <p:nvPr/>
        </p:nvPicPr>
        <p:blipFill>
          <a:blip r:embed="rId1"/>
          <a:stretch/>
        </p:blipFill>
        <p:spPr>
          <a:xfrm>
            <a:off x="503280" y="1052640"/>
            <a:ext cx="864072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papel"/>
          <p:cNvPicPr/>
          <p:nvPr/>
        </p:nvPicPr>
        <p:blipFill>
          <a:blip r:embed="rId1"/>
          <a:stretch/>
        </p:blipFill>
        <p:spPr>
          <a:xfrm>
            <a:off x="395280" y="765000"/>
            <a:ext cx="8353440" cy="455148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3"/>
          <p:cNvSpPr/>
          <p:nvPr/>
        </p:nvSpPr>
        <p:spPr>
          <a:xfrm>
            <a:off x="0" y="0"/>
            <a:ext cx="442764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5219640" y="0"/>
            <a:ext cx="39243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3708360" y="0"/>
            <a:ext cx="3924360" cy="2276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4284720" y="4149720"/>
            <a:ext cx="3924360" cy="270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papel"/>
          <p:cNvPicPr/>
          <p:nvPr/>
        </p:nvPicPr>
        <p:blipFill>
          <a:blip r:embed="rId1"/>
          <a:stretch/>
        </p:blipFill>
        <p:spPr>
          <a:xfrm>
            <a:off x="395280" y="765000"/>
            <a:ext cx="8353440" cy="45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9" descr="regla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457524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10"/>
          <p:cNvSpPr/>
          <p:nvPr/>
        </p:nvSpPr>
        <p:spPr>
          <a:xfrm>
            <a:off x="0" y="0"/>
            <a:ext cx="9144000" cy="4005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0" y="4581360"/>
            <a:ext cx="9144000" cy="2276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Rectangle 12"/>
          <p:cNvSpPr/>
          <p:nvPr/>
        </p:nvSpPr>
        <p:spPr>
          <a:xfrm>
            <a:off x="0" y="3573360"/>
            <a:ext cx="1042920" cy="165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0" name="Rectangle 13"/>
          <p:cNvSpPr/>
          <p:nvPr/>
        </p:nvSpPr>
        <p:spPr>
          <a:xfrm>
            <a:off x="1692360" y="3573360"/>
            <a:ext cx="7451640" cy="165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sacapuntas"/>
          <p:cNvPicPr/>
          <p:nvPr/>
        </p:nvPicPr>
        <p:blipFill>
          <a:blip r:embed="rId1"/>
          <a:stretch/>
        </p:blipFill>
        <p:spPr>
          <a:xfrm>
            <a:off x="1547640" y="333360"/>
            <a:ext cx="6120000" cy="595476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3"/>
          <p:cNvSpPr/>
          <p:nvPr/>
        </p:nvSpPr>
        <p:spPr>
          <a:xfrm>
            <a:off x="0" y="0"/>
            <a:ext cx="9144000" cy="1628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0" y="2349360"/>
            <a:ext cx="9144000" cy="4508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0" y="1268280"/>
            <a:ext cx="4500720" cy="1629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5580000" y="1125360"/>
            <a:ext cx="3564000" cy="1629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sacapuntas"/>
          <p:cNvPicPr/>
          <p:nvPr/>
        </p:nvPicPr>
        <p:blipFill>
          <a:blip r:embed="rId1"/>
          <a:stretch/>
        </p:blipFill>
        <p:spPr>
          <a:xfrm>
            <a:off x="1547640" y="333360"/>
            <a:ext cx="6120000" cy="59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regla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45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cuaderno"/>
          <p:cNvPicPr/>
          <p:nvPr/>
        </p:nvPicPr>
        <p:blipFill>
          <a:blip r:embed="rId1"/>
          <a:stretch/>
        </p:blipFill>
        <p:spPr>
          <a:xfrm>
            <a:off x="395280" y="549360"/>
            <a:ext cx="8280360" cy="56052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3"/>
          <p:cNvSpPr/>
          <p:nvPr/>
        </p:nvSpPr>
        <p:spPr>
          <a:xfrm>
            <a:off x="0" y="0"/>
            <a:ext cx="34923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5651640" y="0"/>
            <a:ext cx="34923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1835280" y="0"/>
            <a:ext cx="4968720" cy="2205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2050920" y="4653000"/>
            <a:ext cx="4969080" cy="2205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cuaderno"/>
          <p:cNvPicPr/>
          <p:nvPr/>
        </p:nvPicPr>
        <p:blipFill>
          <a:blip r:embed="rId1"/>
          <a:stretch/>
        </p:blipFill>
        <p:spPr>
          <a:xfrm>
            <a:off x="395280" y="549360"/>
            <a:ext cx="8280360" cy="56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lapiz"/>
          <p:cNvPicPr/>
          <p:nvPr/>
        </p:nvPicPr>
        <p:blipFill>
          <a:blip r:embed="rId1"/>
          <a:stretch/>
        </p:blipFill>
        <p:spPr>
          <a:xfrm>
            <a:off x="250920" y="692280"/>
            <a:ext cx="8642160" cy="529740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3"/>
          <p:cNvSpPr/>
          <p:nvPr/>
        </p:nvSpPr>
        <p:spPr>
          <a:xfrm>
            <a:off x="0" y="0"/>
            <a:ext cx="709308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5651640" y="0"/>
            <a:ext cx="3492360" cy="4365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5651640" y="5229360"/>
            <a:ext cx="3492360" cy="1628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8244000" y="1700280"/>
            <a:ext cx="900000" cy="4365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lapiz"/>
          <p:cNvPicPr/>
          <p:nvPr/>
        </p:nvPicPr>
        <p:blipFill>
          <a:blip r:embed="rId1"/>
          <a:stretch/>
        </p:blipFill>
        <p:spPr>
          <a:xfrm>
            <a:off x="250920" y="692280"/>
            <a:ext cx="864216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goma"/>
          <p:cNvPicPr/>
          <p:nvPr/>
        </p:nvPicPr>
        <p:blipFill>
          <a:blip r:embed="rId1"/>
          <a:stretch/>
        </p:blipFill>
        <p:spPr>
          <a:xfrm>
            <a:off x="1042920" y="1052640"/>
            <a:ext cx="7056360" cy="420372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3"/>
          <p:cNvSpPr/>
          <p:nvPr/>
        </p:nvSpPr>
        <p:spPr>
          <a:xfrm>
            <a:off x="0" y="0"/>
            <a:ext cx="9144000" cy="2997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0" y="4653000"/>
            <a:ext cx="9144000" cy="2205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2268360" y="1628640"/>
            <a:ext cx="6875640" cy="3384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0" y="0"/>
            <a:ext cx="1547640" cy="522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goma"/>
          <p:cNvPicPr/>
          <p:nvPr/>
        </p:nvPicPr>
        <p:blipFill>
          <a:blip r:embed="rId1"/>
          <a:stretch/>
        </p:blipFill>
        <p:spPr>
          <a:xfrm>
            <a:off x="1042920" y="1052640"/>
            <a:ext cx="70563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 Seccombe</cp:lastModifiedBy>
  <dcterms:modified xsi:type="dcterms:W3CDTF">2014-09-21T13:42:33Z</dcterms:modified>
  <cp:revision>43</cp:revision>
  <dc:subject/>
  <dc:title>Slide 1</dc:title>
</cp:coreProperties>
</file>