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7146-17D1-47C8-8881-0F749D8598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B8F8-1D2F-4977-973C-A2B4855EEF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2DBE-E832-4498-9CAF-95410FA0F17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87FD-9C4E-4CDB-ACD7-E01FF3EBDC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53C9-783F-479D-960B-E2FA5AAA3B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BA2B-A8CF-4CC3-937C-BDF08E331F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9E6D-49C6-4880-BF97-F177D855AB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6C6-68D8-4EBA-8CC6-B42BB717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2BE-4E87-4B9D-9111-51B56168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B16-3D29-434A-B364-9007C6C9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EA6-4F88-484F-AD4D-AFA704A2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2C2-A862-44CE-AA4B-46EF1C70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E49-2C9B-45DB-84F1-4A051E8F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07B-AC05-4E15-A5E9-01FF5354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E30-73F5-4CF0-A53F-506C0B6F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EFE-6100-4E71-9E26-3ACDB0AB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057-8C6D-482C-9E55-2C6CC192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B5C-18BF-4C81-945B-ECC02C38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282-5829-4D6F-8163-FB6DC337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4438-2F29-45AC-85FF-1C73AD47B4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108000" y="442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-36360" y="765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e jup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uge / rou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-36360" y="2017800"/>
            <a:ext cx="91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e justaucorp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 / 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-36360" y="3271680"/>
            <a:ext cx="92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des bott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oir / noire / noirs / no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-4680" y="452592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blue d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rob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bleu / bleue / bleus / ble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yellow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maillot de bain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jaune / jau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08000" y="442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-36360" y="765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e jup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uge / rou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-36360" y="2017800"/>
            <a:ext cx="91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e justaucorp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 / 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-36360" y="3271680"/>
            <a:ext cx="92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des bott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oir / noire / noirs / no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-4680" y="452592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blue d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rob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bleu / bleue / bleus / ble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yellow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maillot de bain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jaune / jau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Oval 9"/>
          <p:cNvSpPr/>
          <p:nvPr/>
        </p:nvSpPr>
        <p:spPr>
          <a:xfrm>
            <a:off x="2556000" y="1225440"/>
            <a:ext cx="129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108000" y="442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-36360" y="765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e jup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uge / rou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-36360" y="2017800"/>
            <a:ext cx="91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e justaucorp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 / 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-36360" y="3271680"/>
            <a:ext cx="92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des bott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oir / noire / noirs / no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-4680" y="452592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blue d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rob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bleu / bleue / bleus / ble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yellow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maillot de bain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jaune / jau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9"/>
          <p:cNvSpPr/>
          <p:nvPr/>
        </p:nvSpPr>
        <p:spPr>
          <a:xfrm>
            <a:off x="2556000" y="1225440"/>
            <a:ext cx="129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3635280" y="2492280"/>
            <a:ext cx="93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108000" y="442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-36360" y="765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e jup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uge / rou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-36360" y="2017800"/>
            <a:ext cx="91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e justaucorp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 / 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-36360" y="3271680"/>
            <a:ext cx="92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des bott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oir / noire / noirs / no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-4680" y="452592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blue d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rob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bleu / bleue / bleus / ble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yellow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maillot de bain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jaune / jau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556000" y="1225440"/>
            <a:ext cx="129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Oval 10"/>
          <p:cNvSpPr/>
          <p:nvPr/>
        </p:nvSpPr>
        <p:spPr>
          <a:xfrm>
            <a:off x="3635280" y="2492280"/>
            <a:ext cx="93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6948360" y="3699000"/>
            <a:ext cx="1511280" cy="714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2"/>
          <p:cNvSpPr/>
          <p:nvPr/>
        </p:nvSpPr>
        <p:spPr>
          <a:xfrm>
            <a:off x="108000" y="442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-36360" y="765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e jup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uge / rou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-36360" y="2017800"/>
            <a:ext cx="91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e justaucorp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 / 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-36360" y="3271680"/>
            <a:ext cx="92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des bott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oir / noire / noirs / no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-4680" y="452592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blue d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rob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bleu / bleue / bleus / ble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yellow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maillot de bain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jaune / jau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Oval 9"/>
          <p:cNvSpPr/>
          <p:nvPr/>
        </p:nvSpPr>
        <p:spPr>
          <a:xfrm>
            <a:off x="2556000" y="1225440"/>
            <a:ext cx="129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Oval 10"/>
          <p:cNvSpPr/>
          <p:nvPr/>
        </p:nvSpPr>
        <p:spPr>
          <a:xfrm>
            <a:off x="3635280" y="2492280"/>
            <a:ext cx="93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Oval 11"/>
          <p:cNvSpPr/>
          <p:nvPr/>
        </p:nvSpPr>
        <p:spPr>
          <a:xfrm>
            <a:off x="6948360" y="3699000"/>
            <a:ext cx="1511280" cy="714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Oval 12"/>
          <p:cNvSpPr/>
          <p:nvPr/>
        </p:nvSpPr>
        <p:spPr>
          <a:xfrm>
            <a:off x="3492360" y="4923000"/>
            <a:ext cx="1447920" cy="714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108000" y="442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a"/>
                </a:solidFill>
                <a:uFillTx/>
                <a:latin typeface="Comic Sans MS"/>
              </a:rPr>
              <a:t>I can work out descriptions using colo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-36360" y="76500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 red ski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e jup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rouge / rou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-36360" y="2017800"/>
            <a:ext cx="91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grey leot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e justaucorp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gris / grise / gris / gr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-36360" y="3271680"/>
            <a:ext cx="92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3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some black boo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des bottes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noir / noire / noirs / no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-4680" y="4525920"/>
            <a:ext cx="91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4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the blue d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la robe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bleu / bleue / bleus / ble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-4680" y="5780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5.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an yellow swims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a"/>
                </a:solidFill>
                <a:latin typeface="Comic Sans MS"/>
              </a:rPr>
              <a:t>un maillot de bain </a:t>
            </a:r>
            <a:r>
              <a:rPr b="0" lang="en-GB" sz="3200" spc="-1" strike="noStrike">
                <a:solidFill>
                  <a:srgbClr val="fbfb00"/>
                </a:solidFill>
                <a:latin typeface="Comic Sans MS"/>
              </a:rPr>
              <a:t>jaune / jau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9"/>
          <p:cNvSpPr/>
          <p:nvPr/>
        </p:nvSpPr>
        <p:spPr>
          <a:xfrm>
            <a:off x="2556000" y="1225440"/>
            <a:ext cx="129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3635280" y="2492280"/>
            <a:ext cx="93672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Oval 11"/>
          <p:cNvSpPr/>
          <p:nvPr/>
        </p:nvSpPr>
        <p:spPr>
          <a:xfrm>
            <a:off x="6948360" y="3699000"/>
            <a:ext cx="1511280" cy="714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Oval 12"/>
          <p:cNvSpPr/>
          <p:nvPr/>
        </p:nvSpPr>
        <p:spPr>
          <a:xfrm>
            <a:off x="3492360" y="4923000"/>
            <a:ext cx="1447920" cy="714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Oval 13"/>
          <p:cNvSpPr/>
          <p:nvPr/>
        </p:nvSpPr>
        <p:spPr>
          <a:xfrm>
            <a:off x="4290840" y="6216480"/>
            <a:ext cx="1297080" cy="714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9T20:10:22Z</dcterms:modified>
  <cp:revision>157</cp:revision>
  <dc:subject/>
  <dc:title>TITLE</dc:title>
</cp:coreProperties>
</file>