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C28D-1452-4A1D-A09D-9E2683C0D7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362D-17D7-4AB1-B26C-A63D170D42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47F1-89BB-4251-A7B3-F4B6981096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98D4-9A3A-494C-8AB9-5458537343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3440-6F09-4E3D-B34B-FF3ACAEE4E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E48D-4241-4C54-A716-3B197E3663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7541-B768-4CF8-9CEE-A9DEA81326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62DA-F584-47F4-8C6A-91A93CBAB4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6EE2-9E00-451E-A260-8406FF6F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DF2-C6C8-47CC-B92D-686405B2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17BA-6716-4A78-975B-2DDF97DB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44B-F455-493B-A62C-6921AA09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962-16F0-4B70-A375-B02BC2E7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4CA-140E-47E5-B654-4C61FF5C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A57-B9BE-4F0A-881B-3F8D45D4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06B-1D27-4AA3-8F09-76ED4A9C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9BA-801C-44EB-A4A0-64DF8D80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0C1-AC5E-47A8-B966-4B333312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30D-A93A-4FD7-8118-059F3F91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D75-A7B3-4935-BC7B-D965C3A2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7D96-0DBB-4916-A38F-C87F5DF4B0B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773520" cy="4048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e-shi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lan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73520" cy="40482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e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e-shi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lan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37731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e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e-shi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le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73520" cy="4286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4500720" y="233280"/>
            <a:ext cx="377316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ro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e-shi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e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3241800" cy="3539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"/>
          <p:cNvPicPr/>
          <p:nvPr/>
        </p:nvPicPr>
        <p:blipFill>
          <a:blip r:embed="rId2"/>
          <a:stretch/>
        </p:blipFill>
        <p:spPr>
          <a:xfrm>
            <a:off x="2843280" y="585720"/>
            <a:ext cx="3243240" cy="354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"/>
          <p:cNvPicPr/>
          <p:nvPr/>
        </p:nvPicPr>
        <p:blipFill>
          <a:blip r:embed="rId3"/>
          <a:stretch/>
        </p:blipFill>
        <p:spPr>
          <a:xfrm>
            <a:off x="5830920" y="549360"/>
            <a:ext cx="324324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454120" y="4941720"/>
            <a:ext cx="341316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6084720" y="4941720"/>
            <a:ext cx="244800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e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2484360" y="494172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hausset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12"/>
          <p:cNvSpPr/>
          <p:nvPr/>
        </p:nvSpPr>
        <p:spPr>
          <a:xfrm>
            <a:off x="6012000" y="494172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arr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763640" y="115920"/>
            <a:ext cx="49928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2454120" y="4941720"/>
            <a:ext cx="37022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6372360" y="4941720"/>
            <a:ext cx="216036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468360" y="4941720"/>
            <a:ext cx="191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at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2484360" y="496404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hausset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372360" y="494172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ro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74760" y="407880"/>
            <a:ext cx="3981240" cy="357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2"/>
          <a:stretch/>
        </p:blipFill>
        <p:spPr>
          <a:xfrm>
            <a:off x="4641840" y="404640"/>
            <a:ext cx="3979800" cy="35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4941720"/>
            <a:ext cx="191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hausset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ri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rcRect l="47180" t="0" r="0" b="0"/>
          <a:stretch/>
        </p:blipFill>
        <p:spPr>
          <a:xfrm>
            <a:off x="2843280" y="189000"/>
            <a:ext cx="254160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9T19:55:45Z</dcterms:modified>
  <cp:revision>163</cp:revision>
  <dc:subject/>
  <dc:title>TITLE</dc:title>
</cp:coreProperties>
</file>