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8FE3-BD58-47DE-B5A3-3CBF4781EB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4CD2-C446-4593-9B45-2B49DE30E0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5D1-9DEF-4BA4-A530-3880B8904B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3FD-AEF9-489F-BCC5-89B124415A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BB3-DE67-41C1-8772-E048BB42D6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0C1C-8752-489A-B313-8AB6D42630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605-C2CF-4F21-9087-0046E33CE8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78DE-E005-4943-A1B8-8D298D1BFB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146-D5CC-4633-A05F-1481E745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D32-32B1-464E-8FA9-E08A471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404-F051-4B19-9162-2205700B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F51-D91F-44B1-A7FC-1F9B03D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A78-DC18-4003-BFF6-489E82B4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A10-1ED7-4B9E-AAEB-7C0EC277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CAE-E7C0-436F-9C1F-CC0FB23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F6C-1110-48FD-8A6C-8814441D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A2-ED84-4134-A29D-AADAFFD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010-A92F-4E49-B457-A96AFB3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305-4B4A-42C9-BFC1-90F1986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A55-67FE-4257-BCD5-3AAEB3F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4E0-9D93-4262-921D-9CD653DE45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048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n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773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e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7352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4500720" y="233280"/>
            <a:ext cx="3773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o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ee-shi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e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3241800" cy="353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2"/>
          <a:stretch/>
        </p:blipFill>
        <p:spPr>
          <a:xfrm>
            <a:off x="2843280" y="585720"/>
            <a:ext cx="324324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3"/>
          <a:stretch/>
        </p:blipFill>
        <p:spPr>
          <a:xfrm>
            <a:off x="5830920" y="549360"/>
            <a:ext cx="3243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454120" y="4941720"/>
            <a:ext cx="341316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084720" y="4941720"/>
            <a:ext cx="244800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11280" y="4941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2484360" y="494172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6012000" y="49417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arr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4992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454120" y="4941720"/>
            <a:ext cx="37022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72360" y="4941720"/>
            <a:ext cx="216036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68360" y="4941720"/>
            <a:ext cx="191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at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484360" y="49640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372360" y="4941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o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74760" y="407880"/>
            <a:ext cx="3981240" cy="357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4641840" y="404640"/>
            <a:ext cx="397980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539640" y="4941720"/>
            <a:ext cx="172872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454120" y="4941720"/>
            <a:ext cx="312588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761080" y="4941720"/>
            <a:ext cx="2771640" cy="768600"/>
          </a:xfrm>
          <a:prstGeom prst="rect">
            <a:avLst/>
          </a:prstGeom>
          <a:noFill/>
          <a:ln w="381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4941720"/>
            <a:ext cx="19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484360" y="4941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chauss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5761080" y="494172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gr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rcRect l="47180" t="0" r="0" b="0"/>
          <a:stretch/>
        </p:blipFill>
        <p:spPr>
          <a:xfrm>
            <a:off x="2843280" y="189000"/>
            <a:ext cx="25416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55:45Z</dcterms:modified>
  <cp:revision>163</cp:revision>
  <dc:subject/>
  <dc:title>TITLE</dc:title>
</cp:coreProperties>
</file>