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6DD0-ECB4-4AA7-8162-91469EAFD9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C33-272D-474C-BFCB-BF756C3C20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6BA-B316-4F56-ACA9-B84D30EF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04D-98BA-41E8-A5C4-4BBC9D4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5F5-281A-4CA8-B3D5-B79369BD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EFD-E7DD-4E7F-B188-514FE36C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089-BD4D-4A57-89A0-A8743A6D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6BA-8560-456F-ACF2-1631AAE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F21-11DF-4F61-BEB5-C87BA397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76E-BB6E-4DA1-BA1E-B42AB07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AD3-5193-4FF8-986C-CE7059A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AFC-5410-4679-9EFC-C1DA596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758-4B46-48E5-B38B-A521A1D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335-9F67-49A9-B628-56C013F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E7D-E158-4AE3-8560-E0157FA1B9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778200" y="146160"/>
            <a:ext cx="149400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0" y="3514680"/>
            <a:ext cx="2498760" cy="315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7815240" y="115920"/>
            <a:ext cx="1025640" cy="253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627960" y="3429000"/>
            <a:ext cx="23749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85680" y="4130640"/>
            <a:ext cx="225432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52360" y="1197000"/>
            <a:ext cx="255132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8"/>
          <p:cNvSpPr/>
          <p:nvPr/>
        </p:nvSpPr>
        <p:spPr>
          <a:xfrm>
            <a:off x="1528920" y="260280"/>
            <a:ext cx="2249280" cy="1440000"/>
          </a:xfrm>
          <a:prstGeom prst="wedgeRoundRectCallout">
            <a:avLst>
              <a:gd name="adj1" fmla="val -63726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tennis de ta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4427640" y="1700280"/>
            <a:ext cx="2448000" cy="1152360"/>
          </a:xfrm>
          <a:prstGeom prst="wedgeRoundRectCallout">
            <a:avLst>
              <a:gd name="adj1" fmla="val -36393"/>
              <a:gd name="adj2" fmla="val -6638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basket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5435640" y="115920"/>
            <a:ext cx="2211480" cy="1081080"/>
          </a:xfrm>
          <a:prstGeom prst="wedgeRoundRectCallout">
            <a:avLst>
              <a:gd name="adj1" fmla="val 60009"/>
              <a:gd name="adj2" fmla="val 1280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tenni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14"/>
          <p:cNvSpPr/>
          <p:nvPr/>
        </p:nvSpPr>
        <p:spPr>
          <a:xfrm>
            <a:off x="2050920" y="3357720"/>
            <a:ext cx="2737080" cy="1150920"/>
          </a:xfrm>
          <a:prstGeom prst="wedgeRoundRectCallout">
            <a:avLst>
              <a:gd name="adj1" fmla="val -43004"/>
              <a:gd name="adj2" fmla="val 6755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’athlétism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5"/>
          <p:cNvSpPr/>
          <p:nvPr/>
        </p:nvSpPr>
        <p:spPr>
          <a:xfrm>
            <a:off x="1835280" y="5400720"/>
            <a:ext cx="2859120" cy="1150920"/>
          </a:xfrm>
          <a:prstGeom prst="wedgeRoundRectCallout">
            <a:avLst>
              <a:gd name="adj1" fmla="val 63375"/>
              <a:gd name="adj2" fmla="val -43023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a gymnastiqu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6"/>
          <p:cNvSpPr/>
          <p:nvPr/>
        </p:nvSpPr>
        <p:spPr>
          <a:xfrm>
            <a:off x="6541920" y="4824360"/>
            <a:ext cx="2541600" cy="1152720"/>
          </a:xfrm>
          <a:prstGeom prst="wedgeRoundRectCallout">
            <a:avLst>
              <a:gd name="adj1" fmla="val 7513"/>
              <a:gd name="adj2" fmla="val -8225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a natatio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1-14T09:56:09Z</dcterms:modified>
  <cp:revision>166</cp:revision>
  <dc:subject/>
  <dc:title>TITLE</dc:title>
</cp:coreProperties>
</file>