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959-AE48-4AF4-9D35-529F17FA90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680A-97B2-4D59-9BAE-C09C5F6BB5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4A5-CBC0-4906-B7D5-50C04867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468-B4EB-4189-B0B2-C3256C96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0FD-9810-4F59-8A23-3741458A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776-DE0F-483A-9BA7-FE340BB6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A89-EDD9-4175-A9CE-5411009A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893-246C-4218-AB4D-83F204D1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728-3E93-4E0C-8707-0435294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F58-022F-475C-8171-F28B0F8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053-D8F5-45E0-BD6E-FBB24940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068-DD6C-4689-8820-AE29537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005-2A65-46A7-A0FC-99ED89D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610-5D47-4B47-8469-E8D4323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72B1-0221-4985-9104-EAF0177B2A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778200" y="146160"/>
            <a:ext cx="149400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0" y="3514680"/>
            <a:ext cx="2498760" cy="315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7815240" y="115920"/>
            <a:ext cx="1025640" cy="253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627960" y="3429000"/>
            <a:ext cx="23749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85680" y="4130640"/>
            <a:ext cx="225432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252360" y="1197000"/>
            <a:ext cx="2551320" cy="1727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8"/>
          <p:cNvSpPr/>
          <p:nvPr/>
        </p:nvSpPr>
        <p:spPr>
          <a:xfrm>
            <a:off x="1528920" y="260280"/>
            <a:ext cx="2249280" cy="1440000"/>
          </a:xfrm>
          <a:prstGeom prst="wedgeRoundRectCallout">
            <a:avLst>
              <a:gd name="adj1" fmla="val -63726"/>
              <a:gd name="adj2" fmla="val 36342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tennis de ta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4427640" y="1700280"/>
            <a:ext cx="2448000" cy="1152360"/>
          </a:xfrm>
          <a:prstGeom prst="wedgeRoundRectCallout">
            <a:avLst>
              <a:gd name="adj1" fmla="val -36393"/>
              <a:gd name="adj2" fmla="val -66388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basket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5435640" y="115920"/>
            <a:ext cx="2211480" cy="1081080"/>
          </a:xfrm>
          <a:prstGeom prst="wedgeRoundRectCallout">
            <a:avLst>
              <a:gd name="adj1" fmla="val 60009"/>
              <a:gd name="adj2" fmla="val 1280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joue au tennis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14"/>
          <p:cNvSpPr/>
          <p:nvPr/>
        </p:nvSpPr>
        <p:spPr>
          <a:xfrm>
            <a:off x="2050920" y="3357720"/>
            <a:ext cx="2737080" cy="1150920"/>
          </a:xfrm>
          <a:prstGeom prst="wedgeRoundRectCallout">
            <a:avLst>
              <a:gd name="adj1" fmla="val -43004"/>
              <a:gd name="adj2" fmla="val 67550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’athlétism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5"/>
          <p:cNvSpPr/>
          <p:nvPr/>
        </p:nvSpPr>
        <p:spPr>
          <a:xfrm>
            <a:off x="1835280" y="5400720"/>
            <a:ext cx="2859120" cy="1150920"/>
          </a:xfrm>
          <a:prstGeom prst="wedgeRoundRectCallout">
            <a:avLst>
              <a:gd name="adj1" fmla="val 63375"/>
              <a:gd name="adj2" fmla="val -43023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a gymnastiqu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16"/>
          <p:cNvSpPr/>
          <p:nvPr/>
        </p:nvSpPr>
        <p:spPr>
          <a:xfrm>
            <a:off x="6541920" y="4824360"/>
            <a:ext cx="2541600" cy="1152720"/>
          </a:xfrm>
          <a:prstGeom prst="wedgeRoundRectCallout">
            <a:avLst>
              <a:gd name="adj1" fmla="val 7513"/>
              <a:gd name="adj2" fmla="val -82259"/>
              <a:gd name="adj3" fmla="val 16667"/>
            </a:avLst>
          </a:prstGeom>
          <a:solidFill>
            <a:srgbClr val="ffff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Je fais de la natation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9-01-14T09:56:09Z</dcterms:modified>
  <cp:revision>166</cp:revision>
  <dc:subject/>
  <dc:title>TITLE</dc:title>
</cp:coreProperties>
</file>