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8EB-07CE-4EC6-9538-FA016999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520-B659-4D84-B2C2-0D309E0B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AD5-B729-48EE-9BAB-08EF0B2B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722-2278-4944-9E53-082BA9FD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D65D-2004-41D4-97C3-43DA22D8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9A71-753C-4C34-94C6-450D034B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4D08-9CA6-417C-9EF9-61CBBDC2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4A4C-DDFE-445D-A8AD-E260A6FB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EB07-9CC8-4E91-9D2F-D50B675F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770C-5D45-499C-84CA-4AA628C6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FCF9-CF2F-4525-8075-82CF8260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0EF-710E-448E-BBF2-9B4C4891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85AE-B21B-4B31-BD1F-EA34D22B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537C-D2AB-4E40-B91E-0C71456F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1382-EE49-4359-8C1E-7796E9E3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F67D-A9FD-4CC5-B942-D3A7B72E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0187-D790-4B5A-9D87-75BE93FC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63DD1-1105-4D3F-8A23-25B7B1A4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7F019-7167-4350-8C13-5EB2AE86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808A2-BB64-43C4-8277-1B0F06B5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0AE54-0066-45A0-8C63-B3D975FB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B876-6EC4-4D62-8FB6-09F5E74E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FC7-8457-427E-BEAE-FE029D32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0483-B23A-4AD3-A2F3-BABC0806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D6698-1BA1-467B-80BC-0DB8A05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26A8F-748D-4C17-9E5F-F1848858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515D-1519-4F92-BCF8-08640D8F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A9B57-CEF2-4B50-BF7F-17A9E40B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E235D-85E0-4DD8-A5E0-7F20E447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4ABB7-BB3A-4F10-9CCE-C80464A9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BB853-B925-4983-9933-AEC3E483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CC154-3057-42EE-B657-1758A35D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1B7AC-E137-49EE-AD83-460A8489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5CE-752C-426C-B4E2-6626CDF4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34774-1C07-475F-ACF8-B2A3E01D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255FD-45F8-4CC6-91DC-B30A5C91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E5206-582C-48DF-85CE-1F62C7B9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11B0F-F93A-468B-A61D-B60900F0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129D6-6FF1-409F-9399-965E8D2B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B515D-9DAE-45E9-AF0F-39A74C23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651A7-F598-4CEC-9EC9-882E17FD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92B1B-30F4-4DAF-B797-570AD214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801CE-6900-43A8-9ADE-B49C9B02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1DC-01BB-4D7E-A28C-DB5BE042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DDC-631B-4008-BFEB-D57A74A2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E0A-78FA-4FA2-A704-12D74895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98A-3848-46E0-B5CA-C095FB9A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2708-0B8D-4EB3-BA58-FE89562E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B8C7-7C8A-4984-92EA-6E5CA54EE8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C0CB-55D5-403D-8244-A568C02C5C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33BA-45E1-47CE-9EC3-2F6837220C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5657-EABA-4929-9435-2EB754C8C3C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rcRect l="0" t="6247" r="0" b="0"/>
          <a:stretch/>
        </p:blipFill>
        <p:spPr>
          <a:xfrm>
            <a:off x="2195640" y="0"/>
            <a:ext cx="446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"/>
          <p:cNvSpPr/>
          <p:nvPr/>
        </p:nvSpPr>
        <p:spPr>
          <a:xfrm>
            <a:off x="5508720" y="5732640"/>
            <a:ext cx="1155600" cy="110952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5508720" y="6288120"/>
            <a:ext cx="1155600" cy="55404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5508720" y="1557360"/>
            <a:ext cx="1155600" cy="528480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5508720" y="2060640"/>
            <a:ext cx="1155600" cy="478152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5508720" y="2565360"/>
            <a:ext cx="1155600" cy="427680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5508720" y="3068640"/>
            <a:ext cx="1155600" cy="377352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"/>
          <p:cNvSpPr/>
          <p:nvPr/>
        </p:nvSpPr>
        <p:spPr>
          <a:xfrm>
            <a:off x="5508720" y="3645000"/>
            <a:ext cx="1155600" cy="319716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5508720" y="4149720"/>
            <a:ext cx="1155600" cy="269244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5508720" y="4724280"/>
            <a:ext cx="1155600" cy="211788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5508720" y="5229360"/>
            <a:ext cx="1155600" cy="161280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6-01-03T17:24:37Z</dcterms:modified>
  <cp:revision>51</cp:revision>
  <dc:subject/>
  <dc:title>Slide 1</dc:title>
</cp:coreProperties>
</file>