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769-DD1A-4467-8CA8-DDA3B4CE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3BB-FAD8-4CB9-8E58-86D1ACD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DD4-A4AA-4C1B-8AD3-0AE6CAC3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BE7-C264-4A1E-AAA4-5FFDD2F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9BB-EC87-4579-96F8-ED5F5935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CC52-25A6-4394-B296-4385A91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7AC6-BE9F-4311-9128-59CBF20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E345-D121-4D2B-8407-51DDE5C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0FC-2DC8-4CCA-B95F-ABCD96D5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A1DD-F0F3-4E2D-A8E6-4818813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BE03-F8D6-4F82-A256-04768CB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064-42C4-414C-84BB-136778E5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9AF0-F547-447D-8BB9-395C487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D6FE-F35C-404D-8F3F-01CACFB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369-C2F1-4025-AED9-D24C9844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A40C-7887-48C3-B7C0-1A3AB7DE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C23-F6E1-4F08-8724-68B591FB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3CF7-14BD-496A-B533-E1880E22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49E0-1422-4998-A3BC-B17B1394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F7BF-53FD-4777-9C91-8710BC4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FDE1-25EF-487E-86D0-D5EA61DB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291A-F43D-4FB3-BCFF-2B1CEF78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3B7-7511-4D7E-A5D2-9746D052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87B9-B677-474F-AF19-028A12DB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56D0-4DB3-4505-85FE-B935D0B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4AB0-9FAD-4DFF-AFC4-28420D4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81A2-DA2A-4CFA-9193-48F4413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AF95-8217-4B0C-A65C-C8C9485F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9D9A-9F55-4C27-8DAE-331D0042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FF27-1535-46FA-B961-CD38A01E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461A-DD11-4FFB-81F3-BA269DA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1C36-7728-45C8-8E81-96390E4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AF1B-310E-471E-AF65-E9DB71E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A0F-4CB7-4DBD-9096-8DCED6D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FC61-B00D-4D67-8AE9-12E11B1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FE57-3470-40B2-BAB4-F8E4FBD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F34C-7EF7-4686-9D1B-12AFFBB4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8284-EBE1-471A-9648-DB35EB9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B9C9-B89B-49CE-897E-8577D37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7BB5-697F-430D-B9E3-BA9F704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BA87-444E-4A97-A251-44035A7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E40D-2C9F-4440-ABFA-747227A2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08BB-AF3B-4B4E-B7C9-7F0961E0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854-51E5-4FD9-A575-1DC0072E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FC1-949D-4039-85A0-DAA7F84A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B49-D123-4B07-AC8E-05E12C1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05A-42B5-4FDB-8FD1-D6FE05E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E37-D0AB-4CFC-82D6-63324238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BC9-B7DD-45EE-9BBC-F302FD343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312-1DB1-460F-9F61-33A1ED3E6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C53-9D47-4702-9AEA-E8152D9E54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7AC-8F35-49CD-A084-D3E0678644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rcRect l="0" t="6247" r="0" b="0"/>
          <a:stretch/>
        </p:blipFill>
        <p:spPr>
          <a:xfrm>
            <a:off x="2195640" y="0"/>
            <a:ext cx="446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508720" y="5732640"/>
            <a:ext cx="1155600" cy="1109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5508720" y="6288120"/>
            <a:ext cx="1155600" cy="55404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5508720" y="1557360"/>
            <a:ext cx="1155600" cy="5284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5508720" y="2060640"/>
            <a:ext cx="1155600" cy="4781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5508720" y="2565360"/>
            <a:ext cx="1155600" cy="4276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5508720" y="3068640"/>
            <a:ext cx="1155600" cy="37735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5508720" y="3645000"/>
            <a:ext cx="1155600" cy="31971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5508720" y="4149720"/>
            <a:ext cx="1155600" cy="269244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5508720" y="4724280"/>
            <a:ext cx="1155600" cy="21178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4468680" cy="6842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5508720" y="5229360"/>
            <a:ext cx="1155600" cy="16128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1-03T17:24:37Z</dcterms:modified>
  <cp:revision>51</cp:revision>
  <dc:subject/>
  <dc:title>Slide 1</dc:title>
</cp:coreProperties>
</file>