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2D0-DB82-42C4-AFDC-90F37756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4FF-7D47-4EE3-90B0-CA6CF370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B1D-D7D7-417F-B879-FFEC647F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EE4-25A2-4705-AD06-C8C45CFD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2E7F-B9D0-4059-ABD0-86C1F269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5B8-7B75-4EFF-B47B-0CEBC45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B07-9C84-4F1A-9F3E-3F8D05E4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5859-6C43-4159-B223-03162D25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648F-ED8B-45EA-8CE4-FFC9113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A5D1-8D3A-4637-9F0A-DFA4A52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C18C-92B5-47CF-9301-914F0BE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FFF-88E3-4AA7-900E-2D2E66D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AB46-8099-49A6-8F73-32D2E02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94B0-5914-4C3A-BCEB-040A573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7EC-E9E1-4C41-A799-5F42ABD9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CCDC-137D-4A0F-ACF0-088045B7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FCC6-91BC-41E5-9496-7B547927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4BBF-661D-49A8-8A84-7A0A02B3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2C49-BB08-4B53-A7D6-C107DA88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FCF1-E03E-4758-9205-F734239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A72D-A412-433F-8313-84905449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2DB6-F296-4A30-9D86-2A3A211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D4B-E88E-4331-9B2B-2E367E3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596E-2F91-4D79-B7C6-42E60E0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4F55-BF29-4D76-93CD-AE0FAB7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B705-3226-4C4A-90D7-DD720DD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47F6-F3D4-4F52-B07B-78C7E5D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4924-44E3-4D8F-86AA-81150D0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D3B2-3E03-4D0D-876F-EDE0A258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238E-A446-46DB-9469-0E51CE2D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F507-150F-422A-8144-40BDA5E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BA61-B4BC-428C-B3CA-A03B013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5FF7-1471-4E0D-B396-E7A92A5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31B-D0E5-47DC-9E93-7C9D4CA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C533-4157-4E14-8250-3EB010D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E411-FC36-426B-96BD-010176F9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1ED6-F881-446F-B8E8-21AEDF4D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0C7D-13D1-4467-9BAE-5D7D087B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B263-93A0-4F4E-8CFB-A43E911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016E-AADE-446E-BC4A-9A4CEB91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A6BD-FF6F-4763-AE23-958B93E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E586-890C-4404-A3C6-B6CE5261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3CB2-E829-449B-BF69-E3223984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9F-D805-4BDC-8190-DA24C40B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FD6-7DFB-4CFE-A6AA-BE9E9FC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89D-46C7-4CD6-A6D2-AA24FFAD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FCB-2826-4DD3-B381-1C498E1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627-3248-43FB-B0FA-843693D5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5B2-154D-4BC1-98A6-2E426F149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96B-0353-4B71-A195-3AC92C62DC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FFDB-E18C-4522-AC17-6D06162A2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52CE-FC94-4F42-B741-F31AE4AF94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335320" y="0"/>
            <a:ext cx="44686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500800" y="5732640"/>
            <a:ext cx="1174680" cy="1081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5500800" y="6273720"/>
            <a:ext cx="1174680" cy="5400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5508720" y="1557360"/>
            <a:ext cx="1173240" cy="5256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5508720" y="2060640"/>
            <a:ext cx="1173240" cy="4753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5508720" y="2565360"/>
            <a:ext cx="1173240" cy="4248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5500800" y="3068640"/>
            <a:ext cx="1174680" cy="3745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5500800" y="3645000"/>
            <a:ext cx="1174680" cy="31687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5500800" y="4149720"/>
            <a:ext cx="1174680" cy="26640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5500800" y="4653000"/>
            <a:ext cx="1174680" cy="21607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5500800" y="5229360"/>
            <a:ext cx="1174680" cy="1584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1-03T17:25:20Z</dcterms:modified>
  <cp:revision>50</cp:revision>
  <dc:subject/>
  <dc:title>Slide 1</dc:title>
</cp:coreProperties>
</file>