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80F-4587-4E02-BC2C-FCA6B4CF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669-6772-4EFC-A336-8692040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4D5-AE5C-46BA-8272-84361E1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AB4-044E-4B5C-83EE-273A5391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CC0-36BD-41B3-8517-179259D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80E-0042-4559-ACD4-F6FCB2D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1EC-8067-44DF-8CFF-AF502B0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1A5-C976-41E7-81B1-59E996B7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6CC-9817-4588-A203-A9A18C59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63C-CDD1-4B6C-876E-D728184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015-E430-4D64-847F-F3883D3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F04-2F1B-42A5-BF6D-E289E71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B2D-9DB2-44D7-A5D8-7A279C9F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4680"/>
            <a:ext cx="6934320" cy="682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4080" y="2438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627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457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el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1520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24480" y="1066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uxembo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nglete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620120" y="1447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86600" y="1905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lema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8001000" y="3048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3352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u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8229600" y="4495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9152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Ita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80880" y="56386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5943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spa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3886200"/>
            <a:ext cx="762120" cy="65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038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’Atlan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a M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0" y="990720"/>
            <a:ext cx="762120" cy="657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48520" y="6338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a Méditéra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5562720" y="6200640"/>
            <a:ext cx="761760" cy="65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638680" y="4724280"/>
            <a:ext cx="793800" cy="48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24480" y="44956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71500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53341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Pyré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>
            <a:off x="3962520" y="5410080"/>
            <a:ext cx="793800" cy="4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81280" y="4191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e Massi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3809880" y="3809880"/>
            <a:ext cx="793800" cy="48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2428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4952880" y="1066680"/>
            <a:ext cx="490680" cy="857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055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25:57Z</dcterms:created>
  <dc:creator>clare.seccombe</dc:creator>
  <dc:description/>
  <dc:language>en-US</dc:language>
  <cp:lastModifiedBy>CSeccombe</cp:lastModifiedBy>
  <dcterms:modified xsi:type="dcterms:W3CDTF">2007-09-26T11:00:21Z</dcterms:modified>
  <cp:revision>28</cp:revision>
  <dc:subject/>
  <dc:title>PowerPoint Presentation</dc:title>
</cp:coreProperties>
</file>