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12.wmf" ContentType="image/x-wm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AC6-BC61-4EE7-B4FF-849DA7A2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EC0-55CE-4C1E-A821-623FB400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CBA-220E-4AF6-96CA-F66CD856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B17-AFDC-414F-9125-DF94C902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6A6-321C-415F-B612-04625BEA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18AB-0B0A-4852-AF95-AA6858E9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838-56BB-41EA-92E1-8E7E2F0B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6D4-888D-4FC3-98C5-910DAEC4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19A-FC9C-4154-B036-8E33C4F7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2177-4360-4C51-93FA-4D2416BE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862-3EDD-4D32-9420-478C38B7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AAE-0A07-4BCA-AAC6-C07CF3AC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1C52-95B2-4D88-80B6-8B33C4918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4680"/>
            <a:ext cx="6934320" cy="6821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52680" y="1828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24080" y="2438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86200" y="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562720" y="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2720" y="457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Bel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315200" y="533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324480" y="1066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uxembo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Angleter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620120" y="14479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086600" y="19051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Allemag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8001000" y="30481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934320" y="3352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ui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8229600" y="44956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39152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Ita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80880" y="56386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5943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Espag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0" y="3886200"/>
            <a:ext cx="762120" cy="657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4038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’Atlan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a Man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0" y="990720"/>
            <a:ext cx="762120" cy="657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248520" y="63388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a Méditéran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5562720" y="6200640"/>
            <a:ext cx="761760" cy="657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5638680" y="4724280"/>
            <a:ext cx="793800" cy="486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324480" y="449568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Al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571500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533412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L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Pyrén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4"/>
          <a:stretch/>
        </p:blipFill>
        <p:spPr>
          <a:xfrm>
            <a:off x="3962520" y="5410080"/>
            <a:ext cx="793800" cy="48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581280" y="41911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e Massi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3809880" y="3809880"/>
            <a:ext cx="793800" cy="486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2428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6"/>
          <a:stretch/>
        </p:blipFill>
        <p:spPr>
          <a:xfrm>
            <a:off x="4952880" y="1066680"/>
            <a:ext cx="490680" cy="857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105520" y="1828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8:25:57Z</dcterms:created>
  <dc:creator>clare.seccombe</dc:creator>
  <dc:description/>
  <dc:language>en-US</dc:language>
  <cp:lastModifiedBy>CSeccombe</cp:lastModifiedBy>
  <dcterms:modified xsi:type="dcterms:W3CDTF">2007-09-26T11:00:21Z</dcterms:modified>
  <cp:revision>28</cp:revision>
  <dc:subject/>
  <dc:title>PowerPoint Presentation</dc:title>
</cp:coreProperties>
</file>