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44E-65F1-4FB4-BE9F-256F0E4D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AF4-DF99-4284-96CC-BFE4C268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101-8702-4AA4-8E8C-6D9E94B7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654-7D2E-44DC-B94B-D0598CEF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C081-8870-499A-A1D1-15E0A94E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7A16-5DFC-49A8-87AB-B145F1E0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EE6A-094B-47B6-9369-56ACE5F8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F551-52C9-4A3E-98EB-5699092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35D7-0846-4A3E-AFD1-87FCCAEE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C0EC-BE7E-4AF1-8B37-E3CEF114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CE54-DC5E-4E27-BE51-7C761EF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5E8-893F-41FB-BB60-7A80C06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184E-AB37-4E6F-96AE-81861324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B247-CC54-4C01-82B9-010FC49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EEC8-C402-40F2-B0F8-87ADABEB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7170-14DC-4B84-940B-1E58267E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0682-2C15-4994-9DB2-13D85AD5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4FDC-89FD-43A8-ADBA-DAB0F1F5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9BD8-1E08-40E7-9AD6-084A2831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3DBB-23D3-47CC-9744-8566D1D2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6A01-AC9B-4538-8432-087F0A37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0651-DD3F-4B4F-A6D4-409B3AA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D5F-A038-4050-9B7C-C63B30FF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7C30-D112-42B5-846E-E8ACE59D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C223-018B-462D-99BD-FCA87E76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F2198-E386-4490-9D1E-1975CF6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45FB-6AD6-431A-BFBA-07F04339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3B4F-9832-4BD4-9D4E-9D269938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703A-F982-438F-8E17-90BA8EAE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3732-12B5-4A40-BCD8-A7CBC7F6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7244E-B5CF-44F4-9505-DE4CF872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0688-4554-4675-B76A-E60757F6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1A899-8E76-4CD7-A55C-023D2B89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86F-D24B-4DFB-B149-BA928FAC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3D1D-6533-4A14-81AE-6C22DD17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E3B29-6E70-4685-A66A-1175E81A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6FB8-DB6C-49C7-9825-397CBDBF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D6BA-82E2-469B-AF3B-34608852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B8E3-19D1-47FF-98B7-6D84FDBB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4794-4636-4B42-8671-875D182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6696-774C-4EAA-8625-85AC274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D4C1-3B71-4EFE-BD59-2EB69E26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C36F4-7995-4E3C-82B6-1BE6C4BC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420-8A05-4C69-B7EB-987A8016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CED-94A2-44FC-9ED3-D5B80862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F7F-067B-45B6-B850-0666900E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748-6310-433B-9AD4-D4DEB551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7E7-45FC-4690-A9DB-FFAD3850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F7E9-E698-423D-9883-0C024F761F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AB46-7B13-4E46-8F50-497F4D94ED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D918-947E-437C-A425-5A3F1D521B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2137-7EC5-4DD1-B13E-028ED8723E0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15920"/>
            <a:ext cx="8856720" cy="65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ccff"/>
                </a:solidFill>
                <a:latin typeface="Comic Sans MS"/>
              </a:rPr>
              <a:t>Masculin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feminin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nat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pinceau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lou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baguet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uilleré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balle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ouloi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1844640"/>
            <a:ext cx="576000" cy="576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1052640"/>
            <a:ext cx="57636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2708280"/>
            <a:ext cx="576000" cy="576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50028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429264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5157720"/>
            <a:ext cx="576360" cy="576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5950080"/>
            <a:ext cx="576360" cy="5760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936360" cy="637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580000" y="17715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219640" y="2637000"/>
            <a:ext cx="604800" cy="696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724360" y="3357720"/>
            <a:ext cx="628920" cy="933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H="1">
            <a:off x="6372360" y="3716280"/>
            <a:ext cx="720720" cy="217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5651640" y="4367160"/>
            <a:ext cx="936360" cy="507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5435640" y="5084640"/>
            <a:ext cx="758880" cy="824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5435640" y="6021360"/>
            <a:ext cx="10238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12-05T09:25:27Z</dcterms:modified>
  <cp:revision>63</cp:revision>
  <dc:subject/>
  <dc:title>Slide 1</dc:title>
</cp:coreProperties>
</file>