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B912-0D65-4504-B893-384368C3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BC9C-904A-46C7-89DA-20D3E280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1C42-5A42-41BB-B8AC-7C56275A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310E-4141-43D4-9089-C986960B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BE3D-2CB0-4F03-9004-CAD6C900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5985-3365-41E4-A04D-4DCDBE51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00C4-44FE-407C-9818-779C1FF6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ADEB-A6A1-47B3-8D26-8A36FD22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DB4E-BE65-441E-AF40-C754D5E0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AD1C-06A0-46D8-86A6-54F7C926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DE53-92E2-45E9-8EE1-EFF0A7D4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671C-E2C5-4E06-BA02-32443F45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0BA2-0337-4B1C-A1B2-53F68F60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14C4-258F-4022-9351-010368B4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CFD1-A2A8-4563-9A66-23619556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943C-23DE-48A0-8677-BE0E5D5B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5223-B08F-45BA-97F4-4B957087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C6DD8-2FA0-45C2-B21C-A7D6D513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5371E-5B32-4F59-A4ED-A53FCC49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22EDC-7198-4911-B997-F28EE92F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CF105-321D-4173-8B54-512B9148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2544D-0605-479B-A20D-0DDC66D3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F1D-AC06-4187-83CE-80060A44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2EBA7-CD78-4988-9E44-65435AA4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FA81E-B83B-419D-8B29-81671897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4CA2F-6DAB-4199-9AA4-D5199B07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29115-4ED8-4D61-8AC6-227259AD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85C2D-BF60-4BCB-8400-0C496A14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BDA5D-89AF-47B5-B340-D73C7DB6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49378-03EF-4B61-A5EE-BED0FA1A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593D6-BE44-4B3F-94FA-3EF7075D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751A1-8DB6-4D94-8380-E4A2F899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D620C-2385-4696-87A5-4520D77D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56F4-FA0F-40B6-8E2E-80697C64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9FB88-D3AD-4A72-806C-8DB7E8E2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0C2B3-F4F7-4DA5-B62F-BEA6CDFD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DD4F0-374F-4F9B-B761-68A62052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1D3DB-81F2-4FEE-85C9-BC366239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DD68E-33A8-4E82-817D-6830141E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B56A9-B734-40F2-AFDE-A6B58C8B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16149-3382-414D-9DEC-FA638E47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F1003-E931-4AC8-949D-723D2791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7953E-72C1-4CBF-A50B-FA46DB30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024B-271A-404F-99EC-FF5B5B4C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93BD-B32D-4488-AA0A-4DE10BC5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DA48-D414-42D8-8EAF-A81A04F1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5B7F-11BF-4F09-AFCE-F83557C7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A030-A8A9-403C-85B7-31E2B1BA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A164-4836-47CC-A94A-9D63D2A8D6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7C26-EA96-4F7F-96ED-AC022B9215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EEA4-FEDB-4B4B-AC27-05EE5F2F3B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6CE5-C3D6-4916-819B-4BDB86A1014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79280" y="115920"/>
            <a:ext cx="8856720" cy="65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ccff"/>
                </a:solidFill>
                <a:latin typeface="Comic Sans MS"/>
              </a:rPr>
              <a:t>Masculine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feminine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nata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pinceau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clou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baguet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cuilleré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balle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couloi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59280" y="1844640"/>
            <a:ext cx="576000" cy="5763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2987640" y="1052640"/>
            <a:ext cx="576360" cy="57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3419640" y="2708280"/>
            <a:ext cx="576000" cy="5763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500280"/>
            <a:ext cx="57636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2987640" y="4292640"/>
            <a:ext cx="57636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3203640" y="5157720"/>
            <a:ext cx="576360" cy="5763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3203640" y="5950080"/>
            <a:ext cx="576360" cy="576000"/>
          </a:xfrm>
          <a:prstGeom prst="ellipse">
            <a:avLst/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651640" y="1052640"/>
            <a:ext cx="936360" cy="637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580000" y="17715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5219640" y="2637000"/>
            <a:ext cx="604800" cy="696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5724360" y="3357720"/>
            <a:ext cx="628920" cy="933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 flipH="1">
            <a:off x="6372360" y="3716280"/>
            <a:ext cx="720720" cy="217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5651640" y="4367160"/>
            <a:ext cx="936360" cy="507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5435640" y="5084640"/>
            <a:ext cx="758880" cy="8240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5435640" y="6021360"/>
            <a:ext cx="102384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12-05T09:25:27Z</dcterms:modified>
  <cp:revision>63</cp:revision>
  <dc:subject/>
  <dc:title>Slide 1</dc:title>
</cp:coreProperties>
</file>