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2B8-625B-4D4C-AD67-46B41B12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B9D-0743-4493-BC1B-D7D933C2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204-2F77-4A59-A275-36AA59B9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FD3-3AAF-4114-A66E-771160D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B69-2D5C-477B-9A5C-2426A5E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998-D20D-41B3-B98C-C7F0FA5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C6E-71BE-4847-9268-AA034CB8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44B-2B3A-492C-ABF9-EADB53B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7FC-FF29-4037-8E16-27A0159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E2A-273C-4ADB-B0C0-4351F83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28C-207B-4B67-9DB6-B4DD225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43C-B0DE-4557-8625-9966BBD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35C0-1111-4F46-8161-72264AF8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e bonhomme de pain d’ép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59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719400">
            <a:off x="6587640" y="5300640"/>
            <a:ext cx="1040040" cy="124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476280"/>
            <a:ext cx="3817800" cy="2160720"/>
          </a:xfrm>
          <a:prstGeom prst="wedgeRoundRectCallout">
            <a:avLst>
              <a:gd name="adj1" fmla="val 13203"/>
              <a:gd name="adj2" fmla="val 166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89000"/>
            <a:ext cx="3635280" cy="1295280"/>
          </a:xfrm>
          <a:prstGeom prst="wedgeRoundRectCallout">
            <a:avLst>
              <a:gd name="adj1" fmla="val -35282"/>
              <a:gd name="adj2" fmla="val 171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jour Monsieur le Ren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92720" y="907920"/>
            <a:ext cx="3168720" cy="1366920"/>
          </a:xfrm>
          <a:prstGeom prst="wedgeRoundRectCallout">
            <a:avLst>
              <a:gd name="adj1" fmla="val -109671"/>
              <a:gd name="adj2" fmla="val 1060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parl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 ren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189000"/>
            <a:ext cx="3818160" cy="2160360"/>
          </a:xfrm>
          <a:prstGeom prst="wedgeRoundRectCallout">
            <a:avLst>
              <a:gd name="adj1" fmla="val -6342"/>
              <a:gd name="adj2" fmla="val 765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189000"/>
            <a:ext cx="3529080" cy="1727280"/>
          </a:xfrm>
          <a:prstGeom prst="wedgeRoundRectCallout">
            <a:avLst>
              <a:gd name="adj1" fmla="val -3439"/>
              <a:gd name="adj2" fmla="val 106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s je ne peux pas traverser la riviè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49360"/>
            <a:ext cx="3240000" cy="1727280"/>
          </a:xfrm>
          <a:prstGeom prst="wedgeRoundRectCallout">
            <a:avLst>
              <a:gd name="adj1" fmla="val -115018"/>
              <a:gd name="adj2" fmla="val 943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veux t’aider.  Monte sur ma tê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flipH="1" rot="240000">
            <a:off x="3632040" y="335880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279440" cy="1536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monte sur la tête du ren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 rot="2239800">
            <a:off x="3635280" y="292356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9072000">
            <a:off x="2626920" y="1700280"/>
            <a:ext cx="1279440" cy="1536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620640"/>
            <a:ext cx="2880000" cy="1727280"/>
          </a:xfrm>
          <a:prstGeom prst="wedgeRoundRectCallout">
            <a:avLst>
              <a:gd name="adj1" fmla="val -85444"/>
              <a:gd name="adj2" fmla="val 169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te mange!  Miam mi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 revo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e bonhomme de pain d’ép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47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5688000" y="2349360"/>
            <a:ext cx="1924200" cy="551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549360"/>
            <a:ext cx="3240000" cy="1368360"/>
          </a:xfrm>
          <a:prstGeom prst="wedgeRoundRectCallout">
            <a:avLst>
              <a:gd name="adj1" fmla="val -46912"/>
              <a:gd name="adj2" fmla="val 106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m’appelle Mme. Lemo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661000"/>
            <a:ext cx="648036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me. Lemoine prépare un bonhomme de pain d’ép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63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724360" y="1052640"/>
            <a:ext cx="1460520" cy="175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1052640"/>
            <a:ext cx="1872000" cy="863640"/>
          </a:xfrm>
          <a:prstGeom prst="wedgeRoundRectCallout">
            <a:avLst>
              <a:gd name="adj1" fmla="val -52375"/>
              <a:gd name="adj2" fmla="val 1404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n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260280"/>
            <a:ext cx="1727280" cy="863640"/>
          </a:xfrm>
          <a:prstGeom prst="wedgeRoundRectCallout">
            <a:avLst>
              <a:gd name="adj1" fmla="val -52481"/>
              <a:gd name="adj2" fmla="val 9154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va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5661000"/>
            <a:ext cx="648036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s’échap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2955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616200" cy="398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-1260360" y="907920"/>
            <a:ext cx="4092480" cy="484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03640" y="4184640"/>
            <a:ext cx="5929200" cy="2857680"/>
          </a:xfrm>
          <a:custGeom>
            <a:avLst/>
            <a:gdLst/>
            <a:ahLst/>
            <a:rect l="l" t="t" r="r" b="b"/>
            <a:pathLst>
              <a:path w="3735" h="1800">
                <a:moveTo>
                  <a:pt x="3379" y="68"/>
                </a:moveTo>
                <a:cubicBezTo>
                  <a:pt x="3273" y="128"/>
                  <a:pt x="3160" y="310"/>
                  <a:pt x="3062" y="386"/>
                </a:cubicBezTo>
                <a:cubicBezTo>
                  <a:pt x="2964" y="462"/>
                  <a:pt x="2964" y="492"/>
                  <a:pt x="2790" y="522"/>
                </a:cubicBezTo>
                <a:cubicBezTo>
                  <a:pt x="2616" y="552"/>
                  <a:pt x="2291" y="514"/>
                  <a:pt x="2019" y="567"/>
                </a:cubicBezTo>
                <a:cubicBezTo>
                  <a:pt x="1747" y="620"/>
                  <a:pt x="1459" y="680"/>
                  <a:pt x="1157" y="839"/>
                </a:cubicBezTo>
                <a:cubicBezTo>
                  <a:pt x="855" y="998"/>
                  <a:pt x="385" y="1376"/>
                  <a:pt x="204" y="1520"/>
                </a:cubicBezTo>
                <a:cubicBezTo>
                  <a:pt x="23" y="1664"/>
                  <a:pt x="0" y="1663"/>
                  <a:pt x="68" y="1701"/>
                </a:cubicBezTo>
                <a:cubicBezTo>
                  <a:pt x="136" y="1739"/>
                  <a:pt x="379" y="1739"/>
                  <a:pt x="613" y="1747"/>
                </a:cubicBezTo>
                <a:cubicBezTo>
                  <a:pt x="847" y="1755"/>
                  <a:pt x="1285" y="1800"/>
                  <a:pt x="1474" y="1747"/>
                </a:cubicBezTo>
                <a:cubicBezTo>
                  <a:pt x="1663" y="1694"/>
                  <a:pt x="1634" y="1520"/>
                  <a:pt x="1747" y="1429"/>
                </a:cubicBezTo>
                <a:cubicBezTo>
                  <a:pt x="1860" y="1338"/>
                  <a:pt x="1996" y="1293"/>
                  <a:pt x="2155" y="1202"/>
                </a:cubicBezTo>
                <a:cubicBezTo>
                  <a:pt x="2314" y="1111"/>
                  <a:pt x="2518" y="983"/>
                  <a:pt x="2699" y="885"/>
                </a:cubicBezTo>
                <a:cubicBezTo>
                  <a:pt x="2880" y="787"/>
                  <a:pt x="3115" y="696"/>
                  <a:pt x="3243" y="613"/>
                </a:cubicBezTo>
                <a:cubicBezTo>
                  <a:pt x="3371" y="530"/>
                  <a:pt x="3410" y="462"/>
                  <a:pt x="3470" y="386"/>
                </a:cubicBezTo>
                <a:cubicBezTo>
                  <a:pt x="3530" y="310"/>
                  <a:pt x="3568" y="219"/>
                  <a:pt x="3606" y="159"/>
                </a:cubicBezTo>
                <a:cubicBezTo>
                  <a:pt x="3644" y="99"/>
                  <a:pt x="3735" y="46"/>
                  <a:pt x="3697" y="23"/>
                </a:cubicBezTo>
                <a:cubicBezTo>
                  <a:pt x="3659" y="0"/>
                  <a:pt x="3485" y="8"/>
                  <a:pt x="3379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300720" y="2421000"/>
            <a:ext cx="2332080" cy="1940040"/>
            <a:chOff x="6300720" y="2421000"/>
            <a:chExt cx="2332080" cy="1940040"/>
          </a:xfrm>
        </p:grpSpPr>
        <p:sp>
          <p:nvSpPr>
            <p:cNvPr id="82" name=""/>
            <p:cNvSpPr/>
            <p:nvPr/>
          </p:nvSpPr>
          <p:spPr>
            <a:xfrm>
              <a:off x="6536880" y="3418920"/>
              <a:ext cx="1775520" cy="73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6300720" y="2421000"/>
              <a:ext cx="2332080" cy="19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 rot="20988000">
            <a:off x="4140360" y="4076640"/>
            <a:ext cx="1460520" cy="175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380360" y="3645000"/>
            <a:ext cx="54144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1125360"/>
            <a:ext cx="3816360" cy="1727280"/>
          </a:xfrm>
          <a:prstGeom prst="wedgeRoundRectCallout">
            <a:avLst>
              <a:gd name="adj1" fmla="val 37726"/>
              <a:gd name="adj2" fmla="val 1215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3635280" cy="1295280"/>
          </a:xfrm>
          <a:prstGeom prst="wedgeRoundRectCallout">
            <a:avLst>
              <a:gd name="adj1" fmla="val -27597"/>
              <a:gd name="adj2" fmla="val 164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jour Madame la Vac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557360"/>
            <a:ext cx="3313080" cy="1366920"/>
          </a:xfrm>
          <a:prstGeom prst="wedgeRoundRectCallout">
            <a:avLst>
              <a:gd name="adj1" fmla="val -83875"/>
              <a:gd name="adj2" fmla="val 1526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mang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e v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604800">
            <a:off x="7092720" y="4436640"/>
            <a:ext cx="1039680" cy="124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476280"/>
            <a:ext cx="3817800" cy="2160720"/>
          </a:xfrm>
          <a:prstGeom prst="wedgeRoundRectCallout">
            <a:avLst>
              <a:gd name="adj1" fmla="val 24305"/>
              <a:gd name="adj2" fmla="val 12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981000"/>
            <a:ext cx="3635640" cy="1295640"/>
          </a:xfrm>
          <a:prstGeom prst="wedgeRoundRectCallout">
            <a:avLst>
              <a:gd name="adj1" fmla="val -6115"/>
              <a:gd name="adj2" fmla="val 2004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jour Monsieur le Che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92720" y="907920"/>
            <a:ext cx="3311640" cy="1366920"/>
          </a:xfrm>
          <a:prstGeom prst="wedgeRoundRectCallout">
            <a:avLst>
              <a:gd name="adj1" fmla="val -97939"/>
              <a:gd name="adj2" fmla="val 128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mang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 che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493200">
            <a:off x="7093080" y="436536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88000" y="476280"/>
            <a:ext cx="3817800" cy="2160720"/>
          </a:xfrm>
          <a:prstGeom prst="wedgeRoundRectCallout">
            <a:avLst>
              <a:gd name="adj1" fmla="val 24305"/>
              <a:gd name="adj2" fmla="val 12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5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104004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981000"/>
            <a:ext cx="3635640" cy="1295640"/>
          </a:xfrm>
          <a:prstGeom prst="wedgeRoundRectCallout">
            <a:avLst>
              <a:gd name="adj1" fmla="val -35282"/>
              <a:gd name="adj2" fmla="val 1605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jour Monsieur le Fermi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92720" y="907920"/>
            <a:ext cx="3311640" cy="1366920"/>
          </a:xfrm>
          <a:prstGeom prst="wedgeRoundRectCallout">
            <a:avLst>
              <a:gd name="adj1" fmla="val -81111"/>
              <a:gd name="adj2" fmla="val 1302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mang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 ferm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20:34:13Z</dcterms:created>
  <dc:creator>Clare</dc:creator>
  <dc:description/>
  <dc:language>en-US</dc:language>
  <cp:lastModifiedBy>Clare</cp:lastModifiedBy>
  <dcterms:modified xsi:type="dcterms:W3CDTF">2013-01-25T10:00:21Z</dcterms:modified>
  <cp:revision>29</cp:revision>
  <dc:subject/>
  <dc:title>Slide 1</dc:title>
</cp:coreProperties>
</file>