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wmf" ContentType="image/x-wmf"/>
  <Override PartName="/ppt/media/image22.jpeg" ContentType="image/jpeg"/>
  <Override PartName="/ppt/media/image14.png" ContentType="image/png"/>
  <Override PartName="/ppt/media/image2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6AE-7774-4A3D-B30C-B6FAA37A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E90-51F6-4492-A7AB-47F1286C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D89-EF7D-4544-8DB9-EB2E1231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D3E-B2EE-437F-82A7-5AA4CC69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AF0-3114-430E-88E6-311C5D73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634-470B-4BD8-91BB-FFFA5FF4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E3E-9935-4DA9-A167-4E5ECEE4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210-4D7C-45F0-9936-B1C484B9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6A3-CB63-4B35-B1D4-56BD4DC0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0D4-1CEF-4879-80AA-7FF9C0DB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506-2597-495E-A62F-F69E24A3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6BB-7550-4D9E-A175-455F0711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1648-5081-4036-80C4-895E32ABF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97360" cy="46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4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Le bonhomme de pain d’ép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6524640"/>
            <a:ext cx="65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7059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719400">
            <a:off x="6587640" y="5300640"/>
            <a:ext cx="1040040" cy="1249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843280" y="2276640"/>
            <a:ext cx="2128680" cy="3678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88000" y="476280"/>
            <a:ext cx="3817800" cy="2160720"/>
          </a:xfrm>
          <a:prstGeom prst="wedgeRoundRectCallout">
            <a:avLst>
              <a:gd name="adj1" fmla="val 13203"/>
              <a:gd name="adj2" fmla="val 166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cours comme l’éclair et tu ne me rattraperas p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1039680" cy="1249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189000"/>
            <a:ext cx="3635280" cy="1295280"/>
          </a:xfrm>
          <a:prstGeom prst="wedgeRoundRectCallout">
            <a:avLst>
              <a:gd name="adj1" fmla="val -35282"/>
              <a:gd name="adj2" fmla="val 171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jour Monsieur le Ren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flipH="1">
            <a:off x="2700000" y="1415880"/>
            <a:ext cx="2592360" cy="2548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92720" y="907920"/>
            <a:ext cx="3168720" cy="1366920"/>
          </a:xfrm>
          <a:prstGeom prst="wedgeRoundRectCallout">
            <a:avLst>
              <a:gd name="adj1" fmla="val -109671"/>
              <a:gd name="adj2" fmla="val 10609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ête!  Je veux te parl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onhomme de pain d’épice court et court et court.  Il rencontre un ren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flipH="1">
            <a:off x="2700000" y="1415880"/>
            <a:ext cx="2592360" cy="254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9280" y="189000"/>
            <a:ext cx="3818160" cy="2160360"/>
          </a:xfrm>
          <a:prstGeom prst="wedgeRoundRectCallout">
            <a:avLst>
              <a:gd name="adj1" fmla="val -6342"/>
              <a:gd name="adj2" fmla="val 7652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cours comme l’éclair et tu ne me rattraperas p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 flipH="1">
            <a:off x="2700000" y="1415880"/>
            <a:ext cx="2592360" cy="2548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189000"/>
            <a:ext cx="3529080" cy="1727280"/>
          </a:xfrm>
          <a:prstGeom prst="wedgeRoundRectCallout">
            <a:avLst>
              <a:gd name="adj1" fmla="val -3439"/>
              <a:gd name="adj2" fmla="val 1068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s je ne peux pas traverser la riviè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549360"/>
            <a:ext cx="3240000" cy="1727280"/>
          </a:xfrm>
          <a:prstGeom prst="wedgeRoundRectCallout">
            <a:avLst>
              <a:gd name="adj1" fmla="val -115018"/>
              <a:gd name="adj2" fmla="val 943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veux t’aider.  Monte sur ma tê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flipH="1" rot="240000">
            <a:off x="3632040" y="3358800"/>
            <a:ext cx="3457800" cy="3397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08360" y="3429000"/>
            <a:ext cx="1279440" cy="1536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onhomme de pain d’épice monte sur la tête du ren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flipH="1" rot="2239800">
            <a:off x="3635280" y="2923560"/>
            <a:ext cx="3457800" cy="3397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9072000">
            <a:off x="2626920" y="1700280"/>
            <a:ext cx="1279440" cy="1536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67280" y="620640"/>
            <a:ext cx="2880000" cy="1727280"/>
          </a:xfrm>
          <a:prstGeom prst="wedgeRoundRectCallout">
            <a:avLst>
              <a:gd name="adj1" fmla="val -85444"/>
              <a:gd name="adj2" fmla="val 169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te mange!  Miam mi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 revo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97360" cy="4681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54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Le bonhomme de pain d’ép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6524640"/>
            <a:ext cx="65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0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541440" y="1916280"/>
            <a:ext cx="26002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4032000" y="2276280"/>
            <a:ext cx="5112000" cy="3311640"/>
            <a:chOff x="4032000" y="2276280"/>
            <a:chExt cx="5112000" cy="3311640"/>
          </a:xfrm>
        </p:grpSpPr>
        <p:sp>
          <p:nvSpPr>
            <p:cNvPr id="47" name=""/>
            <p:cNvSpPr/>
            <p:nvPr/>
          </p:nvSpPr>
          <p:spPr>
            <a:xfrm>
              <a:off x="8064000" y="2338920"/>
              <a:ext cx="287640" cy="2436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24000" y="2338920"/>
              <a:ext cx="287640" cy="2436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800000">
              <a:off x="4032000" y="2275920"/>
              <a:ext cx="5111640" cy="874440"/>
            </a:xfrm>
            <a:custGeom>
              <a:avLst/>
              <a:gdLst>
                <a:gd name="textAreaLeft" fmla="*/ 877320 w 5111640"/>
                <a:gd name="textAreaRight" fmla="*/ 4234320 w 5111640"/>
                <a:gd name="textAreaTop" fmla="*/ 150120 h 874440"/>
                <a:gd name="textAreaBottom" fmla="*/ 724320 h 87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76" y="21600"/>
                  </a:lnTo>
                  <a:lnTo>
                    <a:pt x="3524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32360" y="3151080"/>
              <a:ext cx="5111640" cy="187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2360" y="3338640"/>
              <a:ext cx="287640" cy="2249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56000" y="3338640"/>
              <a:ext cx="287640" cy="2249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2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4824360" y="-316080"/>
            <a:ext cx="3527640" cy="257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10800000">
            <a:off x="5256360" y="2349360"/>
            <a:ext cx="2808000" cy="648000"/>
          </a:xfrm>
          <a:custGeom>
            <a:avLst/>
            <a:gdLst>
              <a:gd name="textAreaLeft" fmla="*/ 522000 w 2808000"/>
              <a:gd name="textAreaRight" fmla="*/ 2286000 w 2808000"/>
              <a:gd name="textAreaTop" fmla="*/ 120240 h 648000"/>
              <a:gd name="textAreaBottom" fmla="*/ 52776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22" y="21600"/>
                </a:lnTo>
                <a:lnTo>
                  <a:pt x="4078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5688000" y="2349360"/>
            <a:ext cx="1924200" cy="551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03280" y="549360"/>
            <a:ext cx="3240000" cy="1368360"/>
          </a:xfrm>
          <a:prstGeom prst="wedgeRoundRectCallout">
            <a:avLst>
              <a:gd name="adj1" fmla="val -46912"/>
              <a:gd name="adj2" fmla="val 106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m’appelle Mme. Lemo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5661000"/>
            <a:ext cx="648036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me. Lemoine prépare un bonhomme de pain d’ép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0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541440" y="1916280"/>
            <a:ext cx="26002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032000" y="2276280"/>
            <a:ext cx="5112000" cy="3311640"/>
            <a:chOff x="4032000" y="2276280"/>
            <a:chExt cx="5112000" cy="3311640"/>
          </a:xfrm>
        </p:grpSpPr>
        <p:sp>
          <p:nvSpPr>
            <p:cNvPr id="63" name=""/>
            <p:cNvSpPr/>
            <p:nvPr/>
          </p:nvSpPr>
          <p:spPr>
            <a:xfrm>
              <a:off x="8064000" y="2338920"/>
              <a:ext cx="287640" cy="2436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24000" y="2338920"/>
              <a:ext cx="287640" cy="2436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4032000" y="2275920"/>
              <a:ext cx="5111640" cy="874440"/>
            </a:xfrm>
            <a:custGeom>
              <a:avLst/>
              <a:gdLst>
                <a:gd name="textAreaLeft" fmla="*/ 877320 w 5111640"/>
                <a:gd name="textAreaRight" fmla="*/ 4234320 w 5111640"/>
                <a:gd name="textAreaTop" fmla="*/ 150120 h 874440"/>
                <a:gd name="textAreaBottom" fmla="*/ 724320 h 87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76" y="21600"/>
                  </a:lnTo>
                  <a:lnTo>
                    <a:pt x="3524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2360" y="3151080"/>
              <a:ext cx="5111640" cy="187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2360" y="3338640"/>
              <a:ext cx="287640" cy="2249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56000" y="3338640"/>
              <a:ext cx="287640" cy="2249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2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6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4824360" y="-316080"/>
            <a:ext cx="3527640" cy="2575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0800000">
            <a:off x="5256360" y="2349360"/>
            <a:ext cx="2808000" cy="648000"/>
          </a:xfrm>
          <a:custGeom>
            <a:avLst/>
            <a:gdLst>
              <a:gd name="textAreaLeft" fmla="*/ 522000 w 2808000"/>
              <a:gd name="textAreaRight" fmla="*/ 2286000 w 2808000"/>
              <a:gd name="textAreaTop" fmla="*/ 120240 h 648000"/>
              <a:gd name="textAreaBottom" fmla="*/ 52776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22" y="21600"/>
                </a:lnTo>
                <a:lnTo>
                  <a:pt x="4078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5724360" y="1052640"/>
            <a:ext cx="1460520" cy="1753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47640" y="1052640"/>
            <a:ext cx="1872000" cy="863640"/>
          </a:xfrm>
          <a:prstGeom prst="wedgeRoundRectCallout">
            <a:avLst>
              <a:gd name="adj1" fmla="val -52375"/>
              <a:gd name="adj2" fmla="val 1404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n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260280"/>
            <a:ext cx="1727280" cy="863640"/>
          </a:xfrm>
          <a:prstGeom prst="wedgeRoundRectCallout">
            <a:avLst>
              <a:gd name="adj1" fmla="val -52481"/>
              <a:gd name="adj2" fmla="val 9154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va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360" y="5661000"/>
            <a:ext cx="648036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onhomme de pain d’épice s’échapp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2955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616200" cy="3981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-1260360" y="907920"/>
            <a:ext cx="4092480" cy="4846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03640" y="4184640"/>
            <a:ext cx="5929200" cy="2857680"/>
          </a:xfrm>
          <a:custGeom>
            <a:avLst/>
            <a:gdLst/>
            <a:ahLst/>
            <a:rect l="l" t="t" r="r" b="b"/>
            <a:pathLst>
              <a:path w="3735" h="1800">
                <a:moveTo>
                  <a:pt x="3379" y="68"/>
                </a:moveTo>
                <a:cubicBezTo>
                  <a:pt x="3273" y="128"/>
                  <a:pt x="3160" y="310"/>
                  <a:pt x="3062" y="386"/>
                </a:cubicBezTo>
                <a:cubicBezTo>
                  <a:pt x="2964" y="462"/>
                  <a:pt x="2964" y="492"/>
                  <a:pt x="2790" y="522"/>
                </a:cubicBezTo>
                <a:cubicBezTo>
                  <a:pt x="2616" y="552"/>
                  <a:pt x="2291" y="514"/>
                  <a:pt x="2019" y="567"/>
                </a:cubicBezTo>
                <a:cubicBezTo>
                  <a:pt x="1747" y="620"/>
                  <a:pt x="1459" y="680"/>
                  <a:pt x="1157" y="839"/>
                </a:cubicBezTo>
                <a:cubicBezTo>
                  <a:pt x="855" y="998"/>
                  <a:pt x="385" y="1376"/>
                  <a:pt x="204" y="1520"/>
                </a:cubicBezTo>
                <a:cubicBezTo>
                  <a:pt x="23" y="1664"/>
                  <a:pt x="0" y="1663"/>
                  <a:pt x="68" y="1701"/>
                </a:cubicBezTo>
                <a:cubicBezTo>
                  <a:pt x="136" y="1739"/>
                  <a:pt x="379" y="1739"/>
                  <a:pt x="613" y="1747"/>
                </a:cubicBezTo>
                <a:cubicBezTo>
                  <a:pt x="847" y="1755"/>
                  <a:pt x="1285" y="1800"/>
                  <a:pt x="1474" y="1747"/>
                </a:cubicBezTo>
                <a:cubicBezTo>
                  <a:pt x="1663" y="1694"/>
                  <a:pt x="1634" y="1520"/>
                  <a:pt x="1747" y="1429"/>
                </a:cubicBezTo>
                <a:cubicBezTo>
                  <a:pt x="1860" y="1338"/>
                  <a:pt x="1996" y="1293"/>
                  <a:pt x="2155" y="1202"/>
                </a:cubicBezTo>
                <a:cubicBezTo>
                  <a:pt x="2314" y="1111"/>
                  <a:pt x="2518" y="983"/>
                  <a:pt x="2699" y="885"/>
                </a:cubicBezTo>
                <a:cubicBezTo>
                  <a:pt x="2880" y="787"/>
                  <a:pt x="3115" y="696"/>
                  <a:pt x="3243" y="613"/>
                </a:cubicBezTo>
                <a:cubicBezTo>
                  <a:pt x="3371" y="530"/>
                  <a:pt x="3410" y="462"/>
                  <a:pt x="3470" y="386"/>
                </a:cubicBezTo>
                <a:cubicBezTo>
                  <a:pt x="3530" y="310"/>
                  <a:pt x="3568" y="219"/>
                  <a:pt x="3606" y="159"/>
                </a:cubicBezTo>
                <a:cubicBezTo>
                  <a:pt x="3644" y="99"/>
                  <a:pt x="3735" y="46"/>
                  <a:pt x="3697" y="23"/>
                </a:cubicBezTo>
                <a:cubicBezTo>
                  <a:pt x="3659" y="0"/>
                  <a:pt x="3485" y="8"/>
                  <a:pt x="3379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300720" y="2421000"/>
            <a:ext cx="2332080" cy="1940040"/>
            <a:chOff x="6300720" y="2421000"/>
            <a:chExt cx="2332080" cy="1940040"/>
          </a:xfrm>
        </p:grpSpPr>
        <p:sp>
          <p:nvSpPr>
            <p:cNvPr id="82" name=""/>
            <p:cNvSpPr/>
            <p:nvPr/>
          </p:nvSpPr>
          <p:spPr>
            <a:xfrm>
              <a:off x="6536880" y="3418920"/>
              <a:ext cx="1775520" cy="73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6300720" y="2421000"/>
              <a:ext cx="2332080" cy="194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 rot="20988000">
            <a:off x="4140360" y="4076640"/>
            <a:ext cx="1460520" cy="1754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7380360" y="3645000"/>
            <a:ext cx="541440" cy="1079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1125360"/>
            <a:ext cx="3816360" cy="1727280"/>
          </a:xfrm>
          <a:prstGeom prst="wedgeRoundRectCallout">
            <a:avLst>
              <a:gd name="adj1" fmla="val 37726"/>
              <a:gd name="adj2" fmla="val 12150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cours comme l’éclair et tu ne me rattraperas p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3529080" cy="2822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413000"/>
            <a:ext cx="3635280" cy="1295280"/>
          </a:xfrm>
          <a:prstGeom prst="wedgeRoundRectCallout">
            <a:avLst>
              <a:gd name="adj1" fmla="val -27597"/>
              <a:gd name="adj2" fmla="val 1647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jour Madame la Vac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1557360"/>
            <a:ext cx="3313080" cy="1366920"/>
          </a:xfrm>
          <a:prstGeom prst="wedgeRoundRectCallout">
            <a:avLst>
              <a:gd name="adj1" fmla="val -83875"/>
              <a:gd name="adj2" fmla="val 1526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ête!  Je veux te mang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onhomme de pain d’épice court et court et court.  Il rencontre une va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604800">
            <a:off x="7092720" y="4436640"/>
            <a:ext cx="1039680" cy="1249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771640" y="3357720"/>
            <a:ext cx="3529080" cy="2822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88000" y="476280"/>
            <a:ext cx="3817800" cy="2160720"/>
          </a:xfrm>
          <a:prstGeom prst="wedgeRoundRectCallout">
            <a:avLst>
              <a:gd name="adj1" fmla="val 24305"/>
              <a:gd name="adj2" fmla="val 129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cours comme l’éclair et tu ne me rattraperas p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32000" y="4292640"/>
            <a:ext cx="1039680" cy="124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9280" y="981000"/>
            <a:ext cx="3635640" cy="1295640"/>
          </a:xfrm>
          <a:prstGeom prst="wedgeRoundRectCallout">
            <a:avLst>
              <a:gd name="adj1" fmla="val -6115"/>
              <a:gd name="adj2" fmla="val 2004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jour Monsieur le Chev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92720" y="907920"/>
            <a:ext cx="3311640" cy="1366920"/>
          </a:xfrm>
          <a:prstGeom prst="wedgeRoundRectCallout">
            <a:avLst>
              <a:gd name="adj1" fmla="val -97939"/>
              <a:gd name="adj2" fmla="val 128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ête!  Je veux te mang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onhomme de pain d’épice court et court et court.  Il rencontre un che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493200">
            <a:off x="7093080" y="436536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88000" y="476280"/>
            <a:ext cx="3817800" cy="2160720"/>
          </a:xfrm>
          <a:prstGeom prst="wedgeRoundRectCallout">
            <a:avLst>
              <a:gd name="adj1" fmla="val 24305"/>
              <a:gd name="adj2" fmla="val 129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cours comme l’éclair et tu ne me rattraperas p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7059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1040040" cy="1249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981000"/>
            <a:ext cx="3635640" cy="1295640"/>
          </a:xfrm>
          <a:prstGeom prst="wedgeRoundRectCallout">
            <a:avLst>
              <a:gd name="adj1" fmla="val -35282"/>
              <a:gd name="adj2" fmla="val 1605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jour Monsieur le Fermi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843280" y="2276640"/>
            <a:ext cx="2128680" cy="3678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292720" y="907920"/>
            <a:ext cx="3311640" cy="1366920"/>
          </a:xfrm>
          <a:prstGeom prst="wedgeRoundRectCallout">
            <a:avLst>
              <a:gd name="adj1" fmla="val -81111"/>
              <a:gd name="adj2" fmla="val 1302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ête!  Je veux te mang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bonhomme de pain d’épice court et court et court.  Il rencontre un ferm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20:34:13Z</dcterms:created>
  <dc:creator>Clare</dc:creator>
  <dc:description/>
  <dc:language>en-US</dc:language>
  <cp:lastModifiedBy>Clare</cp:lastModifiedBy>
  <dcterms:modified xsi:type="dcterms:W3CDTF">2013-01-25T10:00:21Z</dcterms:modified>
  <cp:revision>29</cp:revision>
  <dc:subject/>
  <dc:title>Slide 1</dc:title>
</cp:coreProperties>
</file>