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3F1-8932-4050-8F8E-4CA9325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39E-63E7-4171-8BA2-BF4A9028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EE3-A5BA-4EAF-ADDB-D20A9981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5C8-05EE-4CBB-A11F-7785C546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D65-ED5E-46DF-986C-A0CE4B21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FCCC-A2E9-4AD9-8FF8-8EEBCA55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5E1-6002-4005-825E-2F1CC45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5652-16E1-49E4-A9E4-5585CF3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EA94-6208-4933-84FF-20B67ABD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495-D24A-4EE6-9374-A729D7D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9858-2587-4D01-B501-BEDAA1D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2EF-5184-4F1E-B2E5-970C8416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CF57-23CF-47AE-8272-084E1BA8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67E-A33B-43FE-81FE-CD1E9F0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82FA-7B1C-4FE5-99D8-C19F8182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3CB-372E-4AA8-8343-E8CE0799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1D90-A8FC-4E25-9303-E74C7664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BEDD-194D-48FA-99FB-057FD623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8B04-3611-4278-9A53-2C41314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2FF8-0B11-45F8-BC06-4BCBE461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93E5-053A-4B1D-896F-7BF3426D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6F84-9522-42F0-85ED-FE6188D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339-F6FD-47FA-8381-2BA1220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9C45-E2F2-4A05-B056-62C8FF28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9ADE-D6F9-4E93-9C80-0E8D20D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D5BD-672E-49D6-9810-842036EB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FA6C-9686-456A-9CB2-3C206360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CD82-7266-4404-8D38-52800B53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34AE-20F0-4CE0-B6AD-6BB8A13E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F468-C503-4404-B364-34183A42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35ED1-76E0-4889-9950-ADA02496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1420-2F09-4678-94A5-FEE5DD1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A4CD-F1A4-4E2E-875B-DBDEA2D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745-37A2-4132-9877-34D27DC8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628E-01AA-43EC-90CD-3789B42E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A156-5EBB-4978-A000-C5AE640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9D0B-9677-4A58-B872-22F0ABD0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B893-980C-4D43-AF10-B77AC04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70D5-7553-467A-946F-FB3F671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E2F9-E08E-4AE0-A0CE-30294F8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2509-9A06-4F14-9753-45E7523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BCFF-B6E0-44F4-AE85-325D2A1A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064F-9650-4ED7-BA91-B04E79D7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6C4-1ECE-4E4B-8E74-250AEA6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F67-445A-4EBE-AD5D-03D6FC5D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773-D9EC-4353-8DAF-82437A1F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3F3-8D63-4136-BD77-03DCF8F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801-2D33-4ADB-892D-189A8A0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75B-5305-4CE0-BC5E-136C153BA2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41F-47F2-49FF-B44D-8F4D02FBC0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CD6-5546-4AFA-B52B-FC548AC438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0EF-1446-4E8C-AD01-9B0EC7D9638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35280" y="333360"/>
            <a:ext cx="4537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raigné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hâteau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planè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égli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télé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fusé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étoi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276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197000"/>
            <a:ext cx="4753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hange the sound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é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“ay”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fusé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è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“air”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pè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ç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“s”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197000"/>
            <a:ext cx="640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hange the meaning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la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l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u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û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erme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ermé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206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a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 / to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060720" y="28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716280"/>
            <a:ext cx="10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a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371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ip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450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ar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os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1197000"/>
            <a:ext cx="6408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show you what words used to be in old French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hôpi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orê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conquê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tempê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plât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12-05T09:24:48Z</dcterms:modified>
  <cp:revision>62</cp:revision>
  <dc:subject/>
  <dc:title>Slide 1</dc:title>
</cp:coreProperties>
</file>