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7635-7B5B-4FED-ABDC-05DEF17E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108-3FE5-4815-9CD1-C40CA3FC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BACA-6C99-4D7D-B712-2F71D90B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6D72-5ED3-4FE4-9EED-9DEEFFC8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A72C-D5AA-4DC2-95D4-50D170B8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AE67-7B02-4B4A-9FE0-2E216A22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72FC-3E7D-4257-B67C-4F74BCAF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6104-BA6C-463E-854F-939FF893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9AC1-83A8-4767-98A6-765138A7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A465-F0B5-4B1A-9299-5F4063A7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9DF9-D315-437C-BBF3-AA59BA0C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D81D-2D78-480E-9B88-7F6E54FF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A113-1E51-4D5A-935E-9C7E2EA1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4F40-81AF-4A2B-B77C-A1F7D3FC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04C7-4EAC-4812-B3D2-D2309720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2AE9-56B8-43FD-AFC7-4D388A3C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C51D-4E34-40A3-9B2D-F4A07953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2ACDB-A7F9-4089-ABA3-FB258ACE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DBD1C-FB74-4BD1-BAE9-9D19BA3A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114CC-2AF9-4A28-B3D2-22FA40AF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7115F-7EB7-4208-84DD-8D2F8AD5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FAC6E-4189-4A85-926F-5DB6565D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02E-6B3D-47B8-8D0E-97561417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6028B-C3DA-4073-898E-30CA2A90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0A264-EE2E-42B1-B120-A6EAB398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03C6B-4D2B-4731-93A8-69BC199A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EA9AD-4A8D-496A-B619-71537122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62610-DC87-49E9-9C13-CE3AA05A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B79F3-4DDA-41CA-A64F-451BBE71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8A70E-FE29-40F3-BF8E-A53D98AB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42153-CF44-4B15-B510-AFC3F173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15566-31F0-4D9D-AA1C-9DB282D3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A39B5-DD51-42A4-840E-5F221790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7D84-E135-4F5A-B791-9D96A6CD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50F24-7AE4-441E-BB42-3FD4BD93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AE4B2-774B-471C-A9A4-3B801933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61916-82B3-41CC-8442-FF58DCCE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A5FD2-8A9C-4DB6-83FB-A1C75B2D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DFA1B-B509-430B-BD3A-76C5E31C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AF594-B2DA-4684-A3D1-847F9AFB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841E6-89D7-4301-B861-A2525285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EF2B8-2CA7-4CBF-8ADC-EE417B27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0638E-9F82-48E9-8FFB-0759C9E7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EB71-044F-401E-AF5F-646691CC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2F4-FE92-461F-A20C-033497D7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269E-8715-46F9-AD7E-0F729621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7AA-0C5D-4D84-9295-2A9C8FA1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4479-22D7-4A25-BBBC-389BB50E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9D1E-735F-4338-B132-CA60762F50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36B4-F7A8-46E7-8BB2-8A8DB93FA0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06C8-9215-4FB8-B9CB-2653A8A061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DA9A-E55F-4E14-A94C-A5F7825194A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35280" y="333360"/>
            <a:ext cx="45370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araigné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 château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planèt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églis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télévis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fusé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une étoi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227664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accent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Accent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1197000"/>
            <a:ext cx="4753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change the sound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é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“ay”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fusé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è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“air”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pèr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ç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“s”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françai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Accent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1197000"/>
            <a:ext cx="6408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change the meaning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à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la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là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ur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mû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ferme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fermé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2987640" y="2060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a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4859280" y="2060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t / to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3060720" y="2852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2852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r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3492360" y="3716280"/>
            <a:ext cx="10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al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6300720" y="3716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ip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3924360" y="4508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ar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ose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Accent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2411280" y="1197000"/>
            <a:ext cx="64087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show you what words used to be in old French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hôpit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forê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conquê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tempê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plâtr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12-05T09:24:48Z</dcterms:modified>
  <cp:revision>62</cp:revision>
  <dc:subject/>
  <dc:title>Slide 1</dc:title>
</cp:coreProperties>
</file>