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6785-3438-43FB-8600-4C7BC0C901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0475-2A89-46BB-905E-F4D32A700971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4E5C-BC2A-4FA7-B859-35CE82EFCD69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6490-96E7-4068-9474-4127DFDB1FA5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75C5-4305-408C-954F-E777C5687B5D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D93C-9460-4121-9F5C-A93E84749215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ED1B-9FAE-42D0-B5EE-931F35CBF231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7D36-82BA-45FE-93B7-D3290A96D654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4E1F-5564-4649-87B5-58AFCEDB217F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B986-AAD5-4F83-A743-C4229951925C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21A4-C740-4472-919C-80444803B452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7DF-DE5F-403B-ACB3-20447384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C03-34A7-4E56-AD57-3DF26672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33DF-3731-4B98-8515-61BA852F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1909-615A-4487-9983-7E9D12A9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2B9B-5AF5-43E2-8543-160B30F7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29EE-026F-4B67-B609-A1F8512D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6AD0-C224-45BF-81F5-2F318816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839A-8F2E-47AA-921F-671DD689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D842-9290-4475-B361-5169A5AB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09C9-843B-40F4-9BC7-558170AF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5263-D8E2-4DBF-AABE-1BF765AF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B4E9-4CE0-47F8-8429-F73FE5DE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5234-925C-48F3-A721-4CD54B15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EE46-6F32-451F-81C4-AFC63937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FFE1-9153-407C-8127-63500791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74EA-EF5D-4F68-963A-8BAD99E5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820C-97F8-428A-8EC0-D64C1B1A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B0803-B65D-430B-B6C6-9308D57D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1E23E-72D6-4D8E-B19B-F77E8918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10A8D-CE3A-4E69-BF95-949D2979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89294-627B-4AAB-A060-78273EE5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DB5F4-B94F-4E29-8471-634842C8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C7D4-A57B-401F-8F23-B0DE481F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0B354-10DE-4DB3-854C-726C3672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9792B-CF9F-4612-8BAD-A871FC20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5652D-6499-4533-A288-AB9D669F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03E6C-2C7D-4FF6-B021-5749BE1E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75375-5B01-4766-B209-A4053F62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264AA-70DB-4613-BC14-640C4E25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7B964-2246-4943-B15E-5534EA5C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E3C99-1C46-4742-9421-79263272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B4978-6145-484D-9ECA-C617D3F1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C3FB2-A55E-4AB7-8F86-EBB98095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0C4B-6AB3-4EE4-8BD6-3EF2E4E9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E608C-6F3E-4119-B3B7-2D5D6295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1C8B8-4320-4864-99E9-11245F7D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839DC-BF86-4C5C-9EE7-B20CD78B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7A61E-A0CD-437D-9F0F-5D746417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6AEE1-53DE-4A6D-9395-C4E31D1F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EF703-4190-4BE8-A5BD-EE7D0E77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3208E-F643-47D7-80B0-F0519A9F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CB0A6-3998-4576-ABE1-8E1E0BE4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5045C-8FE4-4EA3-BA59-E871C9F8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7340C-E5CF-4C77-BF47-B6DFB888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2567-C91F-48E2-ADBF-DF362DD9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88B2C-E20B-4FB6-9B73-E1959415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60C2C-A9B0-408E-A410-5C90ED29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696B8-DA68-42C8-9D5E-37DCD174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18C83-0208-4FC1-B26A-9A96C9D3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128B5-46A1-4662-B7FE-008B5EBC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DBF59-D7D4-4C67-B670-2B376AEC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766D2-BB83-4359-85C2-7327618F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36C04-88B5-4920-9F7D-FF43F0AB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1237D-7A19-4361-93FD-908DD72B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D1901-7F4B-410E-895D-01C31DBA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4A7-2A17-42F3-9B0A-4A043E89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07A59-E180-4ECB-8AE0-9236BBF8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2B35-C614-4BD1-8D7C-26DC6DCA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654D-1830-4EB1-9A8B-A73BD4D2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8AA2-BEDB-4C13-91C3-BC244909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99FC-D133-43CB-B4B3-7E8DEBC4B4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C736-4327-4051-88E8-F47DF91621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EA14-82B6-4E41-843F-90EFD442D29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C7FA-A851-4C99-96DB-CF8FA3CE49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A40A-4630-46F0-8B3E-56D24EC7AEB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"/>
          <p:cNvSpPr/>
          <p:nvPr/>
        </p:nvSpPr>
        <p:spPr>
          <a:xfrm>
            <a:off x="414360" y="189000"/>
            <a:ext cx="87120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I ca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identify genres of music when I listen to th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ing a French song about musical instru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468360" y="404640"/>
          <a:ext cx="8207280" cy="6096240"/>
        </p:xfrm>
        <a:graphic>
          <a:graphicData uri="http://schemas.openxmlformats.org/drawingml/2006/table">
            <a:tbl>
              <a:tblPr/>
              <a:tblGrid>
                <a:gridCol w="718920"/>
                <a:gridCol w="74883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0" name="Text Box 93"/>
          <p:cNvSpPr/>
          <p:nvPr/>
        </p:nvSpPr>
        <p:spPr>
          <a:xfrm>
            <a:off x="1258920" y="476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la musique ro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94"/>
          <p:cNvSpPr/>
          <p:nvPr/>
        </p:nvSpPr>
        <p:spPr>
          <a:xfrm>
            <a:off x="1258920" y="1197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la musique africa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95"/>
          <p:cNvSpPr/>
          <p:nvPr/>
        </p:nvSpPr>
        <p:spPr>
          <a:xfrm>
            <a:off x="1258920" y="1989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la musique espagno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96"/>
          <p:cNvSpPr/>
          <p:nvPr/>
        </p:nvSpPr>
        <p:spPr>
          <a:xfrm>
            <a:off x="1258920" y="2708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la musique fol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97"/>
          <p:cNvSpPr/>
          <p:nvPr/>
        </p:nvSpPr>
        <p:spPr>
          <a:xfrm>
            <a:off x="1258920" y="3500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la musique classiq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98"/>
          <p:cNvSpPr/>
          <p:nvPr/>
        </p:nvSpPr>
        <p:spPr>
          <a:xfrm>
            <a:off x="1258920" y="42926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la musique regga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99"/>
          <p:cNvSpPr/>
          <p:nvPr/>
        </p:nvSpPr>
        <p:spPr>
          <a:xfrm>
            <a:off x="1258920" y="5013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la musique jaz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00"/>
          <p:cNvSpPr/>
          <p:nvPr/>
        </p:nvSpPr>
        <p:spPr>
          <a:xfrm>
            <a:off x="1258920" y="580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la musique p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6" descr="drum-kit"/>
          <p:cNvPicPr/>
          <p:nvPr/>
        </p:nvPicPr>
        <p:blipFill>
          <a:blip r:embed="rId1"/>
          <a:stretch/>
        </p:blipFill>
        <p:spPr>
          <a:xfrm>
            <a:off x="6012000" y="2997360"/>
            <a:ext cx="2808000" cy="2197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Clarinet"/>
          <p:cNvPicPr/>
          <p:nvPr/>
        </p:nvPicPr>
        <p:blipFill>
          <a:blip r:embed="rId2"/>
          <a:stretch/>
        </p:blipFill>
        <p:spPr>
          <a:xfrm>
            <a:off x="324000" y="3068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0" descr="YAM-YTS280"/>
          <p:cNvPicPr/>
          <p:nvPr/>
        </p:nvPicPr>
        <p:blipFill>
          <a:blip r:embed="rId3"/>
          <a:stretch/>
        </p:blipFill>
        <p:spPr>
          <a:xfrm>
            <a:off x="5076720" y="0"/>
            <a:ext cx="3024360" cy="2104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2" descr="v-piano_grand_angle_open_full_gal"/>
          <p:cNvPicPr/>
          <p:nvPr/>
        </p:nvPicPr>
        <p:blipFill>
          <a:blip r:embed="rId4"/>
          <a:stretch/>
        </p:blipFill>
        <p:spPr>
          <a:xfrm>
            <a:off x="395280" y="0"/>
            <a:ext cx="2171880" cy="223200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2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2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2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0" descr="E%20Quality%20ViolinFR"/>
          <p:cNvPicPr/>
          <p:nvPr/>
        </p:nvPicPr>
        <p:blipFill>
          <a:blip r:embed="rId5"/>
          <a:stretch/>
        </p:blipFill>
        <p:spPr>
          <a:xfrm>
            <a:off x="3132000" y="0"/>
            <a:ext cx="1489320" cy="2232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31"/>
          <p:cNvSpPr/>
          <p:nvPr/>
        </p:nvSpPr>
        <p:spPr>
          <a:xfrm>
            <a:off x="3059280" y="5229360"/>
            <a:ext cx="252072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pia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32"/>
          <p:cNvSpPr/>
          <p:nvPr/>
        </p:nvSpPr>
        <p:spPr>
          <a:xfrm>
            <a:off x="6084720" y="5229360"/>
            <a:ext cx="252108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viol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3"/>
          <p:cNvSpPr/>
          <p:nvPr/>
        </p:nvSpPr>
        <p:spPr>
          <a:xfrm>
            <a:off x="4716360" y="6095880"/>
            <a:ext cx="3059280" cy="143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saxoph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0" y="5229360"/>
            <a:ext cx="291636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clarinet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36"/>
          <p:cNvSpPr/>
          <p:nvPr/>
        </p:nvSpPr>
        <p:spPr>
          <a:xfrm>
            <a:off x="1835280" y="6095880"/>
            <a:ext cx="252072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batter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1 0.00301 L -3.61111E-006 4.07407E-006 E">
                                      <p:cBhvr>
                                        <p:cTn id="104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20259E-006 L -0.31094 -0.45421 E">
                                      <p:cBhvr>
                                        <p:cTn id="108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20259E-006 L -0.37413 -0.44357 E">
                                      <p:cBhvr>
                                        <p:cTn id="112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4444E-006 L 0.46476 -0.12639 E">
                                      <p:cBhvr>
                                        <p:cTn id="116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0.04531 -0.58148 E">
                                      <p:cBhvr>
                                        <p:cTn id="120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8"/>
          <p:cNvSpPr/>
          <p:nvPr/>
        </p:nvSpPr>
        <p:spPr>
          <a:xfrm>
            <a:off x="11160" y="765000"/>
            <a:ext cx="9144000" cy="547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3333"/>
                </a:solidFill>
                <a:latin typeface="Comic Sans MS"/>
              </a:rPr>
              <a:t>Je suis le musicien et je viens de Paris</a:t>
            </a:r>
            <a:br>
              <a:rPr sz="3800"/>
            </a:br>
            <a:r>
              <a:rPr b="0" lang="en-GB" sz="3800" spc="-1" strike="noStrike">
                <a:solidFill>
                  <a:srgbClr val="333333"/>
                </a:solidFill>
                <a:latin typeface="Comic Sans MS"/>
              </a:rPr>
              <a:t>Et je sais jouer, jouer du piano.</a:t>
            </a:r>
            <a:br>
              <a:rPr sz="3800"/>
            </a:br>
            <a:r>
              <a:rPr b="0" lang="en-GB" sz="3800" spc="-1" strike="noStrike">
                <a:solidFill>
                  <a:srgbClr val="333333"/>
                </a:solidFill>
                <a:latin typeface="Comic Sans MS"/>
              </a:rPr>
              <a:t>Pia-pia-piano, piano, piano</a:t>
            </a:r>
            <a:br>
              <a:rPr sz="3800"/>
            </a:br>
            <a:r>
              <a:rPr b="0" lang="en-GB" sz="3800" spc="-1" strike="noStrike">
                <a:solidFill>
                  <a:srgbClr val="333333"/>
                </a:solidFill>
                <a:latin typeface="Comic Sans MS"/>
              </a:rPr>
              <a:t>Pia-pia-piano, pia-piano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3333"/>
                </a:solidFill>
                <a:latin typeface="Comic Sans MS"/>
              </a:rPr>
              <a:t>…</a:t>
            </a:r>
            <a:r>
              <a:rPr b="0" lang="en-GB" sz="3800" spc="-1" strike="noStrike">
                <a:solidFill>
                  <a:srgbClr val="333333"/>
                </a:solidFill>
                <a:latin typeface="Comic Sans MS"/>
              </a:rPr>
              <a:t>du violon    vio-vio-viol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3333"/>
                </a:solidFill>
                <a:latin typeface="Comic Sans MS"/>
              </a:rPr>
              <a:t>…</a:t>
            </a:r>
            <a:r>
              <a:rPr b="0" lang="en-GB" sz="3800" spc="-1" strike="noStrike">
                <a:solidFill>
                  <a:srgbClr val="333333"/>
                </a:solidFill>
                <a:latin typeface="Comic Sans MS"/>
              </a:rPr>
              <a:t>de la clarinette   clari-clari-clarinett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3333"/>
                </a:solidFill>
                <a:latin typeface="Comic Sans MS"/>
              </a:rPr>
              <a:t>…</a:t>
            </a:r>
            <a:r>
              <a:rPr b="0" lang="en-GB" sz="3800" spc="-1" strike="noStrike">
                <a:solidFill>
                  <a:srgbClr val="333333"/>
                </a:solidFill>
                <a:latin typeface="Comic Sans MS"/>
              </a:rPr>
              <a:t>du saxophone    saxo-saxo-saxopho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3333"/>
                </a:solidFill>
                <a:latin typeface="Comic Sans MS"/>
              </a:rPr>
              <a:t>…</a:t>
            </a:r>
            <a:r>
              <a:rPr b="0" lang="en-GB" sz="3800" spc="-1" strike="noStrike">
                <a:solidFill>
                  <a:srgbClr val="333333"/>
                </a:solidFill>
                <a:latin typeface="Comic Sans MS"/>
              </a:rPr>
              <a:t>de la batterie     batte-batte-batteri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3564000" y="189000"/>
            <a:ext cx="5832360" cy="70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africain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classiqu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espagnole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fol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oc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jazz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pop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egga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5"/>
          <p:cNvSpPr/>
          <p:nvPr/>
        </p:nvSpPr>
        <p:spPr>
          <a:xfrm>
            <a:off x="3314880" y="981000"/>
            <a:ext cx="5506920" cy="936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7" descr="archetto"/>
          <p:cNvPicPr/>
          <p:nvPr/>
        </p:nvPicPr>
        <p:blipFill>
          <a:blip r:embed="rId1"/>
          <a:stretch/>
        </p:blipFill>
        <p:spPr>
          <a:xfrm>
            <a:off x="971640" y="549360"/>
            <a:ext cx="23432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9864060_orig"/>
          <p:cNvPicPr/>
          <p:nvPr/>
        </p:nvPicPr>
        <p:blipFill>
          <a:blip r:embed="rId1"/>
          <a:stretch/>
        </p:blipFill>
        <p:spPr>
          <a:xfrm>
            <a:off x="826920" y="1052640"/>
            <a:ext cx="2419560" cy="43606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6"/>
          <p:cNvSpPr/>
          <p:nvPr/>
        </p:nvSpPr>
        <p:spPr>
          <a:xfrm>
            <a:off x="3419640" y="189000"/>
            <a:ext cx="5724360" cy="70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africain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classiqu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espagnole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fol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oc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jazz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pop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egga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3246480" y="189000"/>
            <a:ext cx="5646600" cy="936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3348000" y="189000"/>
            <a:ext cx="5796000" cy="70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africain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classiqu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espagnole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fol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oc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jazz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pop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egga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>
            <a:off x="3348000" y="4005360"/>
            <a:ext cx="5402160" cy="936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7" descr="trumpet-jupiter-music-in-style"/>
          <p:cNvPicPr/>
          <p:nvPr/>
        </p:nvPicPr>
        <p:blipFill>
          <a:blip r:embed="rId1"/>
          <a:stretch/>
        </p:blipFill>
        <p:spPr>
          <a:xfrm>
            <a:off x="179280" y="162864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3348000" y="189000"/>
            <a:ext cx="5796000" cy="70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africain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classiqu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espagnole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fol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oc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jazz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pop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egga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3059280" y="5589720"/>
            <a:ext cx="5690880" cy="936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7" descr="xuz-008_1z"/>
          <p:cNvPicPr/>
          <p:nvPr/>
        </p:nvPicPr>
        <p:blipFill>
          <a:blip r:embed="rId1"/>
          <a:stretch/>
        </p:blipFill>
        <p:spPr>
          <a:xfrm>
            <a:off x="179280" y="2205000"/>
            <a:ext cx="29908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3419640" y="189000"/>
            <a:ext cx="5724360" cy="70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africain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classiqu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espagnole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fol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oc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jazz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pop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egga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4"/>
          <p:cNvSpPr/>
          <p:nvPr/>
        </p:nvSpPr>
        <p:spPr>
          <a:xfrm>
            <a:off x="3332160" y="2492280"/>
            <a:ext cx="5705640" cy="936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7" descr="Accord%C3%A9on_diatonique"/>
          <p:cNvPicPr/>
          <p:nvPr/>
        </p:nvPicPr>
        <p:blipFill>
          <a:blip r:embed="rId1"/>
          <a:stretch/>
        </p:blipFill>
        <p:spPr>
          <a:xfrm>
            <a:off x="250920" y="1484280"/>
            <a:ext cx="30812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"/>
          <p:cNvSpPr/>
          <p:nvPr/>
        </p:nvSpPr>
        <p:spPr>
          <a:xfrm>
            <a:off x="3419640" y="189000"/>
            <a:ext cx="5724360" cy="70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africain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classiqu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espagnole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fol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oc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jazz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pop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egga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3201840" y="3284640"/>
            <a:ext cx="5619960" cy="936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preview"/>
          <p:cNvPicPr/>
          <p:nvPr/>
        </p:nvPicPr>
        <p:blipFill>
          <a:blip r:embed="rId1"/>
          <a:stretch/>
        </p:blipFill>
        <p:spPr>
          <a:xfrm>
            <a:off x="250920" y="1557360"/>
            <a:ext cx="2950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"/>
          <p:cNvSpPr/>
          <p:nvPr/>
        </p:nvSpPr>
        <p:spPr>
          <a:xfrm>
            <a:off x="3564000" y="189000"/>
            <a:ext cx="558000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africain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classiqu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espagnole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fol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oc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jazz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pop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egga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3419640" y="1700280"/>
            <a:ext cx="5724360" cy="936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7" descr="castanuela3"/>
          <p:cNvPicPr/>
          <p:nvPr/>
        </p:nvPicPr>
        <p:blipFill>
          <a:blip r:embed="rId1"/>
          <a:stretch/>
        </p:blipFill>
        <p:spPr>
          <a:xfrm>
            <a:off x="250920" y="2060640"/>
            <a:ext cx="33130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3419640" y="189000"/>
            <a:ext cx="5724360" cy="70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africain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classiqu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espagnole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fol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oc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jazz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pop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egga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4"/>
          <p:cNvSpPr/>
          <p:nvPr/>
        </p:nvSpPr>
        <p:spPr>
          <a:xfrm>
            <a:off x="3132000" y="4797360"/>
            <a:ext cx="5618160" cy="936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7" descr="korg-microkorg-synthesizer-and-vocoder-keyboard-synthesiser"/>
          <p:cNvPicPr/>
          <p:nvPr/>
        </p:nvPicPr>
        <p:blipFill>
          <a:blip r:embed="rId1"/>
          <a:stretch/>
        </p:blipFill>
        <p:spPr>
          <a:xfrm>
            <a:off x="179280" y="1700280"/>
            <a:ext cx="3097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21-06-08T15:14:51Z</dcterms:modified>
  <cp:revision>41</cp:revision>
  <dc:subject/>
  <dc:title>Slide 1</dc:title>
</cp:coreProperties>
</file>