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19D4-BF89-44D8-B10A-A2C8BEE659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8832-6C71-48D9-877D-10E632EEBDE1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88D2-2A6F-4657-A94D-2918EE301BDA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5ACA-75A5-49F7-8924-1506A7678FAE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1F0F-C54D-407E-AFD7-1685989D3FE0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9CE5-5A5D-4EA5-B629-EE75B97C25E2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B8E-6E4D-4C0A-8FE1-C05F44A8F9F7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325F-AC16-4984-A4AD-DA0E7C02DB43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ABB-62B0-4CA8-91B6-6B3662CCADA6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F0EF-9507-479A-9996-6C2D73F1C807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F69B-9E36-4732-88A4-01602C11DA6F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68D-D7D9-4EC9-88DB-DD028DE4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531-C236-4B31-95CC-6AB6A900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14A-B8FB-4722-8535-B625BC78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465-E41F-493D-9F8C-067716A8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E510-7EA2-473D-9739-30F0544C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534-0062-453F-B5A3-7D10547D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8E50-5BD9-4D7C-B5DF-EDAD046C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B3D9-48D2-4185-88F1-66E42FE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FAB6-DF57-4D34-A3A6-A9D2CAD7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1ACE-67DC-462D-B2DB-3270E609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DAA1-FE5C-4E57-907C-209A6468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606-499E-4083-B12A-69702E26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D5FD-B3A0-4AB0-8045-2D8A484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5853-9C15-4F20-9F1F-1CE3435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F3CA-FEE4-4899-83C3-8BC2DE83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A9F5-0076-489B-A035-387E9EDD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BC72-5DA2-4867-B7CA-1392535A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EFEB-DB61-43E3-A0A6-D20CAF02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EFCE-1E1F-4C83-BE28-B8F0A51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FA67-E7A3-4CA1-92B1-6DEEBBC2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F84E-2712-4285-A2C3-9AC28C9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2D3C-9496-4218-9161-18635775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1CC-B391-4A53-B33C-EB21BB9D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C14C-3741-42AB-A3C1-96EFD882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3F59-B4DA-4234-9334-A49688C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53B7-07D4-4D47-9CB4-2AF545F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DEAC-1F5D-4E4D-99E0-E1B236A7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C5C5-939B-4EA6-88E2-52CA47D9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641A-C5E6-440C-832A-0615AD58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FDEE-6753-4A6B-97B1-3271463B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8AC4-84BF-4D53-ACCF-B5309A91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A0901-C5C6-4894-9D6E-69C6058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4B58-1BD6-4230-843E-671BA7CA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777-DD68-414E-87AE-5660EF0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2EDE-D033-4476-862D-81E47B72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A494D-B35C-4177-8350-7ED01F1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5B67-0D13-4DF3-9280-50019A3B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AD1E-F556-45FC-BFD6-1540E1F2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EC69-E79D-4A3F-95DB-D2F5F0A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C57A-2EEC-4336-BBCA-391A202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8AF3-0B87-454F-AA8A-B43737A5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66CE9-551D-47D1-ACBC-61E89AC8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E912-344C-4E05-A454-487A32BD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6DF3-2936-461A-A8D0-FEECBEF0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306-365B-4FA6-8EA9-EA4C67D7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E984-2AF9-4140-A15A-39AF70A5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C78C8-8C34-41D9-B26F-F26D485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6F12-DDB9-4473-8E80-E05B6709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436A-D1A1-428C-A101-5C55CD8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B87A-DB0E-4B99-99C0-2FAC786C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B30B-A203-4B2F-AD5C-1F42B58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31E9-4545-4262-BC97-B85D2F37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47B8-BF9E-4EE1-9D4F-F8BCE629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7548-702C-4EA4-ADDC-0138963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6447-25A6-4A28-B54E-6D195DB0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C70-70E8-4D6D-98D8-D7E44151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FD6F3-C102-4119-8CAA-02EC065A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815-7D2F-4B91-9EC2-E4E249F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E27-87FE-4D7C-B3B0-7581F8D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C32-0D95-4B99-A380-F0095121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75C-8B5A-4FE4-8EF7-D661541DA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B23-FF07-446F-A4FC-86235F7DED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FAE8-1F52-4E03-8FB7-A66D68BB66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427D-DFDC-473E-B36A-1458CAC6EA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1324-99E8-4175-9617-4C45C6DD2A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414360" y="189000"/>
            <a:ext cx="8712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 c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dentify genres of music when I listen to th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ing a French song about musical instr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68360" y="404640"/>
          <a:ext cx="8207280" cy="6096240"/>
        </p:xfrm>
        <a:graphic>
          <a:graphicData uri="http://schemas.openxmlformats.org/drawingml/2006/table">
            <a:tbl>
              <a:tblPr/>
              <a:tblGrid>
                <a:gridCol w="718920"/>
                <a:gridCol w="74883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0" name="Text Box 93"/>
          <p:cNvSpPr/>
          <p:nvPr/>
        </p:nvSpPr>
        <p:spPr>
          <a:xfrm>
            <a:off x="125892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r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94"/>
          <p:cNvSpPr/>
          <p:nvPr/>
        </p:nvSpPr>
        <p:spPr>
          <a:xfrm>
            <a:off x="125892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africa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5"/>
          <p:cNvSpPr/>
          <p:nvPr/>
        </p:nvSpPr>
        <p:spPr>
          <a:xfrm>
            <a:off x="1258920" y="19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espagn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96"/>
          <p:cNvSpPr/>
          <p:nvPr/>
        </p:nvSpPr>
        <p:spPr>
          <a:xfrm>
            <a:off x="125892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fo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7"/>
          <p:cNvSpPr/>
          <p:nvPr/>
        </p:nvSpPr>
        <p:spPr>
          <a:xfrm>
            <a:off x="1258920" y="350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class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8"/>
          <p:cNvSpPr/>
          <p:nvPr/>
        </p:nvSpPr>
        <p:spPr>
          <a:xfrm>
            <a:off x="1258920" y="4292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regga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9"/>
          <p:cNvSpPr/>
          <p:nvPr/>
        </p:nvSpPr>
        <p:spPr>
          <a:xfrm>
            <a:off x="1258920" y="501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jaz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00"/>
          <p:cNvSpPr/>
          <p:nvPr/>
        </p:nvSpPr>
        <p:spPr>
          <a:xfrm>
            <a:off x="1258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la musique p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6" descr="drum-kit"/>
          <p:cNvPicPr/>
          <p:nvPr/>
        </p:nvPicPr>
        <p:blipFill>
          <a:blip r:embed="rId1"/>
          <a:stretch/>
        </p:blipFill>
        <p:spPr>
          <a:xfrm>
            <a:off x="6012000" y="2997360"/>
            <a:ext cx="2808000" cy="219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Clarinet"/>
          <p:cNvPicPr/>
          <p:nvPr/>
        </p:nvPicPr>
        <p:blipFill>
          <a:blip r:embed="rId2"/>
          <a:stretch/>
        </p:blipFill>
        <p:spPr>
          <a:xfrm>
            <a:off x="324000" y="3068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YAM-YTS280"/>
          <p:cNvPicPr/>
          <p:nvPr/>
        </p:nvPicPr>
        <p:blipFill>
          <a:blip r:embed="rId3"/>
          <a:stretch/>
        </p:blipFill>
        <p:spPr>
          <a:xfrm>
            <a:off x="5076720" y="0"/>
            <a:ext cx="3024360" cy="21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v-piano_grand_angle_open_full_gal"/>
          <p:cNvPicPr/>
          <p:nvPr/>
        </p:nvPicPr>
        <p:blipFill>
          <a:blip r:embed="rId4"/>
          <a:stretch/>
        </p:blipFill>
        <p:spPr>
          <a:xfrm>
            <a:off x="395280" y="0"/>
            <a:ext cx="2171880" cy="223200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0" descr="E%20Quality%20ViolinFR"/>
          <p:cNvPicPr/>
          <p:nvPr/>
        </p:nvPicPr>
        <p:blipFill>
          <a:blip r:embed="rId5"/>
          <a:stretch/>
        </p:blipFill>
        <p:spPr>
          <a:xfrm>
            <a:off x="3132000" y="0"/>
            <a:ext cx="1489320" cy="2232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1"/>
          <p:cNvSpPr/>
          <p:nvPr/>
        </p:nvSpPr>
        <p:spPr>
          <a:xfrm>
            <a:off x="3059280" y="522936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pi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6084720" y="5229360"/>
            <a:ext cx="25210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vio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16360" y="6095880"/>
            <a:ext cx="3059280" cy="143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saxo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0" y="5229360"/>
            <a:ext cx="291636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clarinet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1835280" y="6095880"/>
            <a:ext cx="2520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Comic Sans MS"/>
              </a:rPr>
              <a:t>batter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00301 L -3.61111E-006 4.07407E-006 E">
                                      <p:cBhvr>
                                        <p:cTn id="10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0259E-006 L -0.31094 -0.45421 E">
                                      <p:cBhvr>
                                        <p:cTn id="10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0259E-006 L -0.37413 -0.44357 E">
                                      <p:cBhvr>
                                        <p:cTn id="11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0.46476 -0.12639 E">
                                      <p:cBhvr>
                                        <p:cTn id="11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04531 -0.58148 E">
                                      <p:cBhvr>
                                        <p:cTn id="12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8"/>
          <p:cNvSpPr/>
          <p:nvPr/>
        </p:nvSpPr>
        <p:spPr>
          <a:xfrm>
            <a:off x="11160" y="765000"/>
            <a:ext cx="9144000" cy="54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Je suis le musicien et je viens de Paris</a:t>
            </a:r>
            <a:br>
              <a:rPr sz="3800"/>
            </a:b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Et je sais jouer, jouer du piano.</a:t>
            </a:r>
            <a:br>
              <a:rPr sz="3800"/>
            </a:b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Pia-pia-piano, piano, piano</a:t>
            </a:r>
            <a:br>
              <a:rPr sz="3800"/>
            </a:b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Pia-pia-piano, pia-piano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u violon    vio-vio-viol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e la clarinette   clari-clari-clarinett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u saxophone    saxo-saxo-saxopho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…</a:t>
            </a:r>
            <a:r>
              <a:rPr b="0" lang="en-GB" sz="3800" spc="-1" strike="noStrike">
                <a:solidFill>
                  <a:srgbClr val="333333"/>
                </a:solidFill>
                <a:latin typeface="Comic Sans MS"/>
              </a:rPr>
              <a:t>de la batterie     batte-batte-batteri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564000" y="189000"/>
            <a:ext cx="5832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3314880" y="981000"/>
            <a:ext cx="550692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archetto"/>
          <p:cNvPicPr/>
          <p:nvPr/>
        </p:nvPicPr>
        <p:blipFill>
          <a:blip r:embed="rId1"/>
          <a:stretch/>
        </p:blipFill>
        <p:spPr>
          <a:xfrm>
            <a:off x="971640" y="549360"/>
            <a:ext cx="23432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9864060_orig"/>
          <p:cNvPicPr/>
          <p:nvPr/>
        </p:nvPicPr>
        <p:blipFill>
          <a:blip r:embed="rId1"/>
          <a:stretch/>
        </p:blipFill>
        <p:spPr>
          <a:xfrm>
            <a:off x="826920" y="1052640"/>
            <a:ext cx="2419560" cy="4360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246480" y="189000"/>
            <a:ext cx="564660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3348000" y="189000"/>
            <a:ext cx="579600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3348000" y="4005360"/>
            <a:ext cx="540216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trumpet-jupiter-music-in-style"/>
          <p:cNvPicPr/>
          <p:nvPr/>
        </p:nvPicPr>
        <p:blipFill>
          <a:blip r:embed="rId1"/>
          <a:stretch/>
        </p:blipFill>
        <p:spPr>
          <a:xfrm>
            <a:off x="179280" y="162864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348000" y="189000"/>
            <a:ext cx="579600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3059280" y="5589720"/>
            <a:ext cx="569088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xuz-008_1z"/>
          <p:cNvPicPr/>
          <p:nvPr/>
        </p:nvPicPr>
        <p:blipFill>
          <a:blip r:embed="rId1"/>
          <a:stretch/>
        </p:blipFill>
        <p:spPr>
          <a:xfrm>
            <a:off x="179280" y="2205000"/>
            <a:ext cx="2990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3332160" y="2492280"/>
            <a:ext cx="570564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Accord%C3%A9on_diatonique"/>
          <p:cNvPicPr/>
          <p:nvPr/>
        </p:nvPicPr>
        <p:blipFill>
          <a:blip r:embed="rId1"/>
          <a:stretch/>
        </p:blipFill>
        <p:spPr>
          <a:xfrm>
            <a:off x="250920" y="1484280"/>
            <a:ext cx="30812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3201840" y="3284640"/>
            <a:ext cx="5619960" cy="93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preview"/>
          <p:cNvPicPr/>
          <p:nvPr/>
        </p:nvPicPr>
        <p:blipFill>
          <a:blip r:embed="rId1"/>
          <a:stretch/>
        </p:blipFill>
        <p:spPr>
          <a:xfrm>
            <a:off x="250920" y="1557360"/>
            <a:ext cx="2950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3564000" y="189000"/>
            <a:ext cx="5580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3419640" y="1700280"/>
            <a:ext cx="572436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castanuela3"/>
          <p:cNvPicPr/>
          <p:nvPr/>
        </p:nvPicPr>
        <p:blipFill>
          <a:blip r:embed="rId1"/>
          <a:stretch/>
        </p:blipFill>
        <p:spPr>
          <a:xfrm>
            <a:off x="250920" y="2060640"/>
            <a:ext cx="33130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419640" y="189000"/>
            <a:ext cx="5724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africain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classiqu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espagnole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fol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ock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jazz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pop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la musique regga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3132000" y="4797360"/>
            <a:ext cx="5618160" cy="936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korg-microkorg-synthesizer-and-vocoder-keyboard-synthesiser"/>
          <p:cNvPicPr/>
          <p:nvPr/>
        </p:nvPicPr>
        <p:blipFill>
          <a:blip r:embed="rId1"/>
          <a:stretch/>
        </p:blipFill>
        <p:spPr>
          <a:xfrm>
            <a:off x="179280" y="1700280"/>
            <a:ext cx="3097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21-06-08T15:14:51Z</dcterms:modified>
  <cp:revision>41</cp:revision>
  <dc:subject/>
  <dc:title>Slide 1</dc:title>
</cp:coreProperties>
</file>