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12D-4F16-41B1-8B21-947F8B60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3BE-9F26-411B-AB4E-35CDCA3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B2D-2C07-4750-9AA5-DFEA08C1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F6F-836A-468F-AE28-2E92A9E6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097-ED7F-4C01-89FB-1BBFCF31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1BB-9A2B-4106-844E-47F59EC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91BE-CE26-4151-BE29-D5001F09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42FA-1C6C-4F02-996C-9A9A312F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0B6-5482-4294-ABE4-53D57C4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EDD-395F-4AF1-B23C-B73E2AE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CAD2-51FF-4F31-ACD5-87C22F1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3D7-5B45-4EB8-9AA6-E2A4BDE4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5E18-9D7B-41E1-92A8-31518B2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A93-6229-424D-A948-DE0801C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6B72-1022-4DA4-8C2D-0678F7F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EFE-96B6-4B27-BBA6-545AD74A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D1B9-B3E8-4C96-8288-226330EC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EFAE-7482-43E3-9A53-3B01DEC6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85FB-DB23-42BE-BA30-5C8A9CB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4073-0679-405E-AA70-DE37BDB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26FB-42AA-421D-8EF0-B36B96D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521C-B9D7-4C41-89E8-C7B1F68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DA6-3E9E-4D2B-BBF3-9300A39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5EC1-1FEC-44E2-880E-D1A74F21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E3AB-4992-40CE-859D-CE0F881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C86E-9394-4D29-BCC4-A0EEF402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437A-9304-482E-83FC-24AAA86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AB53-B073-4FC3-817D-56A2812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0192-AC76-44F7-8993-9163F939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0D45-1A90-48C0-9185-E628DAAF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2295-65C2-464B-97E9-9766B8B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BFFA6-3C57-43D9-A3A1-568860E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D488-EDD6-4231-A7B8-A0E5885D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2C3-2E0E-40F9-8E84-81954D2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BF5D-8637-4283-B50E-00A43A6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43D9-9C34-46DB-89EB-68A161C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DB7E-793A-43BE-AC5C-E408B402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F483-667F-4844-B2BE-A5D321C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9D2F-99D5-473F-BF9A-8429A85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3D2D-C662-49C6-A89A-1ACD996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26C9-4243-4B20-A4F8-4E3AA9D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BBE4-6E01-45DD-B009-334D8E0C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0B50-F34A-4E04-A965-9517D58D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35F-0FDD-4895-8DEF-93C302E6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B1F-B446-49B7-AA86-F9CB9D96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971-176E-4106-87DC-F86EB63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A62-5A2B-4DA1-96A4-C36D1795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41B-FDF4-4C61-B1F8-76998C7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87B0-1576-4D5C-9B2F-0B0820EACC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CCB-184A-4104-9894-ADB669FCBB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B7EE-42FB-4FD3-A640-CC2F4E26AAD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6D3-C031-4783-A82C-5BF561E8ED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6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9    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6920" y="549360"/>
            <a:ext cx="660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0036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549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81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32280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8632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45164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364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2744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88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93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36000" y="1844640"/>
            <a:ext cx="660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867280" y="5589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27640" y="549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64000" y="364500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76360" y="342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8632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87640" y="18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35280" y="5013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360" y="162864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093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236000" y="1844640"/>
            <a:ext cx="660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24360" y="206064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87640" y="39337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77080" y="47628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3236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732720" y="4365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635280" y="5013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920" y="692280"/>
            <a:ext cx="1008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35280" y="256536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356000" y="4653000"/>
            <a:ext cx="660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308720" y="141300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03280" y="3357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867280" y="2565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0872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8920" y="1628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32720" y="4365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85080" y="3500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48000" y="2924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87640" y="76500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9280" y="5516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3272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64000" y="49417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9272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443640" y="4797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32000" y="292428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028000" y="2421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48360" y="2924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00000" y="1700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932360" y="9079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72360" y="522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948360" y="126828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508720" y="364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400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76720" y="76500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36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380360" y="357336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6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780000" y="1052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77080" y="4724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459640" y="4005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19280" y="134136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76720" y="537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2421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512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651640" y="486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771640" y="90792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859280" y="263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492360" y="4797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19640" y="76500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58920" y="306864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26920" y="105264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67640" y="3860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03640" y="3141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43640" y="2060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0" y="558972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00720" y="486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635280" y="342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050920" y="162864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40360" y="83664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04000" y="47628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88000" y="2492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96000" y="537372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0" y="537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92360" y="98100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64000" y="3068640"/>
            <a:ext cx="1008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6:26Z</dcterms:modified>
  <cp:revision>30</cp:revision>
  <dc:subject/>
  <dc:title>Slide 1</dc:title>
</cp:coreProperties>
</file>