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87F-1643-4B60-84BF-F528DEDF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59E-1212-4364-9576-8D10E941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CCD-AC51-4034-A955-A39F51A6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C67-6494-4123-93EC-E30346FC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2853-7AA4-492B-8C3B-31072846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AB19-AFD4-4320-BED5-290FE5FD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E60C-C155-414C-BA6B-F09D5E39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6BE3-1759-409A-A0BE-C0094E4B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24F6-D846-405E-81C1-86E6B663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3821-B8E6-42EC-A824-0DE5C41B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6C9E-9A85-4521-AF2C-284BDC7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B11-260C-479A-84F4-CB9A9D8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1235-82FC-4077-A13A-924B9A08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4120-2C8D-4D1C-A906-A13361D7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EAA4-A8A3-4D2C-9519-EEE323A1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3CDA-3001-4159-9DC4-3CEB0009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4559-9B52-46D0-A580-1933D7CB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BFC3-1981-4733-BE84-8F735B24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735C-79C3-4DE1-B61E-E8C1D4A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939C-2816-4F07-9FA0-297D797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DC6E-D769-496F-A550-350D33A8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7D66-6BE1-42F3-9B52-FD923660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ADE-34A0-4F75-98B8-0F37EED5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309D-13B0-49BF-A687-34620E3D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C971-971D-483D-880C-FD85901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5AC9-9247-4F32-A5FC-24E713DD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57D8-166B-49A0-AF9B-804A301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C5AA-D7C5-489D-B369-30015AFB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3557-827B-44DB-BDF0-65843C38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50EE-0B50-4E18-889A-8A7C45B2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719A-D330-49E8-8FCC-CB587470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1015-6235-4F23-B4B7-A437504E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E7F1C-C6B0-44B4-8B40-A5AB59D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C1D-A5F0-43AD-A3CA-9B8A9383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CE34-EEAF-4EB4-887C-E27A9592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1AC4-FB8A-4606-8806-AD43D6D2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4653-22F2-475C-9EBC-29C8D522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AC862-7EAC-4B25-B7BA-255FAE2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7B562-158A-4D4F-A124-389C197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49822-B121-48D7-A827-E1C82A02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7343-C8F0-4E2F-A3BE-8A4ABFD6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EABB-B2E9-4CA9-BC1B-2E201DB6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E6056-4CAC-4B3D-ABFE-3C4CD9E5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011-1E0B-4690-8FB8-A9DCF9D0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7CB-EEFA-4356-8DFB-9950DEDA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AA8-7FF3-4E68-861C-267A5894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8F9-C29A-4121-BB84-10050002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799-D1D8-4E63-8E2A-3312D090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A84B-2A76-4E13-9BFF-DA1A5FA7B7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43C6-F19C-4569-9B8F-7D54C7DBA3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E719-CBB3-4856-B165-185429D33E0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5DF0-B83B-4573-92D9-57D12709A0E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1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6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9    10    11    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6920" y="549360"/>
            <a:ext cx="6606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0036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27640" y="54936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81200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58920" y="220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322800" y="220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86320" y="213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451640" y="213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8920" y="364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2744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88808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09308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236000" y="1844640"/>
            <a:ext cx="660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867280" y="5589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27640" y="54936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64000" y="364500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58920" y="220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76360" y="342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86320" y="213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987640" y="18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35280" y="5013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16360" y="1628640"/>
            <a:ext cx="10080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09308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236000" y="1844640"/>
            <a:ext cx="660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24360" y="206064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87640" y="393372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77080" y="47628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8920" y="220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0" y="54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932360" y="5084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732720" y="4365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635280" y="5013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26920" y="692280"/>
            <a:ext cx="1008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35280" y="256536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356000" y="4653000"/>
            <a:ext cx="6606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308720" y="141300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03280" y="3357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867280" y="2565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08720" y="5084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58920" y="1628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32720" y="4365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885080" y="350028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48000" y="292428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987640" y="765000"/>
            <a:ext cx="10080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59280" y="551664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32720" y="1197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64000" y="494172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292720" y="1197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443640" y="4797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132000" y="292428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028000" y="2421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48360" y="292428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00000" y="170028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932360" y="90792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372360" y="522936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948360" y="1268280"/>
            <a:ext cx="5162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508720" y="3645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64000" y="5084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76720" y="76500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6360" y="1197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380360" y="3573360"/>
            <a:ext cx="10080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1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6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    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780000" y="105264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77080" y="472428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459640" y="400536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19280" y="134136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76720" y="537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2421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51280" y="364500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651640" y="486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771640" y="907920"/>
            <a:ext cx="5162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859280" y="2637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492360" y="479736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19640" y="76500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58920" y="306864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26920" y="1052640"/>
            <a:ext cx="51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67640" y="386064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03640" y="3141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443640" y="206064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0" y="558972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00720" y="486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635280" y="342900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050920" y="1628640"/>
            <a:ext cx="5162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140360" y="83664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04000" y="47628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88000" y="2492280"/>
            <a:ext cx="5158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796000" y="5373720"/>
            <a:ext cx="100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0" y="5373720"/>
            <a:ext cx="515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692360" y="981000"/>
            <a:ext cx="100800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64000" y="3068640"/>
            <a:ext cx="1008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1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    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684360" y="404640"/>
          <a:ext cx="7848360" cy="4064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33"/>
                      </a:solidFill>
                    </a:lnL>
                    <a:lnR w="18720">
                      <a:solidFill>
                        <a:srgbClr val="333333"/>
                      </a:solidFill>
                    </a:lnR>
                    <a:lnT w="18720">
                      <a:solidFill>
                        <a:srgbClr val="333333"/>
                      </a:solidFill>
                    </a:lnT>
                    <a:lnB w="1872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 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    1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     2    3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     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0    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     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260280"/>
            <a:ext cx="86421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    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5       7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6:26Z</dcterms:modified>
  <cp:revision>30</cp:revision>
  <dc:subject/>
  <dc:title>Slide 1</dc:title>
</cp:coreProperties>
</file>