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wmf" ContentType="image/x-wmf"/>
  <Override PartName="/ppt/media/image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13.wmf" ContentType="image/x-wmf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E48C-CDB0-4B53-9A6A-2E51B04ED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CF0E-161C-471C-8515-9300D318B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4594-2517-46CD-9000-9B09B7822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8F8E-F677-4C0E-AFB6-CFD72F0A9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AA6CE-BFEC-468E-B2B7-18571D559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3FA00-B8CF-4BE8-A176-04E20F26F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2D213-ED5A-4500-A0C6-62B9583A7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9D7B5-AAB0-4630-A154-371582519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5D072-24AD-44D9-951A-77F7CD5A4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02E30-5014-460E-8A43-9C8723C92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B788C-D555-4859-8D06-2044C200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32F7-BBF2-4768-BB22-83E146BFF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E4C59-F45F-4DAB-83A5-D274558B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CFE8F-B90A-4061-9758-C0ED53CC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0013A-4462-4C57-877C-CA5FDD333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A5F90-7D98-4C33-A3A9-FBDC37863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87144-D084-4A0A-8D8B-F5E232AE3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3BC9-7068-496D-9228-895B925FD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CC16-64F7-42D1-BABD-8B210C231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1128-18A7-4170-97F6-A033CA412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B8FC-A453-442D-8849-C4C027FAD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2156-9AA6-44B7-979B-7F029B6C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170D-F078-4A4F-ADEE-58F8BE06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9C76-A122-4E8D-B96A-9A1B301D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87D52-3B73-4929-8D64-CF6FAC4F13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8CEFB-1B04-4D26-8379-000DBEA418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hyperlink" Target="http://www.sunderlandschools.org/mfl-sunderland" TargetMode="External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4.jpeg"/><Relationship Id="rId4" Type="http://schemas.openxmlformats.org/officeDocument/2006/relationships/image" Target="../media/image6.jpeg"/><Relationship Id="rId5" Type="http://schemas.openxmlformats.org/officeDocument/2006/relationships/image" Target="../media/image8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rcRect l="0" t="24753" r="0" b="11136"/>
          <a:stretch/>
        </p:blipFill>
        <p:spPr>
          <a:xfrm>
            <a:off x="1258920" y="907920"/>
            <a:ext cx="2630520" cy="25178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4716360" y="692280"/>
            <a:ext cx="3062520" cy="4587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916360" y="6381720"/>
            <a:ext cx="62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Rounded MT Bold"/>
              </a:rPr>
              <a:t>©MFL Sunderland 2013 CS </a:t>
            </a:r>
            <a:r>
              <a:rPr b="0" lang="en-US" sz="800" spc="-1" strike="noStrike" u="sng">
                <a:solidFill>
                  <a:srgbClr val="98eee3"/>
                </a:solidFill>
                <a:uFillTx/>
                <a:latin typeface="Arial Rounded MT Bold"/>
                <a:hlinkClick r:id="rId4"/>
              </a:rPr>
              <a:t>http://www.sunderlandschools.org/mfl-sunderland</a:t>
            </a: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763640" y="549360"/>
            <a:ext cx="1827360" cy="1827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508720" y="549360"/>
            <a:ext cx="1827000" cy="1827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332000" y="270828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J’aim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84720" y="2708280"/>
            <a:ext cx="45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Je n’aime pa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3635280" y="3573360"/>
            <a:ext cx="2052720" cy="30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763640" y="549360"/>
            <a:ext cx="1827360" cy="1827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5508720" y="549360"/>
            <a:ext cx="1827000" cy="1827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332000" y="270828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J’aim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84720" y="2708280"/>
            <a:ext cx="45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Je n’aime pa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2771640" y="3716280"/>
            <a:ext cx="4032360" cy="26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395280" y="549360"/>
          <a:ext cx="8424360" cy="4333680"/>
        </p:xfrm>
        <a:graphic>
          <a:graphicData uri="http://schemas.openxmlformats.org/drawingml/2006/table">
            <a:tbl>
              <a:tblPr/>
              <a:tblGrid>
                <a:gridCol w="4213080"/>
                <a:gridCol w="4211280"/>
              </a:tblGrid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’aime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es pommes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es oranges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es gâteaux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es bananes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es sandwichs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5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n’aime pas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11280" y="14130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39640" y="3960720"/>
            <a:ext cx="71928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rcRect l="12589" t="0" r="12589" b="0"/>
          <a:stretch/>
        </p:blipFill>
        <p:spPr>
          <a:xfrm>
            <a:off x="755640" y="1125360"/>
            <a:ext cx="2808360" cy="25257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067280" y="765000"/>
            <a:ext cx="460836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059280" y="333360"/>
            <a:ext cx="2808000" cy="2527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rcRect l="0" t="49920" r="0" b="13169"/>
          <a:stretch/>
        </p:blipFill>
        <p:spPr>
          <a:xfrm>
            <a:off x="1332000" y="3284640"/>
            <a:ext cx="6481800" cy="23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332000" y="1197000"/>
            <a:ext cx="1409760" cy="2592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3995640" y="1197000"/>
            <a:ext cx="403236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124000" y="189000"/>
            <a:ext cx="4680000" cy="25956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2124000" y="2997360"/>
            <a:ext cx="468000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724360" y="3573360"/>
            <a:ext cx="3095640" cy="1935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95280" y="260280"/>
            <a:ext cx="2052720" cy="307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2627280" y="260280"/>
            <a:ext cx="2808360" cy="21081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rcRect l="0" t="49920" r="0" b="13169"/>
          <a:stretch/>
        </p:blipFill>
        <p:spPr>
          <a:xfrm>
            <a:off x="395280" y="3573360"/>
            <a:ext cx="5113440" cy="18874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5651640" y="260280"/>
            <a:ext cx="316836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763640" y="549360"/>
            <a:ext cx="1827360" cy="1827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5508720" y="549360"/>
            <a:ext cx="1827000" cy="1827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332000" y="270828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J’aim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284720" y="2708280"/>
            <a:ext cx="45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Je n’aime pa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2916360" y="3933720"/>
            <a:ext cx="3457440" cy="25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763640" y="549360"/>
            <a:ext cx="1827360" cy="1827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508720" y="549360"/>
            <a:ext cx="1827000" cy="1827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332000" y="270828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J’aim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84720" y="2708280"/>
            <a:ext cx="45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Je n’aime pa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2340000" y="3789360"/>
            <a:ext cx="453708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763640" y="549360"/>
            <a:ext cx="1827360" cy="1827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508720" y="549360"/>
            <a:ext cx="1827000" cy="1827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332000" y="270828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J’aim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284720" y="2708280"/>
            <a:ext cx="45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Je n’aime pa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4"/>
          <a:srcRect l="0" t="49920" r="0" b="13169"/>
          <a:stretch/>
        </p:blipFill>
        <p:spPr>
          <a:xfrm>
            <a:off x="1476360" y="3933720"/>
            <a:ext cx="6481800" cy="23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5T12:00:26Z</dcterms:created>
  <dc:creator>Ben Dalglish</dc:creator>
  <dc:description/>
  <dc:language>en-US</dc:language>
  <cp:lastModifiedBy>Clare</cp:lastModifiedBy>
  <dcterms:modified xsi:type="dcterms:W3CDTF">2013-02-15T09:01:50Z</dcterms:modified>
  <cp:revision>216</cp:revision>
  <dc:subject/>
  <dc:title>KS2 Yr 5 French – Lesson 1  </dc:title>
</cp:coreProperties>
</file>