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05C-2498-4C2F-9683-64ADC9B0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7C-64C0-4B21-B62A-31CE0D87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347-E106-4ED4-9CC1-A8D5FED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7BF-B8AB-4C07-BD8B-BD149020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F089-434D-47C6-B6BF-F2C5589B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F34E-A9FA-4072-89D4-0B0D4FD6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105D-44F5-4BD9-A82C-D111207B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B5D-5D18-4878-8E98-251A952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EF5C-7918-4E6C-8DD1-53F4CAE2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C0C-78D7-4BF6-81B6-847A4FC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CD46-CBDD-4030-86BE-A9C0AD5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25D-2D21-4B67-81C3-F74C56B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6B6D-4388-4626-A62B-EC3767F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EB51-609F-4E3D-84DC-53EE3D0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FBAB-EC87-4226-8D27-8BC7842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52E-6286-4082-90F4-52F7DBAB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9E41-30C5-4E6C-B8F9-6D135CB4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6BC-2C6C-46BA-90A1-49C0B007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65B-36C5-4B90-AA39-F89A41F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E8E-98CE-46FA-A195-F537C94A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321-4748-4890-8AA2-792DD33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242-BD35-470D-BB41-8BB6187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869-8372-4ADE-8C8D-A6472FE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A47-D19E-494F-85B1-CB6625B1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78D3-E32E-4AC2-B701-5E624FFC8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5025-2485-4002-84CD-8DCD0BC89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24753" r="0" b="11136"/>
          <a:stretch/>
        </p:blipFill>
        <p:spPr>
          <a:xfrm>
            <a:off x="1258920" y="907920"/>
            <a:ext cx="2630520" cy="2517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16360" y="692280"/>
            <a:ext cx="3062520" cy="4587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916360" y="638172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13 CS </a:t>
            </a:r>
            <a:r>
              <a:rPr b="0" lang="en-US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635280" y="3573360"/>
            <a:ext cx="2052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4032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549360"/>
          <a:ext cx="8424360" cy="4333680"/>
        </p:xfrm>
        <a:graphic>
          <a:graphicData uri="http://schemas.openxmlformats.org/drawingml/2006/table">
            <a:tbl>
              <a:tblPr/>
              <a:tblGrid>
                <a:gridCol w="4213080"/>
                <a:gridCol w="42112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m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pomm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orang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gâteaux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banane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sandwich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n’aime pa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9640" y="396072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12589" t="0" r="12589" b="0"/>
          <a:stretch/>
        </p:blipFill>
        <p:spPr>
          <a:xfrm>
            <a:off x="755640" y="1125360"/>
            <a:ext cx="2808360" cy="252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67280" y="765000"/>
            <a:ext cx="4608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80800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49920" r="0" b="13169"/>
          <a:stretch/>
        </p:blipFill>
        <p:spPr>
          <a:xfrm>
            <a:off x="1332000" y="3284640"/>
            <a:ext cx="64818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140976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95640" y="1197000"/>
            <a:ext cx="40323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4680000" cy="2595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124000" y="2997360"/>
            <a:ext cx="4680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3095640" cy="1935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52720" cy="307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27280" y="260280"/>
            <a:ext cx="2808360" cy="210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0" t="49920" r="0" b="13169"/>
          <a:stretch/>
        </p:blipFill>
        <p:spPr>
          <a:xfrm>
            <a:off x="395280" y="3573360"/>
            <a:ext cx="5113440" cy="1887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651640" y="260280"/>
            <a:ext cx="3168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916360" y="393372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340000" y="3789360"/>
            <a:ext cx="4537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08720" y="549360"/>
            <a:ext cx="1827000" cy="18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32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’a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270828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Je n’aime p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rcRect l="0" t="49920" r="0" b="13169"/>
          <a:stretch/>
        </p:blipFill>
        <p:spPr>
          <a:xfrm>
            <a:off x="1476360" y="3933720"/>
            <a:ext cx="648180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3-02-15T09:01:50Z</dcterms:modified>
  <cp:revision>216</cp:revision>
  <dc:subject/>
  <dc:title>KS2 Yr 5 French – Lesson 1  </dc:title>
</cp:coreProperties>
</file>