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F66-86ED-4669-8E4C-99A72C0A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45B5-954D-44FE-9F2E-3628C620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563-2772-4938-8A89-5C2979EC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0E4-0F16-4654-BF9C-138F3337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119C-C10F-4517-BA2A-104213D7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6953-B9B8-4440-9C90-B0C51DFE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EE04-651F-4F51-8CF2-581705AF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FA85-FBF3-4459-80BF-5A85F495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7E5B-3691-4143-9802-A90062C3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14AA-340B-491E-81AF-5D326554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E9E8-D922-42BB-81C3-3041A3B0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34D-DDB7-4C72-A0ED-054BCB12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1893-0319-448A-B1D2-4E15EFE7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2469-B446-4830-B4D9-70CA4A0F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5640-2270-4F25-B721-E3BEA136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C489-7BB8-46D7-8198-F40BBB95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E443-F029-4D38-A302-01DC4660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0CD-7A24-49B2-8291-909832E4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AA5-51E9-4E8B-8F53-86D9BE21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D9A-8D5D-4FC2-A8E3-73B32E91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DFE-C987-47DB-A5C2-3687CE48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C75-BF32-4E1F-AB1B-425BCD89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73D-A30D-4255-A4DC-3DA6F9AB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7126-69D1-4D6C-A0C2-7E590EDB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7A0E-4EF7-48A3-90A7-5AB47001E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9736-C3C6-4557-82CA-1391CAC4D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sunderlandschools.org/mfl-sunderland" TargetMode="External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278920" cy="4919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619280" y="404640"/>
            <a:ext cx="5759280" cy="601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916360" y="6524640"/>
            <a:ext cx="6227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©MFL Sunderland 2013 CS </a:t>
            </a:r>
            <a:r>
              <a:rPr b="0" lang="en-US" sz="800" spc="-1" strike="noStrike" u="sng">
                <a:solidFill>
                  <a:srgbClr val="98eee3"/>
                </a:solidFill>
                <a:uFillTx/>
                <a:latin typeface="Arial Rounded MT Bold"/>
                <a:hlinkClick r:id="rId4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0" t="24753" r="0" b="11136"/>
          <a:stretch/>
        </p:blipFill>
        <p:spPr>
          <a:xfrm>
            <a:off x="179280" y="333360"/>
            <a:ext cx="2630520" cy="2517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12589" t="0" r="12589" b="0"/>
          <a:stretch/>
        </p:blipFill>
        <p:spPr>
          <a:xfrm>
            <a:off x="3078000" y="333360"/>
            <a:ext cx="2808360" cy="2525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550960" y="3213000"/>
            <a:ext cx="1409760" cy="2592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156360" y="333360"/>
            <a:ext cx="2808360" cy="2527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4284720" y="3213000"/>
            <a:ext cx="4680000" cy="2595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227664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9280" y="227664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227664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52293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84720" y="52293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954240" cy="2965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6028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50920" y="3716280"/>
            <a:ext cx="4381560" cy="262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859280" y="3716280"/>
            <a:ext cx="3995640" cy="2664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263700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263700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573408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5805360"/>
            <a:ext cx="433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26920" y="83664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ier, j’ai mangé…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2205000"/>
            <a:ext cx="82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(Mercredi, j’ai mangé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26920" y="83664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ier, j’ai mang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0" t="24753" r="0" b="11136"/>
          <a:stretch/>
        </p:blipFill>
        <p:spPr>
          <a:xfrm>
            <a:off x="6732720" y="765000"/>
            <a:ext cx="1261800" cy="1208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242100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ier, j’ai mang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400536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Hier, j’ai mang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588000" y="2414520"/>
            <a:ext cx="1656000" cy="992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588000" y="4076640"/>
            <a:ext cx="172908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</cp:lastModifiedBy>
  <dcterms:modified xsi:type="dcterms:W3CDTF">2013-02-15T08:58:57Z</dcterms:modified>
  <cp:revision>212</cp:revision>
  <dc:subject/>
  <dc:title>KS2 Yr 5 French – Lesson 1  </dc:title>
</cp:coreProperties>
</file>