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1D5-E296-4410-981A-0C090AF5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43F-06D0-4D2F-B15F-DB8A6A90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6FA-7043-4CC0-AC06-33B8A379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A17-F8E2-444C-8811-D9A9EA60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CB9B-575A-4220-88F7-6D760BCF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46F0-8815-4A0E-8CB5-557601F2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A2A8-689B-4ABE-83F0-8BA68566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CE57-0B8B-47FF-A64E-1D81837C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7B25-2509-472E-925F-BF0470B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3F17-4088-44C0-86DF-C7FDCC5F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A2FC-4DB0-45A4-AC49-82D6424C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8FF-0DA6-42EC-BC3A-9FF46EA0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EB37-1F15-46A1-B64B-188C7361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CA04-E658-4ED1-9544-970D167F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5E2F-FDD9-4BFB-99FD-0D7FE0F9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A9FD-0F87-4308-944C-7E73F27A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CCBB-D21A-48C3-A818-849D7048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6C7-F329-4632-9508-C3749A5C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494-D1A4-4421-B938-6EB7172E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689-B6A3-4780-8271-311F0E16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B41-8AFC-45B4-8D9A-3949A8B4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8DF-0E6F-4EB1-A986-609CBFBB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A03-80BB-4F18-9E87-BF81EBC5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966B-75E2-466B-A912-496FF532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8631-5104-4B4A-BCD1-900D19B81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6F1A-AE2E-4B84-AE13-B52898C4F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sunderlandschools.org/mfl-sunderland" TargetMode="Externa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78920" cy="4919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19280" y="404640"/>
            <a:ext cx="5759280" cy="601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16360" y="6524640"/>
            <a:ext cx="6227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98eee3"/>
                </a:solidFill>
                <a:uFillTx/>
                <a:latin typeface="Arial Rounded MT Bold"/>
                <a:hlinkClick r:id="rId4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24753" r="0" b="11136"/>
          <a:stretch/>
        </p:blipFill>
        <p:spPr>
          <a:xfrm>
            <a:off x="179280" y="333360"/>
            <a:ext cx="2630520" cy="2517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12589" t="0" r="12589" b="0"/>
          <a:stretch/>
        </p:blipFill>
        <p:spPr>
          <a:xfrm>
            <a:off x="3078000" y="333360"/>
            <a:ext cx="2808360" cy="2525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550960" y="3213000"/>
            <a:ext cx="140976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156360" y="333360"/>
            <a:ext cx="2808360" cy="2527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284720" y="3213000"/>
            <a:ext cx="4680000" cy="2595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276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2276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2276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5229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5229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954240" cy="2965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4381560" cy="262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859280" y="3716280"/>
            <a:ext cx="3995640" cy="266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2637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637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57340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5805360"/>
            <a:ext cx="43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6920" y="83664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ier, j’ai mangé…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205000"/>
            <a:ext cx="82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(Mercredi, j’ai mangé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83664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ier, j’ai mang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24753" r="0" b="11136"/>
          <a:stretch/>
        </p:blipFill>
        <p:spPr>
          <a:xfrm>
            <a:off x="6732720" y="765000"/>
            <a:ext cx="1261800" cy="1208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242100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ier, j’ai mang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400536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ier, j’ai mang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588000" y="2414520"/>
            <a:ext cx="1656000" cy="992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588000" y="4076640"/>
            <a:ext cx="17290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3-02-15T08:58:57Z</dcterms:modified>
  <cp:revision>212</cp:revision>
  <dc:subject/>
  <dc:title>KS2 Yr 5 French – Lesson 1  </dc:title>
</cp:coreProperties>
</file>