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9F7-C4D2-484F-91C7-F3E1EDA0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F20-A683-4054-B7B4-72049C2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CD3-2CA4-43B9-9177-6E96F61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770-0DF7-40CD-B430-D85FB2BD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A8D-A58B-4728-BDBE-4B78443B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076A-3AA8-44F4-9DBC-4473513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8BB2-2FB3-4577-A31F-AAD1DFAD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596B-4B1B-44BF-813C-89D3A43B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D6D7-B75A-45A6-A892-D05C688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8CD-4A03-461A-8D8F-477D0DB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C640-D3B5-4597-A77B-D9B2013D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204-A7C4-4FBC-A4FF-9B27925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679C-1816-406C-8709-987A552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D18-8BBD-4640-92DF-6DD5711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664F-41ED-4CF6-AA36-FBE1450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F374-57A4-475D-B760-73A06C3D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A131-432D-49AA-B8C4-62ED7BCA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6FE3-5DA3-4F88-8924-5155B289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3492-DD0D-4174-915C-B4BC192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D4E9-760B-494A-B2B1-9454FA6E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5D97-0361-4D11-9333-0E15D63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8ABB-F26B-4B19-B736-0D896FBD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52E-5CA8-4CBC-92B8-396E3BF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7B2C-4F11-4A7C-8A28-41286F51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D0B8-C5F9-4E53-A15F-DD88AFB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CD44-ABA0-46E9-9570-398C6AD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3A7E-5DC2-4D65-BA86-40BB30EC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D954-8F96-4627-9F9D-7C3C7937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BA21-F9A1-401C-9BED-D512A3B8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8502-ECEB-4905-B198-19EB93E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194D-3716-40E8-A7D6-97D6EDC9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A8D0-FC94-4A6F-9E2B-5CE6349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9DE2-4F2E-4FBB-9BB3-8DFB701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44F-F83E-4D33-ABF0-6160290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3D8B-A677-42F7-9834-B3E29AF4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26D9-37AC-49AA-97AD-1998EE6A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A9BE8-F3D4-4806-A456-73404938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53A3-8BE8-495D-806B-81E763E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ECBF-D335-4EED-890A-03B2CF5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240C-38CF-41DD-8474-24778F81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26D8-49C0-4306-836C-03F7C7D6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BC069-C682-4F53-ABEF-5F8F2C9A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8742-0201-419C-8F30-64CC610D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373-7F35-45CA-82E4-CB617019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C3A-7B9E-407F-BA66-748DFBD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968-742E-4D72-AED4-34CB770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8F5-E1E5-482F-BFA5-CB276A0B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BD7-DC71-44B2-8F07-CA8C23C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C254-3C36-4381-9BB6-29B5BAAB82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6B57-E8F8-4FC6-99BB-F19DB6D29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F91-9775-4AB0-8E58-B8A7B0E309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350-3522-4818-A679-80F37CFFC4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2920" y="2133720"/>
            <a:ext cx="115272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9280" y="2133720"/>
            <a:ext cx="5113440" cy="1079280"/>
            <a:chOff x="179280" y="2133720"/>
            <a:chExt cx="5113440" cy="1079280"/>
          </a:xfrm>
        </p:grpSpPr>
        <p:sp>
          <p:nvSpPr>
            <p:cNvPr id="168" name=""/>
            <p:cNvSpPr/>
            <p:nvPr/>
          </p:nvSpPr>
          <p:spPr>
            <a:xfrm>
              <a:off x="4140360" y="2133720"/>
              <a:ext cx="1152360" cy="43164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2781360"/>
              <a:ext cx="1152720" cy="43164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195640" y="2708280"/>
            <a:ext cx="115236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781360"/>
            <a:ext cx="72072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429000"/>
            <a:ext cx="122364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4005360"/>
            <a:ext cx="158436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005360"/>
            <a:ext cx="50328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2360" y="4653000"/>
            <a:ext cx="1079640" cy="4316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213372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278136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781360"/>
            <a:ext cx="100800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42900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7280" y="4076640"/>
            <a:ext cx="1513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4724280"/>
            <a:ext cx="136836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413000"/>
            <a:ext cx="1224000" cy="1152360"/>
          </a:xfrm>
          <a:prstGeom prst="ellipse">
            <a:avLst/>
          </a:prstGeom>
          <a:solidFill>
            <a:srgbClr val="9c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1773360"/>
            <a:ext cx="287280" cy="287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1773360"/>
            <a:ext cx="287280" cy="287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2060640"/>
            <a:ext cx="287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01080" y="1628640"/>
            <a:ext cx="216000" cy="505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1700280"/>
            <a:ext cx="216000" cy="50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9294600">
            <a:off x="6011640" y="2923920"/>
            <a:ext cx="431640" cy="360360"/>
          </a:xfrm>
          <a:prstGeom prst="flowChartDelay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255400">
            <a:off x="8569080" y="2887200"/>
            <a:ext cx="431640" cy="360360"/>
          </a:xfrm>
          <a:prstGeom prst="flowChartDelay">
            <a:avLst/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4797360"/>
            <a:ext cx="57636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4797360"/>
            <a:ext cx="576360" cy="36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042920" y="14400"/>
            <a:ext cx="69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3-07-02T10:48:40Z</dcterms:modified>
  <cp:revision>30</cp:revision>
  <dc:subject/>
  <dc:title>Slide 1</dc:title>
</cp:coreProperties>
</file>