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5FD1A-CF98-4B19-AB7F-AB158CD85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701800" y="480204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80BCF-67A6-4C66-9424-5582363E0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1032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E0D0E-AC28-47EF-BBC5-74379AD73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0932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4846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7018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0932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4846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1F634-570F-47F9-88CD-A5E0CFDF2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0BD34-5F9A-4A67-AE1A-4C12166E7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701800" y="3886200"/>
            <a:ext cx="4114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589E1-04D1-4D11-8BC2-FA32FE399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4114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E3EE9-D71E-4565-A4EA-1F7B05128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50440-9547-490C-9942-ECEE065DE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FB8E6-50A7-445C-AD9A-46222EC05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701440" y="2130120"/>
            <a:ext cx="48006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CC6A1-3AC6-4258-BEF9-F7320DB2A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DAD86-3DD8-4EE0-AAD3-B5ACB5806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701800" y="3886200"/>
            <a:ext cx="4114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64198-0CF0-4431-A0BE-9EB6DAA26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032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B3829-AC0F-4E6D-B7E1-15E15A767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C123D-FFDB-4998-BB88-642936554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701800" y="480204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25170-1F7D-4824-9492-0A19F665A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032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3A1FA-C87F-4AEB-BC13-C505926B1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0932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4846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7018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0932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4846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C9705-EE77-4B50-A9FF-461EDB33A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541DD0-8A32-4CD4-B746-AC7FF0F1B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701800" y="3886200"/>
            <a:ext cx="4114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D48B08-6F2D-4BC4-9DCC-A461500E6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4114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65ED67-4720-4664-ACF1-5092E7FF9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ADB752-D80E-499E-BA33-EEFF6B9AA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D63CEC-20EA-421F-A716-47BBD83AD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4114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19B0A-1328-4574-98D8-486275C2D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2701440" y="2130120"/>
            <a:ext cx="48006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C8BA85-26D4-40F5-B91F-636D0D786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25C130-4932-495B-AF31-32035E17E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1032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ECC5C2-DBA9-46F3-8D88-4108E66B9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121178-AEAA-4EAD-8E31-17BCD2498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2701800" y="480204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5D69C0-D17C-42BD-AB51-030497D37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1032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D07C14-CF5B-4218-ADB6-5D6CB11B8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0932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4846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27018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40932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4846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2666CA-6D2A-4012-8FF7-CB6D50B29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DE6CE3-050B-42AE-83E1-DC2D38401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2701800" y="3886200"/>
            <a:ext cx="4114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76E3B6-A843-4264-99C3-7F4E5D0FD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4114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9B0084-8D84-406C-A4F9-B2808A39A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443D2-824F-46F1-8D36-16A172197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2122F1-D080-453F-8C92-BB1F7C015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C1E60E-43C1-4534-A24B-F59CF8E6B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2701440" y="2130120"/>
            <a:ext cx="48006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04F81A-F936-4C7F-BE56-2EB39B824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FDDFEB-6CAB-41B0-BF0A-E20AB43C4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81032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6D1D99-F8A1-4C2E-BAB6-AC3882179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245283-7DC0-4524-99ED-E22DD7100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2701800" y="480204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1BD101-9843-46A6-B6EF-5737D95E6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81032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EE6314-3BBA-43DB-816B-11F2CE3AD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0932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4846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27018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40932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54846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138E2A-5018-4718-9313-0D5E97D86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4C758-F6B7-4541-B7D9-B4ED11F7F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701440" y="2130120"/>
            <a:ext cx="48006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5E2D7-E6B3-4251-8B50-246BF968E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BEA39-F3C4-4F14-8E2B-250A1DFDC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1032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47F7B-65D8-4AC5-B663-3C713EC4D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0A2C7-C788-48E1-9B68-622766206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6D178-C4A6-47A8-B319-641F2AE86D3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79600-7188-412B-B69F-AA7AEB76446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F226C-259A-4C65-B7DC-C8B3492EC11C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400" y="2130120"/>
            <a:ext cx="7313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7071F-DE68-4267-A7F2-DF8DEF608DD6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0" y="620640"/>
            <a:ext cx="9144000" cy="512784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1042920" y="2133720"/>
            <a:ext cx="1152720" cy="431640"/>
          </a:xfrm>
          <a:prstGeom prst="rect">
            <a:avLst/>
          </a:prstGeom>
          <a:noFill/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179280" y="2133720"/>
            <a:ext cx="5113440" cy="1079280"/>
            <a:chOff x="179280" y="2133720"/>
            <a:chExt cx="5113440" cy="1079280"/>
          </a:xfrm>
        </p:grpSpPr>
        <p:sp>
          <p:nvSpPr>
            <p:cNvPr id="168" name=""/>
            <p:cNvSpPr/>
            <p:nvPr/>
          </p:nvSpPr>
          <p:spPr>
            <a:xfrm>
              <a:off x="4140360" y="2133720"/>
              <a:ext cx="1152360" cy="431640"/>
            </a:xfrm>
            <a:prstGeom prst="rect">
              <a:avLst/>
            </a:prstGeom>
            <a:noFill/>
            <a:ln w="381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79280" y="2781360"/>
              <a:ext cx="1152720" cy="431640"/>
            </a:xfrm>
            <a:prstGeom prst="rect">
              <a:avLst/>
            </a:prstGeom>
            <a:noFill/>
            <a:ln w="381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2195640" y="2708280"/>
            <a:ext cx="1152360" cy="431640"/>
          </a:xfrm>
          <a:prstGeom prst="rect">
            <a:avLst/>
          </a:prstGeom>
          <a:noFill/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788000" y="2781360"/>
            <a:ext cx="720720" cy="431640"/>
          </a:xfrm>
          <a:prstGeom prst="rect">
            <a:avLst/>
          </a:prstGeom>
          <a:noFill/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4000" y="3429000"/>
            <a:ext cx="1223640" cy="431640"/>
          </a:xfrm>
          <a:prstGeom prst="rect">
            <a:avLst/>
          </a:prstGeom>
          <a:noFill/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042920" y="4005360"/>
            <a:ext cx="1584360" cy="431640"/>
          </a:xfrm>
          <a:prstGeom prst="rect">
            <a:avLst/>
          </a:prstGeom>
          <a:noFill/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716360" y="4005360"/>
            <a:ext cx="503280" cy="431640"/>
          </a:xfrm>
          <a:prstGeom prst="rect">
            <a:avLst/>
          </a:prstGeom>
          <a:noFill/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52360" y="4653000"/>
            <a:ext cx="1079640" cy="431640"/>
          </a:xfrm>
          <a:prstGeom prst="rect">
            <a:avLst/>
          </a:prstGeom>
          <a:noFill/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195640" y="2133720"/>
            <a:ext cx="1008000" cy="4316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258920" y="2781360"/>
            <a:ext cx="1008000" cy="4316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276720" y="2781360"/>
            <a:ext cx="1008000" cy="4316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619280" y="3429000"/>
            <a:ext cx="1081080" cy="4316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627280" y="4076640"/>
            <a:ext cx="1513080" cy="432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332000" y="4724280"/>
            <a:ext cx="1368360" cy="432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877080" y="1413000"/>
            <a:ext cx="1224000" cy="1152360"/>
          </a:xfrm>
          <a:prstGeom prst="ellipse">
            <a:avLst/>
          </a:prstGeom>
          <a:solidFill>
            <a:srgbClr val="9cc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093080" y="1773360"/>
            <a:ext cx="287280" cy="287280"/>
          </a:xfrm>
          <a:prstGeom prst="ellipse">
            <a:avLst/>
          </a:prstGeom>
          <a:solidFill>
            <a:srgbClr val="33cc33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596360" y="1773360"/>
            <a:ext cx="287280" cy="287280"/>
          </a:xfrm>
          <a:prstGeom prst="ellipse">
            <a:avLst/>
          </a:prstGeom>
          <a:solidFill>
            <a:srgbClr val="33cc33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308720" y="2060640"/>
            <a:ext cx="287640" cy="216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8101080" y="1628640"/>
            <a:ext cx="216000" cy="505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659640" y="1700280"/>
            <a:ext cx="216000" cy="50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rot="9294600">
            <a:off x="6011640" y="2923920"/>
            <a:ext cx="431640" cy="360360"/>
          </a:xfrm>
          <a:prstGeom prst="flowChartDelay">
            <a:avLst/>
          </a:prstGeom>
          <a:solidFill>
            <a:srgbClr val="cc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rot="2255400">
            <a:off x="8569080" y="2887200"/>
            <a:ext cx="431640" cy="360360"/>
          </a:xfrm>
          <a:prstGeom prst="flowChartDelay">
            <a:avLst/>
          </a:prstGeom>
          <a:solidFill>
            <a:srgbClr val="cc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588000" y="4797360"/>
            <a:ext cx="576360" cy="3603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812000" y="4797360"/>
            <a:ext cx="576360" cy="3603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0" y="476280"/>
            <a:ext cx="9144000" cy="50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0" y="476280"/>
            <a:ext cx="9144000" cy="526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0" y="549360"/>
            <a:ext cx="9144000" cy="49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1042920" y="14400"/>
            <a:ext cx="6985080" cy="68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0T08:57:05Z</dcterms:created>
  <dc:creator>Clare</dc:creator>
  <dc:description/>
  <dc:language>en-US</dc:language>
  <cp:lastModifiedBy>Clare Seccombe</cp:lastModifiedBy>
  <dcterms:modified xsi:type="dcterms:W3CDTF">2013-07-02T10:48:40Z</dcterms:modified>
  <cp:revision>30</cp:revision>
  <dc:subject/>
  <dc:title>Slide 1</dc:title>
</cp:coreProperties>
</file>