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7FA-3936-4D23-B25D-597C07EA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2DA-DEE3-4312-8654-64C0B6C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BD3-6F59-4650-843A-3885D97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856-6C47-4AAF-BDFD-5FBA084D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7B1-E58D-4C36-B4E0-CF50B6C5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3BC-5ACF-4DF4-9B55-FA82E17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6FE8-4B4C-4ED4-BF27-EEB47B2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787F-C24E-46F0-9972-94B94FC4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193D-FE84-4D32-8DFB-F86690A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3B7-8ABF-4992-9257-1FD7E21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DB8-C7F9-4384-BEE2-9767465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9AA-2225-4673-BD21-6C84633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4F25-5C77-4E7B-81A3-2266726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B823-83D3-491B-943C-4FC581F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4DE-F8C5-47F3-9987-62779C7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EBF6-AE35-45DA-BCC6-57512677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DC25-2FA5-4F51-B765-6CCE4C1D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FAFB-FEE4-4B2B-AB58-7DBD816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E521-2A36-4BB5-8E9A-28386F6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4A04-D7C5-423F-AFB3-88BFDF14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5A62-8B25-41FB-80F3-FBC3613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F7EE-A28C-4E78-ACB4-F9185EB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279-1D08-4572-BDDA-1037D293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1065-A581-4CA4-AE25-85166103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14CD-5898-4E3F-BDC4-610B215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3EB9-C400-48A4-A86B-0D4A8A2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7B52-A720-45B3-92CF-2BB4ABD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7993-645F-4DC3-855B-0D76311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1E48-D6C7-4028-A9EB-A1422DE5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23F3-67AA-4EA0-84A2-829FA895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A2E8-B923-484E-9E84-E38BDA4D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5F38-16C7-494C-9AA1-C2333D6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866C-5BD3-4B2C-803B-C4D9A202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C86-AC5D-41CB-9646-3781C641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8518-0624-4FE4-92A7-86FD2E2D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576A-B914-4F41-A9B2-F5F6D185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F066-A68F-45EF-9397-8815D9D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E902-7972-4B26-BD87-2B78D6D3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57C7-4F9E-4CD5-AE1B-2FAE04A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DB16-B09E-46AF-B1F9-8C60BE8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E266-E051-40B9-9F8B-AA61542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45ED-C901-4B08-8DF0-1B0BBC8A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815E-0165-4366-B745-37A22636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399-830B-4145-85DD-CF428E0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A66-94C6-411F-A8D5-FBA6EB4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945-9E19-4E3A-A869-81DA6A6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749-4C31-4432-B6C7-70757CD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8E0-19AC-4958-B0F1-9DE42AC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E8BB-31E6-43FF-966D-0C1B5A42C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5DB-ADC4-4E8D-AD9A-EBC80BDD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604B-4DD5-486E-B22E-1D51814310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34C2-598E-4CF0-A936-E28A08E8732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84280"/>
            <a:ext cx="1008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tê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leu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484280"/>
            <a:ext cx="1008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3645000"/>
            <a:ext cx="3527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bouc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645000"/>
            <a:ext cx="352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s cheveu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er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3645000"/>
            <a:ext cx="3527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 mai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i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645000"/>
            <a:ext cx="3527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 br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3645000"/>
            <a:ext cx="3527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s yeu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ro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ie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645000"/>
            <a:ext cx="2810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645000"/>
            <a:ext cx="1655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g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amb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3645000"/>
            <a:ext cx="3097080" cy="180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mic Sans MS"/>
              </a:rPr>
              <a:t>blanche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3645000"/>
            <a:ext cx="165564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r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ez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645000"/>
            <a:ext cx="3097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iole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3645000"/>
            <a:ext cx="1655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3-07-02T10:49:22Z</dcterms:modified>
  <cp:revision>32</cp:revision>
  <dc:subject/>
  <dc:title>Slide 1</dc:title>
</cp:coreProperties>
</file>