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33F-9EDE-4644-93EC-1A67D1ED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D25-7301-42E3-9BE9-2B91D3D2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D1F-25E5-4202-81E0-D5B3BE2B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169-CBB9-4C68-8C3F-6D71CB37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7955-06E5-41A8-8042-8241E9CF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20F0-05F9-497F-9051-BD253786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0B67-FC49-4B3F-868A-B6E2BA23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A578-4813-4B01-AFEE-B386BE18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0A7C-E399-49A1-8DE9-69220E6D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3DFD-C17E-44CD-8E7D-45C4AF27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36EA-3D99-4718-898C-9F5AEE4B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62A-C0E6-4D89-A7E0-D69ADE83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9E63-2A2A-44CC-AC41-6EB4C307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7E02-B85C-406D-8E05-E24F4505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BDF8-109C-43A2-96B0-1146EE19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83F5-3BFE-4777-A0B4-84E0CE16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2D7D-E136-43C6-9B8C-59190AC2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4F98F-271B-4272-B195-7DF2CCBD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FCBF8-A5F2-41C7-AF09-D79EDC1C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608A-40D6-47C9-94CD-BC9D93AD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CCE6-A266-413C-9939-6C591D2E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F0468-98E2-4FD3-B40B-9A8BF69D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CE5-C4FC-4A7C-861E-545A8756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AC9F-071A-4F62-8BBC-607E2C37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87940-D73D-4964-8E33-5FA5C718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00A4D-7624-4F0C-98A0-6B64F501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0804-E2C9-48EC-9D6C-5E959CD6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CDC2D-0EAB-499D-8B7D-DD2716A5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646E8-0623-47B9-AC4C-50D9A0B2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A7590-731F-4099-83EF-61C66A0E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F3863-0743-4CE4-BAEC-8C64975C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17504-9AA9-410C-8339-39F93946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FDDB5-28B1-4E4C-AFED-FCBBA636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800-5BCF-4371-A236-6461CAE5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9938A-96BD-4B03-955F-BFF3003B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CF4B8-4F06-4D6A-B7D3-2FAC853D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A78E-421E-4C0E-9F77-617667D0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92280-275F-451E-B645-08E86114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50F62-7F11-4CF0-898B-9F7C0EAD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6A24C-D112-4EC0-918C-D6DBA8C0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C119F-2231-49F5-A18F-2E72347B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96587-CAFB-426B-A20D-2482EFA3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FD757-D38E-4EF4-8F66-8519748F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EFF-CB5F-462F-B6C6-0AAC43D2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5C8-2767-4464-93A2-EA99BE89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76D-1693-470B-8768-583D248E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71F-8815-44BD-AB67-EF761F04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A0B-4012-4A4C-9AFB-9A5E3EEB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C3E7-46C6-4BAC-BEB1-62BF9729F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A9E1-B999-4CEB-B95C-E58D5ABE7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A520-BBD2-4B75-B949-DF75EC7016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94E4-65DA-4D20-8C6F-D08767EB187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3200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lu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484280"/>
            <a:ext cx="10080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3645000"/>
            <a:ext cx="3168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 tê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08720" y="3645000"/>
            <a:ext cx="3168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bleu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33200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484280"/>
            <a:ext cx="10080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1964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3645000"/>
            <a:ext cx="35272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 bouch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08720" y="3645000"/>
            <a:ext cx="3168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3200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1964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ai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1964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645000"/>
            <a:ext cx="3527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s cheveu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3645000"/>
            <a:ext cx="3168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ver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3200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lac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an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964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3645000"/>
            <a:ext cx="35272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es mai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08720" y="3645000"/>
            <a:ext cx="3168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oir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3200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g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1964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r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645000"/>
            <a:ext cx="3527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es br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8720" y="3645000"/>
            <a:ext cx="3168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r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3200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in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148428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y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3429000"/>
            <a:ext cx="3743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76360" y="3645000"/>
            <a:ext cx="3527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es yeu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08720" y="3645000"/>
            <a:ext cx="3168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o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340000" y="1484280"/>
            <a:ext cx="32400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row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1484280"/>
            <a:ext cx="323856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ee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1484280"/>
            <a:ext cx="187164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68360" y="3429000"/>
            <a:ext cx="33102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24360" y="3429000"/>
            <a:ext cx="323856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3645000"/>
            <a:ext cx="3024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ie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3645000"/>
            <a:ext cx="28101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arr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3429000"/>
            <a:ext cx="18000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3645000"/>
            <a:ext cx="165564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troi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340000" y="1484280"/>
            <a:ext cx="32400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24360" y="1484280"/>
            <a:ext cx="323856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eg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84280"/>
            <a:ext cx="187164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3429000"/>
            <a:ext cx="33102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24360" y="3429000"/>
            <a:ext cx="323856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11280" y="3645000"/>
            <a:ext cx="3024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jamb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6000" y="3645000"/>
            <a:ext cx="3097080" cy="180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mic Sans MS"/>
              </a:rPr>
              <a:t>blanches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3429000"/>
            <a:ext cx="18000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3645000"/>
            <a:ext cx="1655640" cy="16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deux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340000" y="1484280"/>
            <a:ext cx="32400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urp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4360" y="1484280"/>
            <a:ext cx="323856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o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1484280"/>
            <a:ext cx="187164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68360" y="3429000"/>
            <a:ext cx="33102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3429000"/>
            <a:ext cx="323856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3645000"/>
            <a:ext cx="3024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ez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6000" y="3645000"/>
            <a:ext cx="3097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viole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3429000"/>
            <a:ext cx="180000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3645000"/>
            <a:ext cx="16556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inq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3-07-02T10:49:22Z</dcterms:modified>
  <cp:revision>32</cp:revision>
  <dc:subject/>
  <dc:title>Slide 1</dc:title>
</cp:coreProperties>
</file>