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412-237C-4A35-BF3C-42E94D45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729-DC79-4067-926C-31119F4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37D-1234-472D-BADB-DF0DCCE5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C64-E4B3-42E6-92E9-7C35558E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D4B-FAE7-4938-84B1-94D2E52B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A6C-59E3-4F8F-ABEE-8EBE1570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C5BB-999E-41B2-8DDF-5D4AFDE0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8C3-C31A-4D86-9F28-5916668C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0D7-0118-45D4-BD0F-3B33400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8FF-B4D4-41BE-8384-C97F85D2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644-8EB9-473E-B0A9-9C636E12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76F-3844-4A2D-9EA2-51530B5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E2F0-CB2F-4572-B62D-1BD4828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5402-1E6F-4D19-80B0-3D20E9B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77A-4555-418C-9C19-DEE7C2B6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EDA-B543-45AB-98D0-1DB08CC4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B91-9165-4FA1-AB01-5EEA69EE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9D13-8F04-43AB-8386-C7D09E6C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0F67-8D5C-40E9-9430-591F9E2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E3DC-BF81-48A7-B1CD-0754980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1490-E877-4A85-AE94-6C944C9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4E05-DEF8-41F0-BC9C-A64F7D9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9A7-611E-45E7-80C9-94A5C23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4EA6-0878-4ED0-8994-84BE289E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75FD-4147-40D0-8F1A-0C8D390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6EE8-0909-4F19-9107-A92E691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9A0B-9DEA-4A07-95C9-373714F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C9DB-ED2B-4930-890E-6CBC7F4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3A53-3EA2-4CEA-9924-9762907E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6024-3EE7-4DF2-887A-53C2CFDB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AFFB-082D-48DD-9983-1AE68EA6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AE28-4338-430A-A416-A7FED6A1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EC66-3982-4080-9E7A-B530A72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FC5-FF4D-484B-97BD-E604838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65A2-F857-49AB-824A-F025D98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98F8-A325-4171-8C6C-2187DC03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3C9D-36AC-4DF5-A9A7-B5E765E5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7F8C-447A-4666-835F-9B2EBAC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0135-D14B-4D3A-830D-F745A7D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2063-B540-420C-93FC-E94C1E6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CF92-684B-4850-AE59-B7AA7BF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C2AE-72BD-49D2-9798-CEEDBDEC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68F4-7AB2-44C7-B318-410B8E58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050-883D-415F-8988-23D1673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C81-4829-43AC-9313-F2EC307B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344-5B83-4FF3-B688-EC34EAE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76A-3461-4325-99C1-4203C9F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DDB-E179-4168-82AB-53BA778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7E3F-3C55-455A-B9D6-AB6CCB14E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8FB6-375C-4A8D-816D-92319B381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A86C-FA31-4361-B63D-F09CB34956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5B8-C201-44E2-9D00-D182F10C5A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68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soixante-hu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36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quarante-neu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7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  sei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cinquante-tro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51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cinquante-et-u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45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trente-hu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deu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8:57Z</dcterms:modified>
  <cp:revision>39</cp:revision>
  <dc:subject/>
  <dc:title>Slide 1</dc:title>
</cp:coreProperties>
</file>