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3D4-18F4-4602-BAFE-732AF19A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C19-05CF-4065-9F81-62DAF692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F23-2039-4EE4-AD60-71F7AA4F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EE6-E3C6-4F62-8AE6-C64D785A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070E-0B22-4EE9-8F02-E99469DB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A7BF-16EB-47CE-A405-45281A67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5D06-E082-47D8-A436-0352EFFF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F3A4-C0CB-4DD6-AAAA-B88DF837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BBB1-46AE-4912-BD4E-07D0F7ED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9BA8-5D0D-4311-A84C-C755234A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C56E-12A7-4465-88AD-3227F521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80D-5570-4E84-BEF8-4319ACBF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378E-6DE7-4D98-848F-CE43CDC1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C3B-6CD7-4C73-A2BA-20F256B7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6D97-B154-42B1-B3DD-F6109847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C9DB-0698-40D4-85AB-01E891E8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A271-C10F-465C-8539-8C5E5D16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DCC0-7BF4-465E-A54A-1576EA4C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39D4-D8F2-4342-BC71-3E073845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F383-9658-41D7-9CA4-7D69E79A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0606-454D-4983-9B8C-E321AE5C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3C47-57A4-4C7C-ADA9-4353AAB6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DF5-CB9C-424F-8DAC-74412B3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845D-3CA6-4A4E-B7B8-E8565412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25CC-F7A3-402A-AB74-3C23EC6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36491-C629-48CA-9A91-E600177C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7642-2B08-4A2B-B522-DEDD115A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0E81-0F10-4C43-B6DD-79BF5DA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558C-D848-43F8-9321-086DECE6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B6F2-70CF-4C1D-85A7-B97C6B9D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280A-0D28-414B-BA9C-48711308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7E2B4-0EC4-4A06-994F-4CED4EAF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8FFE-F0F5-461A-9B69-CD6BD16B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B3D-583A-4D36-9960-E4259DF5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E7AD-2947-4527-B80F-4644310E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A3AD3-D871-4996-B05E-629BB156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4011-CAE4-4949-B746-FC52D6CF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6ECDE-01B3-4B69-BE8A-F10A58E7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1486E-5047-4F13-B91C-FB5276D0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70E8-EFA9-4BCA-AF29-E13F60BC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8574D-2BB6-446C-9902-E5427895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B01D8-60A5-406C-ABD2-D1E4EFFE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0E296-27D9-48EB-9535-5857A066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0ED-8324-468D-BBA9-41C86CC6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81B-ADE7-4BD1-BE49-1958BB37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1C1-A281-43A5-9838-E7EB2A3C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D83-9A8B-4FCF-85A9-5D63D760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EE7-589F-459B-8999-B7C4E4FD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315E-A913-4204-94D7-3E7D93B9AC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35C1-EB86-4D32-ADD1-44D58F39AB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75FB-8F96-43B9-9A04-6D9CB9C67E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6152-7B86-4EFC-94CD-2F9FDF5282B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68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soixante-hui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36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quarante-neu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7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   seiz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cinquante-tro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51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cinquante-et-u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45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trente-hui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Supérieur, inférieur ou égal ?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&gt;                &lt;               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    deu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1773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&g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4T23:58:57Z</dcterms:modified>
  <cp:revision>39</cp:revision>
  <dc:subject/>
  <dc:title>Slide 1</dc:title>
</cp:coreProperties>
</file>