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B48-1EA1-4BAF-8F02-24219224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E44-0C11-4942-A023-60D0B024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56F-51D6-4A4C-9063-71DB3B89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427-40E3-4402-AEF1-826E88EB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199-EF74-43F6-A9AA-34B8A1EA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AD3-F805-45A0-AD9B-A68BEAF4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079-0527-4793-AA0F-CF09A4DD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C16-4554-4A43-B2BF-AD5A374B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C07-C5B9-4BAE-9375-46C22277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FFC-11ED-4949-B501-DB2DD3CA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79A-AAD4-4E77-9F64-F7FD8E6B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197-8707-4476-A22C-2803BEC9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8122-1610-4EF0-8D2D-754135CDA1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8800" y="457200"/>
          <a:ext cx="5867280" cy="58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57200"/>
                    <a:ext cx="586728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5760" y="2286000"/>
            <a:ext cx="8958240" cy="320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66294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à pied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0" lang="en-GB" sz="16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GB" sz="160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lang="en-GB" sz="16000" spc="-1" strike="noStrike">
                <a:solidFill>
                  <a:srgbClr val="000000"/>
                </a:solidFill>
                <a:latin typeface="Comic Sans MS"/>
              </a:rPr>
              <a:t>lo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à mot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avio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Comic Sans MS"/>
              </a:rPr>
              <a:t>en bateau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Comic Sans MS"/>
              </a:rPr>
              <a:t>en bus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en autobu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Comic Sans MS"/>
              </a:rPr>
              <a:t>en tax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813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18000" spc="-1" strike="noStrike">
                <a:solidFill>
                  <a:srgbClr val="000000"/>
                </a:solidFill>
                <a:latin typeface="Comic Sans MS"/>
              </a:rPr>
              <a:t>en train</a:t>
            </a:r>
            <a:br>
              <a:rPr sz="18000"/>
            </a:b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voiture</a:t>
            </a:r>
            <a:br>
              <a:rPr sz="18000"/>
            </a:b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Comment</a:t>
            </a:r>
            <a:br>
              <a:rPr sz="12000"/>
            </a:b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vas-tu à </a:t>
            </a:r>
            <a:br>
              <a:rPr sz="12000"/>
            </a:b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l’école?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Je vais à l’école……..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3648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991720" cy="3433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345960"/>
            <a:ext cx="708660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906768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696960"/>
            <a:ext cx="83059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9917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20:39:24Z</dcterms:created>
  <dc:creator>Louise Lewington</dc:creator>
  <dc:description/>
  <dc:language>en-US</dc:language>
  <cp:lastModifiedBy>P.Seccombe</cp:lastModifiedBy>
  <cp:lastPrinted>2001-11-21T23:05:15Z</cp:lastPrinted>
  <dcterms:modified xsi:type="dcterms:W3CDTF">2009-09-29T10:30:15Z</dcterms:modified>
  <cp:revision>6</cp:revision>
  <dc:subject/>
  <dc:title>No Slide Title</dc:title>
</cp:coreProperties>
</file>