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6EB-1BA9-4ADB-92C6-A7D59098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855-E336-4F28-BB86-23A3033B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E77-5EF6-4914-8179-2DCA6B4B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9CD-32FB-4CC0-8A11-61B1FA80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809-EEEF-43B5-B2D2-A0A57C43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1AA-62B8-4644-95F7-EB0BBDB7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ED3-5C9D-41F9-B398-5CDEC043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970-9C6A-458A-86C3-3C6A16DA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95B0-8AF6-4449-BABE-84F432EA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7890-3410-4A06-BAA8-89CD99B9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F2C-BCED-4FE6-B4F3-12CA19E0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EF7-B596-4CB3-AAF4-EA9AE1E6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1779-DBA6-49C3-886B-B7A851CEDD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8800" y="457200"/>
          <a:ext cx="5867280" cy="58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57200"/>
                    <a:ext cx="586728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5760" y="2286000"/>
            <a:ext cx="8958240" cy="320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66294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à pied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0" lang="en-GB" sz="16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GB" sz="16000" spc="-1" strike="noStrike">
                <a:solidFill>
                  <a:srgbClr val="000000"/>
                </a:solidFill>
                <a:latin typeface="Comic Sans MS"/>
                <a:ea typeface="Arial"/>
              </a:rPr>
              <a:t>é</a:t>
            </a:r>
            <a:r>
              <a:rPr b="0" lang="en-GB" sz="16000" spc="-1" strike="noStrike">
                <a:solidFill>
                  <a:srgbClr val="000000"/>
                </a:solidFill>
                <a:latin typeface="Comic Sans MS"/>
              </a:rPr>
              <a:t>lo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à moto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avio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Comic Sans MS"/>
              </a:rPr>
              <a:t>en bateau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Comic Sans MS"/>
              </a:rPr>
              <a:t>en bus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en autobu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Comic Sans MS"/>
              </a:rPr>
              <a:t>en taxi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8134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18000" spc="-1" strike="noStrike">
                <a:solidFill>
                  <a:srgbClr val="000000"/>
                </a:solidFill>
                <a:latin typeface="Comic Sans MS"/>
              </a:rPr>
              <a:t>en train</a:t>
            </a:r>
            <a:br>
              <a:rPr sz="18000"/>
            </a:b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voiture</a:t>
            </a:r>
            <a:br>
              <a:rPr sz="18000"/>
            </a:b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3333cc"/>
                </a:solidFill>
                <a:latin typeface="Comic Sans MS"/>
              </a:rPr>
              <a:t>Comment</a:t>
            </a:r>
            <a:br>
              <a:rPr sz="12000"/>
            </a:br>
            <a:r>
              <a:rPr b="0" lang="en-GB" sz="12000" spc="-1" strike="noStrike">
                <a:solidFill>
                  <a:srgbClr val="3333cc"/>
                </a:solidFill>
                <a:latin typeface="Comic Sans MS"/>
              </a:rPr>
              <a:t>vas-tu à </a:t>
            </a:r>
            <a:br>
              <a:rPr sz="12000"/>
            </a:br>
            <a:r>
              <a:rPr b="0" lang="en-GB" sz="12000" spc="-1" strike="noStrike">
                <a:solidFill>
                  <a:srgbClr val="3333cc"/>
                </a:solidFill>
                <a:latin typeface="Comic Sans MS"/>
              </a:rPr>
              <a:t>l’école?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437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3333cc"/>
                </a:solidFill>
                <a:latin typeface="Comic Sans MS"/>
              </a:rPr>
              <a:t>Je vais à l’école……..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36482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8991720" cy="3433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345960"/>
            <a:ext cx="7086600" cy="65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906768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3818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696960"/>
            <a:ext cx="83059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99172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20:39:24Z</dcterms:created>
  <dc:creator>Louise Lewington</dc:creator>
  <dc:description/>
  <dc:language>en-US</dc:language>
  <cp:lastModifiedBy>P.Seccombe</cp:lastModifiedBy>
  <cp:lastPrinted>2001-11-21T23:05:15Z</cp:lastPrinted>
  <dcterms:modified xsi:type="dcterms:W3CDTF">2009-09-29T10:30:15Z</dcterms:modified>
  <cp:revision>6</cp:revision>
  <dc:subject/>
  <dc:title>No Slide Title</dc:title>
</cp:coreProperties>
</file>