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49B-CDF8-42BE-9EEA-FF49662B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155-8682-4691-894C-71F2C01D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187-4E21-409C-ABFB-B353A01D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51F-44DC-41D2-8B8A-222AA78B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6F7-859D-4D0B-B246-A5491834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202-2127-46D3-8829-8E8DE2D8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4C7-E253-4734-B45D-837566EB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CB5-A0EA-425E-B0BC-0919ACE2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282-1E2D-487D-A0EC-FF4E408C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CC7-2575-43C3-9622-597386B4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632-8492-4A4D-BB7D-94B9FD8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14B-19D1-47CE-B0D5-34344C3B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4DEF-8A5B-4E83-9C60-51671CFFF8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5940360" y="115920"/>
          <a:ext cx="2114640" cy="20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15920"/>
                    <a:ext cx="211464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0" y="2637000"/>
          <a:ext cx="284328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2843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7"/>
          <p:cNvGraphicFramePr/>
          <p:nvPr/>
        </p:nvGraphicFramePr>
        <p:xfrm>
          <a:off x="0" y="4941720"/>
          <a:ext cx="33847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941720"/>
                    <a:ext cx="3384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8"/>
          <p:cNvGraphicFramePr/>
          <p:nvPr/>
        </p:nvGraphicFramePr>
        <p:xfrm>
          <a:off x="0" y="333360"/>
          <a:ext cx="2879640" cy="17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33360"/>
                    <a:ext cx="287964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9"/>
          <p:cNvGraphicFramePr/>
          <p:nvPr/>
        </p:nvGraphicFramePr>
        <p:xfrm>
          <a:off x="6012000" y="3213000"/>
          <a:ext cx="1823760" cy="187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3213000"/>
                    <a:ext cx="182376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voiture</a:t>
            </a:r>
            <a:br>
              <a:rPr sz="18000"/>
            </a:b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Comment</a:t>
            </a:r>
            <a:br>
              <a:rPr sz="12000"/>
            </a:b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vas-tu à </a:t>
            </a:r>
            <a:br>
              <a:rPr sz="12000"/>
            </a:b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l’école?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437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3333cc"/>
                </a:solidFill>
                <a:latin typeface="Comic Sans MS"/>
              </a:rPr>
              <a:t>Je vais à l’école……..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à pied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v</a:t>
            </a:r>
            <a:r>
              <a:rPr b="0" lang="en-GB" sz="180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l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à mot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avio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bateau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bus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tax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en train</a:t>
            </a:r>
            <a:br>
              <a:rPr sz="18000"/>
            </a:b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20:39:24Z</dcterms:created>
  <dc:creator>Louise Lewington</dc:creator>
  <dc:description/>
  <dc:language>en-US</dc:language>
  <cp:lastModifiedBy>Clare</cp:lastModifiedBy>
  <cp:lastPrinted>2001-11-21T23:05:15Z</cp:lastPrinted>
  <dcterms:modified xsi:type="dcterms:W3CDTF">2010-02-01T13:17:53Z</dcterms:modified>
  <cp:revision>9</cp:revision>
  <dc:subject/>
  <dc:title>No Slide Title</dc:title>
</cp:coreProperties>
</file>