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D5A-A23B-41A9-AA89-A7E99C1F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B68-7E03-4A98-9A5A-4F15DFA9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A7D-1EA5-480C-84F4-54B9B41B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6CE-3D36-4839-A47B-6EC2A28A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A2B-852C-48C4-A9B6-A97E6850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F8F-8018-415E-BA2B-A29E75BB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927-A58E-4527-B9AB-A5F568B5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4F1-AE24-4C6C-871F-E3FDE57B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923-8BDB-4DB8-9626-7A567727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A88-EDA0-46D4-979D-D6D8677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DF9-A23D-483C-BC5C-52D94EEA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4F0-1F35-40E9-AD6A-22758878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EA42-65F2-49EF-8944-3FABB07A56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3780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8:35:18Z</dcterms:created>
  <dc:creator>carole.beeston</dc:creator>
  <dc:description/>
  <dc:language>en-US</dc:language>
  <cp:lastModifiedBy>P.Seccombe</cp:lastModifiedBy>
  <dcterms:modified xsi:type="dcterms:W3CDTF">2009-09-29T11:09:31Z</dcterms:modified>
  <cp:revision>2</cp:revision>
  <dc:subject/>
  <dc:title>Slide 1</dc:title>
</cp:coreProperties>
</file>