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BC4-C52E-461B-B32D-E3E42A8B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BBC-52CB-41B3-AE15-C7B2FDD1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CF6-F7D6-41BC-BE71-50A55678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F94-C1CC-48B2-97A6-B7111A2E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4A9-E7F7-4546-8AE4-38218179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42A-0091-4CA6-8FAA-9F696B8F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60A-BC39-4272-A559-38FDA566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6AA-A66E-4B60-84BB-A4C79FA9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F9B-F2D7-4EEA-AEA8-4D87BDF2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D4D-EA4F-49C4-9AC0-56E87C66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CCF-49AE-4EE1-AD08-5B54D717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DC4-5E12-4416-BD7C-DF1BB403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09C6-201C-4A73-8114-6FE0D428D0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13780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8:35:18Z</dcterms:created>
  <dc:creator>carole.beeston</dc:creator>
  <dc:description/>
  <dc:language>en-US</dc:language>
  <cp:lastModifiedBy>P.Seccombe</cp:lastModifiedBy>
  <dcterms:modified xsi:type="dcterms:W3CDTF">2009-09-29T11:09:31Z</dcterms:modified>
  <cp:revision>2</cp:revision>
  <dc:subject/>
  <dc:title>Slide 1</dc:title>
</cp:coreProperties>
</file>