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25C-D760-4CF4-870E-8855B6C0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A11-47D4-4641-BB1E-07E67A63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2C1-3E08-40EE-BFF1-7C1C1305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2B7-5992-4189-A36A-5859A6AB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5C9F2-57A2-495F-BC13-CBC0743F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527AC-7D68-4AF1-8E4B-BA658F2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01C0A-DD07-407E-929E-B6FB0662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FB26E-48D1-46E1-BBDD-5036ECD6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D93BF-B6EF-4E05-8316-B5820687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19FBD-87C9-492E-AA47-39CB51F7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3F4E-1530-4197-9514-82427DB2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09E-BA9C-46C2-8B15-5E78E416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CC091-B752-4E53-BF56-5BE7CB0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B127A-AAD2-412B-9745-36B5692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A0D6-D167-4865-93C9-1DC07749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04D2D-DD96-48AD-93EA-193976C0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FD7F-C38F-4AA1-8106-7F05283E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046-955C-4577-A188-6D9903A6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B9B-08E2-4A92-8E4E-012A618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920-3E2E-4EE9-9927-582D4B7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06C-8DE0-4A89-A2D6-55380A26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CD2-CC67-4BD9-B760-6FB4EA5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743-B548-4E07-9CF9-7A506286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572-D832-4204-807D-3B21898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693D-1D42-4777-A99F-17B1CE81F5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B43-80CC-4CDB-B92B-3492CFF95C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Où vas – t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 Je vais en 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–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 –  en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 Je vais en Belg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–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 -   en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 Je vais en Guy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- 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  Je vais en Côte d’Ivo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–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34:22Z</dcterms:created>
  <dc:creator>Heron</dc:creator>
  <dc:description/>
  <dc:language>en-US</dc:language>
  <cp:lastModifiedBy>P.Seccombe</cp:lastModifiedBy>
  <dcterms:modified xsi:type="dcterms:W3CDTF">2009-09-29T10:49:47Z</dcterms:modified>
  <cp:revision>38</cp:revision>
  <dc:subject/>
  <dc:title>Slide 1</dc:title>
</cp:coreProperties>
</file>