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1E3-A42C-47D1-B9DE-B87AE1D5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E88-4B55-4BB0-BAF3-191F306C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D56-3C86-4E50-979D-ED601E9E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ECA-3B3C-4A48-9EF1-5884877C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A3A6C-2C72-4FD7-B454-75F75122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ED036-D0C2-4C54-82F9-558213D4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6CB73-206C-48AA-93B1-BC17A382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EB506-E2AF-42F3-90DE-3A979C02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F335D-D574-4EF6-8F87-ABE58806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A9283-0634-4030-B43A-40E4A7F1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1797B-8E41-4526-8477-1C9DCCD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701-4E37-4168-99EE-C2E37C8E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83193-2AB1-4D45-B449-25E09300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1D4DA-AEA6-4B6D-AAAA-F8F6EFE3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8F12E-F6C2-41AA-8263-FE93255C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280C3-2666-41BF-B774-5E7DD261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2B1CC-033D-4060-BC19-E93AE44D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9F2-64BE-4B11-8ED5-18CF3389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988-DD10-4D8F-8BC2-FB64F2F8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3AE-7FC7-435B-8AC6-558A5040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A63-995F-495A-928D-17011D27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402-0DC7-419F-900E-3ECB265F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664-16A3-4C08-8E06-2C77631B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901-8E4B-4ED2-A407-DE3FE92C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6D24-8BB7-4E20-9268-26C7354D93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B4B4-F7CD-415B-8D26-5C2D0F5450B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Où vas – t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 Je vais en F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–  en bate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 –  en train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 –  en av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 –  en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 Je vais en Belg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–  en bate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 –  en t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 –  en av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 -   en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 Je vais en Guy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-   en bate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 –  en t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 –  en av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  Je vais en Côte d’Ivo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–  en bate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 –  en trai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 –  en av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34:22Z</dcterms:created>
  <dc:creator>Heron</dc:creator>
  <dc:description/>
  <dc:language>en-US</dc:language>
  <cp:lastModifiedBy>P.Seccombe</cp:lastModifiedBy>
  <dcterms:modified xsi:type="dcterms:W3CDTF">2009-09-29T10:49:47Z</dcterms:modified>
  <cp:revision>38</cp:revision>
  <dc:subject/>
  <dc:title>Slide 1</dc:title>
</cp:coreProperties>
</file>