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997-9721-4DC5-855B-B6116A20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B9B-D472-4FD1-91BA-F07E4EF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6EB-02F0-4F02-91D8-813A95A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90D-4635-4694-A43D-E5220EB9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E70-69A8-4A55-A6C0-116BA52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9B4-8738-4859-9AF4-A0B48E8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068-775A-4517-B90E-43344EF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A68-0F2B-4841-9551-46B119A4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54E-1602-4CD8-9ED9-084F10F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48B-0D89-4B42-8580-067E200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1F2-AF7A-4C65-989B-EE481E1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BED-716F-4A55-8342-36699F2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6C97-3087-4E3F-94C0-BC0FB1C951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2896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5720" y="15840"/>
            <a:ext cx="86979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7520" y="0"/>
            <a:ext cx="69134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440" y="1764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884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8752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11200" y="22320"/>
            <a:ext cx="7058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00280" y="0"/>
            <a:ext cx="64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6480"/>
            <a:ext cx="92898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44960" y="0"/>
            <a:ext cx="359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4:47Z</dcterms:created>
  <dc:creator>ben.dalglish</dc:creator>
  <dc:description/>
  <dc:language>en-US</dc:language>
  <cp:lastModifiedBy>P.Seccombe</cp:lastModifiedBy>
  <dcterms:modified xsi:type="dcterms:W3CDTF">2009-09-29T10:52:35Z</dcterms:modified>
  <cp:revision>8</cp:revision>
  <dc:subject/>
  <dc:title>Slide 1</dc:title>
</cp:coreProperties>
</file>