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F3A-77F2-4F9F-B86C-4A03EDC9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11F-F33F-41B6-9E27-05098E7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8E1-5C5B-4D67-925F-D3CD8BB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367-58AC-409E-9BF3-2D491905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47F-D29A-45BB-99B3-6422B495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C08-A5D1-4120-976E-26A5246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F5B-0F41-4AD0-9AD9-85D5B20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3F7-F1BD-46F3-A22C-E2801B05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4B4-96A8-4E3B-93F9-1F5F3386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6B7-34B1-476D-A474-F51C5CB3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207-D732-411B-90CC-FC812EE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5D-17EB-43F3-A024-952647B9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517-BFB7-4952-BD4D-48022A3C16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2896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5720" y="15840"/>
            <a:ext cx="86979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7520" y="0"/>
            <a:ext cx="69134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440" y="1764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884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8752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11200" y="22320"/>
            <a:ext cx="7058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00280" y="0"/>
            <a:ext cx="64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6480"/>
            <a:ext cx="92898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44960" y="0"/>
            <a:ext cx="359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2:35Z</dcterms:modified>
  <cp:revision>8</cp:revision>
  <dc:subject/>
  <dc:title>Slide 1</dc:title>
</cp:coreProperties>
</file>