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2C82-AF37-4310-8BDA-D2A4A8A4A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1042-43FC-4059-89AA-52FB7C80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FE05-22DB-4D11-B808-C7BA76710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35A7-87F4-480A-B7F7-3FEFA289F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2E42-2972-4036-80D1-A37F01DF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2789-D05A-4505-BB9C-F693A665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092E-852D-4231-8676-7066C41C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DD72-11BE-48F6-8394-FB964CFD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AD94-9461-4B93-9A5B-2A724C11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9050-310A-4ACD-98AF-00DF7FDF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BAD5-15EE-462C-B734-247F6A46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2968-243D-4AE2-B77E-74CD2EAF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4170-0BDC-41BA-B1C6-D419472B48A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5.wmf"/><Relationship Id="rId12" Type="http://schemas.openxmlformats.org/officeDocument/2006/relationships/image" Target="../media/image4.wmf"/><Relationship Id="rId13" Type="http://schemas.openxmlformats.org/officeDocument/2006/relationships/image" Target="../media/image3.wmf"/><Relationship Id="rId14" Type="http://schemas.openxmlformats.org/officeDocument/2006/relationships/image" Target="../media/image2.wmf"/><Relationship Id="rId15" Type="http://schemas.openxmlformats.org/officeDocument/2006/relationships/image" Target="../media/image1.wmf"/><Relationship Id="rId16" Type="http://schemas.openxmlformats.org/officeDocument/2006/relationships/image" Target="../media/image6.wmf"/><Relationship Id="rId17" Type="http://schemas.openxmlformats.org/officeDocument/2006/relationships/image" Target="../media/image7.wmf"/><Relationship Id="rId18" Type="http://schemas.openxmlformats.org/officeDocument/2006/relationships/image" Target="../media/image8.wmf"/><Relationship Id="rId19" Type="http://schemas.openxmlformats.org/officeDocument/2006/relationships/image" Target="../media/image9.wmf"/><Relationship Id="rId20" Type="http://schemas.openxmlformats.org/officeDocument/2006/relationships/image" Target="../media/image10.wmf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631800" y="549360"/>
            <a:ext cx="8642520" cy="2379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5000" spc="-1" strike="noStrike">
                <a:solidFill>
                  <a:srgbClr val="0000ff"/>
                </a:solidFill>
                <a:latin typeface="Comic Sans MS"/>
              </a:rPr>
              <a:t>lundi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631800" y="3933720"/>
            <a:ext cx="8642520" cy="2379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5000" spc="-1" strike="noStrike">
                <a:solidFill>
                  <a:srgbClr val="0000ff"/>
                </a:solidFill>
                <a:latin typeface="Comic Sans MS"/>
              </a:rPr>
              <a:t>mardi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336680" y="549360"/>
            <a:ext cx="720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juille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336680" y="4653000"/>
            <a:ext cx="720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septembr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336680" y="2604960"/>
            <a:ext cx="720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aoû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336680" y="549360"/>
            <a:ext cx="720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octobr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336680" y="4653000"/>
            <a:ext cx="720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décembr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336680" y="2604960"/>
            <a:ext cx="720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novembr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127080" y="115920"/>
            <a:ext cx="6481800" cy="3141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ff0000"/>
                </a:solidFill>
                <a:latin typeface="Comic Sans MS"/>
              </a:rPr>
              <a:t>il fait chaud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27080" y="3573360"/>
            <a:ext cx="6481800" cy="3141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ff0000"/>
                </a:solidFill>
                <a:latin typeface="Comic Sans MS"/>
              </a:rPr>
              <a:t>il y a    du soleil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7040520" y="260280"/>
            <a:ext cx="2448000" cy="287964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pic>
        <p:nvPicPr>
          <p:cNvPr id="94" name="Picture 7" descr=""/>
          <p:cNvPicPr/>
          <p:nvPr/>
        </p:nvPicPr>
        <p:blipFill>
          <a:blip r:embed="rId2"/>
          <a:stretch/>
        </p:blipFill>
        <p:spPr>
          <a:xfrm>
            <a:off x="6826320" y="3716280"/>
            <a:ext cx="2879640" cy="285120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27080" y="115920"/>
            <a:ext cx="6481800" cy="3141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ff0000"/>
                </a:solidFill>
                <a:latin typeface="Comic Sans MS"/>
              </a:rPr>
              <a:t>il fait beau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27080" y="3573360"/>
            <a:ext cx="6481800" cy="3141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ff0000"/>
                </a:solidFill>
                <a:latin typeface="Comic Sans MS"/>
              </a:rPr>
              <a:t>il fait froid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6824520" y="260280"/>
            <a:ext cx="2880000" cy="287964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pic>
        <p:nvPicPr>
          <p:cNvPr id="98" name="Picture 5" descr=""/>
          <p:cNvPicPr/>
          <p:nvPr/>
        </p:nvPicPr>
        <p:blipFill>
          <a:blip r:embed="rId2"/>
          <a:stretch/>
        </p:blipFill>
        <p:spPr>
          <a:xfrm>
            <a:off x="7184880" y="3718080"/>
            <a:ext cx="2195640" cy="287964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27080" y="115920"/>
            <a:ext cx="648180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ff0000"/>
                </a:solidFill>
                <a:latin typeface="Comic Sans MS"/>
              </a:rPr>
              <a:t>il pleu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27080" y="3573360"/>
            <a:ext cx="648180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ff0000"/>
                </a:solidFill>
                <a:latin typeface="Comic Sans MS"/>
              </a:rPr>
              <a:t>il neig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7201080" y="260280"/>
            <a:ext cx="2144520" cy="287964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6826320" y="3789360"/>
            <a:ext cx="2879640" cy="278928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27080" y="115920"/>
            <a:ext cx="6481800" cy="3141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ff0000"/>
                </a:solidFill>
                <a:latin typeface="Comic Sans MS"/>
              </a:rPr>
              <a:t>il y a    du ven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27080" y="3573360"/>
            <a:ext cx="6481800" cy="3141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ff0000"/>
                </a:solidFill>
                <a:latin typeface="Comic Sans MS"/>
              </a:rPr>
              <a:t>il y a des nuage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6912000" y="262080"/>
            <a:ext cx="2720880" cy="287964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6824520" y="4076640"/>
            <a:ext cx="2880000" cy="212400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27080" y="115920"/>
            <a:ext cx="6481800" cy="3141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ff0000"/>
                </a:solidFill>
                <a:latin typeface="Comic Sans MS"/>
              </a:rPr>
              <a:t>il fait mauvai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27080" y="3573360"/>
            <a:ext cx="6481800" cy="46656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ff0000"/>
                </a:solidFill>
                <a:latin typeface="Comic Sans MS"/>
              </a:rPr>
              <a:t>il y a du brouillard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7616880" y="260280"/>
            <a:ext cx="1508040" cy="287964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6824520" y="4043520"/>
            <a:ext cx="2880000" cy="226512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7167600" y="214200"/>
            <a:ext cx="928800" cy="104472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pic>
        <p:nvPicPr>
          <p:cNvPr id="112" name="Picture 5" descr=""/>
          <p:cNvPicPr/>
          <p:nvPr/>
        </p:nvPicPr>
        <p:blipFill>
          <a:blip r:embed="rId2"/>
          <a:stretch/>
        </p:blipFill>
        <p:spPr>
          <a:xfrm>
            <a:off x="5738760" y="214200"/>
            <a:ext cx="1000080" cy="104796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pic>
        <p:nvPicPr>
          <p:cNvPr id="113" name="Picture 6" descr=""/>
          <p:cNvPicPr/>
          <p:nvPr/>
        </p:nvPicPr>
        <p:blipFill>
          <a:blip r:embed="rId3"/>
          <a:stretch/>
        </p:blipFill>
        <p:spPr>
          <a:xfrm>
            <a:off x="4309920" y="214200"/>
            <a:ext cx="1071720" cy="107172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pic>
        <p:nvPicPr>
          <p:cNvPr id="114" name="Picture 7" descr=""/>
          <p:cNvPicPr/>
          <p:nvPr/>
        </p:nvPicPr>
        <p:blipFill>
          <a:blip r:embed="rId4"/>
          <a:stretch/>
        </p:blipFill>
        <p:spPr>
          <a:xfrm>
            <a:off x="2738520" y="285840"/>
            <a:ext cx="1071360" cy="107136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pic>
        <p:nvPicPr>
          <p:cNvPr id="115" name="Picture 8" descr=""/>
          <p:cNvPicPr/>
          <p:nvPr/>
        </p:nvPicPr>
        <p:blipFill>
          <a:blip r:embed="rId5"/>
          <a:stretch/>
        </p:blipFill>
        <p:spPr>
          <a:xfrm>
            <a:off x="1095480" y="214200"/>
            <a:ext cx="1071360" cy="112248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pic>
        <p:nvPicPr>
          <p:cNvPr id="116" name="Picture 9" descr=""/>
          <p:cNvPicPr/>
          <p:nvPr/>
        </p:nvPicPr>
        <p:blipFill>
          <a:blip r:embed="rId6"/>
          <a:stretch/>
        </p:blipFill>
        <p:spPr>
          <a:xfrm>
            <a:off x="1093680" y="1785960"/>
            <a:ext cx="1073160" cy="107172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pic>
        <p:nvPicPr>
          <p:cNvPr id="117" name="Picture 10" descr=""/>
          <p:cNvPicPr/>
          <p:nvPr/>
        </p:nvPicPr>
        <p:blipFill>
          <a:blip r:embed="rId7"/>
          <a:stretch/>
        </p:blipFill>
        <p:spPr>
          <a:xfrm>
            <a:off x="2666880" y="1785960"/>
            <a:ext cx="1069920" cy="107172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pic>
        <p:nvPicPr>
          <p:cNvPr id="118" name="Picture 11" descr=""/>
          <p:cNvPicPr/>
          <p:nvPr/>
        </p:nvPicPr>
        <p:blipFill>
          <a:blip r:embed="rId8"/>
          <a:stretch/>
        </p:blipFill>
        <p:spPr>
          <a:xfrm>
            <a:off x="4309920" y="1714680"/>
            <a:ext cx="1000440" cy="106992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pic>
        <p:nvPicPr>
          <p:cNvPr id="119" name="Picture 12" descr=""/>
          <p:cNvPicPr/>
          <p:nvPr/>
        </p:nvPicPr>
        <p:blipFill>
          <a:blip r:embed="rId9"/>
          <a:stretch/>
        </p:blipFill>
        <p:spPr>
          <a:xfrm>
            <a:off x="5810400" y="1785960"/>
            <a:ext cx="998280" cy="100008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pic>
        <p:nvPicPr>
          <p:cNvPr id="120" name="Picture 13" descr=""/>
          <p:cNvPicPr/>
          <p:nvPr/>
        </p:nvPicPr>
        <p:blipFill>
          <a:blip r:embed="rId10"/>
          <a:stretch/>
        </p:blipFill>
        <p:spPr>
          <a:xfrm>
            <a:off x="7238880" y="1785960"/>
            <a:ext cx="928800" cy="97488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pic>
        <p:nvPicPr>
          <p:cNvPr id="121" name="Picture 8" descr=""/>
          <p:cNvPicPr/>
          <p:nvPr/>
        </p:nvPicPr>
        <p:blipFill>
          <a:blip r:embed="rId11"/>
          <a:stretch/>
        </p:blipFill>
        <p:spPr>
          <a:xfrm>
            <a:off x="1166760" y="3143160"/>
            <a:ext cx="1071720" cy="112248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pic>
        <p:nvPicPr>
          <p:cNvPr id="122" name="Picture 7" descr=""/>
          <p:cNvPicPr/>
          <p:nvPr/>
        </p:nvPicPr>
        <p:blipFill>
          <a:blip r:embed="rId12"/>
          <a:stretch/>
        </p:blipFill>
        <p:spPr>
          <a:xfrm>
            <a:off x="2738520" y="3143160"/>
            <a:ext cx="1071360" cy="107172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pic>
        <p:nvPicPr>
          <p:cNvPr id="123" name="Picture 6" descr=""/>
          <p:cNvPicPr/>
          <p:nvPr/>
        </p:nvPicPr>
        <p:blipFill>
          <a:blip r:embed="rId13"/>
          <a:stretch/>
        </p:blipFill>
        <p:spPr>
          <a:xfrm>
            <a:off x="4309920" y="3143160"/>
            <a:ext cx="1071720" cy="107172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pic>
        <p:nvPicPr>
          <p:cNvPr id="124" name="Picture 5" descr=""/>
          <p:cNvPicPr/>
          <p:nvPr/>
        </p:nvPicPr>
        <p:blipFill>
          <a:blip r:embed="rId14"/>
          <a:stretch/>
        </p:blipFill>
        <p:spPr>
          <a:xfrm>
            <a:off x="5810400" y="3143160"/>
            <a:ext cx="1000080" cy="104796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pic>
        <p:nvPicPr>
          <p:cNvPr id="125" name="Picture 4" descr=""/>
          <p:cNvPicPr/>
          <p:nvPr/>
        </p:nvPicPr>
        <p:blipFill>
          <a:blip r:embed="rId15"/>
          <a:stretch/>
        </p:blipFill>
        <p:spPr>
          <a:xfrm>
            <a:off x="7238880" y="3143160"/>
            <a:ext cx="928800" cy="104472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pic>
        <p:nvPicPr>
          <p:cNvPr id="126" name="Picture 9" descr=""/>
          <p:cNvPicPr/>
          <p:nvPr/>
        </p:nvPicPr>
        <p:blipFill>
          <a:blip r:embed="rId16"/>
          <a:stretch/>
        </p:blipFill>
        <p:spPr>
          <a:xfrm>
            <a:off x="1166760" y="4643280"/>
            <a:ext cx="1073160" cy="107172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pic>
        <p:nvPicPr>
          <p:cNvPr id="127" name="Picture 10" descr=""/>
          <p:cNvPicPr/>
          <p:nvPr/>
        </p:nvPicPr>
        <p:blipFill>
          <a:blip r:embed="rId17"/>
          <a:stretch/>
        </p:blipFill>
        <p:spPr>
          <a:xfrm>
            <a:off x="2666880" y="4643280"/>
            <a:ext cx="1069920" cy="107172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pic>
        <p:nvPicPr>
          <p:cNvPr id="128" name="Picture 11" descr=""/>
          <p:cNvPicPr/>
          <p:nvPr/>
        </p:nvPicPr>
        <p:blipFill>
          <a:blip r:embed="rId18"/>
          <a:stretch/>
        </p:blipFill>
        <p:spPr>
          <a:xfrm>
            <a:off x="4309920" y="4572000"/>
            <a:ext cx="1000440" cy="106992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pic>
        <p:nvPicPr>
          <p:cNvPr id="129" name="Picture 12" descr=""/>
          <p:cNvPicPr/>
          <p:nvPr/>
        </p:nvPicPr>
        <p:blipFill>
          <a:blip r:embed="rId19"/>
          <a:stretch/>
        </p:blipFill>
        <p:spPr>
          <a:xfrm>
            <a:off x="5810400" y="4572000"/>
            <a:ext cx="998280" cy="100008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pic>
        <p:nvPicPr>
          <p:cNvPr id="130" name="Picture 13" descr=""/>
          <p:cNvPicPr/>
          <p:nvPr/>
        </p:nvPicPr>
        <p:blipFill>
          <a:blip r:embed="rId20"/>
          <a:stretch/>
        </p:blipFill>
        <p:spPr>
          <a:xfrm>
            <a:off x="7238880" y="4572000"/>
            <a:ext cx="928800" cy="97488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631800" y="549360"/>
            <a:ext cx="8642520" cy="4665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5000" spc="-1" strike="noStrike">
                <a:solidFill>
                  <a:srgbClr val="0000ff"/>
                </a:solidFill>
                <a:latin typeface="Comic Sans MS"/>
              </a:rPr>
              <a:t>mercredi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631800" y="3933720"/>
            <a:ext cx="8642520" cy="2379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5000" spc="-1" strike="noStrike">
                <a:solidFill>
                  <a:srgbClr val="0000ff"/>
                </a:solidFill>
                <a:latin typeface="Comic Sans MS"/>
              </a:rPr>
              <a:t>jeudi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631800" y="549360"/>
            <a:ext cx="8642520" cy="2379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5000" spc="-1" strike="noStrike">
                <a:solidFill>
                  <a:srgbClr val="0000ff"/>
                </a:solidFill>
                <a:latin typeface="Comic Sans MS"/>
              </a:rPr>
              <a:t>vendredi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631800" y="3933720"/>
            <a:ext cx="8642520" cy="2379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5000" spc="-1" strike="noStrike">
                <a:solidFill>
                  <a:srgbClr val="0000ff"/>
                </a:solidFill>
                <a:latin typeface="Comic Sans MS"/>
              </a:rPr>
              <a:t>samedi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631800" y="549360"/>
            <a:ext cx="8642520" cy="4665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5000" spc="-1" strike="noStrike">
                <a:solidFill>
                  <a:srgbClr val="0000ff"/>
                </a:solidFill>
                <a:latin typeface="Comic Sans MS"/>
              </a:rPr>
              <a:t>dimanche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3"/>
          <p:cNvSpPr/>
          <p:nvPr/>
        </p:nvSpPr>
        <p:spPr>
          <a:xfrm>
            <a:off x="200160" y="4653000"/>
            <a:ext cx="216036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2647800" y="4653000"/>
            <a:ext cx="216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5"/>
          <p:cNvSpPr/>
          <p:nvPr/>
        </p:nvSpPr>
        <p:spPr>
          <a:xfrm>
            <a:off x="5095800" y="4653000"/>
            <a:ext cx="216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7545240" y="4653000"/>
            <a:ext cx="216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200160" y="549360"/>
            <a:ext cx="216036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2647800" y="549360"/>
            <a:ext cx="216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9"/>
          <p:cNvSpPr/>
          <p:nvPr/>
        </p:nvSpPr>
        <p:spPr>
          <a:xfrm>
            <a:off x="5095800" y="549360"/>
            <a:ext cx="216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7545240" y="549360"/>
            <a:ext cx="216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200160" y="2600280"/>
            <a:ext cx="216036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2647800" y="2600280"/>
            <a:ext cx="216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5095800" y="2600280"/>
            <a:ext cx="216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4"/>
          <p:cNvSpPr/>
          <p:nvPr/>
        </p:nvSpPr>
        <p:spPr>
          <a:xfrm>
            <a:off x="7545240" y="2600280"/>
            <a:ext cx="216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200160" y="4653000"/>
            <a:ext cx="216036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2647800" y="4653000"/>
            <a:ext cx="216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22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5095800" y="4653000"/>
            <a:ext cx="216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23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7545240" y="4653000"/>
            <a:ext cx="216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200160" y="549360"/>
            <a:ext cx="216036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2647800" y="549360"/>
            <a:ext cx="216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5095800" y="549360"/>
            <a:ext cx="216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7545240" y="549360"/>
            <a:ext cx="216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200160" y="2600280"/>
            <a:ext cx="216036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17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2647800" y="2600280"/>
            <a:ext cx="216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5095800" y="2600280"/>
            <a:ext cx="216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7545240" y="2600280"/>
            <a:ext cx="216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6"/>
          <p:cNvSpPr/>
          <p:nvPr/>
        </p:nvSpPr>
        <p:spPr>
          <a:xfrm>
            <a:off x="200160" y="549360"/>
            <a:ext cx="216036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2647800" y="549360"/>
            <a:ext cx="216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5095800" y="549360"/>
            <a:ext cx="216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27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7545240" y="549360"/>
            <a:ext cx="216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28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200160" y="2600280"/>
            <a:ext cx="216036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29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2647800" y="2600280"/>
            <a:ext cx="216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5095800" y="2600280"/>
            <a:ext cx="216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31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1336680" y="549360"/>
            <a:ext cx="720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janvier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1336680" y="4653000"/>
            <a:ext cx="720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mar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1336680" y="2604960"/>
            <a:ext cx="720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février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336680" y="549360"/>
            <a:ext cx="720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avril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336680" y="4653000"/>
            <a:ext cx="720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jui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1336680" y="2604960"/>
            <a:ext cx="720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mai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18:54:47Z</dcterms:created>
  <dc:creator>ben.dalglish</dc:creator>
  <dc:description/>
  <dc:language>en-US</dc:language>
  <cp:lastModifiedBy>P.Seccombe</cp:lastModifiedBy>
  <dcterms:modified xsi:type="dcterms:W3CDTF">2009-09-29T10:54:53Z</dcterms:modified>
  <cp:revision>10</cp:revision>
  <dc:subject/>
  <dc:title>Slide 1</dc:title>
</cp:coreProperties>
</file>