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103-7C41-433E-8305-045FCB1C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AA8-54D6-4B42-B87D-BF54C14D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5BC-E571-456B-B22B-163090D1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CAD-FD04-410B-9335-60D9F3D8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C1D-E315-4D50-BEE1-FB01457D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D5A-AB6D-46E2-AB7B-AA21F98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03B-F7A0-45A8-BEDA-1FE9137E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02C-FBED-4997-9909-3A0760E3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464-16BD-41BA-85F1-C88CBCB9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A2E-E512-4BBB-8C11-241AD64D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2B5-5B44-4AAD-A64D-A93E4A0B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056-555A-4D18-B14E-1EB48869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313E-496D-45B8-B6FE-310741A8C0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6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image" Target="../media/image9.wmf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31800" y="54936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lun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31800" y="393372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mar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36680" y="5493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336680" y="465300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336680" y="26049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36680" y="5493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36680" y="465300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336680" y="26049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27080" y="11592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chau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7080" y="357336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y a    du sole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040520" y="260280"/>
            <a:ext cx="244800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6826320" y="3716280"/>
            <a:ext cx="2879640" cy="285120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27080" y="11592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bea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27080" y="357336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froi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24520" y="260280"/>
            <a:ext cx="288000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7184880" y="3718080"/>
            <a:ext cx="219564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7080" y="115920"/>
            <a:ext cx="648180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pleu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27080" y="3573360"/>
            <a:ext cx="648180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neig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01080" y="260280"/>
            <a:ext cx="214452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826320" y="3789360"/>
            <a:ext cx="2879640" cy="27892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27080" y="11592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y a    du ven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7080" y="357336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y a des nuag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912000" y="262080"/>
            <a:ext cx="272088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6824520" y="4076640"/>
            <a:ext cx="2880000" cy="212400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7080" y="115920"/>
            <a:ext cx="6481800" cy="314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fait mauvai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7080" y="3573360"/>
            <a:ext cx="6481800" cy="4665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ff0000"/>
                </a:solidFill>
                <a:latin typeface="Comic Sans MS"/>
              </a:rPr>
              <a:t>il y a du brouillar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616880" y="260280"/>
            <a:ext cx="1508040" cy="287964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824520" y="4043520"/>
            <a:ext cx="2880000" cy="22651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167600" y="214200"/>
            <a:ext cx="928800" cy="1044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738760" y="214200"/>
            <a:ext cx="1000080" cy="10479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4309920" y="214200"/>
            <a:ext cx="107172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2738520" y="285840"/>
            <a:ext cx="1071360" cy="10713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1095480" y="214200"/>
            <a:ext cx="1071360" cy="1122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6" name="Picture 9" descr=""/>
          <p:cNvPicPr/>
          <p:nvPr/>
        </p:nvPicPr>
        <p:blipFill>
          <a:blip r:embed="rId6"/>
          <a:stretch/>
        </p:blipFill>
        <p:spPr>
          <a:xfrm>
            <a:off x="1093680" y="1785960"/>
            <a:ext cx="107316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7" name="Picture 10" descr=""/>
          <p:cNvPicPr/>
          <p:nvPr/>
        </p:nvPicPr>
        <p:blipFill>
          <a:blip r:embed="rId7"/>
          <a:stretch/>
        </p:blipFill>
        <p:spPr>
          <a:xfrm>
            <a:off x="2666880" y="1785960"/>
            <a:ext cx="106992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8"/>
          <a:stretch/>
        </p:blipFill>
        <p:spPr>
          <a:xfrm>
            <a:off x="4309920" y="1714680"/>
            <a:ext cx="1000440" cy="1069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19" name="Picture 12" descr=""/>
          <p:cNvPicPr/>
          <p:nvPr/>
        </p:nvPicPr>
        <p:blipFill>
          <a:blip r:embed="rId9"/>
          <a:stretch/>
        </p:blipFill>
        <p:spPr>
          <a:xfrm>
            <a:off x="5810400" y="1785960"/>
            <a:ext cx="998280" cy="10000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0" name="Picture 13" descr=""/>
          <p:cNvPicPr/>
          <p:nvPr/>
        </p:nvPicPr>
        <p:blipFill>
          <a:blip r:embed="rId10"/>
          <a:stretch/>
        </p:blipFill>
        <p:spPr>
          <a:xfrm>
            <a:off x="7238880" y="1785960"/>
            <a:ext cx="928800" cy="9748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1" name="Picture 8" descr=""/>
          <p:cNvPicPr/>
          <p:nvPr/>
        </p:nvPicPr>
        <p:blipFill>
          <a:blip r:embed="rId11"/>
          <a:stretch/>
        </p:blipFill>
        <p:spPr>
          <a:xfrm>
            <a:off x="1166760" y="3143160"/>
            <a:ext cx="1071720" cy="11224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2" name="Picture 7" descr=""/>
          <p:cNvPicPr/>
          <p:nvPr/>
        </p:nvPicPr>
        <p:blipFill>
          <a:blip r:embed="rId12"/>
          <a:stretch/>
        </p:blipFill>
        <p:spPr>
          <a:xfrm>
            <a:off x="2738520" y="3143160"/>
            <a:ext cx="107136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3" name="Picture 6" descr=""/>
          <p:cNvPicPr/>
          <p:nvPr/>
        </p:nvPicPr>
        <p:blipFill>
          <a:blip r:embed="rId13"/>
          <a:stretch/>
        </p:blipFill>
        <p:spPr>
          <a:xfrm>
            <a:off x="4309920" y="3143160"/>
            <a:ext cx="107172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4" name="Picture 5" descr=""/>
          <p:cNvPicPr/>
          <p:nvPr/>
        </p:nvPicPr>
        <p:blipFill>
          <a:blip r:embed="rId14"/>
          <a:stretch/>
        </p:blipFill>
        <p:spPr>
          <a:xfrm>
            <a:off x="5810400" y="3143160"/>
            <a:ext cx="1000080" cy="10479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5" name="Picture 4" descr=""/>
          <p:cNvPicPr/>
          <p:nvPr/>
        </p:nvPicPr>
        <p:blipFill>
          <a:blip r:embed="rId15"/>
          <a:stretch/>
        </p:blipFill>
        <p:spPr>
          <a:xfrm>
            <a:off x="7238880" y="3143160"/>
            <a:ext cx="928800" cy="1044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6" name="Picture 9" descr=""/>
          <p:cNvPicPr/>
          <p:nvPr/>
        </p:nvPicPr>
        <p:blipFill>
          <a:blip r:embed="rId16"/>
          <a:stretch/>
        </p:blipFill>
        <p:spPr>
          <a:xfrm>
            <a:off x="1166760" y="4643280"/>
            <a:ext cx="107316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7" name="Picture 10" descr=""/>
          <p:cNvPicPr/>
          <p:nvPr/>
        </p:nvPicPr>
        <p:blipFill>
          <a:blip r:embed="rId17"/>
          <a:stretch/>
        </p:blipFill>
        <p:spPr>
          <a:xfrm>
            <a:off x="2666880" y="4643280"/>
            <a:ext cx="1069920" cy="10717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18"/>
          <a:stretch/>
        </p:blipFill>
        <p:spPr>
          <a:xfrm>
            <a:off x="4309920" y="4572000"/>
            <a:ext cx="1000440" cy="1069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29" name="Picture 12" descr=""/>
          <p:cNvPicPr/>
          <p:nvPr/>
        </p:nvPicPr>
        <p:blipFill>
          <a:blip r:embed="rId19"/>
          <a:stretch/>
        </p:blipFill>
        <p:spPr>
          <a:xfrm>
            <a:off x="5810400" y="4572000"/>
            <a:ext cx="998280" cy="10000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130" name="Picture 13" descr=""/>
          <p:cNvPicPr/>
          <p:nvPr/>
        </p:nvPicPr>
        <p:blipFill>
          <a:blip r:embed="rId20"/>
          <a:stretch/>
        </p:blipFill>
        <p:spPr>
          <a:xfrm>
            <a:off x="7238880" y="4572000"/>
            <a:ext cx="928800" cy="97488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31800" y="549360"/>
            <a:ext cx="8642520" cy="466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mercre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31800" y="393372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jeu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31800" y="54936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vendre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31800" y="3933720"/>
            <a:ext cx="8642520" cy="237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samed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31800" y="549360"/>
            <a:ext cx="8642520" cy="466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5000" spc="-1" strike="noStrike">
                <a:solidFill>
                  <a:srgbClr val="0000ff"/>
                </a:solidFill>
                <a:latin typeface="Comic Sans MS"/>
              </a:rPr>
              <a:t>dimanch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200160" y="465300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264780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509580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754524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200160" y="54936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647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5095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754524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200160" y="260028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2647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095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754524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00160" y="465300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64780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9580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7545240" y="465300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00160" y="54936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47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095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54524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00160" y="260028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647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095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754524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200160" y="54936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47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09580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545240" y="54936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00160" y="2600280"/>
            <a:ext cx="216036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2647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095800" y="2600280"/>
            <a:ext cx="216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336680" y="5493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336680" y="465300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336680" y="26049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336680" y="5493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336680" y="465300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336680" y="2604960"/>
            <a:ext cx="720072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8:54:47Z</dcterms:created>
  <dc:creator>ben.dalglish</dc:creator>
  <dc:description/>
  <dc:language>en-US</dc:language>
  <cp:lastModifiedBy>P.Seccombe</cp:lastModifiedBy>
  <dcterms:modified xsi:type="dcterms:W3CDTF">2009-09-29T10:54:53Z</dcterms:modified>
  <cp:revision>10</cp:revision>
  <dc:subject/>
  <dc:title>Slide 1</dc:title>
</cp:coreProperties>
</file>