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2.jpeg" ContentType="image/jpeg"/>
  <Override PartName="/ppt/media/image25.wmf" ContentType="image/x-wmf"/>
  <Override PartName="/ppt/media/image3.jpeg" ContentType="image/jpe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CF9-04D8-44CB-83AD-66769AA2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981-BDC9-48F5-BA89-ECB1F6B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CC7-64F5-43C3-B99A-FE7A095E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13A-318B-4934-BA3A-C60CA7F4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EB4A-B50F-4166-AEB6-F691F83A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3BA3-8D4C-468E-86B4-BC2CEA73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3C05-CEFC-4E92-9E11-EC29F33E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3374-F207-4128-88BF-7F0E609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368C-50A3-4A2A-9CC1-45A23809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CBFC-5EEB-4329-9419-DB64A4C6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75F8-2A3D-4F5A-93E3-8C99696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FED-96C7-4F90-A4BB-E3BD4E90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8CBC-84DB-443F-A887-84DBC981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B899-FF83-4E0C-ABCB-B0BF7E6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37AD-3790-4A46-8CF4-9730FA8B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B7A0-3A1E-499A-9E93-2EBD85A2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6608-F4B8-4DB0-BC00-436D2582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8298-643B-43EA-8CC1-AC18AEB5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D5E1-6AD8-490D-8A65-FCCAB69F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DEDA-2CDE-43C0-8F61-A1F59E37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0582-9E72-440D-BAC0-A112E85A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B19E-8386-458B-87E3-162A314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F9A-065E-4FC1-B15F-2FE814C5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4EF5-2E3B-4C96-A603-870B209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C415-EBDD-45D4-8B9B-BC95A410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2B50-680D-40ED-9F06-7B827661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28AC-97C1-43B2-BB0E-3900738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1EC2-2E54-4A2F-8CA8-D2333C8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CACC-FAE0-4D2F-9F2C-2C283E32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7EF3-DAD9-4DD2-A5C6-09483A86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5AA-9F86-45CF-99D5-EAB7A316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D2D-2EFA-468C-846C-A50F24D7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C3E-971C-45C7-9982-83E58584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C36-1A3B-4D48-8B00-A7EE8B6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812-4BAE-4E7E-80DA-CB013CB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476-9B66-4141-BF69-A8019AB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1572-0353-4F28-8071-E70D944B2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AFF2-2491-4370-8D09-BEAB9C5229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A86D-8CEC-46F1-B798-B193267C51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11.wmf"/><Relationship Id="rId5" Type="http://schemas.openxmlformats.org/officeDocument/2006/relationships/image" Target="../media/image1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6.wmf"/><Relationship Id="rId9" Type="http://schemas.openxmlformats.org/officeDocument/2006/relationships/image" Target="../media/image14.wmf"/><Relationship Id="rId10" Type="http://schemas.openxmlformats.org/officeDocument/2006/relationships/image" Target="../media/image28.wmf"/><Relationship Id="rId11" Type="http://schemas.openxmlformats.org/officeDocument/2006/relationships/image" Target="../media/image27.wmf"/><Relationship Id="rId12" Type="http://schemas.openxmlformats.org/officeDocument/2006/relationships/image" Target="../media/image27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4 French – Lesson 22</a:t>
            </a:r>
            <a:br>
              <a:rPr sz="4000"/>
            </a:br>
            <a:br>
              <a:rPr sz="4800"/>
            </a:br>
            <a:endParaRPr b="0" i="1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ahoma"/>
              </a:rPr>
              <a:t>Weath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Aidan's badge no background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6" name="language collegelogo" descr="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332000" y="263988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" y="30272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497560" y="2693880"/>
            <a:ext cx="2720880" cy="2880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Cae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y a du 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348000" y="537696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97200" y="5291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rse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81640" y="2673360"/>
            <a:ext cx="2952720" cy="2922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Marseill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y a du sole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132000" y="4800600"/>
            <a:ext cx="2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68600" y="471492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ontéli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22720" y="2689200"/>
            <a:ext cx="3672000" cy="2889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Montélimar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y a du brouill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313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915080" y="2712960"/>
            <a:ext cx="3887640" cy="2865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la plag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y a des n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92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761080" y="2695680"/>
            <a:ext cx="2193840" cy="2879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ns les boi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fait fr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997760" y="0"/>
            <a:ext cx="114624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flipH="1">
            <a:off x="0" y="0"/>
            <a:ext cx="1146240" cy="1440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6516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WEATHER PO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70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do rhyming words normally have in comm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14972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y have the same 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796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au … il fait ch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ge … il n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eux … il ple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en … il y a du 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eille … il y a du sole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ar … il y a du brouill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age …. Il y a des n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ois … il fait fro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796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au … il fait cha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ge … il n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e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ple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en … il y a du ven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e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sole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ar … il y a du brouillar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age …. Il y a des nuage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o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fro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6000" y="2530440"/>
            <a:ext cx="165708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IL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34544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3796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au … il fait cha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ge … il n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e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ple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en … il y a du ven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e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sole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ar … il y a du brouillar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age …. Il y a des nuage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o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fro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52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ch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g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nei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p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n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v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n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so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brouil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g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. Il y a des nu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ge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o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fr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o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530440"/>
            <a:ext cx="15843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AME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3796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ch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g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nei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p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n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v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n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so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brouil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g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. Il y a des nu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ge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o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fr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o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34544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222800" y="1557360"/>
            <a:ext cx="4921200" cy="5300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2620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TRAVAILLEZ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Impact"/>
              </a:rPr>
              <a:t>EN GROUP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891560" y="0"/>
            <a:ext cx="1252440" cy="1440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 flipH="1">
            <a:off x="-360" y="0"/>
            <a:ext cx="1252440" cy="1440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1700280"/>
            <a:ext cx="360036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Prepare a weather report using days of the week and places in Fran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undi à Toulon            il fait beau.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rdi à Paris            il fait mauva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835280" y="2028960"/>
            <a:ext cx="48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o ask what the weather is like in a particular place; to create a rhyming weather poem in French; and to identify silent letters at the end of French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01720" cy="1268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 flipH="1">
            <a:off x="8100720" y="0"/>
            <a:ext cx="801720" cy="1268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920" y="396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u="sng">
                <a:solidFill>
                  <a:srgbClr val="000000"/>
                </a:solidFill>
                <a:uFillTx/>
                <a:latin typeface="Impact"/>
              </a:rPr>
              <a:t>WEAT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27040" y="1268280"/>
            <a:ext cx="626616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beau aujourd’hui, il fait chaud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beau aujourd’hui, il fait chaud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u nord, au sud, à l’ouest et à l’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beau aujourd’hui mon 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froid aujourd’hui, il neige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froid aujourd’hui, il neige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u nord, au sud, à l’ouest et à l’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froid aujourd’hui mon 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y a du vent aujourd’hui, il pleut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y a du vent aujourd’hui, il pleut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u nord, au sud, à l’ouest et à l’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y a du vent aujourd’hui mon 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724360" y="2471760"/>
            <a:ext cx="792360" cy="741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11280" y="5013360"/>
            <a:ext cx="681120" cy="720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164360" y="3141720"/>
            <a:ext cx="792360" cy="766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755640" y="3141720"/>
            <a:ext cx="549360" cy="720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539640" y="1341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7775640" y="1339920"/>
            <a:ext cx="612720" cy="72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7348680" y="5013360"/>
            <a:ext cx="536400" cy="720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468360" y="2060640"/>
            <a:ext cx="792000" cy="777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1"/>
          <a:stretch/>
        </p:blipFill>
        <p:spPr>
          <a:xfrm>
            <a:off x="5796000" y="4272120"/>
            <a:ext cx="792000" cy="741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"/>
          <a:stretch/>
        </p:blipFill>
        <p:spPr>
          <a:xfrm>
            <a:off x="6012000" y="6116760"/>
            <a:ext cx="792000" cy="741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3"/>
          <a:stretch/>
        </p:blipFill>
        <p:spPr>
          <a:xfrm>
            <a:off x="468360" y="3875040"/>
            <a:ext cx="792000" cy="777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4"/>
          <a:stretch/>
        </p:blipFill>
        <p:spPr>
          <a:xfrm>
            <a:off x="468360" y="5734080"/>
            <a:ext cx="7920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35280" y="2028960"/>
            <a:ext cx="48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o ask what the weather is like in a particular place; to create a rhyming weather poem in French; and to identify silent letters at the end of French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Mimez et parlez</a:t>
            </a: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0920" y="174600"/>
            <a:ext cx="60300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244000" y="174600"/>
            <a:ext cx="603000" cy="720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58920" y="3068640"/>
            <a:ext cx="122364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604960" y="3068640"/>
            <a:ext cx="1096920" cy="1440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856040" y="307980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7543800" y="3068640"/>
            <a:ext cx="754200" cy="144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250920" y="4869000"/>
            <a:ext cx="1439640" cy="1427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473200" y="4869000"/>
            <a:ext cx="136044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4629240" y="4869000"/>
            <a:ext cx="1871640" cy="1473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6948360" y="4869000"/>
            <a:ext cx="1944720" cy="1433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2616120" y="1268280"/>
            <a:ext cx="107316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4808520" y="1268280"/>
            <a:ext cx="15130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82680" y="549360"/>
            <a:ext cx="4751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25360" y="2687760"/>
            <a:ext cx="6877080" cy="4170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Quel temps fait-il à …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À … il 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97760" y="0"/>
            <a:ext cx="114624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flipH="1">
            <a:off x="0" y="0"/>
            <a:ext cx="1146240" cy="1440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0920" y="6516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WEATHER PO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is important in a poe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805200" y="4149720"/>
            <a:ext cx="1503360" cy="215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30114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 should rhy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60360" y="537696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3440" y="5291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634000" y="2693880"/>
            <a:ext cx="2448000" cy="288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Pau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fait ch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340000" y="27846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84520" y="31622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è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81640" y="2705040"/>
            <a:ext cx="2952720" cy="2859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Lièg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n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3080" y="263376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60480" y="30193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86280" y="2693880"/>
            <a:ext cx="2144880" cy="2880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Rieux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ple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P.Seccombe</cp:lastModifiedBy>
  <dcterms:modified xsi:type="dcterms:W3CDTF">2009-09-29T10:56:16Z</dcterms:modified>
  <cp:revision>226</cp:revision>
  <dc:subject/>
  <dc:title>KS2 Yr 5 French – Lesson 1  </dc:title>
</cp:coreProperties>
</file>