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2.jpeg" ContentType="image/jpeg"/>
  <Override PartName="/ppt/media/image25.wmf" ContentType="image/x-wmf"/>
  <Override PartName="/ppt/media/image3.jpeg" ContentType="image/jpe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1D2-6913-44FA-AAF4-3CD45A0F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F7B-290F-4F55-A4F2-BB74D4A2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296-975A-48DD-AA4E-AA315741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14A-D1CF-468A-8CA4-27A99779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CF59-BA4A-4F49-A941-52FDA686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CC82-DB1B-4B69-9F93-E277773C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3C0C-7B05-48CA-A4A1-A26A7F4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4483-C55B-4330-90BF-AB1098B9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44D7-6FC4-43D7-807A-D5065E3C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8288-60FF-4EDF-AE87-6F30B11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74E8-4FF0-49A7-9212-5D8CFCE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560-3770-45B5-AA2E-721C2FE1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CC43-CD81-4F74-9E07-841AC4B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7D4B-DF96-4995-8E9F-5117B85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2FF8-FAB5-4C71-B620-77247A06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B724-886F-4700-9A84-DAB97D93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67EF-259D-4230-8F34-7D7495A0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681FA-A90E-4A38-B05F-0C564D32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E7FB-270F-41F2-8286-72F7B653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101B-E590-43A3-A3E0-4D266C30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1954-E6FE-46E4-9C0C-CCC7A00D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7CA2-E56D-44CB-B8B5-7D26AE45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9FF-2446-441B-8C13-53F364F0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68CC-57D5-4214-ADE8-0AD3EBEE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FC6F-17B7-4E08-AC9A-5C40B5B1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25E4-D684-452F-A4EC-DE29B212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5093-62A1-4147-9E46-B2DBC5E4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4D4E-C8ED-4FA8-B265-07AA9475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236F-C48B-447E-A95E-9180791D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43FF-AFD6-43E6-A6A9-42622071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CF8-00EA-43BE-A719-154D3D93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6D1-F2FE-41FB-9B32-35CEDA51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322-EA4B-4F69-A57E-B4035E57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54C-800A-4986-9735-BC072A5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E33-DE08-4048-A33A-95840C2A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8C0-250D-4F7B-AC49-8E6D7378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0436-24E8-4598-B8AF-4A89AEF1BD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47D4-B3F5-4073-9150-5A6AD5EC37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75EC-EABD-4E40-B231-5830C2CE7B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11.wmf"/><Relationship Id="rId5" Type="http://schemas.openxmlformats.org/officeDocument/2006/relationships/image" Target="../media/image1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6.wmf"/><Relationship Id="rId9" Type="http://schemas.openxmlformats.org/officeDocument/2006/relationships/image" Target="../media/image14.wmf"/><Relationship Id="rId10" Type="http://schemas.openxmlformats.org/officeDocument/2006/relationships/image" Target="../media/image28.wmf"/><Relationship Id="rId11" Type="http://schemas.openxmlformats.org/officeDocument/2006/relationships/image" Target="../media/image27.wmf"/><Relationship Id="rId12" Type="http://schemas.openxmlformats.org/officeDocument/2006/relationships/image" Target="../media/image27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4 French – Lesson 22</a:t>
            </a:r>
            <a:br>
              <a:rPr sz="4000"/>
            </a:br>
            <a:br>
              <a:rPr sz="4800"/>
            </a:br>
            <a:endParaRPr b="0" i="1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ahoma"/>
              </a:rPr>
              <a:t>Weath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Aidan's badge no background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6" name="language collegelogo" descr="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332000" y="263988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" y="30272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497560" y="2693880"/>
            <a:ext cx="2720880" cy="2880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Cae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y a du 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348000" y="537696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97200" y="5291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rse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81640" y="2673360"/>
            <a:ext cx="2952720" cy="2922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Marseill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y a du sole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132000" y="4800600"/>
            <a:ext cx="2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68600" y="471492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ontéli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22720" y="2689200"/>
            <a:ext cx="3672000" cy="2889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Montélimar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y a du brouill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313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915080" y="2712960"/>
            <a:ext cx="3887640" cy="2865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la plag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y a des n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92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761080" y="2695680"/>
            <a:ext cx="2193840" cy="2879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ns les boi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fait fr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997760" y="0"/>
            <a:ext cx="114624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flipH="1">
            <a:off x="0" y="0"/>
            <a:ext cx="1146240" cy="1440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6516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WEATHER PO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70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do rhyming words normally have in comm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14972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y have the same 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796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au … il fait ch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ge … il n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eux … il ple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en … il y a du 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eille … il y a du sole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ar … il y a du brouill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age …. Il y a des n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ois … il fait fro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796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au … il fait cha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ge … il n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e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ple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en … il y a du ven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e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sole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ar … il y a du brouillar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age …. Il y a des nuage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o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fro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6000" y="2530440"/>
            <a:ext cx="165708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IL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34544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3796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au … il fait cha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ge … il n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e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ple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en … il y a du ven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e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sole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ar … il y a du brouillar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age …. Il y a des nuage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o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fro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52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ch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g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nei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p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u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n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v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n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so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brouil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g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. Il y a des nu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ge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o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fr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o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08720" y="2530440"/>
            <a:ext cx="15843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AME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37960" y="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P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ch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iè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g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nei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Ri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p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u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Ca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n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v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n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ars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so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e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Montélim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y a du brouil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r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À la pl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g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. Il y a des nu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age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ans les b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o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… il fait fr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oi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34544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222800" y="1557360"/>
            <a:ext cx="4921200" cy="5300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2620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TRAVAILLEZ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Impact"/>
              </a:rPr>
              <a:t>EN GROUP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891560" y="0"/>
            <a:ext cx="1252440" cy="1440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 flipH="1">
            <a:off x="-360" y="0"/>
            <a:ext cx="1252440" cy="1440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1700280"/>
            <a:ext cx="360036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Prepare a weather report using days of the week and places in Fran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undi à Toulon            il fait beau.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rdi à Paris            il fait mauva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835280" y="2028960"/>
            <a:ext cx="48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o ask what the weather is like in a particular place; to create a rhyming weather poem in French; and to identify silent letters at the end of French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01720" cy="1268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 flipH="1">
            <a:off x="8100720" y="0"/>
            <a:ext cx="801720" cy="1268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920" y="396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u="sng">
                <a:solidFill>
                  <a:srgbClr val="000000"/>
                </a:solidFill>
                <a:uFillTx/>
                <a:latin typeface="Impact"/>
              </a:rPr>
              <a:t>WEAT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27040" y="1268280"/>
            <a:ext cx="626616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beau aujourd’hui, il fait chaud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beau aujourd’hui, il fait chaud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u nord, au sud, à l’ouest et à l’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beau aujourd’hui mon 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froid aujourd’hui, il neige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froid aujourd’hui, il neige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u nord, au sud, à l’ouest et à l’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fait froid aujourd’hui mon 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y a du vent aujourd’hui, il pleut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y a du vent aujourd’hui, il pleut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u nord, au sud, à l’ouest et à l’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y a du vent aujourd’hui mon 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724360" y="2471760"/>
            <a:ext cx="792360" cy="741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11280" y="5013360"/>
            <a:ext cx="681120" cy="720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164360" y="3141720"/>
            <a:ext cx="792360" cy="766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755640" y="3141720"/>
            <a:ext cx="549360" cy="720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539640" y="1341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7775640" y="1339920"/>
            <a:ext cx="612720" cy="72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7348680" y="5013360"/>
            <a:ext cx="536400" cy="720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468360" y="2060640"/>
            <a:ext cx="792000" cy="777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1"/>
          <a:stretch/>
        </p:blipFill>
        <p:spPr>
          <a:xfrm>
            <a:off x="5796000" y="4272120"/>
            <a:ext cx="792000" cy="741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"/>
          <a:stretch/>
        </p:blipFill>
        <p:spPr>
          <a:xfrm>
            <a:off x="6012000" y="6116760"/>
            <a:ext cx="792000" cy="741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3"/>
          <a:stretch/>
        </p:blipFill>
        <p:spPr>
          <a:xfrm>
            <a:off x="468360" y="3875040"/>
            <a:ext cx="792000" cy="777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4"/>
          <a:stretch/>
        </p:blipFill>
        <p:spPr>
          <a:xfrm>
            <a:off x="468360" y="5734080"/>
            <a:ext cx="7920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35280" y="2028960"/>
            <a:ext cx="48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o ask what the weather is like in a particular place; to create a rhyming weather poem in French; and to identify silent letters at the end of French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Mimez et parlez</a:t>
            </a: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0920" y="174600"/>
            <a:ext cx="60300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244000" y="174600"/>
            <a:ext cx="603000" cy="720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58920" y="3068640"/>
            <a:ext cx="122364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604960" y="3068640"/>
            <a:ext cx="1096920" cy="1440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856040" y="307980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7543800" y="3068640"/>
            <a:ext cx="754200" cy="144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250920" y="4869000"/>
            <a:ext cx="1439640" cy="1427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473200" y="4869000"/>
            <a:ext cx="136044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4629240" y="4869000"/>
            <a:ext cx="1871640" cy="1473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6948360" y="4869000"/>
            <a:ext cx="1944720" cy="1433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2616120" y="1268280"/>
            <a:ext cx="107316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4808520" y="1268280"/>
            <a:ext cx="15130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82680" y="549360"/>
            <a:ext cx="4751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25360" y="2687760"/>
            <a:ext cx="6877080" cy="4170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Quel temps fait-il à …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À … il 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97760" y="0"/>
            <a:ext cx="114624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flipH="1">
            <a:off x="0" y="0"/>
            <a:ext cx="1146240" cy="1440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0920" y="6516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WEATHER PO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is important in a poe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805200" y="4149720"/>
            <a:ext cx="1503360" cy="215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30114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 should rhy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60360" y="537696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3440" y="5291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634000" y="2693880"/>
            <a:ext cx="2448000" cy="288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Pau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fait ch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340000" y="27846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84520" y="31622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è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81640" y="2705040"/>
            <a:ext cx="2952720" cy="2859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Lièg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nei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4289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3080" y="263376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60480" y="30193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86280" y="2693880"/>
            <a:ext cx="2144880" cy="2880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À Rieux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l ple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P.Seccombe</cp:lastModifiedBy>
  <dcterms:modified xsi:type="dcterms:W3CDTF">2009-09-29T10:56:16Z</dcterms:modified>
  <cp:revision>226</cp:revision>
  <dc:subject/>
  <dc:title>KS2 Yr 5 French – Lesson 1  </dc:title>
</cp:coreProperties>
</file>