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964-8B41-496C-8671-8969559F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96E-8DAA-4DB1-A6B2-B82C6604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21A-2E4D-427D-AF47-2FFEAD5E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36F-3A06-4810-A763-E1FD8857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40C-FD5A-4A06-A168-8E2281CF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C7F-8458-4DC0-B1E5-56AA3DB3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750-BC74-46B1-8734-02588EE7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D9E-EAEF-4F67-933C-22B16EEC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5B2-86EE-403D-9C85-B8F7B858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53DD-BD61-416E-8D3A-016DAFF6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D65-8B7B-4C82-BC6F-845BE2E5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D55-A2A8-406D-8F47-72C0B322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DC62-ABFF-4759-AB43-ACF591366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19500000">
            <a:off x="2576160" y="454932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19500000">
            <a:off x="7544880" y="1093320"/>
            <a:ext cx="2160720" cy="2138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19500000">
            <a:off x="-444600" y="395532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fait  be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9500000">
            <a:off x="4524120" y="395208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fait fro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9500000">
            <a:off x="-234720" y="46944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fait cha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500000">
            <a:off x="4734000" y="469440"/>
            <a:ext cx="36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y a     du sole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19500000">
            <a:off x="2739600" y="1093680"/>
            <a:ext cx="1836720" cy="216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rot="19500000">
            <a:off x="7800840" y="4554360"/>
            <a:ext cx="1648080" cy="216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0" y="3428640"/>
            <a:ext cx="495288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4952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0" y="-360"/>
            <a:ext cx="495288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4952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952880" y="-360"/>
            <a:ext cx="495324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0"/>
            <a:ext cx="4953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952880" y="3428640"/>
            <a:ext cx="495324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429000"/>
            <a:ext cx="4953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rot="19500000">
            <a:off x="-234720" y="388908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y a     du v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9500000">
            <a:off x="4734000" y="3885840"/>
            <a:ext cx="36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y a    des n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9500000">
            <a:off x="-231480" y="73296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ple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500000">
            <a:off x="4737240" y="73296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nei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19500000">
            <a:off x="2633400" y="4549320"/>
            <a:ext cx="2041560" cy="216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19500000">
            <a:off x="7537320" y="1100160"/>
            <a:ext cx="2160720" cy="2092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19500000">
            <a:off x="7529040" y="4795920"/>
            <a:ext cx="2160720" cy="159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 rot="19500000">
            <a:off x="2849040" y="1099800"/>
            <a:ext cx="1609920" cy="2160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0" y="3428640"/>
            <a:ext cx="495288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4952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0" y="-360"/>
            <a:ext cx="495288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4952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952880" y="-360"/>
            <a:ext cx="495324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0"/>
            <a:ext cx="4953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952880" y="3428640"/>
            <a:ext cx="495324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3429000"/>
            <a:ext cx="4953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 rot="19500000">
            <a:off x="-234720" y="46944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fait mauva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9500000">
            <a:off x="4734000" y="469440"/>
            <a:ext cx="36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il y a du brouill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rot="19500000">
            <a:off x="3098520" y="1093680"/>
            <a:ext cx="1133280" cy="216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19500000">
            <a:off x="7529400" y="1283760"/>
            <a:ext cx="2160720" cy="1700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0" y="-360"/>
            <a:ext cx="495288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4952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952880" y="-360"/>
            <a:ext cx="495324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0"/>
            <a:ext cx="4953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5800" y="6643800"/>
            <a:ext cx="9490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RM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8:54:47Z</dcterms:created>
  <dc:creator>ben.dalglish</dc:creator>
  <dc:description/>
  <dc:language>en-US</dc:language>
  <cp:lastModifiedBy>P.Seccombe</cp:lastModifiedBy>
  <dcterms:modified xsi:type="dcterms:W3CDTF">2009-09-29T10:57:30Z</dcterms:modified>
  <cp:revision>16</cp:revision>
  <dc:subject/>
  <dc:title>Slide 1</dc:title>
</cp:coreProperties>
</file>