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F3F-BDFC-46A3-999D-42C6F956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3F2-C714-4B6B-BA96-E5E831F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4CA-CDA2-4C3E-84F7-39E106A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424-B806-4A98-B7FB-420D07B5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179-5474-4565-A0E3-0145F51B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104-2A49-42B1-A147-7BEDD06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DF6-6FFC-4F9E-901E-E97143C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543-EDE2-49EC-B24D-0C840E4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710-62DF-4BBE-826F-8DA3262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38E-EE77-434B-A1A1-02A1273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B43-302E-484E-B05D-D610551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2EA-24BD-4CF5-9FFA-6FDF0440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5117-4942-4F01-BE4B-A7D64E3D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500000">
            <a:off x="2576160" y="45493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500000">
            <a:off x="7544880" y="1093320"/>
            <a:ext cx="2160720" cy="213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9500000">
            <a:off x="-444600" y="395532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 be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500000">
            <a:off x="4524120" y="3952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500000">
            <a:off x="-234720" y="46944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500000">
            <a:off x="4734000" y="4694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 du sole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19500000">
            <a:off x="2739600" y="1093680"/>
            <a:ext cx="183672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19500000">
            <a:off x="7800840" y="4554360"/>
            <a:ext cx="164808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0" y="342864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952880" y="342864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42900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9500000">
            <a:off x="-234720" y="388908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500000">
            <a:off x="4734000" y="38858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500000">
            <a:off x="-231480" y="7329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500000">
            <a:off x="4737240" y="7329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19500000">
            <a:off x="2633400" y="4549320"/>
            <a:ext cx="204156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19500000">
            <a:off x="7537320" y="1100160"/>
            <a:ext cx="21607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9500000">
            <a:off x="7529040" y="4795920"/>
            <a:ext cx="2160720" cy="159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19500000">
            <a:off x="2849040" y="1099800"/>
            <a:ext cx="160992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0" y="342864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2880" y="342864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42900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19500000">
            <a:off x="-234720" y="46944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mauv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500000">
            <a:off x="4734000" y="4694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9500000">
            <a:off x="3098520" y="1093680"/>
            <a:ext cx="113328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500000">
            <a:off x="7529400" y="1283760"/>
            <a:ext cx="2160720" cy="1700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800" y="6643800"/>
            <a:ext cx="949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7:30Z</dcterms:modified>
  <cp:revision>16</cp:revision>
  <dc:subject/>
  <dc:title>Slide 1</dc:title>
</cp:coreProperties>
</file>