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801600" cy="9601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FEF6-E9E1-47A3-8D81-1861FEDF6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691C-DF75-4A51-9889-CE83C234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6CD4-61FE-46F3-ABE9-0BFE26E0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A8EB-1C8D-4F7D-A13B-96BA343A2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5EF6-25C4-41BD-9855-AF4CD3F0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25B0-6387-4A0C-A091-A935BE63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EBB5-D86E-4473-B7A3-EF47EEAC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07DF-248B-4364-92CA-DBA0CA7F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632A-4F33-4AB4-96B3-6252A98B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372A-AAC8-47D2-8F22-9FAB6A27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A39C-E637-468F-98E1-FDB42739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C84F-3444-4343-A864-13EE31A4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GB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4040"/>
            <a:ext cx="405432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GB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GB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5732D5D1-9BCA-43D0-8BD8-D8F18FD90109}" type="slidenum">
              <a:rPr b="0" lang="en-GB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9720" y="0"/>
            <a:ext cx="1152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Quel temps fait-il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178000"/>
            <a:ext cx="280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en-GB" sz="6000" spc="-1" strike="noStrike">
                <a:solidFill>
                  <a:srgbClr val="000000"/>
                </a:solidFill>
                <a:latin typeface="Arial"/>
              </a:rPr>
              <a:t>Jour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7259760"/>
            <a:ext cx="280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en-GB" sz="6000" spc="-1" strike="noStrike">
                <a:solidFill>
                  <a:srgbClr val="000000"/>
                </a:solidFill>
                <a:latin typeface="Arial"/>
              </a:rPr>
              <a:t>Temps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 flipH="1">
            <a:off x="-360" y="0"/>
            <a:ext cx="1590840" cy="1920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1210760" y="0"/>
            <a:ext cx="1590840" cy="1920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4533840"/>
            <a:ext cx="280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en-GB" sz="6000" spc="-1" strike="noStrike">
                <a:solidFill>
                  <a:srgbClr val="000000"/>
                </a:solidFill>
                <a:latin typeface="Arial"/>
              </a:rPr>
              <a:t>Date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00440" y="4079880"/>
            <a:ext cx="9361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00440" y="6024600"/>
            <a:ext cx="9361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00440" y="9480600"/>
            <a:ext cx="9361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39720" y="0"/>
            <a:ext cx="1152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Quel temps fait-il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178000"/>
            <a:ext cx="280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en-GB" sz="6000" spc="-1" strike="noStrike">
                <a:solidFill>
                  <a:srgbClr val="000000"/>
                </a:solidFill>
                <a:latin typeface="Arial"/>
              </a:rPr>
              <a:t>Jour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7259760"/>
            <a:ext cx="280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en-GB" sz="6000" spc="-1" strike="noStrike">
                <a:solidFill>
                  <a:srgbClr val="000000"/>
                </a:solidFill>
                <a:latin typeface="Arial"/>
              </a:rPr>
              <a:t>Temps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 flipH="1">
            <a:off x="-360" y="0"/>
            <a:ext cx="1590840" cy="1920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210760" y="0"/>
            <a:ext cx="1590840" cy="1920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4533840"/>
            <a:ext cx="280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en-GB" sz="6000" spc="-1" strike="noStrike">
                <a:solidFill>
                  <a:srgbClr val="000000"/>
                </a:solidFill>
                <a:latin typeface="Arial"/>
              </a:rPr>
              <a:t>Date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00440" y="4079880"/>
            <a:ext cx="9361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00440" y="6024600"/>
            <a:ext cx="9361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00440" y="9480600"/>
            <a:ext cx="9361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00440" y="1487520"/>
            <a:ext cx="8642160" cy="2379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5000" spc="-1" strike="noStrike">
                <a:solidFill>
                  <a:srgbClr val="0000ff"/>
                </a:solidFill>
                <a:latin typeface="Comic Sans MS"/>
              </a:rPr>
              <a:t>lundi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00440" y="4224240"/>
            <a:ext cx="216036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60800" y="4224240"/>
            <a:ext cx="720108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janvier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00440" y="6188040"/>
            <a:ext cx="6481800" cy="3141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ff0000"/>
                </a:solidFill>
                <a:latin typeface="Comic Sans MS"/>
              </a:rPr>
              <a:t>il fait chaud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9496440" y="6323040"/>
            <a:ext cx="2448000" cy="287964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11:12:24Z</dcterms:created>
  <dc:creator>ben.dalglish</dc:creator>
  <dc:description/>
  <dc:language>en-US</dc:language>
  <cp:lastModifiedBy>P.Seccombe</cp:lastModifiedBy>
  <dcterms:modified xsi:type="dcterms:W3CDTF">2009-09-29T11:08:02Z</dcterms:modified>
  <cp:revision>10</cp:revision>
  <dc:subject/>
  <dc:title>Slide 1</dc:title>
</cp:coreProperties>
</file>