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E3D-EC4C-4336-BDFB-79E3FFCA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CC0-ACC6-404B-BCB6-1EBCE24C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AA4-89E6-4628-BD48-0C6D2ED4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B85-15B0-4A78-83F2-DB26E302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26F-21D2-4AEC-8698-F4D6639B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5AA-C532-45BB-9DA9-B805944D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E9B-E4A1-4A3F-AB5F-DD68F8E5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EE5-593E-463E-9889-56297111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3CF-DA9A-44DD-8D01-3ABB5976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2EF-00AA-4DB0-B2F0-A39B95CF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1AA-DEBD-47FB-92B1-0EE42FE8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DDC-4745-4310-9E6B-3F9CC901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9560790-909F-49D8-88AD-70C7A7AF074F}" type="slidenum">
              <a:rPr b="0" lang="en-GB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9720" y="0"/>
            <a:ext cx="1152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Quel temps fait-il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7800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Jour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25976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Temp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flipH="1">
            <a:off x="-360" y="0"/>
            <a:ext cx="1590840" cy="1920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210760" y="0"/>
            <a:ext cx="1590840" cy="192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53384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00440" y="407988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00440" y="602460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00440" y="948060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39720" y="0"/>
            <a:ext cx="1152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Quel temps fait-il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17800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Jour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25976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Temp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>
            <a:off x="-360" y="0"/>
            <a:ext cx="1590840" cy="1920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210760" y="0"/>
            <a:ext cx="1590840" cy="1920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53384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00440" y="407988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00440" y="602460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00440" y="948060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00440" y="1487520"/>
            <a:ext cx="864216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lun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0440" y="422424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60800" y="4224240"/>
            <a:ext cx="720108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00440" y="618804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fait chau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496440" y="6323040"/>
            <a:ext cx="244800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1:12:24Z</dcterms:created>
  <dc:creator>ben.dalglish</dc:creator>
  <dc:description/>
  <dc:language>en-US</dc:language>
  <cp:lastModifiedBy>P.Seccombe</cp:lastModifiedBy>
  <dcterms:modified xsi:type="dcterms:W3CDTF">2009-09-29T11:08:02Z</dcterms:modified>
  <cp:revision>10</cp:revision>
  <dc:subject/>
  <dc:title>Slide 1</dc:title>
</cp:coreProperties>
</file>