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A9-03AB-47D6-A827-CBA3815C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606-4678-4C10-ACEA-430DCAC3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F87-900E-4B5D-95AA-2C28C312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5E2-B5A6-44EA-91B5-408946CE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7C5-AD61-40B9-ABAA-49EBA8BD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2C5-B745-458E-BB8F-3F3C4E85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06E-EE41-4E78-B3BC-A86DDA3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4B9-9AB0-4D7E-B51A-78153F5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044-6FFF-45AD-BF3E-6FAB12C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3AD-A6FE-4294-9812-5D6AF89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ED8-1F2B-49FA-939E-EC28F2A7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6EF-24E0-4EAD-BBD4-635B302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6E7-B319-4122-AD95-724FBB86BA6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12"/>
          <p:cNvSpPr/>
          <p:nvPr/>
        </p:nvSpPr>
        <p:spPr>
          <a:xfrm>
            <a:off x="1285920" y="9288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Compte   à  rebour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3000240" y="2357280"/>
            <a:ext cx="326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8:19:29Z</dcterms:created>
  <dc:creator>carole.beeston</dc:creator>
  <dc:description/>
  <dc:language>en-US</dc:language>
  <cp:lastModifiedBy>P.Seccombe</cp:lastModifiedBy>
  <dcterms:modified xsi:type="dcterms:W3CDTF">2009-09-29T11:03:15Z</dcterms:modified>
  <cp:revision>4</cp:revision>
  <dc:subject/>
  <dc:title>Slide 1</dc:title>
</cp:coreProperties>
</file>