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B8EE-F52C-441B-891C-D78DAAB8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4149-EA78-459F-815D-A3458450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72C7-FB0C-4802-A7A0-6DF3958A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727D-8C4D-443D-BD6B-0F650337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451B-7D6C-4F76-964A-38C0D168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FC82-E30F-44F3-8E89-5E55BCEB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5EE3-03C6-46C1-AA0E-051E24BC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4862-B5AA-4A18-8D2E-9BBDFE43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A6B6-FA74-4BF8-B183-8333E576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2592-4153-4033-B4DC-920EBFC8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3D7E-F100-4BF1-A82F-64ED3392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D03A-984F-47A5-8BD1-D7B4BB12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6CBC-5CC3-44AF-A1F4-1EE197E9AA0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TextBox 12"/>
          <p:cNvSpPr/>
          <p:nvPr/>
        </p:nvSpPr>
        <p:spPr>
          <a:xfrm>
            <a:off x="1285920" y="9288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Kristen ITC"/>
              </a:rPr>
              <a:t>Compte   à  rebour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2" descr="C:\Program Files\Microsoft Office\MEDIA\CAGCAT10\j0234131.wmf"/>
          <p:cNvPicPr/>
          <p:nvPr/>
        </p:nvPicPr>
        <p:blipFill>
          <a:blip r:embed="rId2"/>
          <a:stretch/>
        </p:blipFill>
        <p:spPr>
          <a:xfrm>
            <a:off x="3000240" y="2357280"/>
            <a:ext cx="3260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000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8:19:29Z</dcterms:created>
  <dc:creator>carole.beeston</dc:creator>
  <dc:description/>
  <dc:language>en-US</dc:language>
  <cp:lastModifiedBy>P.Seccombe</cp:lastModifiedBy>
  <dcterms:modified xsi:type="dcterms:W3CDTF">2009-09-29T11:03:15Z</dcterms:modified>
  <cp:revision>4</cp:revision>
  <dc:subject/>
  <dc:title>Slide 1</dc:title>
</cp:coreProperties>
</file>