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wmf" ContentType="image/x-wmf"/>
  <Override PartName="/ppt/media/image2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6.jpeg" ContentType="image/jpeg"/>
  <Override PartName="/ppt/media/image18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0.wmf" ContentType="image/x-wmf"/>
  <Override PartName="/ppt/media/image38.png" ContentType="image/png"/>
  <Override PartName="/ppt/media/image13.gif" ContentType="image/gif"/>
  <Override PartName="/ppt/media/image34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9.wmf" ContentType="image/x-wmf"/>
  <Override PartName="/ppt/media/image39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.wmf" ContentType="image/x-wmf"/>
  <Override PartName="/ppt/media/image12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6.wmf" ContentType="image/x-wmf"/>
  <Override PartName="/ppt/media/image19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wmf" ContentType="image/x-wmf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D99-D8B1-438E-BEEA-B2C3D96DB84B}" type="slidenum">
              <a:rPr b="1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5AAC-AD70-4F6F-A6E5-9905B132347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40C0-1030-4F0C-B90D-6E5A5548263B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E77-EF4E-4843-9EC9-6A15A542C5EC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546F-2B32-437D-9614-A99BF83C499B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E0FC-3E1C-47DA-B60A-9FC550F4158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9F8-1571-4505-BFC1-DE33DC9D6E3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3614-8469-4946-ADC1-549491586C83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0496-ABBE-4392-A8AF-A7E6A1BA1E7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E0B-A43F-4229-8EB5-E6767E959993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1439-4560-4B6E-A92A-6E258BEAA015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7C4B-A2B6-4553-8B70-9A78FEAAFA9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0BB-8C2D-4B08-A3F2-18D0E29BA8DF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262-9C1D-48BA-B1BB-B779762C523C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EC93-8E0E-4DE5-B582-A6B32624474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8FCE-350F-4AFE-877F-AF139ABEF53B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19FE-39E5-44B5-866A-E184A75135A8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DE79-C3DD-4CAC-81AD-94AE8ABE80C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5E9F-80F8-42A2-9F66-782BE8C61EFF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EEAE-F5AA-474C-BD58-F2F5E7C8D493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674-DC3B-47F6-BFD8-9CB51253635C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767-2ABF-429A-A8A1-D502B42951BE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6EE-A2DD-4D48-9511-925634F29CDC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CD46-859E-4BB4-924E-CF7737C82880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E0D-2548-44E3-93A1-C5C2D4393C4B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646-D574-49A9-95A6-746BBAD9091D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29F1-3399-4BAF-BA41-4B503C16085D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369-449D-41DE-8307-1E5DD1917AC3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9BE-C141-499A-936D-30D5BD2BAB22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FF48-872E-45EC-B3CD-9DE294D62797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C9F5-138A-4287-B695-C2264F9FA467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360-98A4-4918-B437-F42B34D92844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4473-379F-44BD-A5EB-A9C3A2141EB1}" type="slidenum">
              <a:rPr b="1" lang="en-GB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76C-A76C-41E9-91B0-781B71DD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49D-29CE-4723-BC3F-8AE281A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B59-BFFD-43AA-933D-4692175F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E79-3697-4AA9-855C-9C617086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D1C-F440-44E5-952F-31248C59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51B-EB1B-4106-9F5C-AC57B804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6AB-139C-46AF-BFF8-39452A2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205-F24C-42E0-ABCB-7A975136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955-F8B0-4044-81B8-093E0F0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B69-B884-40F8-87B8-93B75A9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70D-5134-4AF2-9F3C-D412581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061-0E86-43F0-8C49-7A3BD27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EE3-6929-42A1-B67C-B44C0E3AFBD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search.live.com/images/results.aspx?q=diddl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6.wmf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5000760" y="1071720"/>
            <a:ext cx="1752480" cy="137160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7020000" y="1052640"/>
            <a:ext cx="1752480" cy="13716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11280" y="1125360"/>
            <a:ext cx="1752480" cy="137160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3924360" y="2708280"/>
            <a:ext cx="1752480" cy="1371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6084720" y="2637000"/>
            <a:ext cx="1752840" cy="13716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2916360" y="1052640"/>
            <a:ext cx="1752480" cy="13716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143080" y="0"/>
            <a:ext cx="44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00"/>
                </a:solidFill>
                <a:latin typeface="Comic Sans MS"/>
              </a:rPr>
              <a:t>Les couleurs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340000" y="4724280"/>
            <a:ext cx="1752480" cy="1371600"/>
          </a:xfrm>
          <a:prstGeom prst="irregularSeal2">
            <a:avLst/>
          </a:prstGeom>
          <a:solidFill>
            <a:srgbClr val="e377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539640" y="4724280"/>
            <a:ext cx="1752840" cy="1371600"/>
          </a:xfrm>
          <a:prstGeom prst="irregularSeal2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580000" y="4797360"/>
            <a:ext cx="1752840" cy="1371600"/>
          </a:xfrm>
          <a:prstGeom prst="irregularSeal2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258920" y="2708280"/>
            <a:ext cx="1752480" cy="137160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7093080" y="4797360"/>
            <a:ext cx="1752480" cy="1371600"/>
          </a:xfrm>
          <a:prstGeom prst="irregularSeal2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MCj01543700000[1]"/>
          <p:cNvPicPr/>
          <p:nvPr/>
        </p:nvPicPr>
        <p:blipFill>
          <a:blip r:embed="rId1"/>
          <a:stretch/>
        </p:blipFill>
        <p:spPr>
          <a:xfrm>
            <a:off x="3708360" y="836640"/>
            <a:ext cx="1474920" cy="17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3584070000[1]"/>
          <p:cNvPicPr/>
          <p:nvPr/>
        </p:nvPicPr>
        <p:blipFill>
          <a:blip r:embed="rId2"/>
          <a:stretch/>
        </p:blipFill>
        <p:spPr>
          <a:xfrm>
            <a:off x="7093080" y="620640"/>
            <a:ext cx="1455480" cy="145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539640" y="189000"/>
            <a:ext cx="1312920" cy="18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Cj01543700000[1]"/>
          <p:cNvPicPr/>
          <p:nvPr/>
        </p:nvPicPr>
        <p:blipFill>
          <a:blip r:embed="rId4"/>
          <a:stretch/>
        </p:blipFill>
        <p:spPr>
          <a:xfrm>
            <a:off x="755640" y="4437000"/>
            <a:ext cx="147492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MCj01543700000[1]"/>
          <p:cNvPicPr/>
          <p:nvPr/>
        </p:nvPicPr>
        <p:blipFill>
          <a:blip r:embed="rId5"/>
          <a:stretch/>
        </p:blipFill>
        <p:spPr>
          <a:xfrm>
            <a:off x="7308720" y="4581360"/>
            <a:ext cx="1474920" cy="17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j03584070000[1]"/>
          <p:cNvPicPr/>
          <p:nvPr/>
        </p:nvPicPr>
        <p:blipFill>
          <a:blip r:embed="rId6"/>
          <a:stretch/>
        </p:blipFill>
        <p:spPr>
          <a:xfrm>
            <a:off x="3492360" y="4149720"/>
            <a:ext cx="1455840" cy="145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Cj03584070000[1]"/>
          <p:cNvPicPr/>
          <p:nvPr/>
        </p:nvPicPr>
        <p:blipFill>
          <a:blip r:embed="rId7"/>
          <a:stretch/>
        </p:blipFill>
        <p:spPr>
          <a:xfrm>
            <a:off x="755640" y="2421000"/>
            <a:ext cx="1455840" cy="145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8"/>
          <a:stretch/>
        </p:blipFill>
        <p:spPr>
          <a:xfrm>
            <a:off x="5651640" y="3933720"/>
            <a:ext cx="131256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9"/>
          <a:stretch/>
        </p:blipFill>
        <p:spPr>
          <a:xfrm>
            <a:off x="5580000" y="1844640"/>
            <a:ext cx="131292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Pj03847050000[1]"/>
          <p:cNvPicPr/>
          <p:nvPr/>
        </p:nvPicPr>
        <p:blipFill>
          <a:blip r:embed="rId10"/>
          <a:stretch/>
        </p:blipFill>
        <p:spPr>
          <a:xfrm>
            <a:off x="2124000" y="333360"/>
            <a:ext cx="1447920" cy="1281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MPj03847050000[1]"/>
          <p:cNvPicPr/>
          <p:nvPr/>
        </p:nvPicPr>
        <p:blipFill>
          <a:blip r:embed="rId11"/>
          <a:stretch/>
        </p:blipFill>
        <p:spPr>
          <a:xfrm>
            <a:off x="2411280" y="2565360"/>
            <a:ext cx="1447920" cy="12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Pj03847050000[1]"/>
          <p:cNvPicPr/>
          <p:nvPr/>
        </p:nvPicPr>
        <p:blipFill>
          <a:blip r:embed="rId12"/>
          <a:stretch/>
        </p:blipFill>
        <p:spPr>
          <a:xfrm>
            <a:off x="7236000" y="2565360"/>
            <a:ext cx="14475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1" name="Picture 6" descr="MCj02405690000[1]"/>
          <p:cNvPicPr/>
          <p:nvPr/>
        </p:nvPicPr>
        <p:blipFill>
          <a:blip r:embed="rId1"/>
          <a:stretch/>
        </p:blipFill>
        <p:spPr>
          <a:xfrm>
            <a:off x="3429000" y="4214880"/>
            <a:ext cx="1728720" cy="182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knitting"/>
          <p:cNvPicPr/>
          <p:nvPr/>
        </p:nvPicPr>
        <p:blipFill>
          <a:blip r:embed="rId2"/>
          <a:stretch/>
        </p:blipFill>
        <p:spPr>
          <a:xfrm>
            <a:off x="32400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knitting"/>
          <p:cNvPicPr/>
          <p:nvPr/>
        </p:nvPicPr>
        <p:blipFill>
          <a:blip r:embed="rId3"/>
          <a:stretch/>
        </p:blipFill>
        <p:spPr>
          <a:xfrm>
            <a:off x="788508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MCj02907850000[1]"/>
          <p:cNvPicPr/>
          <p:nvPr/>
        </p:nvPicPr>
        <p:blipFill>
          <a:blip r:embed="rId4"/>
          <a:stretch/>
        </p:blipFill>
        <p:spPr>
          <a:xfrm>
            <a:off x="3348000" y="189000"/>
            <a:ext cx="243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606840" cy="518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knitting"/>
          <p:cNvPicPr/>
          <p:nvPr/>
        </p:nvPicPr>
        <p:blipFill>
          <a:blip r:embed="rId2"/>
          <a:stretch/>
        </p:blipFill>
        <p:spPr>
          <a:xfrm>
            <a:off x="7885080" y="3141720"/>
            <a:ext cx="907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3606840" cy="518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MCPE01075_0000[1]"/>
          <p:cNvPicPr/>
          <p:nvPr/>
        </p:nvPicPr>
        <p:blipFill>
          <a:blip r:embed="rId2"/>
          <a:stretch/>
        </p:blipFill>
        <p:spPr>
          <a:xfrm>
            <a:off x="6012000" y="2781360"/>
            <a:ext cx="15681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3268440" cy="454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Cj03584070000[1]"/>
          <p:cNvPicPr/>
          <p:nvPr/>
        </p:nvPicPr>
        <p:blipFill>
          <a:blip r:embed="rId2"/>
          <a:stretch/>
        </p:blipFill>
        <p:spPr>
          <a:xfrm>
            <a:off x="1547640" y="2637000"/>
            <a:ext cx="18306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716360" y="692280"/>
            <a:ext cx="129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:\LESSON PLANS 2008\Christmas\Knitting\Knitting 003.jpg"/>
          <p:cNvPicPr/>
          <p:nvPr/>
        </p:nvPicPr>
        <p:blipFill>
          <a:blip r:embed="rId1"/>
          <a:stretch/>
        </p:blipFill>
        <p:spPr>
          <a:xfrm>
            <a:off x="4714920" y="785880"/>
            <a:ext cx="3429000" cy="531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3380580000[1]"/>
          <p:cNvPicPr/>
          <p:nvPr/>
        </p:nvPicPr>
        <p:blipFill>
          <a:blip r:embed="rId2"/>
          <a:stretch/>
        </p:blipFill>
        <p:spPr>
          <a:xfrm>
            <a:off x="1476360" y="2492280"/>
            <a:ext cx="1530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3649680" cy="518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Cj02405690000[1]"/>
          <p:cNvPicPr/>
          <p:nvPr/>
        </p:nvPicPr>
        <p:blipFill>
          <a:blip r:embed="rId2"/>
          <a:stretch/>
        </p:blipFill>
        <p:spPr>
          <a:xfrm>
            <a:off x="5651640" y="2492280"/>
            <a:ext cx="1728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117960" cy="4608360"/>
          </a:xfrm>
          <a:prstGeom prst="rect">
            <a:avLst/>
          </a:prstGeom>
          <a:ln w="0">
            <a:noFill/>
          </a:ln>
        </p:spPr>
      </p:pic>
      <p:sp>
        <p:nvSpPr>
          <p:cNvPr id="137" name="Ink 10"/>
          <p:cNvSpPr/>
          <p:nvPr/>
        </p:nvSpPr>
        <p:spPr>
          <a:xfrm>
            <a:off x="5448240" y="1676520"/>
            <a:ext cx="808200" cy="799920"/>
          </a:xfrm>
          <a:custGeom>
            <a:avLst/>
            <a:gdLst/>
            <a:ahLst/>
            <a:rect l="l" t="t" r="r" b="b"/>
            <a:pathLst>
              <a:path w="2245" h="2223">
                <a:moveTo>
                  <a:pt x="16976" y="4720"/>
                </a:moveTo>
                <a:cubicBezTo>
                  <a:pt x="16979" y="4692"/>
                  <a:pt x="16929" y="4670"/>
                  <a:pt x="16954" y="4657"/>
                </a:cubicBezTo>
                <a:cubicBezTo>
                  <a:pt x="16997" y="4634"/>
                  <a:pt x="17116" y="4657"/>
                  <a:pt x="17166" y="4657"/>
                </a:cubicBezTo>
                <a:cubicBezTo>
                  <a:pt x="17181" y="4689"/>
                  <a:pt x="17170" y="4695"/>
                  <a:pt x="17187" y="4720"/>
                </a:cubicBezTo>
                <a:cubicBezTo>
                  <a:pt x="17201" y="4741"/>
                  <a:pt x="17222" y="4728"/>
                  <a:pt x="17230" y="4762"/>
                </a:cubicBezTo>
                <a:cubicBezTo>
                  <a:pt x="17243" y="4815"/>
                  <a:pt x="17243" y="4903"/>
                  <a:pt x="17251" y="4932"/>
                </a:cubicBezTo>
                <a:cubicBezTo>
                  <a:pt x="17262" y="4971"/>
                  <a:pt x="17262" y="4965"/>
                  <a:pt x="17272" y="4995"/>
                </a:cubicBezTo>
                <a:cubicBezTo>
                  <a:pt x="17281" y="5023"/>
                  <a:pt x="17281" y="5023"/>
                  <a:pt x="17293" y="5059"/>
                </a:cubicBezTo>
                <a:cubicBezTo>
                  <a:pt x="17302" y="5086"/>
                  <a:pt x="17305" y="5095"/>
                  <a:pt x="17314" y="5122"/>
                </a:cubicBezTo>
                <a:cubicBezTo>
                  <a:pt x="17325" y="5154"/>
                  <a:pt x="17329" y="5142"/>
                  <a:pt x="17335" y="5186"/>
                </a:cubicBezTo>
                <a:cubicBezTo>
                  <a:pt x="17340" y="5228"/>
                  <a:pt x="17317" y="5258"/>
                  <a:pt x="17314" y="5270"/>
                </a:cubicBezTo>
                <a:cubicBezTo>
                  <a:pt x="17306" y="5302"/>
                  <a:pt x="17303" y="5325"/>
                  <a:pt x="17293" y="5355"/>
                </a:cubicBezTo>
                <a:cubicBezTo>
                  <a:pt x="17284" y="5384"/>
                  <a:pt x="17282" y="5411"/>
                  <a:pt x="17272" y="5440"/>
                </a:cubicBezTo>
                <a:cubicBezTo>
                  <a:pt x="17261" y="5472"/>
                  <a:pt x="17256" y="5459"/>
                  <a:pt x="17251" y="5503"/>
                </a:cubicBezTo>
                <a:cubicBezTo>
                  <a:pt x="17246" y="5544"/>
                  <a:pt x="17271" y="5602"/>
                  <a:pt x="17272" y="5609"/>
                </a:cubicBezTo>
                <a:cubicBezTo>
                  <a:pt x="17279" y="5692"/>
                  <a:pt x="17272" y="5779"/>
                  <a:pt x="17272" y="5863"/>
                </a:cubicBezTo>
                <a:cubicBezTo>
                  <a:pt x="17317" y="5870"/>
                  <a:pt x="17335" y="5872"/>
                  <a:pt x="17357" y="5884"/>
                </a:cubicBezTo>
                <a:cubicBezTo>
                  <a:pt x="17378" y="5884"/>
                  <a:pt x="17385" y="5884"/>
                  <a:pt x="17378" y="5905"/>
                </a:cubicBezTo>
                <a:cubicBezTo>
                  <a:pt x="17318" y="5914"/>
                  <a:pt x="17323" y="5909"/>
                  <a:pt x="17293" y="5927"/>
                </a:cubicBezTo>
                <a:cubicBezTo>
                  <a:pt x="17246" y="5955"/>
                  <a:pt x="17272" y="5912"/>
                  <a:pt x="17251" y="5969"/>
                </a:cubicBezTo>
                <a:cubicBezTo>
                  <a:pt x="17222" y="6048"/>
                  <a:pt x="17220" y="6206"/>
                  <a:pt x="17208" y="6286"/>
                </a:cubicBezTo>
                <a:cubicBezTo>
                  <a:pt x="17200" y="6342"/>
                  <a:pt x="17193" y="6383"/>
                  <a:pt x="17187" y="6435"/>
                </a:cubicBezTo>
                <a:cubicBezTo>
                  <a:pt x="17185" y="6456"/>
                  <a:pt x="17188" y="6477"/>
                  <a:pt x="17187" y="6498"/>
                </a:cubicBezTo>
                <a:cubicBezTo>
                  <a:pt x="17154" y="6506"/>
                  <a:pt x="17134" y="6509"/>
                  <a:pt x="17103" y="6519"/>
                </a:cubicBezTo>
                <a:cubicBezTo>
                  <a:pt x="17066" y="6531"/>
                  <a:pt x="17059" y="6527"/>
                  <a:pt x="17039" y="6540"/>
                </a:cubicBezTo>
                <a:cubicBezTo>
                  <a:pt x="17004" y="6563"/>
                  <a:pt x="17022" y="6561"/>
                  <a:pt x="16997" y="6583"/>
                </a:cubicBezTo>
                <a:cubicBezTo>
                  <a:pt x="16976" y="6602"/>
                  <a:pt x="16967" y="6627"/>
                  <a:pt x="16933" y="6646"/>
                </a:cubicBezTo>
                <a:cubicBezTo>
                  <a:pt x="16905" y="6662"/>
                  <a:pt x="16911" y="6661"/>
                  <a:pt x="16870" y="6667"/>
                </a:cubicBezTo>
                <a:cubicBezTo>
                  <a:pt x="16775" y="6682"/>
                  <a:pt x="16681" y="6664"/>
                  <a:pt x="16595" y="6689"/>
                </a:cubicBezTo>
                <a:cubicBezTo>
                  <a:pt x="16556" y="6700"/>
                  <a:pt x="16551" y="6697"/>
                  <a:pt x="16531" y="6710"/>
                </a:cubicBezTo>
                <a:cubicBezTo>
                  <a:pt x="16489" y="6737"/>
                  <a:pt x="16512" y="6733"/>
                  <a:pt x="16468" y="6752"/>
                </a:cubicBezTo>
                <a:cubicBezTo>
                  <a:pt x="16445" y="6762"/>
                  <a:pt x="16426" y="6764"/>
                  <a:pt x="16404" y="6773"/>
                </a:cubicBezTo>
                <a:cubicBezTo>
                  <a:pt x="16390" y="6804"/>
                  <a:pt x="16395" y="6819"/>
                  <a:pt x="16383" y="6837"/>
                </a:cubicBezTo>
                <a:cubicBezTo>
                  <a:pt x="16352" y="6883"/>
                  <a:pt x="16366" y="6865"/>
                  <a:pt x="16319" y="6879"/>
                </a:cubicBezTo>
                <a:cubicBezTo>
                  <a:pt x="16267" y="6894"/>
                  <a:pt x="16188" y="6860"/>
                  <a:pt x="16171" y="6858"/>
                </a:cubicBezTo>
                <a:cubicBezTo>
                  <a:pt x="16125" y="6854"/>
                  <a:pt x="16084" y="6843"/>
                  <a:pt x="16065" y="6837"/>
                </a:cubicBezTo>
                <a:cubicBezTo>
                  <a:pt x="16029" y="6825"/>
                  <a:pt x="16030" y="6826"/>
                  <a:pt x="16002" y="6816"/>
                </a:cubicBezTo>
                <a:cubicBezTo>
                  <a:pt x="15973" y="6806"/>
                  <a:pt x="15946" y="6804"/>
                  <a:pt x="15917" y="6794"/>
                </a:cubicBezTo>
                <a:cubicBezTo>
                  <a:pt x="15885" y="6783"/>
                  <a:pt x="15898" y="6779"/>
                  <a:pt x="15854" y="6773"/>
                </a:cubicBezTo>
                <a:cubicBezTo>
                  <a:pt x="15763" y="6762"/>
                  <a:pt x="15616" y="6757"/>
                  <a:pt x="15557" y="6752"/>
                </a:cubicBezTo>
                <a:cubicBezTo>
                  <a:pt x="15475" y="6745"/>
                  <a:pt x="15393" y="6767"/>
                  <a:pt x="15325" y="6773"/>
                </a:cubicBezTo>
                <a:cubicBezTo>
                  <a:pt x="15290" y="6776"/>
                  <a:pt x="15274" y="6802"/>
                  <a:pt x="15240" y="6794"/>
                </a:cubicBezTo>
                <a:cubicBezTo>
                  <a:pt x="15218" y="6789"/>
                  <a:pt x="15204" y="6740"/>
                  <a:pt x="15198" y="6731"/>
                </a:cubicBezTo>
                <a:cubicBezTo>
                  <a:pt x="15180" y="6704"/>
                  <a:pt x="15190" y="6704"/>
                  <a:pt x="15176" y="6667"/>
                </a:cubicBezTo>
                <a:cubicBezTo>
                  <a:pt x="15172" y="6656"/>
                  <a:pt x="15160" y="6638"/>
                  <a:pt x="15155" y="6604"/>
                </a:cubicBezTo>
                <a:cubicBezTo>
                  <a:pt x="15151" y="6578"/>
                  <a:pt x="15125" y="6594"/>
                  <a:pt x="15155" y="6540"/>
                </a:cubicBezTo>
                <a:cubicBezTo>
                  <a:pt x="15170" y="6514"/>
                  <a:pt x="15167" y="6508"/>
                  <a:pt x="15198" y="6498"/>
                </a:cubicBezTo>
                <a:cubicBezTo>
                  <a:pt x="15225" y="6489"/>
                  <a:pt x="15346" y="6477"/>
                  <a:pt x="15346" y="6477"/>
                </a:cubicBezTo>
                <a:cubicBezTo>
                  <a:pt x="15401" y="6472"/>
                  <a:pt x="15459" y="6477"/>
                  <a:pt x="15515" y="6477"/>
                </a:cubicBezTo>
                <a:cubicBezTo>
                  <a:pt x="15566" y="6449"/>
                  <a:pt x="15501" y="6441"/>
                  <a:pt x="15600" y="6435"/>
                </a:cubicBezTo>
                <a:cubicBezTo>
                  <a:pt x="15700" y="6429"/>
                  <a:pt x="15809" y="6431"/>
                  <a:pt x="15896" y="6456"/>
                </a:cubicBezTo>
                <a:cubicBezTo>
                  <a:pt x="15924" y="6464"/>
                  <a:pt x="15924" y="6465"/>
                  <a:pt x="15960" y="6477"/>
                </a:cubicBezTo>
                <a:cubicBezTo>
                  <a:pt x="15988" y="6486"/>
                  <a:pt x="15987" y="6486"/>
                  <a:pt x="16023" y="6498"/>
                </a:cubicBezTo>
                <a:cubicBezTo>
                  <a:pt x="16055" y="6509"/>
                  <a:pt x="16062" y="6516"/>
                  <a:pt x="16087" y="6519"/>
                </a:cubicBezTo>
                <a:cubicBezTo>
                  <a:pt x="16318" y="6548"/>
                  <a:pt x="16572" y="6519"/>
                  <a:pt x="16806" y="6519"/>
                </a:cubicBezTo>
                <a:cubicBezTo>
                  <a:pt x="16809" y="6469"/>
                  <a:pt x="16823" y="6410"/>
                  <a:pt x="16827" y="6371"/>
                </a:cubicBezTo>
                <a:cubicBezTo>
                  <a:pt x="16830" y="6333"/>
                  <a:pt x="16845" y="6293"/>
                  <a:pt x="16849" y="6265"/>
                </a:cubicBezTo>
                <a:cubicBezTo>
                  <a:pt x="16856" y="6209"/>
                  <a:pt x="16835" y="6162"/>
                  <a:pt x="16870" y="6117"/>
                </a:cubicBezTo>
                <a:cubicBezTo>
                  <a:pt x="16888" y="6094"/>
                  <a:pt x="16910" y="6107"/>
                  <a:pt x="16933" y="6075"/>
                </a:cubicBezTo>
                <a:cubicBezTo>
                  <a:pt x="16949" y="6052"/>
                  <a:pt x="16942" y="6037"/>
                  <a:pt x="16954" y="6011"/>
                </a:cubicBezTo>
                <a:cubicBezTo>
                  <a:pt x="16969" y="5977"/>
                  <a:pt x="16966" y="5964"/>
                  <a:pt x="16976" y="5927"/>
                </a:cubicBezTo>
                <a:cubicBezTo>
                  <a:pt x="16943" y="5885"/>
                  <a:pt x="16960" y="5922"/>
                  <a:pt x="16933" y="5863"/>
                </a:cubicBezTo>
                <a:cubicBezTo>
                  <a:pt x="16920" y="5834"/>
                  <a:pt x="16921" y="5809"/>
                  <a:pt x="16912" y="5778"/>
                </a:cubicBezTo>
                <a:cubicBezTo>
                  <a:pt x="16904" y="5751"/>
                  <a:pt x="16894" y="5743"/>
                  <a:pt x="16891" y="5715"/>
                </a:cubicBezTo>
                <a:cubicBezTo>
                  <a:pt x="16885" y="5665"/>
                  <a:pt x="16891" y="5627"/>
                  <a:pt x="16912" y="5588"/>
                </a:cubicBezTo>
                <a:cubicBezTo>
                  <a:pt x="16922" y="5569"/>
                  <a:pt x="16948" y="5558"/>
                  <a:pt x="16954" y="5546"/>
                </a:cubicBezTo>
                <a:cubicBezTo>
                  <a:pt x="16969" y="5516"/>
                  <a:pt x="16964" y="5507"/>
                  <a:pt x="16976" y="5482"/>
                </a:cubicBezTo>
                <a:cubicBezTo>
                  <a:pt x="16985" y="5463"/>
                  <a:pt x="16988" y="5459"/>
                  <a:pt x="16997" y="5440"/>
                </a:cubicBezTo>
                <a:cubicBezTo>
                  <a:pt x="16989" y="5407"/>
                  <a:pt x="16981" y="5421"/>
                  <a:pt x="16976" y="5376"/>
                </a:cubicBezTo>
                <a:cubicBezTo>
                  <a:pt x="16957" y="5193"/>
                  <a:pt x="16984" y="4997"/>
                  <a:pt x="16954" y="4826"/>
                </a:cubicBezTo>
                <a:cubicBezTo>
                  <a:pt x="16954" y="4819"/>
                  <a:pt x="16954" y="4812"/>
                  <a:pt x="16954" y="4805"/>
                </a:cubicBezTo>
              </a:path>
              <a:path w="2245" h="2223">
                <a:moveTo>
                  <a:pt x="17039" y="4762"/>
                </a:moveTo>
                <a:cubicBezTo>
                  <a:pt x="17051" y="4782"/>
                  <a:pt x="17057" y="4782"/>
                  <a:pt x="17060" y="4826"/>
                </a:cubicBezTo>
                <a:cubicBezTo>
                  <a:pt x="17062" y="4855"/>
                  <a:pt x="17081" y="4889"/>
                  <a:pt x="17081" y="4889"/>
                </a:cubicBezTo>
                <a:cubicBezTo>
                  <a:pt x="17087" y="4917"/>
                  <a:pt x="17081" y="4903"/>
                  <a:pt x="17081" y="4932"/>
                </a:cubicBezTo>
                <a:cubicBezTo>
                  <a:pt x="17061" y="4912"/>
                  <a:pt x="17080" y="4931"/>
                  <a:pt x="17060" y="4911"/>
                </a:cubicBezTo>
                <a:cubicBezTo>
                  <a:pt x="17043" y="4894"/>
                  <a:pt x="17041" y="4881"/>
                  <a:pt x="17039" y="4847"/>
                </a:cubicBezTo>
                <a:cubicBezTo>
                  <a:pt x="17039" y="4826"/>
                  <a:pt x="17039" y="4819"/>
                  <a:pt x="17039" y="4805"/>
                </a:cubicBezTo>
                <a:cubicBezTo>
                  <a:pt x="17066" y="4820"/>
                  <a:pt x="17073" y="4839"/>
                  <a:pt x="17103" y="4847"/>
                </a:cubicBezTo>
                <a:cubicBezTo>
                  <a:pt x="17149" y="4859"/>
                  <a:pt x="17139" y="4837"/>
                  <a:pt x="17145" y="4889"/>
                </a:cubicBezTo>
                <a:cubicBezTo>
                  <a:pt x="17156" y="4979"/>
                  <a:pt x="17154" y="5104"/>
                  <a:pt x="17166" y="5165"/>
                </a:cubicBezTo>
                <a:cubicBezTo>
                  <a:pt x="17171" y="5191"/>
                  <a:pt x="17166" y="5223"/>
                  <a:pt x="17166" y="5249"/>
                </a:cubicBezTo>
                <a:cubicBezTo>
                  <a:pt x="17150" y="5233"/>
                  <a:pt x="17129" y="5213"/>
                  <a:pt x="17124" y="5186"/>
                </a:cubicBezTo>
                <a:cubicBezTo>
                  <a:pt x="17114" y="5137"/>
                  <a:pt x="17125" y="5128"/>
                  <a:pt x="17103" y="5101"/>
                </a:cubicBezTo>
                <a:cubicBezTo>
                  <a:pt x="17102" y="5100"/>
                  <a:pt x="17063" y="5041"/>
                  <a:pt x="17060" y="5038"/>
                </a:cubicBezTo>
                <a:cubicBezTo>
                  <a:pt x="17053" y="5038"/>
                  <a:pt x="17046" y="5038"/>
                  <a:pt x="17039" y="5038"/>
                </a:cubicBezTo>
                <a:cubicBezTo>
                  <a:pt x="17003" y="5068"/>
                  <a:pt x="17015" y="5057"/>
                  <a:pt x="16997" y="5101"/>
                </a:cubicBezTo>
                <a:cubicBezTo>
                  <a:pt x="16987" y="5125"/>
                  <a:pt x="16967" y="5155"/>
                  <a:pt x="16976" y="5186"/>
                </a:cubicBezTo>
                <a:cubicBezTo>
                  <a:pt x="16983" y="5209"/>
                  <a:pt x="17006" y="5218"/>
                  <a:pt x="17039" y="5207"/>
                </a:cubicBezTo>
                <a:cubicBezTo>
                  <a:pt x="17083" y="5192"/>
                  <a:pt x="17041" y="5181"/>
                  <a:pt x="17060" y="5143"/>
                </a:cubicBezTo>
                <a:cubicBezTo>
                  <a:pt x="17081" y="5143"/>
                  <a:pt x="17088" y="5143"/>
                  <a:pt x="17081" y="5122"/>
                </a:cubicBezTo>
                <a:cubicBezTo>
                  <a:pt x="17096" y="5146"/>
                  <a:pt x="17079" y="5170"/>
                  <a:pt x="17103" y="5186"/>
                </a:cubicBezTo>
                <a:cubicBezTo>
                  <a:pt x="17135" y="5207"/>
                  <a:pt x="17158" y="5175"/>
                  <a:pt x="17166" y="5165"/>
                </a:cubicBezTo>
                <a:cubicBezTo>
                  <a:pt x="17185" y="5140"/>
                  <a:pt x="17200" y="5131"/>
                  <a:pt x="17208" y="5101"/>
                </a:cubicBezTo>
                <a:cubicBezTo>
                  <a:pt x="17220" y="5057"/>
                  <a:pt x="17215" y="5040"/>
                  <a:pt x="17230" y="5016"/>
                </a:cubicBezTo>
                <a:cubicBezTo>
                  <a:pt x="17245" y="5042"/>
                  <a:pt x="17249" y="5040"/>
                  <a:pt x="17251" y="5080"/>
                </a:cubicBezTo>
                <a:cubicBezTo>
                  <a:pt x="17253" y="5114"/>
                  <a:pt x="17271" y="5160"/>
                  <a:pt x="17272" y="5165"/>
                </a:cubicBezTo>
                <a:cubicBezTo>
                  <a:pt x="17281" y="5210"/>
                  <a:pt x="17257" y="5197"/>
                  <a:pt x="17251" y="5228"/>
                </a:cubicBezTo>
                <a:cubicBezTo>
                  <a:pt x="17242" y="5272"/>
                  <a:pt x="17233" y="5358"/>
                  <a:pt x="17230" y="5376"/>
                </a:cubicBezTo>
                <a:cubicBezTo>
                  <a:pt x="17220" y="5424"/>
                  <a:pt x="17230" y="5433"/>
                  <a:pt x="17230" y="5482"/>
                </a:cubicBezTo>
                <a:cubicBezTo>
                  <a:pt x="17181" y="5439"/>
                  <a:pt x="17195" y="5412"/>
                  <a:pt x="17166" y="5376"/>
                </a:cubicBezTo>
                <a:cubicBezTo>
                  <a:pt x="17143" y="5347"/>
                  <a:pt x="17158" y="5306"/>
                  <a:pt x="17124" y="5292"/>
                </a:cubicBezTo>
                <a:cubicBezTo>
                  <a:pt x="17103" y="5292"/>
                  <a:pt x="17096" y="5292"/>
                  <a:pt x="17103" y="5313"/>
                </a:cubicBezTo>
                <a:cubicBezTo>
                  <a:pt x="17103" y="5385"/>
                  <a:pt x="17099" y="5462"/>
                  <a:pt x="17124" y="5503"/>
                </a:cubicBezTo>
                <a:cubicBezTo>
                  <a:pt x="17124" y="5475"/>
                  <a:pt x="17124" y="5489"/>
                  <a:pt x="17124" y="5461"/>
                </a:cubicBezTo>
                <a:cubicBezTo>
                  <a:pt x="17124" y="5414"/>
                  <a:pt x="17127" y="5393"/>
                  <a:pt x="17103" y="5355"/>
                </a:cubicBezTo>
                <a:cubicBezTo>
                  <a:pt x="17081" y="5355"/>
                  <a:pt x="17074" y="5355"/>
                  <a:pt x="17081" y="5334"/>
                </a:cubicBezTo>
                <a:cubicBezTo>
                  <a:pt x="17097" y="5361"/>
                  <a:pt x="17112" y="5377"/>
                  <a:pt x="17124" y="5397"/>
                </a:cubicBezTo>
                <a:cubicBezTo>
                  <a:pt x="17156" y="5450"/>
                  <a:pt x="17127" y="5437"/>
                  <a:pt x="17124" y="5461"/>
                </a:cubicBezTo>
                <a:cubicBezTo>
                  <a:pt x="17118" y="5504"/>
                  <a:pt x="17126" y="5509"/>
                  <a:pt x="17103" y="5546"/>
                </a:cubicBezTo>
                <a:cubicBezTo>
                  <a:pt x="17076" y="5589"/>
                  <a:pt x="17091" y="5562"/>
                  <a:pt x="17039" y="5588"/>
                </a:cubicBezTo>
                <a:cubicBezTo>
                  <a:pt x="17022" y="5596"/>
                  <a:pt x="17022" y="5625"/>
                  <a:pt x="17018" y="5651"/>
                </a:cubicBezTo>
                <a:cubicBezTo>
                  <a:pt x="17018" y="5722"/>
                  <a:pt x="17042" y="5646"/>
                  <a:pt x="17081" y="5588"/>
                </a:cubicBezTo>
                <a:cubicBezTo>
                  <a:pt x="17097" y="5564"/>
                  <a:pt x="17091" y="5529"/>
                  <a:pt x="17103" y="5503"/>
                </a:cubicBezTo>
                <a:cubicBezTo>
                  <a:pt x="17109" y="5489"/>
                  <a:pt x="17119" y="5497"/>
                  <a:pt x="17124" y="5461"/>
                </a:cubicBezTo>
                <a:cubicBezTo>
                  <a:pt x="17112" y="5481"/>
                  <a:pt x="17105" y="5480"/>
                  <a:pt x="17103" y="5524"/>
                </a:cubicBezTo>
                <a:cubicBezTo>
                  <a:pt x="17101" y="5573"/>
                  <a:pt x="17103" y="5624"/>
                  <a:pt x="17103" y="5673"/>
                </a:cubicBezTo>
                <a:cubicBezTo>
                  <a:pt x="17142" y="5685"/>
                  <a:pt x="17094" y="5701"/>
                  <a:pt x="17124" y="5651"/>
                </a:cubicBezTo>
                <a:cubicBezTo>
                  <a:pt x="17145" y="5615"/>
                  <a:pt x="17134" y="5622"/>
                  <a:pt x="17145" y="5630"/>
                </a:cubicBezTo>
                <a:cubicBezTo>
                  <a:pt x="17179" y="5653"/>
                  <a:pt x="17151" y="5651"/>
                  <a:pt x="17166" y="5694"/>
                </a:cubicBezTo>
                <a:cubicBezTo>
                  <a:pt x="17179" y="5731"/>
                  <a:pt x="17203" y="5788"/>
                  <a:pt x="17208" y="5821"/>
                </a:cubicBezTo>
                <a:cubicBezTo>
                  <a:pt x="17215" y="5861"/>
                  <a:pt x="17192" y="5890"/>
                  <a:pt x="17187" y="5927"/>
                </a:cubicBezTo>
                <a:cubicBezTo>
                  <a:pt x="17181" y="5971"/>
                  <a:pt x="17187" y="5975"/>
                  <a:pt x="17187" y="5927"/>
                </a:cubicBezTo>
                <a:cubicBezTo>
                  <a:pt x="17187" y="5875"/>
                  <a:pt x="17191" y="5842"/>
                  <a:pt x="17166" y="5800"/>
                </a:cubicBezTo>
                <a:cubicBezTo>
                  <a:pt x="17153" y="5778"/>
                  <a:pt x="17138" y="5737"/>
                  <a:pt x="17124" y="5694"/>
                </a:cubicBezTo>
                <a:cubicBezTo>
                  <a:pt x="17124" y="5670"/>
                  <a:pt x="17122" y="5661"/>
                  <a:pt x="17103" y="5651"/>
                </a:cubicBezTo>
                <a:cubicBezTo>
                  <a:pt x="17087" y="5677"/>
                  <a:pt x="17095" y="5707"/>
                  <a:pt x="17081" y="5757"/>
                </a:cubicBezTo>
                <a:cubicBezTo>
                  <a:pt x="17077" y="5771"/>
                  <a:pt x="17070" y="5832"/>
                  <a:pt x="17039" y="5800"/>
                </a:cubicBezTo>
                <a:cubicBezTo>
                  <a:pt x="17005" y="5765"/>
                  <a:pt x="17035" y="5752"/>
                  <a:pt x="17018" y="5715"/>
                </a:cubicBezTo>
                <a:cubicBezTo>
                  <a:pt x="16997" y="5715"/>
                  <a:pt x="16990" y="5715"/>
                  <a:pt x="16997" y="5694"/>
                </a:cubicBezTo>
                <a:cubicBezTo>
                  <a:pt x="17001" y="5725"/>
                  <a:pt x="17021" y="5752"/>
                  <a:pt x="17018" y="5778"/>
                </a:cubicBezTo>
                <a:cubicBezTo>
                  <a:pt x="17015" y="5801"/>
                  <a:pt x="16999" y="5831"/>
                  <a:pt x="16997" y="5863"/>
                </a:cubicBezTo>
                <a:cubicBezTo>
                  <a:pt x="16994" y="5908"/>
                  <a:pt x="17012" y="5935"/>
                  <a:pt x="17018" y="5969"/>
                </a:cubicBezTo>
                <a:cubicBezTo>
                  <a:pt x="17026" y="6015"/>
                  <a:pt x="17025" y="6030"/>
                  <a:pt x="17039" y="6054"/>
                </a:cubicBezTo>
                <a:cubicBezTo>
                  <a:pt x="17035" y="6018"/>
                  <a:pt x="17023" y="6002"/>
                  <a:pt x="17018" y="5969"/>
                </a:cubicBezTo>
                <a:cubicBezTo>
                  <a:pt x="17016" y="5960"/>
                  <a:pt x="17018" y="5868"/>
                  <a:pt x="17018" y="5927"/>
                </a:cubicBezTo>
                <a:cubicBezTo>
                  <a:pt x="17018" y="5979"/>
                  <a:pt x="17035" y="6053"/>
                  <a:pt x="17039" y="6075"/>
                </a:cubicBezTo>
                <a:cubicBezTo>
                  <a:pt x="17046" y="6119"/>
                  <a:pt x="17037" y="6094"/>
                  <a:pt x="17060" y="6117"/>
                </a:cubicBezTo>
                <a:cubicBezTo>
                  <a:pt x="17093" y="6084"/>
                  <a:pt x="17132" y="6077"/>
                  <a:pt x="17145" y="6032"/>
                </a:cubicBezTo>
                <a:cubicBezTo>
                  <a:pt x="17159" y="5986"/>
                  <a:pt x="17149" y="5995"/>
                  <a:pt x="17166" y="5948"/>
                </a:cubicBezTo>
                <a:cubicBezTo>
                  <a:pt x="17168" y="5943"/>
                  <a:pt x="17179" y="5891"/>
                  <a:pt x="17187" y="5863"/>
                </a:cubicBezTo>
                <a:cubicBezTo>
                  <a:pt x="17195" y="5833"/>
                  <a:pt x="17195" y="5750"/>
                  <a:pt x="17208" y="5778"/>
                </a:cubicBezTo>
                <a:cubicBezTo>
                  <a:pt x="17208" y="5800"/>
                  <a:pt x="17208" y="5807"/>
                  <a:pt x="17208" y="5821"/>
                </a:cubicBezTo>
                <a:cubicBezTo>
                  <a:pt x="17208" y="5913"/>
                  <a:pt x="17208" y="6004"/>
                  <a:pt x="17208" y="6096"/>
                </a:cubicBezTo>
                <a:cubicBezTo>
                  <a:pt x="17181" y="6068"/>
                  <a:pt x="17188" y="6037"/>
                  <a:pt x="17166" y="6011"/>
                </a:cubicBezTo>
                <a:cubicBezTo>
                  <a:pt x="17134" y="5973"/>
                  <a:pt x="17128" y="5976"/>
                  <a:pt x="17103" y="5927"/>
                </a:cubicBezTo>
                <a:cubicBezTo>
                  <a:pt x="17088" y="5897"/>
                  <a:pt x="17066" y="5887"/>
                  <a:pt x="17060" y="5863"/>
                </a:cubicBezTo>
                <a:cubicBezTo>
                  <a:pt x="17050" y="5826"/>
                  <a:pt x="17058" y="5824"/>
                  <a:pt x="17039" y="5800"/>
                </a:cubicBezTo>
                <a:cubicBezTo>
                  <a:pt x="17018" y="5800"/>
                  <a:pt x="17011" y="5800"/>
                  <a:pt x="17018" y="5778"/>
                </a:cubicBezTo>
                <a:cubicBezTo>
                  <a:pt x="17004" y="5785"/>
                  <a:pt x="17013" y="5770"/>
                  <a:pt x="17018" y="5800"/>
                </a:cubicBezTo>
                <a:cubicBezTo>
                  <a:pt x="17029" y="5875"/>
                  <a:pt x="17002" y="5965"/>
                  <a:pt x="17039" y="6011"/>
                </a:cubicBezTo>
                <a:cubicBezTo>
                  <a:pt x="17056" y="6032"/>
                  <a:pt x="17044" y="6042"/>
                  <a:pt x="17060" y="6075"/>
                </a:cubicBezTo>
                <a:cubicBezTo>
                  <a:pt x="17073" y="6101"/>
                  <a:pt x="17094" y="6100"/>
                  <a:pt x="17103" y="6138"/>
                </a:cubicBezTo>
                <a:cubicBezTo>
                  <a:pt x="17114" y="6185"/>
                  <a:pt x="17092" y="6205"/>
                  <a:pt x="17081" y="6223"/>
                </a:cubicBezTo>
                <a:cubicBezTo>
                  <a:pt x="17075" y="6181"/>
                  <a:pt x="17075" y="6188"/>
                  <a:pt x="17060" y="6159"/>
                </a:cubicBezTo>
                <a:cubicBezTo>
                  <a:pt x="17044" y="6130"/>
                  <a:pt x="17040" y="6135"/>
                  <a:pt x="17018" y="6117"/>
                </a:cubicBezTo>
                <a:cubicBezTo>
                  <a:pt x="17012" y="6162"/>
                  <a:pt x="17015" y="6158"/>
                  <a:pt x="16997" y="6181"/>
                </a:cubicBezTo>
                <a:cubicBezTo>
                  <a:pt x="16992" y="6187"/>
                  <a:pt x="16934" y="6220"/>
                  <a:pt x="16933" y="6223"/>
                </a:cubicBezTo>
                <a:cubicBezTo>
                  <a:pt x="16920" y="6249"/>
                  <a:pt x="16915" y="6347"/>
                  <a:pt x="16954" y="6308"/>
                </a:cubicBezTo>
                <a:cubicBezTo>
                  <a:pt x="16984" y="6278"/>
                  <a:pt x="16974" y="6262"/>
                  <a:pt x="16976" y="6223"/>
                </a:cubicBezTo>
                <a:cubicBezTo>
                  <a:pt x="16976" y="6202"/>
                  <a:pt x="16976" y="6195"/>
                  <a:pt x="16976" y="6181"/>
                </a:cubicBezTo>
                <a:cubicBezTo>
                  <a:pt x="16983" y="6174"/>
                  <a:pt x="16990" y="6166"/>
                  <a:pt x="16997" y="6159"/>
                </a:cubicBezTo>
                <a:cubicBezTo>
                  <a:pt x="16997" y="6196"/>
                  <a:pt x="16977" y="6237"/>
                  <a:pt x="16976" y="6244"/>
                </a:cubicBezTo>
                <a:cubicBezTo>
                  <a:pt x="16969" y="6279"/>
                  <a:pt x="16979" y="6308"/>
                  <a:pt x="17018" y="6308"/>
                </a:cubicBezTo>
                <a:cubicBezTo>
                  <a:pt x="17032" y="6308"/>
                  <a:pt x="17072" y="6266"/>
                  <a:pt x="17081" y="6244"/>
                </a:cubicBezTo>
                <a:cubicBezTo>
                  <a:pt x="17091" y="6220"/>
                  <a:pt x="17084" y="6178"/>
                  <a:pt x="17103" y="6159"/>
                </a:cubicBezTo>
                <a:cubicBezTo>
                  <a:pt x="17110" y="6159"/>
                  <a:pt x="17117" y="6159"/>
                  <a:pt x="17124" y="6159"/>
                </a:cubicBezTo>
                <a:cubicBezTo>
                  <a:pt x="17124" y="6152"/>
                  <a:pt x="17124" y="6145"/>
                  <a:pt x="17124" y="6138"/>
                </a:cubicBezTo>
                <a:cubicBezTo>
                  <a:pt x="17120" y="6166"/>
                  <a:pt x="17109" y="6174"/>
                  <a:pt x="17103" y="6202"/>
                </a:cubicBezTo>
                <a:cubicBezTo>
                  <a:pt x="17095" y="6244"/>
                  <a:pt x="17072" y="6250"/>
                  <a:pt x="17060" y="6286"/>
                </a:cubicBezTo>
                <a:cubicBezTo>
                  <a:pt x="17045" y="6331"/>
                  <a:pt x="17061" y="6344"/>
                  <a:pt x="17039" y="6371"/>
                </a:cubicBezTo>
                <a:cubicBezTo>
                  <a:pt x="17023" y="6391"/>
                  <a:pt x="17013" y="6396"/>
                  <a:pt x="16997" y="6413"/>
                </a:cubicBezTo>
                <a:cubicBezTo>
                  <a:pt x="16986" y="6424"/>
                  <a:pt x="16987" y="6445"/>
                  <a:pt x="16976" y="6456"/>
                </a:cubicBezTo>
                <a:cubicBezTo>
                  <a:pt x="16960" y="6429"/>
                  <a:pt x="16945" y="6412"/>
                  <a:pt x="16933" y="6392"/>
                </a:cubicBezTo>
                <a:cubicBezTo>
                  <a:pt x="16896" y="6330"/>
                  <a:pt x="16918" y="6374"/>
                  <a:pt x="16954" y="6350"/>
                </a:cubicBezTo>
                <a:cubicBezTo>
                  <a:pt x="16975" y="6335"/>
                  <a:pt x="16973" y="6332"/>
                  <a:pt x="17018" y="6329"/>
                </a:cubicBezTo>
                <a:cubicBezTo>
                  <a:pt x="17053" y="6327"/>
                  <a:pt x="17089" y="6329"/>
                  <a:pt x="17124" y="6329"/>
                </a:cubicBezTo>
                <a:cubicBezTo>
                  <a:pt x="17124" y="6388"/>
                  <a:pt x="17143" y="6405"/>
                  <a:pt x="17081" y="6413"/>
                </a:cubicBezTo>
                <a:cubicBezTo>
                  <a:pt x="17034" y="6419"/>
                  <a:pt x="17020" y="6423"/>
                  <a:pt x="16997" y="6435"/>
                </a:cubicBezTo>
                <a:cubicBezTo>
                  <a:pt x="16970" y="6450"/>
                  <a:pt x="16953" y="6501"/>
                  <a:pt x="16933" y="6477"/>
                </a:cubicBezTo>
                <a:cubicBezTo>
                  <a:pt x="16927" y="6470"/>
                  <a:pt x="16933" y="6423"/>
                  <a:pt x="16933" y="6413"/>
                </a:cubicBezTo>
              </a:path>
              <a:path w="2245" h="2223">
                <a:moveTo>
                  <a:pt x="16891" y="6477"/>
                </a:moveTo>
                <a:cubicBezTo>
                  <a:pt x="16887" y="6502"/>
                  <a:pt x="16886" y="6534"/>
                  <a:pt x="16870" y="6540"/>
                </a:cubicBezTo>
                <a:cubicBezTo>
                  <a:pt x="16840" y="6551"/>
                  <a:pt x="16729" y="6560"/>
                  <a:pt x="16722" y="6562"/>
                </a:cubicBezTo>
                <a:cubicBezTo>
                  <a:pt x="16672" y="6572"/>
                  <a:pt x="16599" y="6575"/>
                  <a:pt x="16573" y="6583"/>
                </a:cubicBezTo>
                <a:cubicBezTo>
                  <a:pt x="16566" y="6583"/>
                  <a:pt x="16559" y="6583"/>
                  <a:pt x="16552" y="6583"/>
                </a:cubicBezTo>
                <a:cubicBezTo>
                  <a:pt x="16572" y="6595"/>
                  <a:pt x="16572" y="6601"/>
                  <a:pt x="16616" y="6604"/>
                </a:cubicBezTo>
                <a:cubicBezTo>
                  <a:pt x="16679" y="6608"/>
                  <a:pt x="16743" y="6604"/>
                  <a:pt x="16806" y="6604"/>
                </a:cubicBezTo>
                <a:cubicBezTo>
                  <a:pt x="16806" y="6653"/>
                  <a:pt x="16804" y="6665"/>
                  <a:pt x="16785" y="6689"/>
                </a:cubicBezTo>
                <a:cubicBezTo>
                  <a:pt x="16765" y="6715"/>
                  <a:pt x="16767" y="6707"/>
                  <a:pt x="16722" y="6710"/>
                </a:cubicBezTo>
                <a:cubicBezTo>
                  <a:pt x="16629" y="6715"/>
                  <a:pt x="16508" y="6719"/>
                  <a:pt x="16446" y="6731"/>
                </a:cubicBezTo>
                <a:cubicBezTo>
                  <a:pt x="16425" y="6731"/>
                  <a:pt x="16418" y="6731"/>
                  <a:pt x="16404" y="6731"/>
                </a:cubicBezTo>
                <a:cubicBezTo>
                  <a:pt x="16424" y="6719"/>
                  <a:pt x="16423" y="6713"/>
                  <a:pt x="16468" y="6710"/>
                </a:cubicBezTo>
                <a:cubicBezTo>
                  <a:pt x="16545" y="6706"/>
                  <a:pt x="16623" y="6710"/>
                  <a:pt x="16700" y="6710"/>
                </a:cubicBezTo>
                <a:cubicBezTo>
                  <a:pt x="16698" y="6713"/>
                  <a:pt x="16680" y="6772"/>
                  <a:pt x="16679" y="6773"/>
                </a:cubicBezTo>
                <a:cubicBezTo>
                  <a:pt x="16618" y="6812"/>
                  <a:pt x="16418" y="6759"/>
                  <a:pt x="16383" y="6752"/>
                </a:cubicBezTo>
                <a:cubicBezTo>
                  <a:pt x="16346" y="6745"/>
                  <a:pt x="16342" y="6749"/>
                  <a:pt x="16319" y="6731"/>
                </a:cubicBezTo>
                <a:cubicBezTo>
                  <a:pt x="16298" y="6731"/>
                  <a:pt x="16291" y="6731"/>
                  <a:pt x="16298" y="6710"/>
                </a:cubicBezTo>
                <a:cubicBezTo>
                  <a:pt x="16314" y="6694"/>
                  <a:pt x="16336" y="6673"/>
                  <a:pt x="16362" y="6667"/>
                </a:cubicBezTo>
                <a:cubicBezTo>
                  <a:pt x="16415" y="6656"/>
                  <a:pt x="16394" y="6649"/>
                  <a:pt x="16446" y="6646"/>
                </a:cubicBezTo>
                <a:cubicBezTo>
                  <a:pt x="16516" y="6642"/>
                  <a:pt x="16597" y="6657"/>
                  <a:pt x="16637" y="6625"/>
                </a:cubicBezTo>
                <a:cubicBezTo>
                  <a:pt x="16651" y="6614"/>
                  <a:pt x="16667" y="6616"/>
                  <a:pt x="16679" y="6604"/>
                </a:cubicBezTo>
                <a:cubicBezTo>
                  <a:pt x="16659" y="6592"/>
                  <a:pt x="16660" y="6586"/>
                  <a:pt x="16616" y="6583"/>
                </a:cubicBezTo>
                <a:cubicBezTo>
                  <a:pt x="16571" y="6580"/>
                  <a:pt x="16556" y="6565"/>
                  <a:pt x="16510" y="6562"/>
                </a:cubicBezTo>
                <a:cubicBezTo>
                  <a:pt x="16438" y="6558"/>
                  <a:pt x="16379" y="6571"/>
                  <a:pt x="16319" y="6583"/>
                </a:cubicBezTo>
                <a:cubicBezTo>
                  <a:pt x="16248" y="6597"/>
                  <a:pt x="16174" y="6577"/>
                  <a:pt x="16129" y="6604"/>
                </a:cubicBezTo>
                <a:cubicBezTo>
                  <a:pt x="16142" y="6612"/>
                  <a:pt x="16167" y="6613"/>
                  <a:pt x="16192" y="6625"/>
                </a:cubicBezTo>
                <a:cubicBezTo>
                  <a:pt x="16221" y="6639"/>
                  <a:pt x="16214" y="6642"/>
                  <a:pt x="16256" y="6646"/>
                </a:cubicBezTo>
                <a:cubicBezTo>
                  <a:pt x="16263" y="6646"/>
                  <a:pt x="16270" y="6646"/>
                  <a:pt x="16277" y="6646"/>
                </a:cubicBezTo>
                <a:cubicBezTo>
                  <a:pt x="16237" y="6686"/>
                  <a:pt x="16255" y="6665"/>
                  <a:pt x="16214" y="6689"/>
                </a:cubicBezTo>
                <a:cubicBezTo>
                  <a:pt x="16213" y="6690"/>
                  <a:pt x="16147" y="6719"/>
                  <a:pt x="16150" y="6731"/>
                </a:cubicBezTo>
                <a:cubicBezTo>
                  <a:pt x="16157" y="6731"/>
                  <a:pt x="16164" y="6731"/>
                  <a:pt x="16171" y="6731"/>
                </a:cubicBezTo>
                <a:cubicBezTo>
                  <a:pt x="16191" y="6743"/>
                  <a:pt x="16191" y="6749"/>
                  <a:pt x="16235" y="6752"/>
                </a:cubicBezTo>
                <a:cubicBezTo>
                  <a:pt x="16292" y="6755"/>
                  <a:pt x="16334" y="6748"/>
                  <a:pt x="16362" y="6731"/>
                </a:cubicBezTo>
                <a:cubicBezTo>
                  <a:pt x="16337" y="6716"/>
                  <a:pt x="16282" y="6675"/>
                  <a:pt x="16256" y="6667"/>
                </a:cubicBezTo>
                <a:cubicBezTo>
                  <a:pt x="16227" y="6659"/>
                  <a:pt x="16199" y="6651"/>
                  <a:pt x="16171" y="6646"/>
                </a:cubicBezTo>
                <a:cubicBezTo>
                  <a:pt x="16078" y="6631"/>
                  <a:pt x="15969" y="6646"/>
                  <a:pt x="15875" y="6646"/>
                </a:cubicBezTo>
                <a:cubicBezTo>
                  <a:pt x="15903" y="6646"/>
                  <a:pt x="15889" y="6646"/>
                  <a:pt x="15917" y="6646"/>
                </a:cubicBezTo>
                <a:cubicBezTo>
                  <a:pt x="15988" y="6646"/>
                  <a:pt x="16058" y="6646"/>
                  <a:pt x="16129" y="6646"/>
                </a:cubicBezTo>
                <a:cubicBezTo>
                  <a:pt x="16113" y="6637"/>
                  <a:pt x="16091" y="6609"/>
                  <a:pt x="16065" y="6604"/>
                </a:cubicBezTo>
                <a:cubicBezTo>
                  <a:pt x="16031" y="6597"/>
                  <a:pt x="15987" y="6588"/>
                  <a:pt x="15960" y="6583"/>
                </a:cubicBezTo>
                <a:cubicBezTo>
                  <a:pt x="15920" y="6575"/>
                  <a:pt x="15887" y="6549"/>
                  <a:pt x="15854" y="6540"/>
                </a:cubicBezTo>
                <a:cubicBezTo>
                  <a:pt x="15818" y="6530"/>
                  <a:pt x="15765" y="6540"/>
                  <a:pt x="15727" y="6540"/>
                </a:cubicBezTo>
                <a:cubicBezTo>
                  <a:pt x="15790" y="6540"/>
                  <a:pt x="15854" y="6540"/>
                  <a:pt x="15917" y="6540"/>
                </a:cubicBezTo>
                <a:cubicBezTo>
                  <a:pt x="15881" y="6519"/>
                  <a:pt x="15876" y="6521"/>
                  <a:pt x="15833" y="6519"/>
                </a:cubicBezTo>
                <a:cubicBezTo>
                  <a:pt x="15773" y="6516"/>
                  <a:pt x="15693" y="6504"/>
                  <a:pt x="15663" y="6498"/>
                </a:cubicBezTo>
                <a:cubicBezTo>
                  <a:pt x="15601" y="6486"/>
                  <a:pt x="15544" y="6509"/>
                  <a:pt x="15494" y="6519"/>
                </a:cubicBezTo>
                <a:cubicBezTo>
                  <a:pt x="15459" y="6526"/>
                  <a:pt x="15416" y="6534"/>
                  <a:pt x="15388" y="6540"/>
                </a:cubicBezTo>
                <a:cubicBezTo>
                  <a:pt x="15363" y="6545"/>
                  <a:pt x="15331" y="6545"/>
                  <a:pt x="15325" y="6562"/>
                </a:cubicBezTo>
                <a:cubicBezTo>
                  <a:pt x="15312" y="6596"/>
                  <a:pt x="15325" y="6617"/>
                  <a:pt x="15325" y="6562"/>
                </a:cubicBezTo>
                <a:cubicBezTo>
                  <a:pt x="15325" y="6555"/>
                  <a:pt x="15325" y="6547"/>
                  <a:pt x="15325" y="6540"/>
                </a:cubicBezTo>
              </a:path>
              <a:path w="2245" h="2223">
                <a:moveTo>
                  <a:pt x="15240" y="6583"/>
                </a:moveTo>
                <a:cubicBezTo>
                  <a:pt x="15240" y="6653"/>
                  <a:pt x="15240" y="6724"/>
                  <a:pt x="15240" y="6794"/>
                </a:cubicBezTo>
                <a:cubicBezTo>
                  <a:pt x="15240" y="6868"/>
                  <a:pt x="15236" y="6734"/>
                  <a:pt x="15240" y="6731"/>
                </a:cubicBezTo>
                <a:cubicBezTo>
                  <a:pt x="15249" y="6724"/>
                  <a:pt x="15238" y="6725"/>
                  <a:pt x="15282" y="6710"/>
                </a:cubicBezTo>
                <a:cubicBezTo>
                  <a:pt x="15312" y="6700"/>
                  <a:pt x="15333" y="6695"/>
                  <a:pt x="15346" y="6689"/>
                </a:cubicBezTo>
                <a:cubicBezTo>
                  <a:pt x="15372" y="6676"/>
                  <a:pt x="15468" y="6673"/>
                  <a:pt x="15494" y="6667"/>
                </a:cubicBezTo>
                <a:cubicBezTo>
                  <a:pt x="15531" y="6659"/>
                  <a:pt x="15582" y="6667"/>
                  <a:pt x="15621" y="6667"/>
                </a:cubicBezTo>
                <a:cubicBezTo>
                  <a:pt x="15596" y="6667"/>
                  <a:pt x="15472" y="6667"/>
                  <a:pt x="15515" y="6667"/>
                </a:cubicBezTo>
                <a:cubicBezTo>
                  <a:pt x="15571" y="6667"/>
                  <a:pt x="15805" y="6667"/>
                  <a:pt x="15727" y="6667"/>
                </a:cubicBezTo>
                <a:cubicBezTo>
                  <a:pt x="15628" y="6667"/>
                  <a:pt x="15572" y="6667"/>
                  <a:pt x="15473" y="6667"/>
                </a:cubicBezTo>
                <a:cubicBezTo>
                  <a:pt x="15459" y="6667"/>
                  <a:pt x="15444" y="6667"/>
                  <a:pt x="15430" y="6667"/>
                </a:cubicBezTo>
                <a:cubicBezTo>
                  <a:pt x="15508" y="6667"/>
                  <a:pt x="15585" y="6667"/>
                  <a:pt x="15663" y="6667"/>
                </a:cubicBezTo>
                <a:cubicBezTo>
                  <a:pt x="15638" y="6618"/>
                  <a:pt x="15617" y="6645"/>
                  <a:pt x="15579" y="6625"/>
                </a:cubicBezTo>
                <a:cubicBezTo>
                  <a:pt x="15537" y="6602"/>
                  <a:pt x="15527" y="6604"/>
                  <a:pt x="15473" y="6604"/>
                </a:cubicBezTo>
                <a:cubicBezTo>
                  <a:pt x="15454" y="6604"/>
                  <a:pt x="15339" y="6604"/>
                  <a:pt x="15388" y="6604"/>
                </a:cubicBezTo>
                <a:cubicBezTo>
                  <a:pt x="15438" y="6604"/>
                  <a:pt x="15455" y="6596"/>
                  <a:pt x="15494" y="6583"/>
                </a:cubicBezTo>
                <a:cubicBezTo>
                  <a:pt x="15563" y="6560"/>
                  <a:pt x="15665" y="6594"/>
                  <a:pt x="15727" y="6604"/>
                </a:cubicBezTo>
                <a:cubicBezTo>
                  <a:pt x="15847" y="6624"/>
                  <a:pt x="15986" y="6604"/>
                  <a:pt x="16108" y="6604"/>
                </a:cubicBezTo>
                <a:cubicBezTo>
                  <a:pt x="16076" y="6628"/>
                  <a:pt x="16064" y="6625"/>
                  <a:pt x="16023" y="6625"/>
                </a:cubicBezTo>
                <a:cubicBezTo>
                  <a:pt x="15999" y="6625"/>
                  <a:pt x="15950" y="6634"/>
                  <a:pt x="15938" y="6646"/>
                </a:cubicBezTo>
                <a:cubicBezTo>
                  <a:pt x="15924" y="6660"/>
                  <a:pt x="15925" y="6695"/>
                  <a:pt x="15896" y="6710"/>
                </a:cubicBezTo>
                <a:cubicBezTo>
                  <a:pt x="15875" y="6710"/>
                  <a:pt x="15868" y="6710"/>
                  <a:pt x="15896" y="6710"/>
                </a:cubicBezTo>
                <a:cubicBezTo>
                  <a:pt x="15939" y="6710"/>
                  <a:pt x="15943" y="6722"/>
                  <a:pt x="15960" y="6731"/>
                </a:cubicBezTo>
                <a:cubicBezTo>
                  <a:pt x="15978" y="6740"/>
                  <a:pt x="16025" y="6750"/>
                  <a:pt x="16044" y="6752"/>
                </a:cubicBezTo>
                <a:cubicBezTo>
                  <a:pt x="16088" y="6757"/>
                  <a:pt x="16076" y="6769"/>
                  <a:pt x="16108" y="6773"/>
                </a:cubicBezTo>
                <a:cubicBezTo>
                  <a:pt x="16153" y="6779"/>
                  <a:pt x="16165" y="6791"/>
                  <a:pt x="16192" y="6794"/>
                </a:cubicBezTo>
                <a:cubicBezTo>
                  <a:pt x="16254" y="6802"/>
                  <a:pt x="16321" y="6794"/>
                  <a:pt x="16383" y="67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Ink 11"/>
          <p:cNvSpPr/>
          <p:nvPr/>
        </p:nvSpPr>
        <p:spPr>
          <a:xfrm>
            <a:off x="3382920" y="2644920"/>
            <a:ext cx="960480" cy="334800"/>
          </a:xfrm>
          <a:custGeom>
            <a:avLst/>
            <a:gdLst/>
            <a:ahLst/>
            <a:rect l="l" t="t" r="r" b="b"/>
            <a:pathLst>
              <a:path w="2668" h="932">
                <a:moveTo>
                  <a:pt x="11938" y="7345"/>
                </a:moveTo>
                <a:cubicBezTo>
                  <a:pt x="11950" y="7358"/>
                  <a:pt x="12009" y="7392"/>
                  <a:pt x="12023" y="7408"/>
                </a:cubicBezTo>
                <a:cubicBezTo>
                  <a:pt x="12035" y="7422"/>
                  <a:pt x="12036" y="7458"/>
                  <a:pt x="12044" y="7472"/>
                </a:cubicBezTo>
                <a:cubicBezTo>
                  <a:pt x="12058" y="7496"/>
                  <a:pt x="12067" y="7496"/>
                  <a:pt x="12065" y="7535"/>
                </a:cubicBezTo>
                <a:cubicBezTo>
                  <a:pt x="12063" y="7567"/>
                  <a:pt x="12048" y="7585"/>
                  <a:pt x="12044" y="7620"/>
                </a:cubicBezTo>
                <a:cubicBezTo>
                  <a:pt x="12038" y="7675"/>
                  <a:pt x="12044" y="7734"/>
                  <a:pt x="12044" y="7789"/>
                </a:cubicBezTo>
                <a:cubicBezTo>
                  <a:pt x="12016" y="7792"/>
                  <a:pt x="12008" y="7806"/>
                  <a:pt x="11980" y="7810"/>
                </a:cubicBezTo>
                <a:cubicBezTo>
                  <a:pt x="11945" y="7815"/>
                  <a:pt x="11900" y="7829"/>
                  <a:pt x="11874" y="7832"/>
                </a:cubicBezTo>
                <a:cubicBezTo>
                  <a:pt x="11742" y="7849"/>
                  <a:pt x="11572" y="7811"/>
                  <a:pt x="11472" y="7853"/>
                </a:cubicBezTo>
                <a:cubicBezTo>
                  <a:pt x="11442" y="7865"/>
                  <a:pt x="11419" y="7863"/>
                  <a:pt x="11388" y="7874"/>
                </a:cubicBezTo>
                <a:cubicBezTo>
                  <a:pt x="11356" y="7885"/>
                  <a:pt x="11339" y="7891"/>
                  <a:pt x="11303" y="7895"/>
                </a:cubicBezTo>
                <a:cubicBezTo>
                  <a:pt x="11261" y="7900"/>
                  <a:pt x="11206" y="7875"/>
                  <a:pt x="11197" y="7874"/>
                </a:cubicBezTo>
                <a:cubicBezTo>
                  <a:pt x="11158" y="7869"/>
                  <a:pt x="11139" y="7893"/>
                  <a:pt x="11112" y="7895"/>
                </a:cubicBezTo>
                <a:cubicBezTo>
                  <a:pt x="11037" y="7901"/>
                  <a:pt x="10924" y="7911"/>
                  <a:pt x="10880" y="7916"/>
                </a:cubicBezTo>
                <a:cubicBezTo>
                  <a:pt x="10689" y="7936"/>
                  <a:pt x="10418" y="7872"/>
                  <a:pt x="10266" y="7937"/>
                </a:cubicBezTo>
                <a:cubicBezTo>
                  <a:pt x="10252" y="7943"/>
                  <a:pt x="10217" y="7947"/>
                  <a:pt x="10202" y="7959"/>
                </a:cubicBezTo>
                <a:cubicBezTo>
                  <a:pt x="10186" y="7972"/>
                  <a:pt x="10154" y="8016"/>
                  <a:pt x="10139" y="8043"/>
                </a:cubicBezTo>
                <a:cubicBezTo>
                  <a:pt x="10121" y="8076"/>
                  <a:pt x="10091" y="8087"/>
                  <a:pt x="10075" y="8107"/>
                </a:cubicBezTo>
                <a:cubicBezTo>
                  <a:pt x="10069" y="8115"/>
                  <a:pt x="10056" y="8146"/>
                  <a:pt x="10054" y="8149"/>
                </a:cubicBezTo>
                <a:cubicBezTo>
                  <a:pt x="10032" y="8133"/>
                  <a:pt x="10009" y="8118"/>
                  <a:pt x="9991" y="8107"/>
                </a:cubicBezTo>
                <a:cubicBezTo>
                  <a:pt x="9980" y="8100"/>
                  <a:pt x="9937" y="8075"/>
                  <a:pt x="9927" y="8064"/>
                </a:cubicBezTo>
                <a:cubicBezTo>
                  <a:pt x="9913" y="8049"/>
                  <a:pt x="9904" y="8025"/>
                  <a:pt x="9885" y="8001"/>
                </a:cubicBezTo>
                <a:cubicBezTo>
                  <a:pt x="9863" y="7973"/>
                  <a:pt x="9852" y="7964"/>
                  <a:pt x="9821" y="7937"/>
                </a:cubicBezTo>
                <a:cubicBezTo>
                  <a:pt x="9810" y="7927"/>
                  <a:pt x="9775" y="7909"/>
                  <a:pt x="9758" y="7895"/>
                </a:cubicBezTo>
                <a:cubicBezTo>
                  <a:pt x="9744" y="7884"/>
                  <a:pt x="9728" y="7854"/>
                  <a:pt x="9715" y="7832"/>
                </a:cubicBezTo>
                <a:cubicBezTo>
                  <a:pt x="9705" y="7815"/>
                  <a:pt x="9684" y="7791"/>
                  <a:pt x="9673" y="7768"/>
                </a:cubicBezTo>
                <a:cubicBezTo>
                  <a:pt x="9662" y="7745"/>
                  <a:pt x="9655" y="7723"/>
                  <a:pt x="9652" y="7705"/>
                </a:cubicBezTo>
                <a:cubicBezTo>
                  <a:pt x="9644" y="7659"/>
                  <a:pt x="9652" y="7603"/>
                  <a:pt x="9652" y="7556"/>
                </a:cubicBezTo>
                <a:cubicBezTo>
                  <a:pt x="9686" y="7553"/>
                  <a:pt x="9754" y="7535"/>
                  <a:pt x="9758" y="7535"/>
                </a:cubicBezTo>
                <a:cubicBezTo>
                  <a:pt x="9802" y="7530"/>
                  <a:pt x="9829" y="7546"/>
                  <a:pt x="9864" y="7514"/>
                </a:cubicBezTo>
                <a:cubicBezTo>
                  <a:pt x="9892" y="7488"/>
                  <a:pt x="9878" y="7483"/>
                  <a:pt x="9927" y="7472"/>
                </a:cubicBezTo>
                <a:cubicBezTo>
                  <a:pt x="9960" y="7465"/>
                  <a:pt x="9979" y="7456"/>
                  <a:pt x="9991" y="7451"/>
                </a:cubicBezTo>
                <a:cubicBezTo>
                  <a:pt x="10025" y="7436"/>
                  <a:pt x="10027" y="7443"/>
                  <a:pt x="10054" y="7429"/>
                </a:cubicBezTo>
                <a:cubicBezTo>
                  <a:pt x="10084" y="7414"/>
                  <a:pt x="10093" y="7420"/>
                  <a:pt x="10118" y="7408"/>
                </a:cubicBezTo>
                <a:cubicBezTo>
                  <a:pt x="10148" y="7393"/>
                  <a:pt x="10157" y="7399"/>
                  <a:pt x="10181" y="7387"/>
                </a:cubicBezTo>
                <a:cubicBezTo>
                  <a:pt x="10204" y="7375"/>
                  <a:pt x="10226" y="7369"/>
                  <a:pt x="10245" y="7366"/>
                </a:cubicBezTo>
                <a:cubicBezTo>
                  <a:pt x="10446" y="7331"/>
                  <a:pt x="10713" y="7364"/>
                  <a:pt x="10901" y="7387"/>
                </a:cubicBezTo>
                <a:cubicBezTo>
                  <a:pt x="11004" y="7400"/>
                  <a:pt x="11125" y="7396"/>
                  <a:pt x="11218" y="7408"/>
                </a:cubicBezTo>
                <a:cubicBezTo>
                  <a:pt x="11261" y="7413"/>
                  <a:pt x="11266" y="7411"/>
                  <a:pt x="11303" y="7429"/>
                </a:cubicBezTo>
                <a:cubicBezTo>
                  <a:pt x="11321" y="7438"/>
                  <a:pt x="11362" y="7471"/>
                  <a:pt x="11366" y="7472"/>
                </a:cubicBezTo>
                <a:cubicBezTo>
                  <a:pt x="11452" y="7501"/>
                  <a:pt x="11940" y="7466"/>
                  <a:pt x="11938" y="7472"/>
                </a:cubicBezTo>
                <a:cubicBezTo>
                  <a:pt x="11922" y="7512"/>
                  <a:pt x="11876" y="7508"/>
                  <a:pt x="11853" y="7535"/>
                </a:cubicBezTo>
                <a:cubicBezTo>
                  <a:pt x="11822" y="7571"/>
                  <a:pt x="11845" y="7580"/>
                  <a:pt x="11832" y="7620"/>
                </a:cubicBezTo>
                <a:cubicBezTo>
                  <a:pt x="11815" y="7671"/>
                  <a:pt x="11797" y="7648"/>
                  <a:pt x="11853" y="7662"/>
                </a:cubicBezTo>
                <a:cubicBezTo>
                  <a:pt x="11872" y="7667"/>
                  <a:pt x="11897" y="7660"/>
                  <a:pt x="11917" y="7662"/>
                </a:cubicBezTo>
                <a:cubicBezTo>
                  <a:pt x="11951" y="7593"/>
                  <a:pt x="11972" y="7627"/>
                  <a:pt x="11896" y="7620"/>
                </a:cubicBezTo>
                <a:cubicBezTo>
                  <a:pt x="11820" y="7613"/>
                  <a:pt x="11740" y="7620"/>
                  <a:pt x="11663" y="7620"/>
                </a:cubicBezTo>
                <a:cubicBezTo>
                  <a:pt x="11707" y="7613"/>
                  <a:pt x="11705" y="7616"/>
                  <a:pt x="11747" y="7599"/>
                </a:cubicBezTo>
                <a:cubicBezTo>
                  <a:pt x="11760" y="7594"/>
                  <a:pt x="11818" y="7552"/>
                  <a:pt x="11811" y="7535"/>
                </a:cubicBezTo>
                <a:cubicBezTo>
                  <a:pt x="11794" y="7494"/>
                  <a:pt x="11787" y="7529"/>
                  <a:pt x="11747" y="7514"/>
                </a:cubicBezTo>
                <a:cubicBezTo>
                  <a:pt x="11734" y="7509"/>
                  <a:pt x="11723" y="7494"/>
                  <a:pt x="11684" y="7493"/>
                </a:cubicBezTo>
                <a:cubicBezTo>
                  <a:pt x="11655" y="7492"/>
                  <a:pt x="11671" y="7493"/>
                  <a:pt x="11642" y="7493"/>
                </a:cubicBezTo>
                <a:cubicBezTo>
                  <a:pt x="11694" y="7507"/>
                  <a:pt x="11742" y="7520"/>
                  <a:pt x="11790" y="7535"/>
                </a:cubicBezTo>
                <a:cubicBezTo>
                  <a:pt x="11827" y="7547"/>
                  <a:pt x="11856" y="7552"/>
                  <a:pt x="11896" y="7556"/>
                </a:cubicBezTo>
                <a:cubicBezTo>
                  <a:pt x="11942" y="7561"/>
                  <a:pt x="11962" y="7543"/>
                  <a:pt x="11980" y="7578"/>
                </a:cubicBezTo>
                <a:cubicBezTo>
                  <a:pt x="11997" y="7612"/>
                  <a:pt x="11980" y="7706"/>
                  <a:pt x="11980" y="7747"/>
                </a:cubicBezTo>
                <a:cubicBezTo>
                  <a:pt x="11832" y="7747"/>
                  <a:pt x="11486" y="7863"/>
                  <a:pt x="11578" y="7747"/>
                </a:cubicBezTo>
                <a:cubicBezTo>
                  <a:pt x="11595" y="7726"/>
                  <a:pt x="11653" y="7735"/>
                  <a:pt x="11684" y="7726"/>
                </a:cubicBezTo>
                <a:cubicBezTo>
                  <a:pt x="11735" y="7712"/>
                  <a:pt x="11719" y="7716"/>
                  <a:pt x="11769" y="7705"/>
                </a:cubicBezTo>
                <a:cubicBezTo>
                  <a:pt x="11776" y="7705"/>
                  <a:pt x="11783" y="7705"/>
                  <a:pt x="11790" y="7705"/>
                </a:cubicBezTo>
                <a:cubicBezTo>
                  <a:pt x="11811" y="7705"/>
                  <a:pt x="11818" y="7705"/>
                  <a:pt x="11790" y="7705"/>
                </a:cubicBezTo>
                <a:cubicBezTo>
                  <a:pt x="11670" y="7705"/>
                  <a:pt x="11550" y="7705"/>
                  <a:pt x="11430" y="7705"/>
                </a:cubicBezTo>
                <a:cubicBezTo>
                  <a:pt x="11532" y="7705"/>
                  <a:pt x="11631" y="7692"/>
                  <a:pt x="11726" y="7683"/>
                </a:cubicBezTo>
                <a:cubicBezTo>
                  <a:pt x="11779" y="7678"/>
                  <a:pt x="11828" y="7673"/>
                  <a:pt x="11853" y="7662"/>
                </a:cubicBezTo>
                <a:cubicBezTo>
                  <a:pt x="11846" y="7662"/>
                  <a:pt x="11839" y="7662"/>
                  <a:pt x="11832" y="7662"/>
                </a:cubicBezTo>
                <a:cubicBezTo>
                  <a:pt x="11770" y="7650"/>
                  <a:pt x="11731" y="7641"/>
                  <a:pt x="11663" y="7641"/>
                </a:cubicBezTo>
                <a:cubicBezTo>
                  <a:pt x="11608" y="7641"/>
                  <a:pt x="11568" y="7625"/>
                  <a:pt x="11515" y="7620"/>
                </a:cubicBezTo>
                <a:cubicBezTo>
                  <a:pt x="11466" y="7616"/>
                  <a:pt x="11415" y="7620"/>
                  <a:pt x="11366" y="7620"/>
                </a:cubicBezTo>
                <a:cubicBezTo>
                  <a:pt x="11403" y="7612"/>
                  <a:pt x="11433" y="7602"/>
                  <a:pt x="11472" y="7599"/>
                </a:cubicBezTo>
                <a:cubicBezTo>
                  <a:pt x="11543" y="7593"/>
                  <a:pt x="11640" y="7632"/>
                  <a:pt x="11578" y="7599"/>
                </a:cubicBezTo>
                <a:cubicBezTo>
                  <a:pt x="11521" y="7569"/>
                  <a:pt x="11492" y="7558"/>
                  <a:pt x="11430" y="7556"/>
                </a:cubicBezTo>
                <a:cubicBezTo>
                  <a:pt x="11361" y="7553"/>
                  <a:pt x="11305" y="7529"/>
                  <a:pt x="11239" y="7514"/>
                </a:cubicBezTo>
                <a:cubicBezTo>
                  <a:pt x="11295" y="7514"/>
                  <a:pt x="11268" y="7514"/>
                  <a:pt x="11324" y="7514"/>
                </a:cubicBezTo>
                <a:cubicBezTo>
                  <a:pt x="11386" y="7514"/>
                  <a:pt x="11434" y="7530"/>
                  <a:pt x="11493" y="7535"/>
                </a:cubicBezTo>
                <a:cubicBezTo>
                  <a:pt x="11511" y="7537"/>
                  <a:pt x="11648" y="7535"/>
                  <a:pt x="11599" y="7535"/>
                </a:cubicBezTo>
                <a:cubicBezTo>
                  <a:pt x="11447" y="7535"/>
                  <a:pt x="11253" y="7544"/>
                  <a:pt x="11134" y="7514"/>
                </a:cubicBezTo>
                <a:cubicBezTo>
                  <a:pt x="11211" y="7514"/>
                  <a:pt x="11271" y="7522"/>
                  <a:pt x="11345" y="7535"/>
                </a:cubicBezTo>
                <a:cubicBezTo>
                  <a:pt x="11352" y="7535"/>
                  <a:pt x="11359" y="7535"/>
                  <a:pt x="11366" y="7535"/>
                </a:cubicBezTo>
                <a:cubicBezTo>
                  <a:pt x="11330" y="7535"/>
                  <a:pt x="11339" y="7535"/>
                  <a:pt x="11303" y="7535"/>
                </a:cubicBezTo>
                <a:cubicBezTo>
                  <a:pt x="11169" y="7535"/>
                  <a:pt x="11035" y="7535"/>
                  <a:pt x="10901" y="7535"/>
                </a:cubicBezTo>
                <a:cubicBezTo>
                  <a:pt x="10960" y="7555"/>
                  <a:pt x="11025" y="7577"/>
                  <a:pt x="11091" y="7599"/>
                </a:cubicBezTo>
                <a:cubicBezTo>
                  <a:pt x="11204" y="7637"/>
                  <a:pt x="11270" y="7643"/>
                  <a:pt x="11388" y="7662"/>
                </a:cubicBezTo>
                <a:cubicBezTo>
                  <a:pt x="11462" y="7674"/>
                  <a:pt x="11572" y="7662"/>
                  <a:pt x="11642" y="7683"/>
                </a:cubicBezTo>
                <a:cubicBezTo>
                  <a:pt x="11649" y="7690"/>
                  <a:pt x="11656" y="7698"/>
                  <a:pt x="11663" y="7705"/>
                </a:cubicBezTo>
                <a:cubicBezTo>
                  <a:pt x="11635" y="7705"/>
                  <a:pt x="11691" y="7705"/>
                  <a:pt x="11663" y="7705"/>
                </a:cubicBezTo>
                <a:cubicBezTo>
                  <a:pt x="11535" y="7705"/>
                  <a:pt x="11396" y="7695"/>
                  <a:pt x="11282" y="7683"/>
                </a:cubicBezTo>
                <a:cubicBezTo>
                  <a:pt x="11227" y="7677"/>
                  <a:pt x="11168" y="7683"/>
                  <a:pt x="11112" y="7683"/>
                </a:cubicBezTo>
                <a:cubicBezTo>
                  <a:pt x="11225" y="7683"/>
                  <a:pt x="11338" y="7683"/>
                  <a:pt x="11451" y="7683"/>
                </a:cubicBezTo>
                <a:cubicBezTo>
                  <a:pt x="11397" y="7661"/>
                  <a:pt x="11304" y="7642"/>
                  <a:pt x="11261" y="7620"/>
                </a:cubicBezTo>
                <a:cubicBezTo>
                  <a:pt x="11211" y="7594"/>
                  <a:pt x="11132" y="7609"/>
                  <a:pt x="11112" y="7556"/>
                </a:cubicBezTo>
                <a:cubicBezTo>
                  <a:pt x="11087" y="7490"/>
                  <a:pt x="11253" y="7556"/>
                  <a:pt x="11324" y="7556"/>
                </a:cubicBezTo>
                <a:cubicBezTo>
                  <a:pt x="11276" y="7581"/>
                  <a:pt x="11267" y="7591"/>
                  <a:pt x="11218" y="7599"/>
                </a:cubicBezTo>
                <a:cubicBezTo>
                  <a:pt x="11175" y="7606"/>
                  <a:pt x="11130" y="7614"/>
                  <a:pt x="11112" y="7620"/>
                </a:cubicBezTo>
                <a:cubicBezTo>
                  <a:pt x="11068" y="7635"/>
                  <a:pt x="11077" y="7640"/>
                  <a:pt x="11049" y="7662"/>
                </a:cubicBezTo>
                <a:cubicBezTo>
                  <a:pt x="11035" y="7669"/>
                  <a:pt x="11021" y="7676"/>
                  <a:pt x="11007" y="7683"/>
                </a:cubicBezTo>
                <a:cubicBezTo>
                  <a:pt x="11029" y="7694"/>
                  <a:pt x="11086" y="7731"/>
                  <a:pt x="11134" y="7747"/>
                </a:cubicBezTo>
                <a:cubicBezTo>
                  <a:pt x="11237" y="7781"/>
                  <a:pt x="11241" y="7762"/>
                  <a:pt x="11324" y="7747"/>
                </a:cubicBezTo>
                <a:cubicBezTo>
                  <a:pt x="11335" y="7745"/>
                  <a:pt x="11478" y="7747"/>
                  <a:pt x="11366" y="7747"/>
                </a:cubicBezTo>
                <a:cubicBezTo>
                  <a:pt x="11133" y="7747"/>
                  <a:pt x="10477" y="7747"/>
                  <a:pt x="10710" y="7747"/>
                </a:cubicBezTo>
                <a:cubicBezTo>
                  <a:pt x="10731" y="7747"/>
                  <a:pt x="10739" y="7747"/>
                  <a:pt x="10753" y="7747"/>
                </a:cubicBezTo>
                <a:cubicBezTo>
                  <a:pt x="10896" y="7747"/>
                  <a:pt x="11186" y="7747"/>
                  <a:pt x="11261" y="7747"/>
                </a:cubicBezTo>
                <a:cubicBezTo>
                  <a:pt x="11139" y="7747"/>
                  <a:pt x="10967" y="7762"/>
                  <a:pt x="10880" y="7726"/>
                </a:cubicBezTo>
                <a:cubicBezTo>
                  <a:pt x="10844" y="7711"/>
                  <a:pt x="10838" y="7708"/>
                  <a:pt x="10795" y="7705"/>
                </a:cubicBezTo>
                <a:cubicBezTo>
                  <a:pt x="10774" y="7703"/>
                  <a:pt x="10752" y="7705"/>
                  <a:pt x="10731" y="7705"/>
                </a:cubicBezTo>
                <a:cubicBezTo>
                  <a:pt x="10765" y="7724"/>
                  <a:pt x="10796" y="7757"/>
                  <a:pt x="10837" y="7768"/>
                </a:cubicBezTo>
                <a:cubicBezTo>
                  <a:pt x="11082" y="7833"/>
                  <a:pt x="11811" y="7768"/>
                  <a:pt x="11557" y="7768"/>
                </a:cubicBezTo>
                <a:cubicBezTo>
                  <a:pt x="11536" y="7768"/>
                  <a:pt x="11529" y="7768"/>
                  <a:pt x="11515" y="7768"/>
                </a:cubicBezTo>
                <a:cubicBezTo>
                  <a:pt x="11266" y="7768"/>
                  <a:pt x="10868" y="7697"/>
                  <a:pt x="10647" y="7789"/>
                </a:cubicBezTo>
                <a:cubicBezTo>
                  <a:pt x="10623" y="7789"/>
                  <a:pt x="10614" y="7791"/>
                  <a:pt x="10604" y="7810"/>
                </a:cubicBezTo>
                <a:cubicBezTo>
                  <a:pt x="10830" y="7810"/>
                  <a:pt x="11056" y="7810"/>
                  <a:pt x="11282" y="7810"/>
                </a:cubicBezTo>
                <a:cubicBezTo>
                  <a:pt x="11247" y="7788"/>
                  <a:pt x="11238" y="7768"/>
                  <a:pt x="11197" y="7747"/>
                </a:cubicBezTo>
                <a:cubicBezTo>
                  <a:pt x="11139" y="7717"/>
                  <a:pt x="11071" y="7679"/>
                  <a:pt x="11007" y="7662"/>
                </a:cubicBezTo>
                <a:cubicBezTo>
                  <a:pt x="10955" y="7648"/>
                  <a:pt x="10884" y="7609"/>
                  <a:pt x="10837" y="7599"/>
                </a:cubicBezTo>
                <a:cubicBezTo>
                  <a:pt x="10789" y="7589"/>
                  <a:pt x="10753" y="7592"/>
                  <a:pt x="10710" y="7578"/>
                </a:cubicBezTo>
                <a:cubicBezTo>
                  <a:pt x="10670" y="7565"/>
                  <a:pt x="10620" y="7550"/>
                  <a:pt x="10583" y="7535"/>
                </a:cubicBezTo>
                <a:cubicBezTo>
                  <a:pt x="10554" y="7523"/>
                  <a:pt x="10492" y="7479"/>
                  <a:pt x="10520" y="7493"/>
                </a:cubicBezTo>
                <a:cubicBezTo>
                  <a:pt x="10563" y="7514"/>
                  <a:pt x="10627" y="7516"/>
                  <a:pt x="10668" y="7535"/>
                </a:cubicBezTo>
                <a:cubicBezTo>
                  <a:pt x="10743" y="7569"/>
                  <a:pt x="10728" y="7574"/>
                  <a:pt x="10816" y="7578"/>
                </a:cubicBezTo>
                <a:cubicBezTo>
                  <a:pt x="10915" y="7582"/>
                  <a:pt x="11129" y="7657"/>
                  <a:pt x="11070" y="7578"/>
                </a:cubicBezTo>
                <a:cubicBezTo>
                  <a:pt x="11064" y="7571"/>
                  <a:pt x="10976" y="7537"/>
                  <a:pt x="10964" y="7535"/>
                </a:cubicBezTo>
                <a:cubicBezTo>
                  <a:pt x="10902" y="7525"/>
                  <a:pt x="10872" y="7527"/>
                  <a:pt x="10816" y="7514"/>
                </a:cubicBezTo>
                <a:cubicBezTo>
                  <a:pt x="10809" y="7514"/>
                  <a:pt x="10802" y="7514"/>
                  <a:pt x="10795" y="7514"/>
                </a:cubicBezTo>
                <a:cubicBezTo>
                  <a:pt x="10854" y="7514"/>
                  <a:pt x="11150" y="7514"/>
                  <a:pt x="11070" y="7514"/>
                </a:cubicBezTo>
                <a:cubicBezTo>
                  <a:pt x="11063" y="7514"/>
                  <a:pt x="11056" y="7514"/>
                  <a:pt x="11049" y="7514"/>
                </a:cubicBezTo>
                <a:cubicBezTo>
                  <a:pt x="10887" y="7514"/>
                  <a:pt x="10442" y="7514"/>
                  <a:pt x="10604" y="7514"/>
                </a:cubicBezTo>
                <a:cubicBezTo>
                  <a:pt x="10633" y="7514"/>
                  <a:pt x="10647" y="7514"/>
                  <a:pt x="10668" y="7514"/>
                </a:cubicBezTo>
                <a:cubicBezTo>
                  <a:pt x="10803" y="7514"/>
                  <a:pt x="10990" y="7526"/>
                  <a:pt x="11091" y="7493"/>
                </a:cubicBezTo>
                <a:cubicBezTo>
                  <a:pt x="11056" y="7478"/>
                  <a:pt x="11026" y="7463"/>
                  <a:pt x="10985" y="7451"/>
                </a:cubicBezTo>
                <a:cubicBezTo>
                  <a:pt x="10940" y="7438"/>
                  <a:pt x="10887" y="7398"/>
                  <a:pt x="10837" y="7387"/>
                </a:cubicBezTo>
                <a:cubicBezTo>
                  <a:pt x="10767" y="7372"/>
                  <a:pt x="10676" y="7387"/>
                  <a:pt x="10604" y="7387"/>
                </a:cubicBezTo>
                <a:cubicBezTo>
                  <a:pt x="10632" y="7387"/>
                  <a:pt x="10619" y="7387"/>
                  <a:pt x="10647" y="7387"/>
                </a:cubicBezTo>
                <a:cubicBezTo>
                  <a:pt x="10702" y="7387"/>
                  <a:pt x="10752" y="7402"/>
                  <a:pt x="10795" y="7408"/>
                </a:cubicBezTo>
                <a:cubicBezTo>
                  <a:pt x="10816" y="7408"/>
                  <a:pt x="10823" y="7408"/>
                  <a:pt x="10837" y="7408"/>
                </a:cubicBezTo>
                <a:cubicBezTo>
                  <a:pt x="10858" y="7408"/>
                  <a:pt x="10958" y="7408"/>
                  <a:pt x="10858" y="7408"/>
                </a:cubicBezTo>
                <a:cubicBezTo>
                  <a:pt x="10682" y="7408"/>
                  <a:pt x="10505" y="7408"/>
                  <a:pt x="10329" y="7408"/>
                </a:cubicBezTo>
                <a:cubicBezTo>
                  <a:pt x="10465" y="7408"/>
                  <a:pt x="10608" y="7400"/>
                  <a:pt x="10731" y="7387"/>
                </a:cubicBezTo>
                <a:cubicBezTo>
                  <a:pt x="10742" y="7386"/>
                  <a:pt x="10829" y="7392"/>
                  <a:pt x="10774" y="7387"/>
                </a:cubicBezTo>
                <a:cubicBezTo>
                  <a:pt x="10746" y="7384"/>
                  <a:pt x="10717" y="7387"/>
                  <a:pt x="10689" y="7387"/>
                </a:cubicBezTo>
                <a:cubicBezTo>
                  <a:pt x="10887" y="7387"/>
                  <a:pt x="11084" y="7387"/>
                  <a:pt x="11282" y="7387"/>
                </a:cubicBezTo>
              </a:path>
              <a:path w="2668" h="932">
                <a:moveTo>
                  <a:pt x="11282" y="7408"/>
                </a:moveTo>
                <a:cubicBezTo>
                  <a:pt x="11282" y="7415"/>
                  <a:pt x="11282" y="7422"/>
                  <a:pt x="11282" y="7429"/>
                </a:cubicBezTo>
                <a:cubicBezTo>
                  <a:pt x="11250" y="7440"/>
                  <a:pt x="11261" y="7455"/>
                  <a:pt x="11261" y="7493"/>
                </a:cubicBezTo>
                <a:cubicBezTo>
                  <a:pt x="11261" y="7544"/>
                  <a:pt x="11237" y="7536"/>
                  <a:pt x="11218" y="7578"/>
                </a:cubicBezTo>
                <a:cubicBezTo>
                  <a:pt x="11205" y="7608"/>
                  <a:pt x="11207" y="7589"/>
                  <a:pt x="11197" y="7620"/>
                </a:cubicBezTo>
              </a:path>
              <a:path w="2668" h="932">
                <a:moveTo>
                  <a:pt x="10541" y="7578"/>
                </a:moveTo>
                <a:cubicBezTo>
                  <a:pt x="10421" y="7578"/>
                  <a:pt x="10301" y="7578"/>
                  <a:pt x="10181" y="7578"/>
                </a:cubicBezTo>
                <a:cubicBezTo>
                  <a:pt x="10223" y="7578"/>
                  <a:pt x="10224" y="7578"/>
                  <a:pt x="10266" y="7578"/>
                </a:cubicBezTo>
                <a:cubicBezTo>
                  <a:pt x="10351" y="7578"/>
                  <a:pt x="10435" y="7578"/>
                  <a:pt x="10520" y="7578"/>
                </a:cubicBezTo>
                <a:cubicBezTo>
                  <a:pt x="10477" y="7569"/>
                  <a:pt x="10474" y="7576"/>
                  <a:pt x="10435" y="7556"/>
                </a:cubicBezTo>
                <a:cubicBezTo>
                  <a:pt x="10392" y="7534"/>
                  <a:pt x="10398" y="7504"/>
                  <a:pt x="10329" y="7493"/>
                </a:cubicBezTo>
                <a:cubicBezTo>
                  <a:pt x="10282" y="7485"/>
                  <a:pt x="10243" y="7479"/>
                  <a:pt x="10202" y="7472"/>
                </a:cubicBezTo>
                <a:cubicBezTo>
                  <a:pt x="10193" y="7471"/>
                  <a:pt x="10103" y="7472"/>
                  <a:pt x="10160" y="7472"/>
                </a:cubicBezTo>
                <a:cubicBezTo>
                  <a:pt x="10238" y="7472"/>
                  <a:pt x="10315" y="7472"/>
                  <a:pt x="10393" y="7472"/>
                </a:cubicBezTo>
                <a:cubicBezTo>
                  <a:pt x="10365" y="7472"/>
                  <a:pt x="10378" y="7472"/>
                  <a:pt x="10350" y="7472"/>
                </a:cubicBezTo>
                <a:cubicBezTo>
                  <a:pt x="10315" y="7472"/>
                  <a:pt x="10223" y="7456"/>
                  <a:pt x="10223" y="7493"/>
                </a:cubicBezTo>
                <a:cubicBezTo>
                  <a:pt x="10223" y="7562"/>
                  <a:pt x="10271" y="7582"/>
                  <a:pt x="10329" y="7599"/>
                </a:cubicBezTo>
                <a:cubicBezTo>
                  <a:pt x="10448" y="7635"/>
                  <a:pt x="10576" y="7669"/>
                  <a:pt x="10689" y="7705"/>
                </a:cubicBezTo>
                <a:cubicBezTo>
                  <a:pt x="10784" y="7736"/>
                  <a:pt x="10821" y="7747"/>
                  <a:pt x="10922" y="7747"/>
                </a:cubicBezTo>
                <a:cubicBezTo>
                  <a:pt x="10908" y="7747"/>
                  <a:pt x="10894" y="7747"/>
                  <a:pt x="10880" y="7747"/>
                </a:cubicBezTo>
                <a:cubicBezTo>
                  <a:pt x="10767" y="7747"/>
                  <a:pt x="10470" y="7747"/>
                  <a:pt x="10583" y="7747"/>
                </a:cubicBezTo>
                <a:cubicBezTo>
                  <a:pt x="10597" y="7747"/>
                  <a:pt x="10612" y="7747"/>
                  <a:pt x="10626" y="7747"/>
                </a:cubicBezTo>
                <a:cubicBezTo>
                  <a:pt x="10658" y="7747"/>
                  <a:pt x="10795" y="7766"/>
                  <a:pt x="10795" y="7726"/>
                </a:cubicBezTo>
                <a:cubicBezTo>
                  <a:pt x="10795" y="7696"/>
                  <a:pt x="10740" y="7702"/>
                  <a:pt x="10710" y="7683"/>
                </a:cubicBezTo>
                <a:cubicBezTo>
                  <a:pt x="10660" y="7652"/>
                  <a:pt x="10555" y="7590"/>
                  <a:pt x="10499" y="7578"/>
                </a:cubicBezTo>
                <a:cubicBezTo>
                  <a:pt x="10451" y="7568"/>
                  <a:pt x="10344" y="7578"/>
                  <a:pt x="10393" y="7578"/>
                </a:cubicBezTo>
                <a:cubicBezTo>
                  <a:pt x="10407" y="7578"/>
                  <a:pt x="10421" y="7578"/>
                  <a:pt x="10435" y="7578"/>
                </a:cubicBezTo>
                <a:cubicBezTo>
                  <a:pt x="10509" y="7578"/>
                  <a:pt x="10585" y="7568"/>
                  <a:pt x="10647" y="7599"/>
                </a:cubicBezTo>
                <a:cubicBezTo>
                  <a:pt x="10693" y="7599"/>
                  <a:pt x="10693" y="7599"/>
                  <a:pt x="10647" y="7599"/>
                </a:cubicBezTo>
                <a:cubicBezTo>
                  <a:pt x="10564" y="7599"/>
                  <a:pt x="10485" y="7609"/>
                  <a:pt x="10414" y="7620"/>
                </a:cubicBezTo>
                <a:cubicBezTo>
                  <a:pt x="10359" y="7628"/>
                  <a:pt x="10333" y="7608"/>
                  <a:pt x="10308" y="7641"/>
                </a:cubicBezTo>
                <a:cubicBezTo>
                  <a:pt x="10295" y="7658"/>
                  <a:pt x="10318" y="7671"/>
                  <a:pt x="10372" y="7683"/>
                </a:cubicBezTo>
                <a:cubicBezTo>
                  <a:pt x="10414" y="7683"/>
                  <a:pt x="10428" y="7683"/>
                  <a:pt x="10456" y="7683"/>
                </a:cubicBezTo>
                <a:cubicBezTo>
                  <a:pt x="10527" y="7683"/>
                  <a:pt x="10478" y="7683"/>
                  <a:pt x="10435" y="7683"/>
                </a:cubicBezTo>
                <a:cubicBezTo>
                  <a:pt x="10431" y="7683"/>
                  <a:pt x="10337" y="7694"/>
                  <a:pt x="10372" y="7705"/>
                </a:cubicBezTo>
                <a:cubicBezTo>
                  <a:pt x="10410" y="7717"/>
                  <a:pt x="10464" y="7738"/>
                  <a:pt x="10499" y="7747"/>
                </a:cubicBezTo>
                <a:cubicBezTo>
                  <a:pt x="10515" y="7751"/>
                  <a:pt x="10657" y="7747"/>
                  <a:pt x="10604" y="7747"/>
                </a:cubicBezTo>
                <a:cubicBezTo>
                  <a:pt x="10527" y="7747"/>
                  <a:pt x="10449" y="7747"/>
                  <a:pt x="10372" y="7747"/>
                </a:cubicBezTo>
                <a:cubicBezTo>
                  <a:pt x="10391" y="7747"/>
                  <a:pt x="10526" y="7747"/>
                  <a:pt x="10477" y="7747"/>
                </a:cubicBezTo>
                <a:cubicBezTo>
                  <a:pt x="10452" y="7747"/>
                  <a:pt x="10290" y="7739"/>
                  <a:pt x="10308" y="7768"/>
                </a:cubicBezTo>
                <a:cubicBezTo>
                  <a:pt x="10327" y="7798"/>
                  <a:pt x="10404" y="7782"/>
                  <a:pt x="10435" y="7789"/>
                </a:cubicBezTo>
                <a:cubicBezTo>
                  <a:pt x="10510" y="7805"/>
                  <a:pt x="10548" y="7832"/>
                  <a:pt x="10626" y="7832"/>
                </a:cubicBezTo>
                <a:cubicBezTo>
                  <a:pt x="10543" y="7832"/>
                  <a:pt x="10463" y="7821"/>
                  <a:pt x="10393" y="7810"/>
                </a:cubicBezTo>
                <a:cubicBezTo>
                  <a:pt x="10359" y="7805"/>
                  <a:pt x="10266" y="7831"/>
                  <a:pt x="10266" y="7789"/>
                </a:cubicBezTo>
                <a:cubicBezTo>
                  <a:pt x="10266" y="7766"/>
                  <a:pt x="10292" y="7736"/>
                  <a:pt x="10308" y="7705"/>
                </a:cubicBezTo>
                <a:cubicBezTo>
                  <a:pt x="10317" y="7687"/>
                  <a:pt x="10320" y="7659"/>
                  <a:pt x="10329" y="7641"/>
                </a:cubicBezTo>
                <a:cubicBezTo>
                  <a:pt x="10309" y="7629"/>
                  <a:pt x="10310" y="7623"/>
                  <a:pt x="10266" y="7620"/>
                </a:cubicBezTo>
                <a:cubicBezTo>
                  <a:pt x="10231" y="7618"/>
                  <a:pt x="10195" y="7620"/>
                  <a:pt x="10160" y="7620"/>
                </a:cubicBezTo>
                <a:cubicBezTo>
                  <a:pt x="10099" y="7620"/>
                  <a:pt x="10134" y="7635"/>
                  <a:pt x="10160" y="7620"/>
                </a:cubicBezTo>
                <a:cubicBezTo>
                  <a:pt x="10185" y="7606"/>
                  <a:pt x="10203" y="7574"/>
                  <a:pt x="10181" y="7556"/>
                </a:cubicBezTo>
                <a:cubicBezTo>
                  <a:pt x="10168" y="7545"/>
                  <a:pt x="10093" y="7538"/>
                  <a:pt x="10075" y="7535"/>
                </a:cubicBezTo>
                <a:cubicBezTo>
                  <a:pt x="10034" y="7529"/>
                  <a:pt x="10022" y="7550"/>
                  <a:pt x="9991" y="7556"/>
                </a:cubicBezTo>
                <a:cubicBezTo>
                  <a:pt x="9946" y="7565"/>
                  <a:pt x="9942" y="7562"/>
                  <a:pt x="9906" y="7599"/>
                </a:cubicBezTo>
                <a:cubicBezTo>
                  <a:pt x="9912" y="7639"/>
                  <a:pt x="9892" y="7649"/>
                  <a:pt x="9927" y="7662"/>
                </a:cubicBezTo>
                <a:cubicBezTo>
                  <a:pt x="9954" y="7673"/>
                  <a:pt x="10025" y="7679"/>
                  <a:pt x="10054" y="7683"/>
                </a:cubicBezTo>
                <a:cubicBezTo>
                  <a:pt x="10125" y="7693"/>
                  <a:pt x="10106" y="7673"/>
                  <a:pt x="10139" y="7641"/>
                </a:cubicBezTo>
                <a:cubicBezTo>
                  <a:pt x="10167" y="7613"/>
                  <a:pt x="10178" y="7640"/>
                  <a:pt x="10181" y="7578"/>
                </a:cubicBezTo>
                <a:cubicBezTo>
                  <a:pt x="10181" y="7549"/>
                  <a:pt x="10181" y="7535"/>
                  <a:pt x="10181" y="7514"/>
                </a:cubicBezTo>
                <a:cubicBezTo>
                  <a:pt x="10150" y="7502"/>
                  <a:pt x="10132" y="7495"/>
                  <a:pt x="10096" y="7493"/>
                </a:cubicBezTo>
                <a:cubicBezTo>
                  <a:pt x="10035" y="7489"/>
                  <a:pt x="9978" y="7490"/>
                  <a:pt x="9948" y="7514"/>
                </a:cubicBezTo>
                <a:cubicBezTo>
                  <a:pt x="9930" y="7529"/>
                  <a:pt x="9917" y="7537"/>
                  <a:pt x="9927" y="7578"/>
                </a:cubicBezTo>
                <a:cubicBezTo>
                  <a:pt x="9936" y="7617"/>
                  <a:pt x="9953" y="7632"/>
                  <a:pt x="9991" y="7641"/>
                </a:cubicBezTo>
                <a:cubicBezTo>
                  <a:pt x="10026" y="7641"/>
                  <a:pt x="10033" y="7641"/>
                  <a:pt x="10054" y="7641"/>
                </a:cubicBezTo>
                <a:cubicBezTo>
                  <a:pt x="10061" y="7641"/>
                  <a:pt x="10068" y="7641"/>
                  <a:pt x="10075" y="7641"/>
                </a:cubicBezTo>
                <a:cubicBezTo>
                  <a:pt x="10084" y="7557"/>
                  <a:pt x="10106" y="7629"/>
                  <a:pt x="10054" y="7535"/>
                </a:cubicBezTo>
                <a:cubicBezTo>
                  <a:pt x="10033" y="7497"/>
                  <a:pt x="9967" y="7475"/>
                  <a:pt x="9948" y="7472"/>
                </a:cubicBezTo>
                <a:cubicBezTo>
                  <a:pt x="9904" y="7465"/>
                  <a:pt x="9853" y="7467"/>
                  <a:pt x="9821" y="7493"/>
                </a:cubicBezTo>
                <a:cubicBezTo>
                  <a:pt x="9804" y="7506"/>
                  <a:pt x="9784" y="7555"/>
                  <a:pt x="9800" y="7578"/>
                </a:cubicBezTo>
                <a:cubicBezTo>
                  <a:pt x="9808" y="7589"/>
                  <a:pt x="9881" y="7593"/>
                  <a:pt x="9885" y="7599"/>
                </a:cubicBezTo>
                <a:cubicBezTo>
                  <a:pt x="9907" y="7633"/>
                  <a:pt x="9869" y="7682"/>
                  <a:pt x="9864" y="7705"/>
                </a:cubicBezTo>
                <a:cubicBezTo>
                  <a:pt x="9864" y="7726"/>
                  <a:pt x="9864" y="7733"/>
                  <a:pt x="9864" y="7747"/>
                </a:cubicBezTo>
                <a:cubicBezTo>
                  <a:pt x="9918" y="7765"/>
                  <a:pt x="9873" y="7751"/>
                  <a:pt x="9864" y="7705"/>
                </a:cubicBezTo>
                <a:cubicBezTo>
                  <a:pt x="9856" y="7664"/>
                  <a:pt x="9880" y="7656"/>
                  <a:pt x="9842" y="7641"/>
                </a:cubicBezTo>
                <a:cubicBezTo>
                  <a:pt x="9821" y="7633"/>
                  <a:pt x="9768" y="7651"/>
                  <a:pt x="9758" y="7662"/>
                </a:cubicBezTo>
                <a:cubicBezTo>
                  <a:pt x="9721" y="7700"/>
                  <a:pt x="9723" y="7748"/>
                  <a:pt x="9694" y="7789"/>
                </a:cubicBezTo>
                <a:cubicBezTo>
                  <a:pt x="9669" y="7814"/>
                  <a:pt x="9659" y="7827"/>
                  <a:pt x="9652" y="7853"/>
                </a:cubicBezTo>
                <a:cubicBezTo>
                  <a:pt x="9652" y="7797"/>
                  <a:pt x="9637" y="7685"/>
                  <a:pt x="9673" y="7662"/>
                </a:cubicBezTo>
                <a:cubicBezTo>
                  <a:pt x="9716" y="7635"/>
                  <a:pt x="9712" y="7682"/>
                  <a:pt x="9715" y="7705"/>
                </a:cubicBezTo>
                <a:cubicBezTo>
                  <a:pt x="9720" y="7742"/>
                  <a:pt x="9725" y="7776"/>
                  <a:pt x="9737" y="7810"/>
                </a:cubicBezTo>
                <a:cubicBezTo>
                  <a:pt x="9746" y="7836"/>
                  <a:pt x="9749" y="7876"/>
                  <a:pt x="9779" y="7874"/>
                </a:cubicBezTo>
                <a:cubicBezTo>
                  <a:pt x="9816" y="7871"/>
                  <a:pt x="9838" y="7836"/>
                  <a:pt x="9864" y="7810"/>
                </a:cubicBezTo>
                <a:cubicBezTo>
                  <a:pt x="9894" y="7780"/>
                  <a:pt x="9857" y="7823"/>
                  <a:pt x="9906" y="7789"/>
                </a:cubicBezTo>
                <a:cubicBezTo>
                  <a:pt x="9920" y="7782"/>
                  <a:pt x="9934" y="7775"/>
                  <a:pt x="9948" y="7768"/>
                </a:cubicBezTo>
                <a:cubicBezTo>
                  <a:pt x="9948" y="7761"/>
                  <a:pt x="9948" y="7754"/>
                  <a:pt x="9948" y="7747"/>
                </a:cubicBezTo>
                <a:cubicBezTo>
                  <a:pt x="9972" y="7747"/>
                  <a:pt x="9987" y="7711"/>
                  <a:pt x="9969" y="7789"/>
                </a:cubicBezTo>
                <a:cubicBezTo>
                  <a:pt x="9959" y="7834"/>
                  <a:pt x="9930" y="7858"/>
                  <a:pt x="9969" y="7874"/>
                </a:cubicBezTo>
                <a:cubicBezTo>
                  <a:pt x="10017" y="7894"/>
                  <a:pt x="10041" y="7858"/>
                  <a:pt x="10075" y="7853"/>
                </a:cubicBezTo>
                <a:cubicBezTo>
                  <a:pt x="10129" y="7845"/>
                  <a:pt x="10182" y="7842"/>
                  <a:pt x="10223" y="7810"/>
                </a:cubicBezTo>
                <a:cubicBezTo>
                  <a:pt x="10324" y="7732"/>
                  <a:pt x="10245" y="7788"/>
                  <a:pt x="10223" y="7810"/>
                </a:cubicBezTo>
                <a:cubicBezTo>
                  <a:pt x="10212" y="7829"/>
                  <a:pt x="10182" y="7908"/>
                  <a:pt x="10160" y="7916"/>
                </a:cubicBezTo>
                <a:cubicBezTo>
                  <a:pt x="10126" y="7928"/>
                  <a:pt x="10105" y="7917"/>
                  <a:pt x="10096" y="7895"/>
                </a:cubicBezTo>
                <a:cubicBezTo>
                  <a:pt x="10085" y="7867"/>
                  <a:pt x="10109" y="7831"/>
                  <a:pt x="10118" y="7810"/>
                </a:cubicBezTo>
                <a:cubicBezTo>
                  <a:pt x="10137" y="7767"/>
                  <a:pt x="10182" y="7754"/>
                  <a:pt x="10202" y="7726"/>
                </a:cubicBezTo>
                <a:cubicBezTo>
                  <a:pt x="10219" y="7691"/>
                  <a:pt x="10218" y="7676"/>
                  <a:pt x="10245" y="7683"/>
                </a:cubicBezTo>
                <a:cubicBezTo>
                  <a:pt x="10217" y="7697"/>
                  <a:pt x="10226" y="7685"/>
                  <a:pt x="10202" y="7705"/>
                </a:cubicBezTo>
                <a:cubicBezTo>
                  <a:pt x="10186" y="7718"/>
                  <a:pt x="10120" y="7809"/>
                  <a:pt x="10096" y="7789"/>
                </a:cubicBezTo>
                <a:cubicBezTo>
                  <a:pt x="10053" y="7753"/>
                  <a:pt x="10132" y="7696"/>
                  <a:pt x="10118" y="7641"/>
                </a:cubicBezTo>
                <a:cubicBezTo>
                  <a:pt x="10111" y="7641"/>
                  <a:pt x="10103" y="7641"/>
                  <a:pt x="10096" y="7641"/>
                </a:cubicBezTo>
                <a:cubicBezTo>
                  <a:pt x="10065" y="7681"/>
                  <a:pt x="10031" y="7727"/>
                  <a:pt x="10012" y="7768"/>
                </a:cubicBezTo>
                <a:cubicBezTo>
                  <a:pt x="9995" y="7804"/>
                  <a:pt x="9956" y="7814"/>
                  <a:pt x="9948" y="7853"/>
                </a:cubicBezTo>
                <a:cubicBezTo>
                  <a:pt x="9941" y="7884"/>
                  <a:pt x="9990" y="7881"/>
                  <a:pt x="10012" y="7874"/>
                </a:cubicBezTo>
                <a:cubicBezTo>
                  <a:pt x="10030" y="7868"/>
                  <a:pt x="10029" y="7833"/>
                  <a:pt x="10033" y="7895"/>
                </a:cubicBezTo>
                <a:cubicBezTo>
                  <a:pt x="10036" y="7941"/>
                  <a:pt x="10016" y="8007"/>
                  <a:pt x="10054" y="8022"/>
                </a:cubicBezTo>
                <a:cubicBezTo>
                  <a:pt x="10069" y="8028"/>
                  <a:pt x="10102" y="8022"/>
                  <a:pt x="10118" y="8022"/>
                </a:cubicBezTo>
                <a:cubicBezTo>
                  <a:pt x="10123" y="7987"/>
                  <a:pt x="10156" y="7944"/>
                  <a:pt x="10118" y="7980"/>
                </a:cubicBezTo>
                <a:cubicBezTo>
                  <a:pt x="10072" y="8025"/>
                  <a:pt x="10105" y="7947"/>
                  <a:pt x="10096" y="7916"/>
                </a:cubicBezTo>
                <a:cubicBezTo>
                  <a:pt x="10087" y="7883"/>
                  <a:pt x="10082" y="7861"/>
                  <a:pt x="10054" y="7853"/>
                </a:cubicBezTo>
                <a:cubicBezTo>
                  <a:pt x="10012" y="7841"/>
                  <a:pt x="9985" y="7868"/>
                  <a:pt x="9948" y="7874"/>
                </a:cubicBezTo>
                <a:cubicBezTo>
                  <a:pt x="9913" y="7880"/>
                  <a:pt x="9893" y="7881"/>
                  <a:pt x="9885" y="7853"/>
                </a:cubicBezTo>
                <a:cubicBezTo>
                  <a:pt x="9873" y="7809"/>
                  <a:pt x="9883" y="7786"/>
                  <a:pt x="9864" y="7747"/>
                </a:cubicBezTo>
                <a:cubicBezTo>
                  <a:pt x="9859" y="7737"/>
                  <a:pt x="9850" y="7740"/>
                  <a:pt x="9821" y="7726"/>
                </a:cubicBezTo>
                <a:cubicBezTo>
                  <a:pt x="9765" y="7698"/>
                  <a:pt x="9746" y="7672"/>
                  <a:pt x="9715" y="7620"/>
                </a:cubicBezTo>
              </a:path>
              <a:path w="2668" h="932">
                <a:moveTo>
                  <a:pt x="9631" y="7535"/>
                </a:moveTo>
                <a:cubicBezTo>
                  <a:pt x="9624" y="7535"/>
                  <a:pt x="9617" y="7535"/>
                  <a:pt x="9610" y="7535"/>
                </a:cubicBezTo>
                <a:cubicBezTo>
                  <a:pt x="9598" y="7569"/>
                  <a:pt x="9600" y="7543"/>
                  <a:pt x="9588" y="7578"/>
                </a:cubicBezTo>
                <a:cubicBezTo>
                  <a:pt x="9574" y="7583"/>
                  <a:pt x="9536" y="7597"/>
                  <a:pt x="9525" y="7620"/>
                </a:cubicBezTo>
                <a:cubicBezTo>
                  <a:pt x="9515" y="7641"/>
                  <a:pt x="9509" y="7683"/>
                  <a:pt x="9504" y="7705"/>
                </a:cubicBezTo>
                <a:cubicBezTo>
                  <a:pt x="9472" y="7716"/>
                  <a:pt x="9483" y="7730"/>
                  <a:pt x="9483" y="7768"/>
                </a:cubicBezTo>
                <a:cubicBezTo>
                  <a:pt x="9483" y="7789"/>
                  <a:pt x="9483" y="7796"/>
                  <a:pt x="9483" y="7810"/>
                </a:cubicBezTo>
                <a:cubicBezTo>
                  <a:pt x="9462" y="7810"/>
                  <a:pt x="9440" y="7810"/>
                  <a:pt x="9419" y="7810"/>
                </a:cubicBezTo>
                <a:cubicBezTo>
                  <a:pt x="9419" y="7852"/>
                  <a:pt x="9419" y="7895"/>
                  <a:pt x="9419" y="7937"/>
                </a:cubicBezTo>
                <a:cubicBezTo>
                  <a:pt x="9387" y="7948"/>
                  <a:pt x="9398" y="7963"/>
                  <a:pt x="9398" y="8001"/>
                </a:cubicBezTo>
                <a:cubicBezTo>
                  <a:pt x="9398" y="8079"/>
                  <a:pt x="9398" y="8156"/>
                  <a:pt x="9398" y="8234"/>
                </a:cubicBezTo>
                <a:cubicBezTo>
                  <a:pt x="9398" y="8178"/>
                  <a:pt x="9398" y="8248"/>
                  <a:pt x="9398" y="8255"/>
                </a:cubicBezTo>
                <a:cubicBezTo>
                  <a:pt x="9430" y="8266"/>
                  <a:pt x="9416" y="8276"/>
                  <a:pt x="9461" y="8276"/>
                </a:cubicBezTo>
                <a:cubicBezTo>
                  <a:pt x="9503" y="8276"/>
                  <a:pt x="9651" y="8298"/>
                  <a:pt x="9673" y="8255"/>
                </a:cubicBezTo>
                <a:cubicBezTo>
                  <a:pt x="9673" y="8234"/>
                  <a:pt x="9673" y="8227"/>
                  <a:pt x="9694" y="8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Ink 12"/>
          <p:cNvSpPr/>
          <p:nvPr/>
        </p:nvSpPr>
        <p:spPr>
          <a:xfrm>
            <a:off x="3200400" y="2765520"/>
            <a:ext cx="808200" cy="1212840"/>
          </a:xfrm>
          <a:custGeom>
            <a:avLst/>
            <a:gdLst/>
            <a:ahLst/>
            <a:rect l="l" t="t" r="r" b="b"/>
            <a:pathLst>
              <a:path w="2245" h="3367">
                <a:moveTo>
                  <a:pt x="9440" y="8318"/>
                </a:moveTo>
                <a:cubicBezTo>
                  <a:pt x="9461" y="8318"/>
                  <a:pt x="9483" y="8318"/>
                  <a:pt x="9504" y="8318"/>
                </a:cubicBezTo>
                <a:cubicBezTo>
                  <a:pt x="9511" y="8362"/>
                  <a:pt x="9508" y="8339"/>
                  <a:pt x="9525" y="8361"/>
                </a:cubicBezTo>
                <a:cubicBezTo>
                  <a:pt x="9525" y="8382"/>
                  <a:pt x="9525" y="8403"/>
                  <a:pt x="9525" y="8424"/>
                </a:cubicBezTo>
                <a:cubicBezTo>
                  <a:pt x="9553" y="8424"/>
                  <a:pt x="9582" y="8424"/>
                  <a:pt x="9610" y="8424"/>
                </a:cubicBezTo>
                <a:cubicBezTo>
                  <a:pt x="9623" y="8442"/>
                  <a:pt x="9618" y="8449"/>
                  <a:pt x="9631" y="8467"/>
                </a:cubicBezTo>
                <a:cubicBezTo>
                  <a:pt x="9647" y="8489"/>
                  <a:pt x="9645" y="8466"/>
                  <a:pt x="9652" y="8509"/>
                </a:cubicBezTo>
                <a:cubicBezTo>
                  <a:pt x="9669" y="8522"/>
                  <a:pt x="9677" y="8517"/>
                  <a:pt x="9694" y="8530"/>
                </a:cubicBezTo>
                <a:cubicBezTo>
                  <a:pt x="9714" y="8542"/>
                  <a:pt x="9715" y="8545"/>
                  <a:pt x="9758" y="8551"/>
                </a:cubicBezTo>
                <a:cubicBezTo>
                  <a:pt x="9765" y="8593"/>
                  <a:pt x="9764" y="8573"/>
                  <a:pt x="9779" y="8594"/>
                </a:cubicBezTo>
                <a:cubicBezTo>
                  <a:pt x="9785" y="8634"/>
                  <a:pt x="9787" y="8648"/>
                  <a:pt x="9821" y="8678"/>
                </a:cubicBezTo>
                <a:cubicBezTo>
                  <a:pt x="9828" y="8678"/>
                  <a:pt x="9835" y="8678"/>
                  <a:pt x="9842" y="8678"/>
                </a:cubicBezTo>
                <a:cubicBezTo>
                  <a:pt x="9855" y="8695"/>
                  <a:pt x="9851" y="8703"/>
                  <a:pt x="9864" y="8721"/>
                </a:cubicBezTo>
                <a:cubicBezTo>
                  <a:pt x="9890" y="8737"/>
                  <a:pt x="9887" y="8739"/>
                  <a:pt x="9927" y="8742"/>
                </a:cubicBezTo>
                <a:cubicBezTo>
                  <a:pt x="9934" y="8742"/>
                  <a:pt x="9941" y="8742"/>
                  <a:pt x="9948" y="8742"/>
                </a:cubicBezTo>
                <a:cubicBezTo>
                  <a:pt x="9968" y="8754"/>
                  <a:pt x="9968" y="8760"/>
                  <a:pt x="10012" y="8763"/>
                </a:cubicBezTo>
                <a:cubicBezTo>
                  <a:pt x="10068" y="8766"/>
                  <a:pt x="10125" y="8763"/>
                  <a:pt x="10181" y="8763"/>
                </a:cubicBezTo>
                <a:cubicBezTo>
                  <a:pt x="10202" y="8775"/>
                  <a:pt x="10201" y="8780"/>
                  <a:pt x="10245" y="8784"/>
                </a:cubicBezTo>
                <a:cubicBezTo>
                  <a:pt x="10252" y="8784"/>
                  <a:pt x="10259" y="8784"/>
                  <a:pt x="10266" y="8784"/>
                </a:cubicBezTo>
                <a:cubicBezTo>
                  <a:pt x="10279" y="8801"/>
                  <a:pt x="10274" y="8809"/>
                  <a:pt x="10287" y="8826"/>
                </a:cubicBezTo>
                <a:cubicBezTo>
                  <a:pt x="10299" y="8846"/>
                  <a:pt x="10302" y="8848"/>
                  <a:pt x="10308" y="8890"/>
                </a:cubicBezTo>
                <a:cubicBezTo>
                  <a:pt x="10320" y="8910"/>
                  <a:pt x="10325" y="8909"/>
                  <a:pt x="10329" y="8953"/>
                </a:cubicBezTo>
                <a:cubicBezTo>
                  <a:pt x="10329" y="8960"/>
                  <a:pt x="10329" y="8968"/>
                  <a:pt x="10329" y="8975"/>
                </a:cubicBezTo>
                <a:cubicBezTo>
                  <a:pt x="10341" y="8996"/>
                  <a:pt x="10344" y="8995"/>
                  <a:pt x="10350" y="9038"/>
                </a:cubicBezTo>
                <a:cubicBezTo>
                  <a:pt x="10374" y="9072"/>
                  <a:pt x="10374" y="9025"/>
                  <a:pt x="10350" y="9059"/>
                </a:cubicBezTo>
                <a:cubicBezTo>
                  <a:pt x="10368" y="9112"/>
                  <a:pt x="10340" y="9084"/>
                  <a:pt x="10393" y="9102"/>
                </a:cubicBezTo>
                <a:cubicBezTo>
                  <a:pt x="10400" y="9145"/>
                  <a:pt x="10398" y="9122"/>
                  <a:pt x="10414" y="9144"/>
                </a:cubicBezTo>
                <a:cubicBezTo>
                  <a:pt x="10430" y="9171"/>
                  <a:pt x="10429" y="9167"/>
                  <a:pt x="10435" y="9207"/>
                </a:cubicBezTo>
                <a:cubicBezTo>
                  <a:pt x="10480" y="9215"/>
                  <a:pt x="10453" y="9211"/>
                  <a:pt x="10477" y="9229"/>
                </a:cubicBezTo>
                <a:cubicBezTo>
                  <a:pt x="10495" y="9242"/>
                  <a:pt x="10502" y="9237"/>
                  <a:pt x="10520" y="9250"/>
                </a:cubicBezTo>
                <a:cubicBezTo>
                  <a:pt x="10535" y="9269"/>
                  <a:pt x="10533" y="9290"/>
                  <a:pt x="10562" y="9313"/>
                </a:cubicBezTo>
                <a:cubicBezTo>
                  <a:pt x="10598" y="9341"/>
                  <a:pt x="10548" y="9307"/>
                  <a:pt x="10562" y="9334"/>
                </a:cubicBezTo>
              </a:path>
              <a:path w="2245" h="3367">
                <a:moveTo>
                  <a:pt x="10541" y="9334"/>
                </a:moveTo>
                <a:cubicBezTo>
                  <a:pt x="10522" y="9354"/>
                  <a:pt x="10515" y="9358"/>
                  <a:pt x="10520" y="9377"/>
                </a:cubicBezTo>
                <a:cubicBezTo>
                  <a:pt x="10502" y="9390"/>
                  <a:pt x="10495" y="9385"/>
                  <a:pt x="10477" y="9398"/>
                </a:cubicBezTo>
                <a:cubicBezTo>
                  <a:pt x="10462" y="9424"/>
                  <a:pt x="10458" y="9421"/>
                  <a:pt x="10456" y="9461"/>
                </a:cubicBezTo>
                <a:cubicBezTo>
                  <a:pt x="10452" y="9538"/>
                  <a:pt x="10456" y="9617"/>
                  <a:pt x="10456" y="9694"/>
                </a:cubicBezTo>
                <a:cubicBezTo>
                  <a:pt x="10429" y="9712"/>
                  <a:pt x="10432" y="9710"/>
                  <a:pt x="10414" y="9737"/>
                </a:cubicBezTo>
                <a:cubicBezTo>
                  <a:pt x="10379" y="9741"/>
                  <a:pt x="10360" y="9747"/>
                  <a:pt x="10329" y="9758"/>
                </a:cubicBezTo>
                <a:cubicBezTo>
                  <a:pt x="10307" y="9774"/>
                  <a:pt x="10330" y="9772"/>
                  <a:pt x="10287" y="9779"/>
                </a:cubicBezTo>
                <a:cubicBezTo>
                  <a:pt x="10271" y="9806"/>
                  <a:pt x="10272" y="9802"/>
                  <a:pt x="10266" y="9842"/>
                </a:cubicBezTo>
                <a:cubicBezTo>
                  <a:pt x="10230" y="9847"/>
                  <a:pt x="10212" y="9852"/>
                  <a:pt x="10181" y="9864"/>
                </a:cubicBezTo>
                <a:cubicBezTo>
                  <a:pt x="10166" y="9910"/>
                  <a:pt x="10193" y="9899"/>
                  <a:pt x="10139" y="9906"/>
                </a:cubicBezTo>
                <a:cubicBezTo>
                  <a:pt x="10118" y="9906"/>
                  <a:pt x="10110" y="9906"/>
                  <a:pt x="10096" y="9906"/>
                </a:cubicBezTo>
                <a:cubicBezTo>
                  <a:pt x="10086" y="9914"/>
                  <a:pt x="10060" y="9942"/>
                  <a:pt x="10033" y="9948"/>
                </a:cubicBezTo>
                <a:cubicBezTo>
                  <a:pt x="9982" y="9960"/>
                  <a:pt x="9917" y="9948"/>
                  <a:pt x="9864" y="9948"/>
                </a:cubicBezTo>
                <a:cubicBezTo>
                  <a:pt x="9864" y="9972"/>
                  <a:pt x="9872" y="9968"/>
                  <a:pt x="9864" y="9991"/>
                </a:cubicBezTo>
                <a:cubicBezTo>
                  <a:pt x="9846" y="10004"/>
                  <a:pt x="9839" y="9999"/>
                  <a:pt x="9821" y="10012"/>
                </a:cubicBezTo>
                <a:cubicBezTo>
                  <a:pt x="9801" y="10024"/>
                  <a:pt x="9802" y="10030"/>
                  <a:pt x="9758" y="10033"/>
                </a:cubicBezTo>
                <a:cubicBezTo>
                  <a:pt x="9622" y="10041"/>
                  <a:pt x="9480" y="10034"/>
                  <a:pt x="9356" y="10054"/>
                </a:cubicBezTo>
                <a:cubicBezTo>
                  <a:pt x="9296" y="10064"/>
                  <a:pt x="9226" y="10054"/>
                  <a:pt x="9165" y="10054"/>
                </a:cubicBezTo>
                <a:cubicBezTo>
                  <a:pt x="9149" y="10062"/>
                  <a:pt x="9101" y="10090"/>
                  <a:pt x="9059" y="10096"/>
                </a:cubicBezTo>
                <a:cubicBezTo>
                  <a:pt x="9032" y="10100"/>
                  <a:pt x="9002" y="10096"/>
                  <a:pt x="8975" y="10096"/>
                </a:cubicBezTo>
                <a:cubicBezTo>
                  <a:pt x="8975" y="10066"/>
                  <a:pt x="8971" y="10051"/>
                  <a:pt x="8953" y="10033"/>
                </a:cubicBezTo>
              </a:path>
              <a:path w="2245" h="3367">
                <a:moveTo>
                  <a:pt x="8932" y="11049"/>
                </a:moveTo>
                <a:cubicBezTo>
                  <a:pt x="9067" y="11049"/>
                  <a:pt x="9212" y="11038"/>
                  <a:pt x="9334" y="11028"/>
                </a:cubicBezTo>
                <a:cubicBezTo>
                  <a:pt x="9380" y="11024"/>
                  <a:pt x="9397" y="11018"/>
                  <a:pt x="9419" y="11007"/>
                </a:cubicBezTo>
                <a:cubicBezTo>
                  <a:pt x="9438" y="10997"/>
                  <a:pt x="9479" y="10966"/>
                  <a:pt x="9483" y="10964"/>
                </a:cubicBezTo>
                <a:cubicBezTo>
                  <a:pt x="9516" y="10949"/>
                  <a:pt x="9520" y="10957"/>
                  <a:pt x="9546" y="10943"/>
                </a:cubicBezTo>
                <a:cubicBezTo>
                  <a:pt x="9572" y="10929"/>
                  <a:pt x="9575" y="10923"/>
                  <a:pt x="9610" y="10901"/>
                </a:cubicBezTo>
                <a:cubicBezTo>
                  <a:pt x="9633" y="10886"/>
                  <a:pt x="9646" y="10887"/>
                  <a:pt x="9673" y="10858"/>
                </a:cubicBezTo>
                <a:cubicBezTo>
                  <a:pt x="9688" y="10843"/>
                  <a:pt x="9700" y="10810"/>
                  <a:pt x="9715" y="10795"/>
                </a:cubicBezTo>
                <a:cubicBezTo>
                  <a:pt x="9742" y="10768"/>
                  <a:pt x="9761" y="10770"/>
                  <a:pt x="9779" y="10753"/>
                </a:cubicBezTo>
                <a:cubicBezTo>
                  <a:pt x="9799" y="10733"/>
                  <a:pt x="9787" y="10720"/>
                  <a:pt x="9821" y="10710"/>
                </a:cubicBezTo>
                <a:cubicBezTo>
                  <a:pt x="9908" y="10686"/>
                  <a:pt x="10098" y="10695"/>
                  <a:pt x="10160" y="10689"/>
                </a:cubicBezTo>
                <a:cubicBezTo>
                  <a:pt x="10205" y="10685"/>
                  <a:pt x="10228" y="10679"/>
                  <a:pt x="10266" y="10668"/>
                </a:cubicBezTo>
                <a:cubicBezTo>
                  <a:pt x="10303" y="10657"/>
                  <a:pt x="10310" y="10659"/>
                  <a:pt x="10329" y="10647"/>
                </a:cubicBezTo>
                <a:cubicBezTo>
                  <a:pt x="10345" y="10637"/>
                  <a:pt x="10363" y="10609"/>
                  <a:pt x="10372" y="10604"/>
                </a:cubicBezTo>
                <a:cubicBezTo>
                  <a:pt x="10402" y="10589"/>
                  <a:pt x="10410" y="10597"/>
                  <a:pt x="10435" y="10583"/>
                </a:cubicBezTo>
                <a:cubicBezTo>
                  <a:pt x="10465" y="10566"/>
                  <a:pt x="10481" y="10555"/>
                  <a:pt x="10499" y="10541"/>
                </a:cubicBezTo>
                <a:cubicBezTo>
                  <a:pt x="10525" y="10520"/>
                  <a:pt x="10563" y="10493"/>
                  <a:pt x="10583" y="10477"/>
                </a:cubicBezTo>
                <a:cubicBezTo>
                  <a:pt x="10604" y="10460"/>
                  <a:pt x="10596" y="10449"/>
                  <a:pt x="10626" y="10435"/>
                </a:cubicBezTo>
                <a:cubicBezTo>
                  <a:pt x="10662" y="10418"/>
                  <a:pt x="10676" y="10450"/>
                  <a:pt x="10710" y="10414"/>
                </a:cubicBezTo>
                <a:cubicBezTo>
                  <a:pt x="10725" y="10398"/>
                  <a:pt x="10715" y="10365"/>
                  <a:pt x="10731" y="10350"/>
                </a:cubicBezTo>
                <a:cubicBezTo>
                  <a:pt x="10751" y="10332"/>
                  <a:pt x="10780" y="10326"/>
                  <a:pt x="10795" y="10308"/>
                </a:cubicBezTo>
                <a:cubicBezTo>
                  <a:pt x="10799" y="10303"/>
                  <a:pt x="10829" y="10252"/>
                  <a:pt x="10837" y="10245"/>
                </a:cubicBezTo>
                <a:cubicBezTo>
                  <a:pt x="10864" y="10221"/>
                  <a:pt x="10932" y="10190"/>
                  <a:pt x="10964" y="10160"/>
                </a:cubicBezTo>
                <a:cubicBezTo>
                  <a:pt x="11011" y="10115"/>
                  <a:pt x="11049" y="10092"/>
                  <a:pt x="11091" y="10054"/>
                </a:cubicBezTo>
                <a:cubicBezTo>
                  <a:pt x="11112" y="10033"/>
                  <a:pt x="11119" y="10026"/>
                  <a:pt x="11134" y="10012"/>
                </a:cubicBezTo>
                <a:cubicBezTo>
                  <a:pt x="11126" y="9994"/>
                  <a:pt x="11126" y="9968"/>
                  <a:pt x="11112" y="9948"/>
                </a:cubicBezTo>
                <a:cubicBezTo>
                  <a:pt x="11100" y="9930"/>
                  <a:pt x="11075" y="9912"/>
                  <a:pt x="11070" y="9885"/>
                </a:cubicBezTo>
                <a:cubicBezTo>
                  <a:pt x="11066" y="9864"/>
                  <a:pt x="11073" y="9842"/>
                  <a:pt x="11070" y="9821"/>
                </a:cubicBezTo>
                <a:cubicBezTo>
                  <a:pt x="11053" y="9792"/>
                  <a:pt x="11041" y="9836"/>
                  <a:pt x="11028" y="9779"/>
                </a:cubicBezTo>
                <a:cubicBezTo>
                  <a:pt x="11006" y="9684"/>
                  <a:pt x="11057" y="9610"/>
                  <a:pt x="11070" y="9525"/>
                </a:cubicBezTo>
                <a:cubicBezTo>
                  <a:pt x="11080" y="9462"/>
                  <a:pt x="11058" y="9388"/>
                  <a:pt x="11049" y="9356"/>
                </a:cubicBezTo>
                <a:cubicBezTo>
                  <a:pt x="11034" y="9303"/>
                  <a:pt x="11024" y="9321"/>
                  <a:pt x="11007" y="9271"/>
                </a:cubicBezTo>
                <a:cubicBezTo>
                  <a:pt x="10997" y="9242"/>
                  <a:pt x="10995" y="9216"/>
                  <a:pt x="10985" y="9186"/>
                </a:cubicBezTo>
                <a:cubicBezTo>
                  <a:pt x="10976" y="9159"/>
                  <a:pt x="10973" y="9150"/>
                  <a:pt x="10964" y="9123"/>
                </a:cubicBezTo>
                <a:cubicBezTo>
                  <a:pt x="10952" y="9086"/>
                  <a:pt x="10952" y="9087"/>
                  <a:pt x="10943" y="9059"/>
                </a:cubicBezTo>
                <a:cubicBezTo>
                  <a:pt x="10932" y="9027"/>
                  <a:pt x="10927" y="9040"/>
                  <a:pt x="10922" y="8996"/>
                </a:cubicBezTo>
                <a:cubicBezTo>
                  <a:pt x="10914" y="8930"/>
                  <a:pt x="10925" y="8883"/>
                  <a:pt x="10901" y="8826"/>
                </a:cubicBezTo>
                <a:cubicBezTo>
                  <a:pt x="10897" y="8817"/>
                  <a:pt x="10867" y="8749"/>
                  <a:pt x="10858" y="8742"/>
                </a:cubicBezTo>
                <a:cubicBezTo>
                  <a:pt x="10844" y="8742"/>
                  <a:pt x="10830" y="8742"/>
                  <a:pt x="10816" y="8742"/>
                </a:cubicBezTo>
                <a:cubicBezTo>
                  <a:pt x="10805" y="8715"/>
                  <a:pt x="10802" y="8690"/>
                  <a:pt x="10795" y="8678"/>
                </a:cubicBezTo>
                <a:cubicBezTo>
                  <a:pt x="10780" y="8650"/>
                  <a:pt x="10766" y="8635"/>
                  <a:pt x="10753" y="8615"/>
                </a:cubicBezTo>
                <a:cubicBezTo>
                  <a:pt x="10732" y="8582"/>
                  <a:pt x="10725" y="8574"/>
                  <a:pt x="10710" y="8551"/>
                </a:cubicBezTo>
                <a:cubicBezTo>
                  <a:pt x="10669" y="8489"/>
                  <a:pt x="10679" y="8521"/>
                  <a:pt x="10647" y="8488"/>
                </a:cubicBezTo>
                <a:cubicBezTo>
                  <a:pt x="10632" y="8472"/>
                  <a:pt x="10619" y="8460"/>
                  <a:pt x="10604" y="8445"/>
                </a:cubicBezTo>
                <a:cubicBezTo>
                  <a:pt x="10590" y="8431"/>
                  <a:pt x="10569" y="8404"/>
                  <a:pt x="10541" y="8382"/>
                </a:cubicBezTo>
                <a:cubicBezTo>
                  <a:pt x="10533" y="8376"/>
                  <a:pt x="10490" y="8351"/>
                  <a:pt x="10477" y="8340"/>
                </a:cubicBezTo>
                <a:cubicBezTo>
                  <a:pt x="10453" y="8319"/>
                  <a:pt x="10426" y="8285"/>
                  <a:pt x="10414" y="8276"/>
                </a:cubicBezTo>
                <a:cubicBezTo>
                  <a:pt x="10389" y="8257"/>
                  <a:pt x="10379" y="8246"/>
                  <a:pt x="10350" y="8234"/>
                </a:cubicBezTo>
                <a:cubicBezTo>
                  <a:pt x="10326" y="8224"/>
                  <a:pt x="10291" y="8220"/>
                  <a:pt x="10266" y="8213"/>
                </a:cubicBezTo>
                <a:cubicBezTo>
                  <a:pt x="10242" y="8206"/>
                  <a:pt x="10209" y="8199"/>
                  <a:pt x="10181" y="8191"/>
                </a:cubicBezTo>
                <a:cubicBezTo>
                  <a:pt x="10154" y="8183"/>
                  <a:pt x="10142" y="8184"/>
                  <a:pt x="10118" y="8170"/>
                </a:cubicBezTo>
                <a:cubicBezTo>
                  <a:pt x="10068" y="8141"/>
                  <a:pt x="10053" y="8098"/>
                  <a:pt x="10012" y="8064"/>
                </a:cubicBezTo>
                <a:cubicBezTo>
                  <a:pt x="9960" y="8021"/>
                  <a:pt x="9923" y="7991"/>
                  <a:pt x="9885" y="7937"/>
                </a:cubicBezTo>
                <a:cubicBezTo>
                  <a:pt x="9885" y="7930"/>
                  <a:pt x="9885" y="7923"/>
                  <a:pt x="9885" y="7916"/>
                </a:cubicBezTo>
                <a:cubicBezTo>
                  <a:pt x="9885" y="8036"/>
                  <a:pt x="9885" y="8354"/>
                  <a:pt x="9885" y="8234"/>
                </a:cubicBezTo>
                <a:cubicBezTo>
                  <a:pt x="9885" y="8163"/>
                  <a:pt x="9885" y="8093"/>
                  <a:pt x="9885" y="8022"/>
                </a:cubicBezTo>
                <a:cubicBezTo>
                  <a:pt x="9861" y="8061"/>
                  <a:pt x="9824" y="8076"/>
                  <a:pt x="9800" y="8128"/>
                </a:cubicBezTo>
                <a:cubicBezTo>
                  <a:pt x="9779" y="8173"/>
                  <a:pt x="9773" y="8209"/>
                  <a:pt x="9737" y="8255"/>
                </a:cubicBezTo>
                <a:cubicBezTo>
                  <a:pt x="9737" y="8276"/>
                  <a:pt x="9737" y="8283"/>
                  <a:pt x="9715" y="8276"/>
                </a:cubicBezTo>
                <a:cubicBezTo>
                  <a:pt x="9724" y="8242"/>
                  <a:pt x="9752" y="8202"/>
                  <a:pt x="9758" y="8170"/>
                </a:cubicBezTo>
                <a:cubicBezTo>
                  <a:pt x="9766" y="8126"/>
                  <a:pt x="9739" y="8075"/>
                  <a:pt x="9737" y="8064"/>
                </a:cubicBezTo>
                <a:cubicBezTo>
                  <a:pt x="9707" y="8108"/>
                  <a:pt x="9703" y="8111"/>
                  <a:pt x="9673" y="8149"/>
                </a:cubicBezTo>
                <a:cubicBezTo>
                  <a:pt x="9663" y="8162"/>
                  <a:pt x="9652" y="8210"/>
                  <a:pt x="9652" y="8170"/>
                </a:cubicBezTo>
                <a:cubicBezTo>
                  <a:pt x="9652" y="8137"/>
                  <a:pt x="9666" y="8082"/>
                  <a:pt x="9673" y="8043"/>
                </a:cubicBezTo>
                <a:cubicBezTo>
                  <a:pt x="9677" y="8020"/>
                  <a:pt x="9690" y="7990"/>
                  <a:pt x="9694" y="7959"/>
                </a:cubicBezTo>
                <a:cubicBezTo>
                  <a:pt x="9694" y="7952"/>
                  <a:pt x="9694" y="7944"/>
                  <a:pt x="9694" y="7937"/>
                </a:cubicBezTo>
                <a:cubicBezTo>
                  <a:pt x="9676" y="7972"/>
                  <a:pt x="9669" y="8009"/>
                  <a:pt x="9652" y="8043"/>
                </a:cubicBezTo>
                <a:cubicBezTo>
                  <a:pt x="9652" y="8064"/>
                  <a:pt x="9652" y="8071"/>
                  <a:pt x="9631" y="8064"/>
                </a:cubicBezTo>
                <a:cubicBezTo>
                  <a:pt x="9660" y="7992"/>
                  <a:pt x="9621" y="8117"/>
                  <a:pt x="9652" y="8022"/>
                </a:cubicBezTo>
                <a:cubicBezTo>
                  <a:pt x="9667" y="7976"/>
                  <a:pt x="9689" y="7945"/>
                  <a:pt x="9694" y="7916"/>
                </a:cubicBezTo>
                <a:cubicBezTo>
                  <a:pt x="9694" y="7895"/>
                  <a:pt x="9694" y="7888"/>
                  <a:pt x="9694" y="7874"/>
                </a:cubicBezTo>
                <a:cubicBezTo>
                  <a:pt x="9672" y="7917"/>
                  <a:pt x="9649" y="7930"/>
                  <a:pt x="9631" y="7980"/>
                </a:cubicBezTo>
                <a:cubicBezTo>
                  <a:pt x="9612" y="8033"/>
                  <a:pt x="9612" y="8092"/>
                  <a:pt x="9610" y="8149"/>
                </a:cubicBezTo>
                <a:cubicBezTo>
                  <a:pt x="9610" y="8170"/>
                  <a:pt x="9610" y="8177"/>
                  <a:pt x="9610" y="8191"/>
                </a:cubicBezTo>
                <a:cubicBezTo>
                  <a:pt x="9627" y="8152"/>
                  <a:pt x="9615" y="8167"/>
                  <a:pt x="9631" y="8128"/>
                </a:cubicBezTo>
                <a:cubicBezTo>
                  <a:pt x="9658" y="8063"/>
                  <a:pt x="9669" y="8015"/>
                  <a:pt x="9673" y="7937"/>
                </a:cubicBezTo>
                <a:cubicBezTo>
                  <a:pt x="9676" y="7888"/>
                  <a:pt x="9673" y="7838"/>
                  <a:pt x="9673" y="7789"/>
                </a:cubicBezTo>
                <a:cubicBezTo>
                  <a:pt x="9667" y="7800"/>
                  <a:pt x="9642" y="7825"/>
                  <a:pt x="9631" y="7853"/>
                </a:cubicBezTo>
                <a:cubicBezTo>
                  <a:pt x="9620" y="7881"/>
                  <a:pt x="9602" y="7946"/>
                  <a:pt x="9610" y="7980"/>
                </a:cubicBezTo>
                <a:cubicBezTo>
                  <a:pt x="9624" y="8043"/>
                  <a:pt x="9619" y="7989"/>
                  <a:pt x="9652" y="8022"/>
                </a:cubicBezTo>
                <a:cubicBezTo>
                  <a:pt x="9659" y="8022"/>
                  <a:pt x="9666" y="8022"/>
                  <a:pt x="9673" y="8022"/>
                </a:cubicBezTo>
              </a:path>
              <a:path w="2245" h="3367">
                <a:moveTo>
                  <a:pt x="9715" y="7683"/>
                </a:moveTo>
                <a:cubicBezTo>
                  <a:pt x="9678" y="7700"/>
                  <a:pt x="9664" y="7665"/>
                  <a:pt x="9631" y="7705"/>
                </a:cubicBezTo>
                <a:cubicBezTo>
                  <a:pt x="9612" y="7728"/>
                  <a:pt x="9624" y="7736"/>
                  <a:pt x="9610" y="7768"/>
                </a:cubicBezTo>
                <a:cubicBezTo>
                  <a:pt x="9601" y="7787"/>
                  <a:pt x="9602" y="7810"/>
                  <a:pt x="9588" y="7832"/>
                </a:cubicBezTo>
                <a:cubicBezTo>
                  <a:pt x="9579" y="7847"/>
                  <a:pt x="9550" y="7865"/>
                  <a:pt x="9546" y="7874"/>
                </a:cubicBezTo>
                <a:cubicBezTo>
                  <a:pt x="9536" y="7893"/>
                  <a:pt x="9528" y="7938"/>
                  <a:pt x="9525" y="7959"/>
                </a:cubicBezTo>
                <a:cubicBezTo>
                  <a:pt x="9517" y="8008"/>
                  <a:pt x="9506" y="8162"/>
                  <a:pt x="9546" y="8191"/>
                </a:cubicBezTo>
                <a:cubicBezTo>
                  <a:pt x="9574" y="8191"/>
                  <a:pt x="9589" y="8191"/>
                  <a:pt x="9610" y="8191"/>
                </a:cubicBezTo>
                <a:cubicBezTo>
                  <a:pt x="9618" y="8158"/>
                  <a:pt x="9627" y="8143"/>
                  <a:pt x="9631" y="8107"/>
                </a:cubicBezTo>
                <a:cubicBezTo>
                  <a:pt x="9633" y="8084"/>
                  <a:pt x="9624" y="7940"/>
                  <a:pt x="9610" y="8001"/>
                </a:cubicBezTo>
                <a:cubicBezTo>
                  <a:pt x="9601" y="8041"/>
                  <a:pt x="9594" y="8162"/>
                  <a:pt x="9631" y="8128"/>
                </a:cubicBezTo>
                <a:cubicBezTo>
                  <a:pt x="9657" y="8104"/>
                  <a:pt x="9670" y="8099"/>
                  <a:pt x="9673" y="8064"/>
                </a:cubicBezTo>
                <a:cubicBezTo>
                  <a:pt x="9677" y="8020"/>
                  <a:pt x="9671" y="8020"/>
                  <a:pt x="9652" y="8001"/>
                </a:cubicBezTo>
                <a:cubicBezTo>
                  <a:pt x="9631" y="8001"/>
                  <a:pt x="9624" y="8001"/>
                  <a:pt x="9631" y="8022"/>
                </a:cubicBezTo>
                <a:cubicBezTo>
                  <a:pt x="9623" y="8055"/>
                  <a:pt x="9614" y="8070"/>
                  <a:pt x="9610" y="8107"/>
                </a:cubicBezTo>
                <a:cubicBezTo>
                  <a:pt x="9604" y="8165"/>
                  <a:pt x="9614" y="8191"/>
                  <a:pt x="9610" y="8191"/>
                </a:cubicBezTo>
                <a:cubicBezTo>
                  <a:pt x="9610" y="8167"/>
                  <a:pt x="9608" y="8158"/>
                  <a:pt x="9588" y="8149"/>
                </a:cubicBezTo>
                <a:cubicBezTo>
                  <a:pt x="9580" y="8124"/>
                  <a:pt x="9575" y="8093"/>
                  <a:pt x="9567" y="8064"/>
                </a:cubicBezTo>
                <a:cubicBezTo>
                  <a:pt x="9556" y="8028"/>
                  <a:pt x="9530" y="8018"/>
                  <a:pt x="9525" y="7980"/>
                </a:cubicBezTo>
                <a:cubicBezTo>
                  <a:pt x="9518" y="7921"/>
                  <a:pt x="9538" y="7859"/>
                  <a:pt x="9546" y="7832"/>
                </a:cubicBezTo>
                <a:cubicBezTo>
                  <a:pt x="9558" y="7788"/>
                  <a:pt x="9551" y="7784"/>
                  <a:pt x="9588" y="7747"/>
                </a:cubicBezTo>
                <a:cubicBezTo>
                  <a:pt x="9622" y="7714"/>
                  <a:pt x="9661" y="7650"/>
                  <a:pt x="9694" y="7683"/>
                </a:cubicBezTo>
                <a:cubicBezTo>
                  <a:pt x="9725" y="7714"/>
                  <a:pt x="9711" y="7719"/>
                  <a:pt x="9715" y="7789"/>
                </a:cubicBezTo>
                <a:cubicBezTo>
                  <a:pt x="9720" y="7866"/>
                  <a:pt x="9677" y="8157"/>
                  <a:pt x="9737" y="8191"/>
                </a:cubicBezTo>
                <a:cubicBezTo>
                  <a:pt x="9774" y="8212"/>
                  <a:pt x="9813" y="8174"/>
                  <a:pt x="9821" y="8170"/>
                </a:cubicBezTo>
                <a:cubicBezTo>
                  <a:pt x="9870" y="8147"/>
                  <a:pt x="9845" y="8150"/>
                  <a:pt x="9864" y="8107"/>
                </a:cubicBezTo>
                <a:cubicBezTo>
                  <a:pt x="9877" y="8077"/>
                  <a:pt x="9901" y="8038"/>
                  <a:pt x="9906" y="8001"/>
                </a:cubicBezTo>
                <a:cubicBezTo>
                  <a:pt x="9909" y="7975"/>
                  <a:pt x="9926" y="7883"/>
                  <a:pt x="9885" y="7959"/>
                </a:cubicBezTo>
                <a:cubicBezTo>
                  <a:pt x="9877" y="7975"/>
                  <a:pt x="9840" y="8089"/>
                  <a:pt x="9864" y="8107"/>
                </a:cubicBezTo>
                <a:cubicBezTo>
                  <a:pt x="9890" y="8126"/>
                  <a:pt x="9884" y="8072"/>
                  <a:pt x="9906" y="8064"/>
                </a:cubicBezTo>
                <a:cubicBezTo>
                  <a:pt x="9897" y="8018"/>
                  <a:pt x="9906" y="8000"/>
                  <a:pt x="9885" y="7959"/>
                </a:cubicBezTo>
                <a:cubicBezTo>
                  <a:pt x="9862" y="7914"/>
                  <a:pt x="9822" y="7877"/>
                  <a:pt x="9779" y="7853"/>
                </a:cubicBezTo>
                <a:cubicBezTo>
                  <a:pt x="9772" y="7853"/>
                  <a:pt x="9765" y="7853"/>
                  <a:pt x="9758" y="7853"/>
                </a:cubicBezTo>
                <a:cubicBezTo>
                  <a:pt x="9712" y="7859"/>
                  <a:pt x="9692" y="7864"/>
                  <a:pt x="9673" y="7874"/>
                </a:cubicBezTo>
                <a:cubicBezTo>
                  <a:pt x="9628" y="7897"/>
                  <a:pt x="9611" y="7912"/>
                  <a:pt x="9567" y="7937"/>
                </a:cubicBezTo>
                <a:cubicBezTo>
                  <a:pt x="9527" y="7960"/>
                  <a:pt x="9518" y="7962"/>
                  <a:pt x="9504" y="7980"/>
                </a:cubicBezTo>
                <a:cubicBezTo>
                  <a:pt x="9481" y="8010"/>
                  <a:pt x="9461" y="8068"/>
                  <a:pt x="9461" y="8107"/>
                </a:cubicBezTo>
                <a:cubicBezTo>
                  <a:pt x="9461" y="8149"/>
                  <a:pt x="9468" y="8143"/>
                  <a:pt x="9483" y="8170"/>
                </a:cubicBezTo>
                <a:cubicBezTo>
                  <a:pt x="9500" y="8201"/>
                  <a:pt x="9511" y="8215"/>
                  <a:pt x="9525" y="8234"/>
                </a:cubicBezTo>
                <a:cubicBezTo>
                  <a:pt x="9559" y="8279"/>
                  <a:pt x="9553" y="8251"/>
                  <a:pt x="9588" y="8276"/>
                </a:cubicBezTo>
                <a:cubicBezTo>
                  <a:pt x="9610" y="8292"/>
                  <a:pt x="9680" y="8333"/>
                  <a:pt x="9694" y="8340"/>
                </a:cubicBezTo>
                <a:cubicBezTo>
                  <a:pt x="9719" y="8353"/>
                  <a:pt x="9731" y="8352"/>
                  <a:pt x="9758" y="8361"/>
                </a:cubicBezTo>
                <a:cubicBezTo>
                  <a:pt x="9798" y="8375"/>
                  <a:pt x="9824" y="8378"/>
                  <a:pt x="9864" y="8403"/>
                </a:cubicBezTo>
                <a:cubicBezTo>
                  <a:pt x="9920" y="8438"/>
                  <a:pt x="9968" y="8479"/>
                  <a:pt x="10012" y="8530"/>
                </a:cubicBezTo>
                <a:cubicBezTo>
                  <a:pt x="10033" y="8554"/>
                  <a:pt x="10061" y="8580"/>
                  <a:pt x="10075" y="8594"/>
                </a:cubicBezTo>
                <a:cubicBezTo>
                  <a:pt x="10068" y="8549"/>
                  <a:pt x="10108" y="8519"/>
                  <a:pt x="10075" y="8488"/>
                </a:cubicBezTo>
                <a:cubicBezTo>
                  <a:pt x="10029" y="8444"/>
                  <a:pt x="10011" y="8465"/>
                  <a:pt x="9948" y="8445"/>
                </a:cubicBezTo>
                <a:cubicBezTo>
                  <a:pt x="9947" y="8445"/>
                  <a:pt x="9917" y="8403"/>
                  <a:pt x="9885" y="8424"/>
                </a:cubicBezTo>
                <a:cubicBezTo>
                  <a:pt x="9858" y="8442"/>
                  <a:pt x="9866" y="8444"/>
                  <a:pt x="9864" y="8488"/>
                </a:cubicBezTo>
                <a:cubicBezTo>
                  <a:pt x="9862" y="8531"/>
                  <a:pt x="9872" y="8537"/>
                  <a:pt x="9885" y="8572"/>
                </a:cubicBezTo>
                <a:cubicBezTo>
                  <a:pt x="9908" y="8634"/>
                  <a:pt x="9898" y="8547"/>
                  <a:pt x="9885" y="8530"/>
                </a:cubicBezTo>
                <a:cubicBezTo>
                  <a:pt x="9857" y="8493"/>
                  <a:pt x="9813" y="8433"/>
                  <a:pt x="9779" y="8403"/>
                </a:cubicBezTo>
                <a:cubicBezTo>
                  <a:pt x="9765" y="8396"/>
                  <a:pt x="9751" y="8389"/>
                  <a:pt x="9737" y="8382"/>
                </a:cubicBezTo>
                <a:cubicBezTo>
                  <a:pt x="9741" y="8443"/>
                  <a:pt x="9738" y="8494"/>
                  <a:pt x="9758" y="8530"/>
                </a:cubicBezTo>
                <a:cubicBezTo>
                  <a:pt x="9773" y="8557"/>
                  <a:pt x="9786" y="8556"/>
                  <a:pt x="9821" y="8572"/>
                </a:cubicBezTo>
                <a:cubicBezTo>
                  <a:pt x="9830" y="8576"/>
                  <a:pt x="9893" y="8611"/>
                  <a:pt x="9906" y="8594"/>
                </a:cubicBezTo>
                <a:cubicBezTo>
                  <a:pt x="9932" y="8560"/>
                  <a:pt x="9889" y="8495"/>
                  <a:pt x="9885" y="8488"/>
                </a:cubicBezTo>
                <a:cubicBezTo>
                  <a:pt x="9870" y="8460"/>
                  <a:pt x="9811" y="8420"/>
                  <a:pt x="9842" y="8424"/>
                </a:cubicBezTo>
                <a:cubicBezTo>
                  <a:pt x="9848" y="8425"/>
                  <a:pt x="9902" y="8466"/>
                  <a:pt x="9948" y="8467"/>
                </a:cubicBezTo>
                <a:cubicBezTo>
                  <a:pt x="9981" y="8468"/>
                  <a:pt x="10035" y="8479"/>
                  <a:pt x="10054" y="8445"/>
                </a:cubicBezTo>
                <a:cubicBezTo>
                  <a:pt x="10075" y="8408"/>
                  <a:pt x="10049" y="8308"/>
                  <a:pt x="10033" y="8276"/>
                </a:cubicBezTo>
                <a:cubicBezTo>
                  <a:pt x="10021" y="8251"/>
                  <a:pt x="9998" y="8244"/>
                  <a:pt x="9991" y="8234"/>
                </a:cubicBezTo>
                <a:cubicBezTo>
                  <a:pt x="9944" y="8208"/>
                  <a:pt x="9988" y="8193"/>
                  <a:pt x="9927" y="8191"/>
                </a:cubicBezTo>
                <a:cubicBezTo>
                  <a:pt x="9899" y="8190"/>
                  <a:pt x="9872" y="8198"/>
                  <a:pt x="9864" y="8213"/>
                </a:cubicBezTo>
                <a:cubicBezTo>
                  <a:pt x="9846" y="8244"/>
                  <a:pt x="9863" y="8317"/>
                  <a:pt x="9885" y="8340"/>
                </a:cubicBezTo>
                <a:cubicBezTo>
                  <a:pt x="9918" y="8374"/>
                  <a:pt x="9936" y="8364"/>
                  <a:pt x="9927" y="8318"/>
                </a:cubicBezTo>
                <a:cubicBezTo>
                  <a:pt x="9914" y="8254"/>
                  <a:pt x="9846" y="8232"/>
                  <a:pt x="9800" y="8191"/>
                </a:cubicBezTo>
                <a:cubicBezTo>
                  <a:pt x="9750" y="8146"/>
                  <a:pt x="9754" y="8154"/>
                  <a:pt x="9694" y="8128"/>
                </a:cubicBezTo>
                <a:cubicBezTo>
                  <a:pt x="9671" y="8146"/>
                  <a:pt x="9612" y="8075"/>
                  <a:pt x="9652" y="8170"/>
                </a:cubicBezTo>
                <a:cubicBezTo>
                  <a:pt x="9693" y="8268"/>
                  <a:pt x="9761" y="8340"/>
                  <a:pt x="9842" y="8403"/>
                </a:cubicBezTo>
                <a:cubicBezTo>
                  <a:pt x="9907" y="8454"/>
                  <a:pt x="9965" y="8507"/>
                  <a:pt x="10033" y="8551"/>
                </a:cubicBezTo>
                <a:cubicBezTo>
                  <a:pt x="10063" y="8570"/>
                  <a:pt x="10045" y="8554"/>
                  <a:pt x="10075" y="8572"/>
                </a:cubicBezTo>
                <a:cubicBezTo>
                  <a:pt x="10139" y="8609"/>
                  <a:pt x="10170" y="8648"/>
                  <a:pt x="10245" y="8678"/>
                </a:cubicBezTo>
                <a:cubicBezTo>
                  <a:pt x="10259" y="8678"/>
                  <a:pt x="10273" y="8678"/>
                  <a:pt x="10287" y="8678"/>
                </a:cubicBezTo>
                <a:cubicBezTo>
                  <a:pt x="10281" y="8620"/>
                  <a:pt x="10291" y="8586"/>
                  <a:pt x="10266" y="8530"/>
                </a:cubicBezTo>
                <a:cubicBezTo>
                  <a:pt x="10252" y="8499"/>
                  <a:pt x="10229" y="8471"/>
                  <a:pt x="10202" y="8445"/>
                </a:cubicBezTo>
                <a:cubicBezTo>
                  <a:pt x="10183" y="8427"/>
                  <a:pt x="10113" y="8391"/>
                  <a:pt x="10118" y="8361"/>
                </a:cubicBezTo>
                <a:cubicBezTo>
                  <a:pt x="10124" y="8327"/>
                  <a:pt x="10212" y="8374"/>
                  <a:pt x="10202" y="8340"/>
                </a:cubicBezTo>
                <a:cubicBezTo>
                  <a:pt x="10201" y="8337"/>
                  <a:pt x="10116" y="8265"/>
                  <a:pt x="10096" y="8255"/>
                </a:cubicBezTo>
                <a:cubicBezTo>
                  <a:pt x="10052" y="8233"/>
                  <a:pt x="10015" y="8230"/>
                  <a:pt x="9969" y="8213"/>
                </a:cubicBezTo>
                <a:cubicBezTo>
                  <a:pt x="9925" y="8212"/>
                  <a:pt x="9896" y="8139"/>
                  <a:pt x="9948" y="8213"/>
                </a:cubicBezTo>
                <a:cubicBezTo>
                  <a:pt x="9981" y="8260"/>
                  <a:pt x="10021" y="8301"/>
                  <a:pt x="10075" y="8340"/>
                </a:cubicBezTo>
                <a:cubicBezTo>
                  <a:pt x="10124" y="8375"/>
                  <a:pt x="10140" y="8374"/>
                  <a:pt x="10118" y="8340"/>
                </a:cubicBezTo>
                <a:cubicBezTo>
                  <a:pt x="10118" y="8340"/>
                  <a:pt x="10051" y="8308"/>
                  <a:pt x="10054" y="8297"/>
                </a:cubicBezTo>
                <a:cubicBezTo>
                  <a:pt x="10061" y="8270"/>
                  <a:pt x="10009" y="8265"/>
                  <a:pt x="10096" y="8276"/>
                </a:cubicBezTo>
                <a:cubicBezTo>
                  <a:pt x="10123" y="8279"/>
                  <a:pt x="10164" y="8295"/>
                  <a:pt x="10181" y="8297"/>
                </a:cubicBezTo>
                <a:cubicBezTo>
                  <a:pt x="10239" y="8302"/>
                  <a:pt x="10277" y="8292"/>
                  <a:pt x="10308" y="8318"/>
                </a:cubicBezTo>
                <a:cubicBezTo>
                  <a:pt x="10354" y="8356"/>
                  <a:pt x="10355" y="8386"/>
                  <a:pt x="10372" y="8424"/>
                </a:cubicBezTo>
                <a:cubicBezTo>
                  <a:pt x="10393" y="8470"/>
                  <a:pt x="10380" y="8454"/>
                  <a:pt x="10393" y="8488"/>
                </a:cubicBezTo>
                <a:cubicBezTo>
                  <a:pt x="10351" y="8470"/>
                  <a:pt x="10366" y="8493"/>
                  <a:pt x="10329" y="8467"/>
                </a:cubicBezTo>
                <a:cubicBezTo>
                  <a:pt x="10283" y="8434"/>
                  <a:pt x="10250" y="8392"/>
                  <a:pt x="10202" y="8361"/>
                </a:cubicBezTo>
                <a:cubicBezTo>
                  <a:pt x="10195" y="8361"/>
                  <a:pt x="10188" y="8361"/>
                  <a:pt x="10181" y="8361"/>
                </a:cubicBezTo>
                <a:cubicBezTo>
                  <a:pt x="10211" y="8353"/>
                  <a:pt x="10149" y="8326"/>
                  <a:pt x="10223" y="8340"/>
                </a:cubicBezTo>
                <a:cubicBezTo>
                  <a:pt x="10249" y="8345"/>
                  <a:pt x="10319" y="8351"/>
                  <a:pt x="10350" y="8361"/>
                </a:cubicBezTo>
                <a:cubicBezTo>
                  <a:pt x="10370" y="8367"/>
                  <a:pt x="10440" y="8394"/>
                  <a:pt x="10456" y="8403"/>
                </a:cubicBezTo>
                <a:cubicBezTo>
                  <a:pt x="10481" y="8417"/>
                  <a:pt x="10500" y="8417"/>
                  <a:pt x="10499" y="8445"/>
                </a:cubicBezTo>
                <a:cubicBezTo>
                  <a:pt x="10497" y="8480"/>
                  <a:pt x="10472" y="8372"/>
                  <a:pt x="10456" y="8403"/>
                </a:cubicBezTo>
                <a:cubicBezTo>
                  <a:pt x="10445" y="8424"/>
                  <a:pt x="10415" y="8423"/>
                  <a:pt x="10456" y="8467"/>
                </a:cubicBezTo>
                <a:cubicBezTo>
                  <a:pt x="10485" y="8497"/>
                  <a:pt x="10559" y="8525"/>
                  <a:pt x="10583" y="8551"/>
                </a:cubicBezTo>
                <a:cubicBezTo>
                  <a:pt x="10604" y="8574"/>
                  <a:pt x="10587" y="8568"/>
                  <a:pt x="10604" y="8594"/>
                </a:cubicBezTo>
                <a:cubicBezTo>
                  <a:pt x="10627" y="8630"/>
                  <a:pt x="10640" y="8688"/>
                  <a:pt x="10668" y="8657"/>
                </a:cubicBezTo>
                <a:cubicBezTo>
                  <a:pt x="10690" y="8633"/>
                  <a:pt x="10655" y="8568"/>
                  <a:pt x="10647" y="8551"/>
                </a:cubicBezTo>
                <a:cubicBezTo>
                  <a:pt x="10640" y="8544"/>
                  <a:pt x="10633" y="8537"/>
                  <a:pt x="10626" y="8530"/>
                </a:cubicBezTo>
                <a:cubicBezTo>
                  <a:pt x="10600" y="8522"/>
                  <a:pt x="10593" y="8479"/>
                  <a:pt x="10583" y="8509"/>
                </a:cubicBezTo>
                <a:cubicBezTo>
                  <a:pt x="10565" y="8565"/>
                  <a:pt x="10600" y="8662"/>
                  <a:pt x="10583" y="8657"/>
                </a:cubicBezTo>
                <a:cubicBezTo>
                  <a:pt x="10514" y="8634"/>
                  <a:pt x="10482" y="8544"/>
                  <a:pt x="10414" y="8509"/>
                </a:cubicBezTo>
                <a:cubicBezTo>
                  <a:pt x="10359" y="8480"/>
                  <a:pt x="10241" y="8431"/>
                  <a:pt x="10202" y="8445"/>
                </a:cubicBezTo>
                <a:cubicBezTo>
                  <a:pt x="10194" y="8448"/>
                  <a:pt x="10157" y="8493"/>
                  <a:pt x="10160" y="8509"/>
                </a:cubicBezTo>
                <a:cubicBezTo>
                  <a:pt x="10173" y="8573"/>
                  <a:pt x="10167" y="8519"/>
                  <a:pt x="10202" y="8551"/>
                </a:cubicBezTo>
                <a:cubicBezTo>
                  <a:pt x="10211" y="8559"/>
                  <a:pt x="10335" y="8544"/>
                  <a:pt x="10223" y="8551"/>
                </a:cubicBezTo>
                <a:cubicBezTo>
                  <a:pt x="10163" y="8555"/>
                  <a:pt x="10106" y="8541"/>
                  <a:pt x="10075" y="8572"/>
                </a:cubicBezTo>
                <a:cubicBezTo>
                  <a:pt x="10060" y="8587"/>
                  <a:pt x="10072" y="8623"/>
                  <a:pt x="10054" y="8636"/>
                </a:cubicBezTo>
                <a:cubicBezTo>
                  <a:pt x="10043" y="8644"/>
                  <a:pt x="10000" y="8647"/>
                  <a:pt x="9991" y="8657"/>
                </a:cubicBezTo>
                <a:cubicBezTo>
                  <a:pt x="9991" y="8664"/>
                  <a:pt x="9991" y="8671"/>
                  <a:pt x="9991" y="8678"/>
                </a:cubicBezTo>
                <a:cubicBezTo>
                  <a:pt x="10064" y="8688"/>
                  <a:pt x="10115" y="8701"/>
                  <a:pt x="10181" y="8721"/>
                </a:cubicBezTo>
                <a:cubicBezTo>
                  <a:pt x="10239" y="8739"/>
                  <a:pt x="10239" y="8721"/>
                  <a:pt x="10287" y="8721"/>
                </a:cubicBezTo>
                <a:cubicBezTo>
                  <a:pt x="10386" y="8721"/>
                  <a:pt x="10484" y="8721"/>
                  <a:pt x="10583" y="8721"/>
                </a:cubicBezTo>
                <a:cubicBezTo>
                  <a:pt x="10567" y="8689"/>
                  <a:pt x="10580" y="8681"/>
                  <a:pt x="10562" y="8657"/>
                </a:cubicBezTo>
                <a:cubicBezTo>
                  <a:pt x="10529" y="8613"/>
                  <a:pt x="10467" y="8576"/>
                  <a:pt x="10414" y="8551"/>
                </a:cubicBezTo>
                <a:cubicBezTo>
                  <a:pt x="10334" y="8513"/>
                  <a:pt x="10264" y="8505"/>
                  <a:pt x="10181" y="8488"/>
                </a:cubicBezTo>
                <a:cubicBezTo>
                  <a:pt x="10106" y="8473"/>
                  <a:pt x="10085" y="8420"/>
                  <a:pt x="10033" y="8403"/>
                </a:cubicBezTo>
                <a:cubicBezTo>
                  <a:pt x="9999" y="8392"/>
                  <a:pt x="9923" y="8407"/>
                  <a:pt x="9948" y="8382"/>
                </a:cubicBezTo>
                <a:cubicBezTo>
                  <a:pt x="9960" y="8370"/>
                  <a:pt x="10014" y="8384"/>
                  <a:pt x="10033" y="8382"/>
                </a:cubicBezTo>
                <a:cubicBezTo>
                  <a:pt x="10114" y="8387"/>
                  <a:pt x="10173" y="8366"/>
                  <a:pt x="10181" y="8403"/>
                </a:cubicBezTo>
                <a:cubicBezTo>
                  <a:pt x="10188" y="8438"/>
                  <a:pt x="10137" y="8461"/>
                  <a:pt x="10160" y="8488"/>
                </a:cubicBezTo>
                <a:cubicBezTo>
                  <a:pt x="10182" y="8514"/>
                  <a:pt x="10249" y="8566"/>
                  <a:pt x="10266" y="8572"/>
                </a:cubicBezTo>
                <a:cubicBezTo>
                  <a:pt x="10324" y="8593"/>
                  <a:pt x="10402" y="8606"/>
                  <a:pt x="10456" y="8615"/>
                </a:cubicBezTo>
                <a:cubicBezTo>
                  <a:pt x="10463" y="8615"/>
                  <a:pt x="10470" y="8615"/>
                  <a:pt x="10477" y="8615"/>
                </a:cubicBezTo>
                <a:cubicBezTo>
                  <a:pt x="10480" y="8641"/>
                  <a:pt x="10518" y="8640"/>
                  <a:pt x="10499" y="8678"/>
                </a:cubicBezTo>
                <a:cubicBezTo>
                  <a:pt x="10478" y="8720"/>
                  <a:pt x="10515" y="8734"/>
                  <a:pt x="10456" y="8699"/>
                </a:cubicBezTo>
                <a:cubicBezTo>
                  <a:pt x="10420" y="8677"/>
                  <a:pt x="10411" y="8598"/>
                  <a:pt x="10372" y="8615"/>
                </a:cubicBezTo>
                <a:cubicBezTo>
                  <a:pt x="10332" y="8633"/>
                  <a:pt x="10351" y="8642"/>
                  <a:pt x="10372" y="8678"/>
                </a:cubicBezTo>
                <a:cubicBezTo>
                  <a:pt x="10399" y="8725"/>
                  <a:pt x="10443" y="8782"/>
                  <a:pt x="10477" y="8826"/>
                </a:cubicBezTo>
                <a:cubicBezTo>
                  <a:pt x="10500" y="8856"/>
                  <a:pt x="10521" y="8879"/>
                  <a:pt x="10499" y="8826"/>
                </a:cubicBezTo>
                <a:cubicBezTo>
                  <a:pt x="10497" y="8822"/>
                  <a:pt x="10454" y="8763"/>
                  <a:pt x="10435" y="8763"/>
                </a:cubicBezTo>
                <a:cubicBezTo>
                  <a:pt x="10432" y="8763"/>
                  <a:pt x="10439" y="8765"/>
                  <a:pt x="10435" y="8826"/>
                </a:cubicBezTo>
                <a:cubicBezTo>
                  <a:pt x="10431" y="8880"/>
                  <a:pt x="10431" y="8928"/>
                  <a:pt x="10456" y="8953"/>
                </a:cubicBezTo>
                <a:cubicBezTo>
                  <a:pt x="10456" y="8953"/>
                  <a:pt x="10498" y="9006"/>
                  <a:pt x="10520" y="8975"/>
                </a:cubicBezTo>
                <a:cubicBezTo>
                  <a:pt x="10539" y="8949"/>
                  <a:pt x="10499" y="8830"/>
                  <a:pt x="10520" y="8869"/>
                </a:cubicBezTo>
                <a:cubicBezTo>
                  <a:pt x="10539" y="8903"/>
                  <a:pt x="10534" y="8934"/>
                  <a:pt x="10541" y="8975"/>
                </a:cubicBezTo>
                <a:cubicBezTo>
                  <a:pt x="10541" y="9010"/>
                  <a:pt x="10541" y="9031"/>
                  <a:pt x="10541" y="8996"/>
                </a:cubicBezTo>
                <a:cubicBezTo>
                  <a:pt x="10541" y="8964"/>
                  <a:pt x="10557" y="8815"/>
                  <a:pt x="10520" y="8826"/>
                </a:cubicBezTo>
                <a:cubicBezTo>
                  <a:pt x="10494" y="8834"/>
                  <a:pt x="10492" y="8875"/>
                  <a:pt x="10477" y="8911"/>
                </a:cubicBezTo>
                <a:cubicBezTo>
                  <a:pt x="10462" y="8948"/>
                  <a:pt x="10465" y="8974"/>
                  <a:pt x="10456" y="8953"/>
                </a:cubicBezTo>
                <a:cubicBezTo>
                  <a:pt x="10417" y="8858"/>
                  <a:pt x="10432" y="8845"/>
                  <a:pt x="10350" y="8763"/>
                </a:cubicBezTo>
                <a:cubicBezTo>
                  <a:pt x="10343" y="8756"/>
                  <a:pt x="10336" y="8749"/>
                  <a:pt x="10329" y="8742"/>
                </a:cubicBezTo>
                <a:cubicBezTo>
                  <a:pt x="10346" y="8768"/>
                  <a:pt x="10305" y="8744"/>
                  <a:pt x="10329" y="8763"/>
                </a:cubicBezTo>
                <a:cubicBezTo>
                  <a:pt x="10379" y="8804"/>
                  <a:pt x="10462" y="8887"/>
                  <a:pt x="10520" y="8911"/>
                </a:cubicBezTo>
                <a:cubicBezTo>
                  <a:pt x="10555" y="8926"/>
                  <a:pt x="10507" y="8832"/>
                  <a:pt x="10541" y="8848"/>
                </a:cubicBezTo>
                <a:cubicBezTo>
                  <a:pt x="10552" y="8853"/>
                  <a:pt x="10602" y="8906"/>
                  <a:pt x="10604" y="8911"/>
                </a:cubicBezTo>
                <a:cubicBezTo>
                  <a:pt x="10604" y="8946"/>
                  <a:pt x="10604" y="8954"/>
                  <a:pt x="10604" y="8975"/>
                </a:cubicBezTo>
                <a:cubicBezTo>
                  <a:pt x="10604" y="8913"/>
                  <a:pt x="10630" y="8806"/>
                  <a:pt x="10626" y="8763"/>
                </a:cubicBezTo>
                <a:cubicBezTo>
                  <a:pt x="10624" y="8748"/>
                  <a:pt x="10589" y="8705"/>
                  <a:pt x="10604" y="8742"/>
                </a:cubicBezTo>
                <a:cubicBezTo>
                  <a:pt x="10615" y="8770"/>
                  <a:pt x="10631" y="8833"/>
                  <a:pt x="10668" y="8848"/>
                </a:cubicBezTo>
                <a:cubicBezTo>
                  <a:pt x="10679" y="8853"/>
                  <a:pt x="10664" y="8855"/>
                  <a:pt x="10668" y="8805"/>
                </a:cubicBezTo>
                <a:cubicBezTo>
                  <a:pt x="10672" y="8747"/>
                  <a:pt x="10634" y="8645"/>
                  <a:pt x="10689" y="8721"/>
                </a:cubicBezTo>
                <a:cubicBezTo>
                  <a:pt x="10715" y="8756"/>
                  <a:pt x="10716" y="8834"/>
                  <a:pt x="10753" y="8869"/>
                </a:cubicBezTo>
                <a:cubicBezTo>
                  <a:pt x="10781" y="8895"/>
                  <a:pt x="10762" y="8894"/>
                  <a:pt x="10774" y="8848"/>
                </a:cubicBezTo>
                <a:cubicBezTo>
                  <a:pt x="10779" y="8831"/>
                  <a:pt x="10769" y="8731"/>
                  <a:pt x="10774" y="8784"/>
                </a:cubicBezTo>
                <a:cubicBezTo>
                  <a:pt x="10779" y="8840"/>
                  <a:pt x="10774" y="8855"/>
                  <a:pt x="10774" y="8911"/>
                </a:cubicBezTo>
                <a:cubicBezTo>
                  <a:pt x="10774" y="8939"/>
                  <a:pt x="10763" y="8885"/>
                  <a:pt x="10774" y="8911"/>
                </a:cubicBezTo>
                <a:cubicBezTo>
                  <a:pt x="10787" y="8940"/>
                  <a:pt x="10817" y="9021"/>
                  <a:pt x="10837" y="9038"/>
                </a:cubicBezTo>
                <a:cubicBezTo>
                  <a:pt x="10864" y="9062"/>
                  <a:pt x="10817" y="9031"/>
                  <a:pt x="10837" y="8996"/>
                </a:cubicBezTo>
                <a:cubicBezTo>
                  <a:pt x="10853" y="8969"/>
                  <a:pt x="10847" y="8982"/>
                  <a:pt x="10858" y="8953"/>
                </a:cubicBezTo>
                <a:cubicBezTo>
                  <a:pt x="10858" y="8991"/>
                  <a:pt x="10858" y="9132"/>
                  <a:pt x="10858" y="9102"/>
                </a:cubicBezTo>
                <a:cubicBezTo>
                  <a:pt x="10858" y="9084"/>
                  <a:pt x="10854" y="8858"/>
                  <a:pt x="10837" y="8869"/>
                </a:cubicBezTo>
                <a:cubicBezTo>
                  <a:pt x="10803" y="8891"/>
                  <a:pt x="10815" y="8892"/>
                  <a:pt x="10837" y="8932"/>
                </a:cubicBezTo>
                <a:cubicBezTo>
                  <a:pt x="10844" y="8939"/>
                  <a:pt x="10851" y="8946"/>
                  <a:pt x="10858" y="8953"/>
                </a:cubicBezTo>
                <a:cubicBezTo>
                  <a:pt x="10873" y="9000"/>
                  <a:pt x="10893" y="9049"/>
                  <a:pt x="10901" y="9102"/>
                </a:cubicBezTo>
                <a:cubicBezTo>
                  <a:pt x="10901" y="9116"/>
                  <a:pt x="10901" y="9130"/>
                  <a:pt x="10901" y="9144"/>
                </a:cubicBezTo>
                <a:cubicBezTo>
                  <a:pt x="10897" y="9142"/>
                  <a:pt x="10941" y="9243"/>
                  <a:pt x="10880" y="9144"/>
                </a:cubicBezTo>
                <a:cubicBezTo>
                  <a:pt x="10846" y="9089"/>
                  <a:pt x="10841" y="9046"/>
                  <a:pt x="10816" y="8996"/>
                </a:cubicBezTo>
                <a:cubicBezTo>
                  <a:pt x="10807" y="8977"/>
                  <a:pt x="10786" y="8903"/>
                  <a:pt x="10753" y="8911"/>
                </a:cubicBezTo>
                <a:cubicBezTo>
                  <a:pt x="10726" y="8918"/>
                  <a:pt x="10713" y="9020"/>
                  <a:pt x="10710" y="9038"/>
                </a:cubicBezTo>
                <a:cubicBezTo>
                  <a:pt x="10705" y="9068"/>
                  <a:pt x="10719" y="9169"/>
                  <a:pt x="10689" y="9186"/>
                </a:cubicBezTo>
                <a:cubicBezTo>
                  <a:pt x="10656" y="9205"/>
                  <a:pt x="10634" y="9109"/>
                  <a:pt x="10626" y="9102"/>
                </a:cubicBezTo>
                <a:cubicBezTo>
                  <a:pt x="10578" y="9057"/>
                  <a:pt x="10502" y="8962"/>
                  <a:pt x="10477" y="8975"/>
                </a:cubicBezTo>
                <a:cubicBezTo>
                  <a:pt x="10447" y="8991"/>
                  <a:pt x="10444" y="9040"/>
                  <a:pt x="10435" y="9059"/>
                </a:cubicBezTo>
                <a:cubicBezTo>
                  <a:pt x="10454" y="9097"/>
                  <a:pt x="10397" y="8995"/>
                  <a:pt x="10456" y="9102"/>
                </a:cubicBezTo>
                <a:cubicBezTo>
                  <a:pt x="10475" y="9137"/>
                  <a:pt x="10485" y="9165"/>
                  <a:pt x="10520" y="9186"/>
                </a:cubicBezTo>
                <a:cubicBezTo>
                  <a:pt x="10553" y="9205"/>
                  <a:pt x="10579" y="9157"/>
                  <a:pt x="10604" y="9186"/>
                </a:cubicBezTo>
                <a:cubicBezTo>
                  <a:pt x="10619" y="9204"/>
                  <a:pt x="10605" y="9245"/>
                  <a:pt x="10626" y="9271"/>
                </a:cubicBezTo>
                <a:cubicBezTo>
                  <a:pt x="10647" y="9298"/>
                  <a:pt x="10661" y="9308"/>
                  <a:pt x="10668" y="9292"/>
                </a:cubicBezTo>
                <a:cubicBezTo>
                  <a:pt x="10681" y="9261"/>
                  <a:pt x="10645" y="9088"/>
                  <a:pt x="10689" y="9144"/>
                </a:cubicBezTo>
                <a:cubicBezTo>
                  <a:pt x="10718" y="9181"/>
                  <a:pt x="10726" y="9224"/>
                  <a:pt x="10731" y="9271"/>
                </a:cubicBezTo>
                <a:cubicBezTo>
                  <a:pt x="10736" y="9318"/>
                  <a:pt x="10697" y="9320"/>
                  <a:pt x="10710" y="9292"/>
                </a:cubicBezTo>
                <a:cubicBezTo>
                  <a:pt x="10722" y="9266"/>
                  <a:pt x="10718" y="9233"/>
                  <a:pt x="10731" y="9207"/>
                </a:cubicBezTo>
                <a:cubicBezTo>
                  <a:pt x="10748" y="9171"/>
                  <a:pt x="10736" y="9090"/>
                  <a:pt x="10774" y="9102"/>
                </a:cubicBezTo>
                <a:cubicBezTo>
                  <a:pt x="10809" y="9114"/>
                  <a:pt x="10784" y="9129"/>
                  <a:pt x="10795" y="9165"/>
                </a:cubicBezTo>
                <a:cubicBezTo>
                  <a:pt x="10812" y="9220"/>
                  <a:pt x="10810" y="9256"/>
                  <a:pt x="10816" y="9313"/>
                </a:cubicBezTo>
                <a:cubicBezTo>
                  <a:pt x="10816" y="9334"/>
                  <a:pt x="10816" y="9341"/>
                  <a:pt x="10816" y="9313"/>
                </a:cubicBezTo>
                <a:cubicBezTo>
                  <a:pt x="10806" y="9239"/>
                  <a:pt x="10800" y="9167"/>
                  <a:pt x="10774" y="9102"/>
                </a:cubicBezTo>
                <a:cubicBezTo>
                  <a:pt x="10760" y="9067"/>
                  <a:pt x="10763" y="9066"/>
                  <a:pt x="10753" y="9080"/>
                </a:cubicBezTo>
                <a:cubicBezTo>
                  <a:pt x="10739" y="9100"/>
                  <a:pt x="10751" y="9167"/>
                  <a:pt x="10731" y="9186"/>
                </a:cubicBezTo>
                <a:cubicBezTo>
                  <a:pt x="10710" y="9206"/>
                  <a:pt x="10678" y="9218"/>
                  <a:pt x="10647" y="9207"/>
                </a:cubicBezTo>
                <a:cubicBezTo>
                  <a:pt x="10556" y="9176"/>
                  <a:pt x="10487" y="9093"/>
                  <a:pt x="10435" y="9038"/>
                </a:cubicBezTo>
                <a:cubicBezTo>
                  <a:pt x="10395" y="8995"/>
                  <a:pt x="10417" y="8989"/>
                  <a:pt x="10393" y="8953"/>
                </a:cubicBezTo>
                <a:cubicBezTo>
                  <a:pt x="10469" y="8953"/>
                  <a:pt x="10560" y="8963"/>
                  <a:pt x="10604" y="8975"/>
                </a:cubicBezTo>
                <a:cubicBezTo>
                  <a:pt x="10647" y="8987"/>
                  <a:pt x="10650" y="8979"/>
                  <a:pt x="10689" y="8996"/>
                </a:cubicBezTo>
                <a:cubicBezTo>
                  <a:pt x="10731" y="9015"/>
                  <a:pt x="10692" y="9034"/>
                  <a:pt x="10710" y="9017"/>
                </a:cubicBezTo>
                <a:cubicBezTo>
                  <a:pt x="10717" y="9011"/>
                  <a:pt x="10694" y="8925"/>
                  <a:pt x="10731" y="8953"/>
                </a:cubicBezTo>
                <a:cubicBezTo>
                  <a:pt x="10754" y="8971"/>
                  <a:pt x="10752" y="9018"/>
                  <a:pt x="10774" y="9059"/>
                </a:cubicBezTo>
                <a:cubicBezTo>
                  <a:pt x="10778" y="9067"/>
                  <a:pt x="10828" y="9117"/>
                  <a:pt x="10837" y="9144"/>
                </a:cubicBezTo>
                <a:cubicBezTo>
                  <a:pt x="10842" y="9158"/>
                  <a:pt x="10857" y="9220"/>
                  <a:pt x="10858" y="9229"/>
                </a:cubicBezTo>
                <a:cubicBezTo>
                  <a:pt x="10864" y="9270"/>
                  <a:pt x="10868" y="9299"/>
                  <a:pt x="10880" y="9334"/>
                </a:cubicBezTo>
                <a:cubicBezTo>
                  <a:pt x="10889" y="9361"/>
                  <a:pt x="10876" y="9385"/>
                  <a:pt x="10901" y="9398"/>
                </a:cubicBezTo>
                <a:cubicBezTo>
                  <a:pt x="10926" y="9411"/>
                  <a:pt x="10899" y="9328"/>
                  <a:pt x="10901" y="9356"/>
                </a:cubicBezTo>
                <a:cubicBezTo>
                  <a:pt x="10905" y="9424"/>
                  <a:pt x="10906" y="9490"/>
                  <a:pt x="10880" y="9546"/>
                </a:cubicBezTo>
                <a:cubicBezTo>
                  <a:pt x="10865" y="9578"/>
                  <a:pt x="10852" y="9626"/>
                  <a:pt x="10837" y="9652"/>
                </a:cubicBezTo>
                <a:cubicBezTo>
                  <a:pt x="10820" y="9683"/>
                  <a:pt x="10802" y="9701"/>
                  <a:pt x="10795" y="9737"/>
                </a:cubicBezTo>
                <a:cubicBezTo>
                  <a:pt x="10793" y="9748"/>
                  <a:pt x="10800" y="9834"/>
                  <a:pt x="10795" y="9779"/>
                </a:cubicBezTo>
                <a:cubicBezTo>
                  <a:pt x="10789" y="9715"/>
                  <a:pt x="10818" y="9643"/>
                  <a:pt x="10816" y="9588"/>
                </a:cubicBezTo>
                <a:cubicBezTo>
                  <a:pt x="10813" y="9514"/>
                  <a:pt x="10797" y="9434"/>
                  <a:pt x="10795" y="9356"/>
                </a:cubicBezTo>
                <a:cubicBezTo>
                  <a:pt x="10795" y="9313"/>
                  <a:pt x="10795" y="9299"/>
                  <a:pt x="10795" y="9271"/>
                </a:cubicBezTo>
                <a:cubicBezTo>
                  <a:pt x="10795" y="9306"/>
                  <a:pt x="10802" y="9258"/>
                  <a:pt x="10795" y="9292"/>
                </a:cubicBezTo>
                <a:cubicBezTo>
                  <a:pt x="10783" y="9352"/>
                  <a:pt x="10773" y="9360"/>
                  <a:pt x="10753" y="9419"/>
                </a:cubicBezTo>
                <a:cubicBezTo>
                  <a:pt x="10748" y="9434"/>
                  <a:pt x="10737" y="9526"/>
                  <a:pt x="10731" y="9525"/>
                </a:cubicBezTo>
                <a:cubicBezTo>
                  <a:pt x="10698" y="9517"/>
                  <a:pt x="10721" y="9428"/>
                  <a:pt x="10689" y="9440"/>
                </a:cubicBezTo>
                <a:cubicBezTo>
                  <a:pt x="10671" y="9446"/>
                  <a:pt x="10622" y="9507"/>
                  <a:pt x="10604" y="9525"/>
                </a:cubicBezTo>
                <a:cubicBezTo>
                  <a:pt x="10583" y="9547"/>
                  <a:pt x="10553" y="9646"/>
                  <a:pt x="10541" y="9652"/>
                </a:cubicBezTo>
                <a:cubicBezTo>
                  <a:pt x="10454" y="9691"/>
                  <a:pt x="10548" y="9631"/>
                  <a:pt x="10499" y="9631"/>
                </a:cubicBezTo>
                <a:cubicBezTo>
                  <a:pt x="10541" y="9561"/>
                  <a:pt x="10582" y="9491"/>
                  <a:pt x="10604" y="9419"/>
                </a:cubicBezTo>
                <a:cubicBezTo>
                  <a:pt x="10612" y="9392"/>
                  <a:pt x="10628" y="9288"/>
                  <a:pt x="10647" y="9271"/>
                </a:cubicBezTo>
                <a:cubicBezTo>
                  <a:pt x="10679" y="9242"/>
                  <a:pt x="10661" y="9257"/>
                  <a:pt x="10668" y="9292"/>
                </a:cubicBezTo>
                <a:cubicBezTo>
                  <a:pt x="10681" y="9358"/>
                  <a:pt x="10663" y="9501"/>
                  <a:pt x="10668" y="9504"/>
                </a:cubicBezTo>
                <a:cubicBezTo>
                  <a:pt x="10711" y="9530"/>
                  <a:pt x="10733" y="9422"/>
                  <a:pt x="10753" y="9419"/>
                </a:cubicBezTo>
                <a:cubicBezTo>
                  <a:pt x="10776" y="9415"/>
                  <a:pt x="10734" y="9421"/>
                  <a:pt x="10731" y="9461"/>
                </a:cubicBezTo>
                <a:cubicBezTo>
                  <a:pt x="10726" y="9518"/>
                  <a:pt x="10714" y="9579"/>
                  <a:pt x="10710" y="9631"/>
                </a:cubicBezTo>
                <a:cubicBezTo>
                  <a:pt x="10705" y="9694"/>
                  <a:pt x="10710" y="9694"/>
                  <a:pt x="10710" y="9694"/>
                </a:cubicBezTo>
                <a:cubicBezTo>
                  <a:pt x="10718" y="9692"/>
                  <a:pt x="10753" y="9592"/>
                  <a:pt x="10774" y="9588"/>
                </a:cubicBezTo>
                <a:cubicBezTo>
                  <a:pt x="10775" y="9588"/>
                  <a:pt x="10779" y="9579"/>
                  <a:pt x="10774" y="9631"/>
                </a:cubicBezTo>
                <a:cubicBezTo>
                  <a:pt x="10770" y="9675"/>
                  <a:pt x="10728" y="9729"/>
                  <a:pt x="10753" y="9715"/>
                </a:cubicBezTo>
                <a:cubicBezTo>
                  <a:pt x="10760" y="9711"/>
                  <a:pt x="10810" y="9609"/>
                  <a:pt x="10816" y="9588"/>
                </a:cubicBezTo>
                <a:cubicBezTo>
                  <a:pt x="10830" y="9536"/>
                  <a:pt x="10834" y="9515"/>
                  <a:pt x="10837" y="9461"/>
                </a:cubicBezTo>
                <a:cubicBezTo>
                  <a:pt x="10838" y="9437"/>
                  <a:pt x="10837" y="9319"/>
                  <a:pt x="10837" y="9419"/>
                </a:cubicBezTo>
                <a:cubicBezTo>
                  <a:pt x="10837" y="9467"/>
                  <a:pt x="10823" y="9533"/>
                  <a:pt x="10858" y="9567"/>
                </a:cubicBezTo>
                <a:cubicBezTo>
                  <a:pt x="10865" y="9560"/>
                  <a:pt x="10873" y="9553"/>
                  <a:pt x="10880" y="9546"/>
                </a:cubicBezTo>
                <a:cubicBezTo>
                  <a:pt x="10888" y="9513"/>
                  <a:pt x="10897" y="9497"/>
                  <a:pt x="10901" y="9461"/>
                </a:cubicBezTo>
                <a:cubicBezTo>
                  <a:pt x="10901" y="9426"/>
                  <a:pt x="10901" y="9419"/>
                  <a:pt x="10901" y="9398"/>
                </a:cubicBezTo>
                <a:cubicBezTo>
                  <a:pt x="10896" y="9349"/>
                  <a:pt x="10916" y="9303"/>
                  <a:pt x="10901" y="9313"/>
                </a:cubicBezTo>
                <a:cubicBezTo>
                  <a:pt x="10854" y="9346"/>
                  <a:pt x="10860" y="9413"/>
                  <a:pt x="10858" y="9461"/>
                </a:cubicBezTo>
                <a:cubicBezTo>
                  <a:pt x="10856" y="9508"/>
                  <a:pt x="10823" y="9592"/>
                  <a:pt x="10858" y="9525"/>
                </a:cubicBezTo>
                <a:cubicBezTo>
                  <a:pt x="10876" y="9490"/>
                  <a:pt x="10886" y="9463"/>
                  <a:pt x="10880" y="9419"/>
                </a:cubicBezTo>
                <a:cubicBezTo>
                  <a:pt x="10879" y="9408"/>
                  <a:pt x="10864" y="9342"/>
                  <a:pt x="10858" y="9334"/>
                </a:cubicBezTo>
                <a:cubicBezTo>
                  <a:pt x="10840" y="9311"/>
                  <a:pt x="10860" y="9341"/>
                  <a:pt x="10858" y="9377"/>
                </a:cubicBezTo>
                <a:cubicBezTo>
                  <a:pt x="10855" y="9447"/>
                  <a:pt x="10870" y="9504"/>
                  <a:pt x="10880" y="9567"/>
                </a:cubicBezTo>
                <a:cubicBezTo>
                  <a:pt x="10892" y="9596"/>
                  <a:pt x="10892" y="9682"/>
                  <a:pt x="10901" y="9652"/>
                </a:cubicBezTo>
                <a:cubicBezTo>
                  <a:pt x="10921" y="9583"/>
                  <a:pt x="10897" y="9456"/>
                  <a:pt x="10880" y="9419"/>
                </a:cubicBezTo>
                <a:cubicBezTo>
                  <a:pt x="10865" y="9387"/>
                  <a:pt x="10856" y="9454"/>
                  <a:pt x="10858" y="9419"/>
                </a:cubicBezTo>
                <a:cubicBezTo>
                  <a:pt x="10858" y="9413"/>
                  <a:pt x="10877" y="9326"/>
                  <a:pt x="10880" y="9313"/>
                </a:cubicBezTo>
                <a:cubicBezTo>
                  <a:pt x="10882" y="9306"/>
                  <a:pt x="10885" y="9288"/>
                  <a:pt x="10901" y="9250"/>
                </a:cubicBezTo>
                <a:cubicBezTo>
                  <a:pt x="10921" y="9261"/>
                  <a:pt x="10969" y="9252"/>
                  <a:pt x="10985" y="9271"/>
                </a:cubicBezTo>
                <a:cubicBezTo>
                  <a:pt x="11014" y="9306"/>
                  <a:pt x="11008" y="9336"/>
                  <a:pt x="11028" y="9377"/>
                </a:cubicBezTo>
                <a:cubicBezTo>
                  <a:pt x="11037" y="9396"/>
                  <a:pt x="11049" y="9428"/>
                  <a:pt x="11049" y="9440"/>
                </a:cubicBezTo>
                <a:cubicBezTo>
                  <a:pt x="11049" y="9452"/>
                  <a:pt x="11030" y="9501"/>
                  <a:pt x="11028" y="9525"/>
                </a:cubicBezTo>
                <a:cubicBezTo>
                  <a:pt x="11024" y="9580"/>
                  <a:pt x="11034" y="9549"/>
                  <a:pt x="11028" y="9588"/>
                </a:cubicBezTo>
                <a:cubicBezTo>
                  <a:pt x="11023" y="9619"/>
                  <a:pt x="11005" y="9642"/>
                  <a:pt x="11007" y="9673"/>
                </a:cubicBezTo>
                <a:cubicBezTo>
                  <a:pt x="11010" y="9718"/>
                  <a:pt x="11026" y="9703"/>
                  <a:pt x="11028" y="9737"/>
                </a:cubicBezTo>
                <a:cubicBezTo>
                  <a:pt x="11032" y="9808"/>
                  <a:pt x="11024" y="9868"/>
                  <a:pt x="11007" y="9927"/>
                </a:cubicBezTo>
                <a:cubicBezTo>
                  <a:pt x="10997" y="9960"/>
                  <a:pt x="10990" y="9975"/>
                  <a:pt x="10985" y="10012"/>
                </a:cubicBezTo>
                <a:cubicBezTo>
                  <a:pt x="10983" y="10027"/>
                  <a:pt x="10990" y="10127"/>
                  <a:pt x="10985" y="10075"/>
                </a:cubicBezTo>
                <a:cubicBezTo>
                  <a:pt x="10979" y="10018"/>
                  <a:pt x="10994" y="9989"/>
                  <a:pt x="10985" y="9991"/>
                </a:cubicBezTo>
                <a:cubicBezTo>
                  <a:pt x="10984" y="9991"/>
                  <a:pt x="10933" y="10043"/>
                  <a:pt x="10922" y="10033"/>
                </a:cubicBezTo>
                <a:cubicBezTo>
                  <a:pt x="10913" y="10025"/>
                  <a:pt x="10885" y="9974"/>
                  <a:pt x="10880" y="9948"/>
                </a:cubicBezTo>
                <a:cubicBezTo>
                  <a:pt x="10865" y="9871"/>
                  <a:pt x="10880" y="9773"/>
                  <a:pt x="10880" y="9694"/>
                </a:cubicBezTo>
                <a:cubicBezTo>
                  <a:pt x="10880" y="9661"/>
                  <a:pt x="10880" y="9511"/>
                  <a:pt x="10880" y="9546"/>
                </a:cubicBezTo>
                <a:cubicBezTo>
                  <a:pt x="10880" y="9608"/>
                  <a:pt x="10858" y="9734"/>
                  <a:pt x="10901" y="9715"/>
                </a:cubicBezTo>
                <a:cubicBezTo>
                  <a:pt x="10960" y="9689"/>
                  <a:pt x="10953" y="9613"/>
                  <a:pt x="10985" y="9567"/>
                </a:cubicBezTo>
                <a:cubicBezTo>
                  <a:pt x="11028" y="9506"/>
                  <a:pt x="11018" y="9471"/>
                  <a:pt x="11049" y="9419"/>
                </a:cubicBezTo>
                <a:cubicBezTo>
                  <a:pt x="11067" y="9389"/>
                  <a:pt x="11049" y="9432"/>
                  <a:pt x="11049" y="9461"/>
                </a:cubicBezTo>
                <a:cubicBezTo>
                  <a:pt x="11049" y="9548"/>
                  <a:pt x="11034" y="9641"/>
                  <a:pt x="11028" y="9715"/>
                </a:cubicBezTo>
                <a:cubicBezTo>
                  <a:pt x="11024" y="9760"/>
                  <a:pt x="11008" y="9851"/>
                  <a:pt x="11007" y="9864"/>
                </a:cubicBezTo>
                <a:cubicBezTo>
                  <a:pt x="11003" y="9910"/>
                  <a:pt x="10990" y="9955"/>
                  <a:pt x="10985" y="9991"/>
                </a:cubicBezTo>
                <a:cubicBezTo>
                  <a:pt x="10982" y="10011"/>
                  <a:pt x="10989" y="10034"/>
                  <a:pt x="10985" y="10054"/>
                </a:cubicBezTo>
                <a:cubicBezTo>
                  <a:pt x="10977" y="10004"/>
                  <a:pt x="10968" y="9956"/>
                  <a:pt x="10964" y="9906"/>
                </a:cubicBezTo>
                <a:cubicBezTo>
                  <a:pt x="10959" y="9850"/>
                  <a:pt x="10975" y="9726"/>
                  <a:pt x="10964" y="9737"/>
                </a:cubicBezTo>
                <a:cubicBezTo>
                  <a:pt x="10961" y="9740"/>
                  <a:pt x="10950" y="9823"/>
                  <a:pt x="10943" y="9821"/>
                </a:cubicBezTo>
                <a:cubicBezTo>
                  <a:pt x="10940" y="9820"/>
                  <a:pt x="10959" y="9828"/>
                  <a:pt x="10943" y="9779"/>
                </a:cubicBezTo>
                <a:cubicBezTo>
                  <a:pt x="10927" y="9731"/>
                  <a:pt x="10933" y="9685"/>
                  <a:pt x="10922" y="9631"/>
                </a:cubicBezTo>
                <a:cubicBezTo>
                  <a:pt x="10915" y="9596"/>
                  <a:pt x="10936" y="9541"/>
                  <a:pt x="10901" y="9546"/>
                </a:cubicBezTo>
                <a:cubicBezTo>
                  <a:pt x="10852" y="9553"/>
                  <a:pt x="10901" y="9579"/>
                  <a:pt x="10880" y="9610"/>
                </a:cubicBezTo>
                <a:cubicBezTo>
                  <a:pt x="10864" y="9634"/>
                  <a:pt x="10882" y="9674"/>
                  <a:pt x="10880" y="9610"/>
                </a:cubicBezTo>
                <a:cubicBezTo>
                  <a:pt x="10877" y="9536"/>
                  <a:pt x="10886" y="9468"/>
                  <a:pt x="10901" y="9398"/>
                </a:cubicBezTo>
                <a:cubicBezTo>
                  <a:pt x="10912" y="9348"/>
                  <a:pt x="10969" y="9230"/>
                  <a:pt x="10922" y="9250"/>
                </a:cubicBezTo>
                <a:cubicBezTo>
                  <a:pt x="10894" y="9262"/>
                  <a:pt x="10905" y="9303"/>
                  <a:pt x="10901" y="9334"/>
                </a:cubicBezTo>
                <a:cubicBezTo>
                  <a:pt x="10901" y="9370"/>
                  <a:pt x="10901" y="9377"/>
                  <a:pt x="10901" y="9398"/>
                </a:cubicBezTo>
                <a:cubicBezTo>
                  <a:pt x="10901" y="9482"/>
                  <a:pt x="10901" y="9559"/>
                  <a:pt x="10880" y="9631"/>
                </a:cubicBezTo>
                <a:cubicBezTo>
                  <a:pt x="10871" y="9661"/>
                  <a:pt x="10875" y="9689"/>
                  <a:pt x="10858" y="9715"/>
                </a:cubicBezTo>
                <a:cubicBezTo>
                  <a:pt x="10853" y="9723"/>
                  <a:pt x="10800" y="9752"/>
                  <a:pt x="10795" y="9758"/>
                </a:cubicBezTo>
                <a:cubicBezTo>
                  <a:pt x="10765" y="9794"/>
                  <a:pt x="10740" y="9815"/>
                  <a:pt x="10710" y="9842"/>
                </a:cubicBezTo>
                <a:cubicBezTo>
                  <a:pt x="10651" y="9897"/>
                  <a:pt x="10601" y="9962"/>
                  <a:pt x="10562" y="10033"/>
                </a:cubicBezTo>
                <a:cubicBezTo>
                  <a:pt x="10525" y="10099"/>
                  <a:pt x="10495" y="10176"/>
                  <a:pt x="10456" y="10245"/>
                </a:cubicBezTo>
                <a:cubicBezTo>
                  <a:pt x="10440" y="10273"/>
                  <a:pt x="10434" y="10261"/>
                  <a:pt x="10414" y="10287"/>
                </a:cubicBezTo>
                <a:cubicBezTo>
                  <a:pt x="10425" y="10247"/>
                  <a:pt x="10419" y="10225"/>
                  <a:pt x="10435" y="10202"/>
                </a:cubicBezTo>
                <a:cubicBezTo>
                  <a:pt x="10470" y="10154"/>
                  <a:pt x="10497" y="10121"/>
                  <a:pt x="10541" y="10054"/>
                </a:cubicBezTo>
                <a:cubicBezTo>
                  <a:pt x="10563" y="10021"/>
                  <a:pt x="10585" y="9961"/>
                  <a:pt x="10604" y="9927"/>
                </a:cubicBezTo>
                <a:cubicBezTo>
                  <a:pt x="10631" y="9880"/>
                  <a:pt x="10670" y="9827"/>
                  <a:pt x="10689" y="9779"/>
                </a:cubicBezTo>
                <a:cubicBezTo>
                  <a:pt x="10691" y="9773"/>
                  <a:pt x="10734" y="9618"/>
                  <a:pt x="10710" y="9610"/>
                </a:cubicBezTo>
                <a:cubicBezTo>
                  <a:pt x="10674" y="9599"/>
                  <a:pt x="10633" y="9645"/>
                  <a:pt x="10604" y="9673"/>
                </a:cubicBezTo>
                <a:cubicBezTo>
                  <a:pt x="10583" y="9693"/>
                  <a:pt x="10483" y="9863"/>
                  <a:pt x="10477" y="9864"/>
                </a:cubicBezTo>
                <a:cubicBezTo>
                  <a:pt x="10380" y="9881"/>
                  <a:pt x="10461" y="9840"/>
                  <a:pt x="10499" y="9800"/>
                </a:cubicBezTo>
                <a:cubicBezTo>
                  <a:pt x="10510" y="9789"/>
                  <a:pt x="10646" y="9677"/>
                  <a:pt x="10647" y="9673"/>
                </a:cubicBezTo>
                <a:cubicBezTo>
                  <a:pt x="10662" y="9598"/>
                  <a:pt x="10616" y="9671"/>
                  <a:pt x="10604" y="9652"/>
                </a:cubicBezTo>
                <a:cubicBezTo>
                  <a:pt x="10572" y="9684"/>
                  <a:pt x="10519" y="9727"/>
                  <a:pt x="10477" y="9779"/>
                </a:cubicBezTo>
                <a:cubicBezTo>
                  <a:pt x="10424" y="9844"/>
                  <a:pt x="10431" y="9893"/>
                  <a:pt x="10372" y="9948"/>
                </a:cubicBezTo>
                <a:cubicBezTo>
                  <a:pt x="10355" y="9964"/>
                  <a:pt x="10268" y="9991"/>
                  <a:pt x="10287" y="10033"/>
                </a:cubicBezTo>
                <a:cubicBezTo>
                  <a:pt x="10304" y="10072"/>
                  <a:pt x="10315" y="9994"/>
                  <a:pt x="10350" y="9969"/>
                </a:cubicBezTo>
                <a:cubicBezTo>
                  <a:pt x="10394" y="9937"/>
                  <a:pt x="10444" y="9878"/>
                  <a:pt x="10499" y="9864"/>
                </a:cubicBezTo>
                <a:cubicBezTo>
                  <a:pt x="10551" y="9851"/>
                  <a:pt x="10535" y="9864"/>
                  <a:pt x="10499" y="9885"/>
                </a:cubicBezTo>
                <a:cubicBezTo>
                  <a:pt x="10445" y="9916"/>
                  <a:pt x="10387" y="9930"/>
                  <a:pt x="10329" y="9948"/>
                </a:cubicBezTo>
                <a:cubicBezTo>
                  <a:pt x="10302" y="9973"/>
                  <a:pt x="10268" y="9995"/>
                  <a:pt x="10245" y="10012"/>
                </a:cubicBezTo>
                <a:cubicBezTo>
                  <a:pt x="10280" y="10002"/>
                  <a:pt x="10272" y="9996"/>
                  <a:pt x="10308" y="9991"/>
                </a:cubicBezTo>
                <a:cubicBezTo>
                  <a:pt x="10406" y="9977"/>
                  <a:pt x="10427" y="9962"/>
                  <a:pt x="10520" y="9927"/>
                </a:cubicBezTo>
                <a:cubicBezTo>
                  <a:pt x="10542" y="9919"/>
                  <a:pt x="10665" y="9863"/>
                  <a:pt x="10668" y="9864"/>
                </a:cubicBezTo>
                <a:cubicBezTo>
                  <a:pt x="10706" y="9879"/>
                  <a:pt x="10681" y="9906"/>
                  <a:pt x="10668" y="9948"/>
                </a:cubicBezTo>
                <a:cubicBezTo>
                  <a:pt x="10658" y="9979"/>
                  <a:pt x="10620" y="10046"/>
                  <a:pt x="10604" y="10075"/>
                </a:cubicBezTo>
                <a:cubicBezTo>
                  <a:pt x="10576" y="10128"/>
                  <a:pt x="10570" y="10115"/>
                  <a:pt x="10541" y="10139"/>
                </a:cubicBezTo>
                <a:cubicBezTo>
                  <a:pt x="10472" y="10197"/>
                  <a:pt x="10598" y="10058"/>
                  <a:pt x="10604" y="10054"/>
                </a:cubicBezTo>
                <a:cubicBezTo>
                  <a:pt x="10643" y="10054"/>
                  <a:pt x="10654" y="10057"/>
                  <a:pt x="10668" y="10033"/>
                </a:cubicBezTo>
                <a:cubicBezTo>
                  <a:pt x="10706" y="10019"/>
                  <a:pt x="10813" y="9982"/>
                  <a:pt x="10774" y="9991"/>
                </a:cubicBezTo>
                <a:cubicBezTo>
                  <a:pt x="10741" y="9999"/>
                  <a:pt x="10719" y="10003"/>
                  <a:pt x="10689" y="10012"/>
                </a:cubicBezTo>
                <a:cubicBezTo>
                  <a:pt x="10635" y="10028"/>
                  <a:pt x="10592" y="10052"/>
                  <a:pt x="10541" y="10075"/>
                </a:cubicBezTo>
                <a:cubicBezTo>
                  <a:pt x="10533" y="10079"/>
                  <a:pt x="10428" y="10133"/>
                  <a:pt x="10456" y="10096"/>
                </a:cubicBezTo>
                <a:cubicBezTo>
                  <a:pt x="10476" y="10070"/>
                  <a:pt x="10537" y="10024"/>
                  <a:pt x="10562" y="10012"/>
                </a:cubicBezTo>
                <a:cubicBezTo>
                  <a:pt x="10626" y="9991"/>
                  <a:pt x="10647" y="9984"/>
                  <a:pt x="10689" y="9969"/>
                </a:cubicBezTo>
                <a:cubicBezTo>
                  <a:pt x="10700" y="9953"/>
                  <a:pt x="10761" y="9906"/>
                  <a:pt x="10753" y="9885"/>
                </a:cubicBezTo>
                <a:cubicBezTo>
                  <a:pt x="10733" y="9832"/>
                  <a:pt x="10727" y="9886"/>
                  <a:pt x="10710" y="9906"/>
                </a:cubicBezTo>
                <a:cubicBezTo>
                  <a:pt x="10680" y="9941"/>
                  <a:pt x="10657" y="9977"/>
                  <a:pt x="10626" y="10012"/>
                </a:cubicBezTo>
                <a:cubicBezTo>
                  <a:pt x="10599" y="10043"/>
                  <a:pt x="10508" y="10104"/>
                  <a:pt x="10541" y="10118"/>
                </a:cubicBezTo>
                <a:cubicBezTo>
                  <a:pt x="10589" y="10139"/>
                  <a:pt x="10640" y="10114"/>
                  <a:pt x="10689" y="10096"/>
                </a:cubicBezTo>
                <a:cubicBezTo>
                  <a:pt x="10752" y="10073"/>
                  <a:pt x="10713" y="10058"/>
                  <a:pt x="10774" y="10054"/>
                </a:cubicBezTo>
                <a:cubicBezTo>
                  <a:pt x="10840" y="10050"/>
                  <a:pt x="10793" y="10044"/>
                  <a:pt x="10774" y="10075"/>
                </a:cubicBezTo>
                <a:cubicBezTo>
                  <a:pt x="10747" y="10120"/>
                  <a:pt x="10733" y="10185"/>
                  <a:pt x="10710" y="10223"/>
                </a:cubicBezTo>
                <a:cubicBezTo>
                  <a:pt x="10692" y="10253"/>
                  <a:pt x="10672" y="10241"/>
                  <a:pt x="10647" y="10266"/>
                </a:cubicBezTo>
                <a:cubicBezTo>
                  <a:pt x="10664" y="10272"/>
                  <a:pt x="10595" y="10295"/>
                  <a:pt x="10668" y="10287"/>
                </a:cubicBezTo>
                <a:cubicBezTo>
                  <a:pt x="10699" y="10284"/>
                  <a:pt x="10759" y="10255"/>
                  <a:pt x="10774" y="10223"/>
                </a:cubicBezTo>
                <a:cubicBezTo>
                  <a:pt x="10802" y="10162"/>
                  <a:pt x="10798" y="10134"/>
                  <a:pt x="10774" y="10075"/>
                </a:cubicBezTo>
                <a:cubicBezTo>
                  <a:pt x="10761" y="10042"/>
                  <a:pt x="10777" y="10098"/>
                  <a:pt x="10731" y="10118"/>
                </a:cubicBezTo>
                <a:cubicBezTo>
                  <a:pt x="10674" y="10143"/>
                  <a:pt x="10634" y="10176"/>
                  <a:pt x="10583" y="10202"/>
                </a:cubicBezTo>
                <a:cubicBezTo>
                  <a:pt x="10556" y="10216"/>
                  <a:pt x="10532" y="10223"/>
                  <a:pt x="10499" y="10223"/>
                </a:cubicBezTo>
                <a:cubicBezTo>
                  <a:pt x="10499" y="10216"/>
                  <a:pt x="10499" y="10209"/>
                  <a:pt x="10499" y="10202"/>
                </a:cubicBezTo>
                <a:cubicBezTo>
                  <a:pt x="10533" y="10149"/>
                  <a:pt x="10551" y="10116"/>
                  <a:pt x="10604" y="10075"/>
                </a:cubicBezTo>
                <a:cubicBezTo>
                  <a:pt x="10661" y="10031"/>
                  <a:pt x="10716" y="9989"/>
                  <a:pt x="10774" y="9948"/>
                </a:cubicBezTo>
                <a:cubicBezTo>
                  <a:pt x="10815" y="9919"/>
                  <a:pt x="10817" y="9906"/>
                  <a:pt x="10858" y="9885"/>
                </a:cubicBezTo>
                <a:cubicBezTo>
                  <a:pt x="10885" y="9871"/>
                  <a:pt x="10881" y="9864"/>
                  <a:pt x="10922" y="9864"/>
                </a:cubicBezTo>
                <a:cubicBezTo>
                  <a:pt x="10958" y="9864"/>
                  <a:pt x="10866" y="9887"/>
                  <a:pt x="10837" y="9906"/>
                </a:cubicBezTo>
                <a:cubicBezTo>
                  <a:pt x="10813" y="9932"/>
                  <a:pt x="10785" y="9968"/>
                  <a:pt x="10753" y="9991"/>
                </a:cubicBezTo>
                <a:cubicBezTo>
                  <a:pt x="10717" y="10017"/>
                  <a:pt x="10666" y="10065"/>
                  <a:pt x="10626" y="10075"/>
                </a:cubicBezTo>
                <a:cubicBezTo>
                  <a:pt x="10553" y="10093"/>
                  <a:pt x="10494" y="10066"/>
                  <a:pt x="10435" y="10033"/>
                </a:cubicBezTo>
                <a:cubicBezTo>
                  <a:pt x="10368" y="9996"/>
                  <a:pt x="10292" y="9969"/>
                  <a:pt x="10245" y="9906"/>
                </a:cubicBezTo>
                <a:cubicBezTo>
                  <a:pt x="10231" y="9887"/>
                  <a:pt x="10219" y="9850"/>
                  <a:pt x="10223" y="9821"/>
                </a:cubicBezTo>
                <a:cubicBezTo>
                  <a:pt x="10230" y="9774"/>
                  <a:pt x="10262" y="9780"/>
                  <a:pt x="10287" y="9758"/>
                </a:cubicBezTo>
                <a:cubicBezTo>
                  <a:pt x="10333" y="9718"/>
                  <a:pt x="10359" y="9694"/>
                  <a:pt x="10435" y="9694"/>
                </a:cubicBezTo>
                <a:cubicBezTo>
                  <a:pt x="10473" y="9694"/>
                  <a:pt x="10488" y="9684"/>
                  <a:pt x="10499" y="9715"/>
                </a:cubicBezTo>
                <a:cubicBezTo>
                  <a:pt x="10517" y="9764"/>
                  <a:pt x="10478" y="9803"/>
                  <a:pt x="10456" y="9842"/>
                </a:cubicBezTo>
                <a:cubicBezTo>
                  <a:pt x="10425" y="9896"/>
                  <a:pt x="10412" y="9932"/>
                  <a:pt x="10393" y="9991"/>
                </a:cubicBezTo>
                <a:cubicBezTo>
                  <a:pt x="10352" y="9980"/>
                  <a:pt x="10320" y="10012"/>
                  <a:pt x="10308" y="9969"/>
                </a:cubicBezTo>
                <a:cubicBezTo>
                  <a:pt x="10296" y="9926"/>
                  <a:pt x="10352" y="9904"/>
                  <a:pt x="10372" y="9885"/>
                </a:cubicBezTo>
                <a:cubicBezTo>
                  <a:pt x="10402" y="9857"/>
                  <a:pt x="10402" y="9866"/>
                  <a:pt x="10435" y="9842"/>
                </a:cubicBezTo>
                <a:cubicBezTo>
                  <a:pt x="10406" y="9869"/>
                  <a:pt x="10378" y="9895"/>
                  <a:pt x="10350" y="9927"/>
                </a:cubicBezTo>
                <a:cubicBezTo>
                  <a:pt x="10291" y="9995"/>
                  <a:pt x="10295" y="9981"/>
                  <a:pt x="10372" y="9948"/>
                </a:cubicBezTo>
                <a:cubicBezTo>
                  <a:pt x="10410" y="9929"/>
                  <a:pt x="10483" y="9870"/>
                  <a:pt x="10499" y="9864"/>
                </a:cubicBezTo>
                <a:cubicBezTo>
                  <a:pt x="10564" y="9839"/>
                  <a:pt x="10641" y="9827"/>
                  <a:pt x="10710" y="9821"/>
                </a:cubicBezTo>
                <a:cubicBezTo>
                  <a:pt x="10753" y="9817"/>
                  <a:pt x="10804" y="9807"/>
                  <a:pt x="10816" y="9842"/>
                </a:cubicBezTo>
                <a:cubicBezTo>
                  <a:pt x="10836" y="9899"/>
                  <a:pt x="10776" y="9930"/>
                  <a:pt x="10753" y="9969"/>
                </a:cubicBezTo>
                <a:cubicBezTo>
                  <a:pt x="10731" y="10006"/>
                  <a:pt x="10692" y="10053"/>
                  <a:pt x="10668" y="10096"/>
                </a:cubicBezTo>
                <a:cubicBezTo>
                  <a:pt x="10646" y="10135"/>
                  <a:pt x="10588" y="10195"/>
                  <a:pt x="10583" y="10223"/>
                </a:cubicBezTo>
                <a:cubicBezTo>
                  <a:pt x="10581" y="10232"/>
                  <a:pt x="10596" y="10171"/>
                  <a:pt x="10647" y="10160"/>
                </a:cubicBezTo>
                <a:cubicBezTo>
                  <a:pt x="10687" y="10152"/>
                  <a:pt x="10719" y="10156"/>
                  <a:pt x="10731" y="10181"/>
                </a:cubicBezTo>
                <a:cubicBezTo>
                  <a:pt x="10754" y="10228"/>
                  <a:pt x="10699" y="10230"/>
                  <a:pt x="10689" y="10245"/>
                </a:cubicBezTo>
                <a:cubicBezTo>
                  <a:pt x="10673" y="10268"/>
                  <a:pt x="10643" y="10279"/>
                  <a:pt x="10668" y="10266"/>
                </a:cubicBezTo>
                <a:cubicBezTo>
                  <a:pt x="10706" y="10246"/>
                  <a:pt x="10742" y="10211"/>
                  <a:pt x="10774" y="10181"/>
                </a:cubicBezTo>
                <a:cubicBezTo>
                  <a:pt x="10804" y="10181"/>
                  <a:pt x="10815" y="10173"/>
                  <a:pt x="10816" y="10139"/>
                </a:cubicBezTo>
                <a:cubicBezTo>
                  <a:pt x="10839" y="10125"/>
                  <a:pt x="10915" y="10135"/>
                  <a:pt x="10901" y="10075"/>
                </a:cubicBezTo>
                <a:cubicBezTo>
                  <a:pt x="10893" y="10038"/>
                  <a:pt x="10824" y="10072"/>
                  <a:pt x="10795" y="10096"/>
                </a:cubicBezTo>
                <a:cubicBezTo>
                  <a:pt x="10743" y="10138"/>
                  <a:pt x="10699" y="10197"/>
                  <a:pt x="10647" y="10245"/>
                </a:cubicBezTo>
                <a:cubicBezTo>
                  <a:pt x="10574" y="10313"/>
                  <a:pt x="10527" y="10325"/>
                  <a:pt x="10456" y="10372"/>
                </a:cubicBezTo>
                <a:cubicBezTo>
                  <a:pt x="10451" y="10375"/>
                  <a:pt x="10397" y="10433"/>
                  <a:pt x="10393" y="10435"/>
                </a:cubicBezTo>
                <a:cubicBezTo>
                  <a:pt x="10369" y="10445"/>
                  <a:pt x="10312" y="10451"/>
                  <a:pt x="10287" y="10456"/>
                </a:cubicBezTo>
                <a:cubicBezTo>
                  <a:pt x="10257" y="10463"/>
                  <a:pt x="10295" y="10446"/>
                  <a:pt x="10266" y="10456"/>
                </a:cubicBezTo>
                <a:cubicBezTo>
                  <a:pt x="10291" y="10438"/>
                  <a:pt x="10305" y="10410"/>
                  <a:pt x="10350" y="10393"/>
                </a:cubicBezTo>
                <a:cubicBezTo>
                  <a:pt x="10407" y="10372"/>
                  <a:pt x="10449" y="10352"/>
                  <a:pt x="10499" y="10329"/>
                </a:cubicBezTo>
                <a:cubicBezTo>
                  <a:pt x="10552" y="10305"/>
                  <a:pt x="10592" y="10283"/>
                  <a:pt x="10647" y="10266"/>
                </a:cubicBezTo>
                <a:cubicBezTo>
                  <a:pt x="10670" y="10259"/>
                  <a:pt x="10757" y="10238"/>
                  <a:pt x="10668" y="10245"/>
                </a:cubicBezTo>
                <a:cubicBezTo>
                  <a:pt x="10639" y="10247"/>
                  <a:pt x="10604" y="10266"/>
                  <a:pt x="10583" y="10287"/>
                </a:cubicBezTo>
                <a:cubicBezTo>
                  <a:pt x="10554" y="10316"/>
                  <a:pt x="10523" y="10341"/>
                  <a:pt x="10499" y="10372"/>
                </a:cubicBezTo>
                <a:cubicBezTo>
                  <a:pt x="10499" y="10379"/>
                  <a:pt x="10499" y="10386"/>
                  <a:pt x="10499" y="10393"/>
                </a:cubicBezTo>
                <a:cubicBezTo>
                  <a:pt x="10469" y="10401"/>
                  <a:pt x="10383" y="10420"/>
                  <a:pt x="10414" y="10414"/>
                </a:cubicBezTo>
                <a:cubicBezTo>
                  <a:pt x="10454" y="10406"/>
                  <a:pt x="10501" y="10403"/>
                  <a:pt x="10541" y="10393"/>
                </a:cubicBezTo>
                <a:cubicBezTo>
                  <a:pt x="10568" y="10386"/>
                  <a:pt x="10577" y="10380"/>
                  <a:pt x="10604" y="10372"/>
                </a:cubicBezTo>
                <a:cubicBezTo>
                  <a:pt x="10562" y="10378"/>
                  <a:pt x="10535" y="10380"/>
                  <a:pt x="10499" y="10393"/>
                </a:cubicBezTo>
                <a:cubicBezTo>
                  <a:pt x="10459" y="10407"/>
                  <a:pt x="10415" y="10435"/>
                  <a:pt x="10372" y="10435"/>
                </a:cubicBezTo>
                <a:cubicBezTo>
                  <a:pt x="10330" y="10435"/>
                  <a:pt x="10324" y="10442"/>
                  <a:pt x="10308" y="10414"/>
                </a:cubicBezTo>
                <a:cubicBezTo>
                  <a:pt x="10279" y="10365"/>
                  <a:pt x="10336" y="10255"/>
                  <a:pt x="10372" y="10223"/>
                </a:cubicBezTo>
                <a:cubicBezTo>
                  <a:pt x="10433" y="10170"/>
                  <a:pt x="10506" y="10132"/>
                  <a:pt x="10562" y="10096"/>
                </a:cubicBezTo>
                <a:cubicBezTo>
                  <a:pt x="10590" y="10078"/>
                  <a:pt x="10696" y="10047"/>
                  <a:pt x="10710" y="10033"/>
                </a:cubicBezTo>
                <a:cubicBezTo>
                  <a:pt x="10771" y="9968"/>
                  <a:pt x="10668" y="9994"/>
                  <a:pt x="10626" y="9991"/>
                </a:cubicBezTo>
                <a:cubicBezTo>
                  <a:pt x="10409" y="9978"/>
                  <a:pt x="10187" y="9991"/>
                  <a:pt x="9969" y="9991"/>
                </a:cubicBezTo>
                <a:cubicBezTo>
                  <a:pt x="10002" y="9971"/>
                  <a:pt x="9970" y="9953"/>
                  <a:pt x="10054" y="9948"/>
                </a:cubicBezTo>
                <a:cubicBezTo>
                  <a:pt x="10089" y="9946"/>
                  <a:pt x="10291" y="9930"/>
                  <a:pt x="10287" y="9969"/>
                </a:cubicBezTo>
                <a:cubicBezTo>
                  <a:pt x="10282" y="10020"/>
                  <a:pt x="10209" y="10079"/>
                  <a:pt x="10181" y="10118"/>
                </a:cubicBezTo>
                <a:cubicBezTo>
                  <a:pt x="10153" y="10157"/>
                  <a:pt x="10143" y="10193"/>
                  <a:pt x="10118" y="10223"/>
                </a:cubicBezTo>
                <a:cubicBezTo>
                  <a:pt x="10094" y="10252"/>
                  <a:pt x="10000" y="10284"/>
                  <a:pt x="10033" y="10266"/>
                </a:cubicBezTo>
                <a:cubicBezTo>
                  <a:pt x="10088" y="10236"/>
                  <a:pt x="10153" y="10226"/>
                  <a:pt x="10202" y="10202"/>
                </a:cubicBezTo>
                <a:cubicBezTo>
                  <a:pt x="10209" y="10195"/>
                  <a:pt x="10216" y="10188"/>
                  <a:pt x="10223" y="10181"/>
                </a:cubicBezTo>
                <a:cubicBezTo>
                  <a:pt x="10217" y="10162"/>
                  <a:pt x="10317" y="10164"/>
                  <a:pt x="10181" y="10160"/>
                </a:cubicBezTo>
                <a:cubicBezTo>
                  <a:pt x="10137" y="10159"/>
                  <a:pt x="9856" y="10175"/>
                  <a:pt x="9864" y="10139"/>
                </a:cubicBezTo>
                <a:cubicBezTo>
                  <a:pt x="9875" y="10086"/>
                  <a:pt x="9946" y="10065"/>
                  <a:pt x="9991" y="10033"/>
                </a:cubicBezTo>
                <a:cubicBezTo>
                  <a:pt x="10037" y="10000"/>
                  <a:pt x="10085" y="9987"/>
                  <a:pt x="10139" y="9969"/>
                </a:cubicBezTo>
                <a:cubicBezTo>
                  <a:pt x="10196" y="9969"/>
                  <a:pt x="10204" y="9928"/>
                  <a:pt x="10202" y="9948"/>
                </a:cubicBezTo>
                <a:cubicBezTo>
                  <a:pt x="10197" y="10006"/>
                  <a:pt x="10127" y="10018"/>
                  <a:pt x="10096" y="10054"/>
                </a:cubicBezTo>
                <a:cubicBezTo>
                  <a:pt x="10058" y="10098"/>
                  <a:pt x="10008" y="10122"/>
                  <a:pt x="10075" y="10118"/>
                </a:cubicBezTo>
                <a:cubicBezTo>
                  <a:pt x="10164" y="10112"/>
                  <a:pt x="10265" y="10137"/>
                  <a:pt x="10329" y="10075"/>
                </a:cubicBezTo>
                <a:cubicBezTo>
                  <a:pt x="10361" y="10044"/>
                  <a:pt x="10266" y="10067"/>
                  <a:pt x="10223" y="10075"/>
                </a:cubicBezTo>
                <a:cubicBezTo>
                  <a:pt x="10162" y="10087"/>
                  <a:pt x="10122" y="10093"/>
                  <a:pt x="10054" y="10096"/>
                </a:cubicBezTo>
                <a:cubicBezTo>
                  <a:pt x="10026" y="10097"/>
                  <a:pt x="9997" y="10096"/>
                  <a:pt x="9969" y="10096"/>
                </a:cubicBezTo>
                <a:cubicBezTo>
                  <a:pt x="9986" y="10091"/>
                  <a:pt x="10052" y="10082"/>
                  <a:pt x="10096" y="10075"/>
                </a:cubicBezTo>
                <a:cubicBezTo>
                  <a:pt x="10143" y="10067"/>
                  <a:pt x="10210" y="10062"/>
                  <a:pt x="10266" y="10054"/>
                </a:cubicBezTo>
                <a:cubicBezTo>
                  <a:pt x="10307" y="10048"/>
                  <a:pt x="10395" y="10011"/>
                  <a:pt x="10435" y="10033"/>
                </a:cubicBezTo>
                <a:cubicBezTo>
                  <a:pt x="10471" y="10053"/>
                  <a:pt x="10451" y="10084"/>
                  <a:pt x="10414" y="10118"/>
                </a:cubicBezTo>
                <a:cubicBezTo>
                  <a:pt x="10366" y="10161"/>
                  <a:pt x="10284" y="10179"/>
                  <a:pt x="10223" y="10202"/>
                </a:cubicBezTo>
                <a:cubicBezTo>
                  <a:pt x="10194" y="10213"/>
                  <a:pt x="10111" y="10209"/>
                  <a:pt x="10139" y="10223"/>
                </a:cubicBezTo>
                <a:cubicBezTo>
                  <a:pt x="10189" y="10248"/>
                  <a:pt x="10316" y="10223"/>
                  <a:pt x="10372" y="10223"/>
                </a:cubicBezTo>
                <a:cubicBezTo>
                  <a:pt x="10400" y="10223"/>
                  <a:pt x="10565" y="10223"/>
                  <a:pt x="10456" y="10223"/>
                </a:cubicBezTo>
                <a:cubicBezTo>
                  <a:pt x="10365" y="10223"/>
                  <a:pt x="10287" y="10224"/>
                  <a:pt x="10202" y="10245"/>
                </a:cubicBezTo>
                <a:cubicBezTo>
                  <a:pt x="10163" y="10255"/>
                  <a:pt x="10132" y="10258"/>
                  <a:pt x="10096" y="10266"/>
                </a:cubicBezTo>
                <a:cubicBezTo>
                  <a:pt x="10089" y="10266"/>
                  <a:pt x="10082" y="10266"/>
                  <a:pt x="10075" y="10266"/>
                </a:cubicBezTo>
                <a:cubicBezTo>
                  <a:pt x="10124" y="10266"/>
                  <a:pt x="10132" y="10266"/>
                  <a:pt x="10181" y="10266"/>
                </a:cubicBezTo>
                <a:cubicBezTo>
                  <a:pt x="10281" y="10266"/>
                  <a:pt x="10417" y="10235"/>
                  <a:pt x="10477" y="10308"/>
                </a:cubicBezTo>
                <a:cubicBezTo>
                  <a:pt x="10490" y="10323"/>
                  <a:pt x="10479" y="10326"/>
                  <a:pt x="10456" y="10350"/>
                </a:cubicBezTo>
                <a:cubicBezTo>
                  <a:pt x="10425" y="10383"/>
                  <a:pt x="10382" y="10394"/>
                  <a:pt x="10350" y="10414"/>
                </a:cubicBezTo>
                <a:cubicBezTo>
                  <a:pt x="10306" y="10441"/>
                  <a:pt x="10289" y="10459"/>
                  <a:pt x="10245" y="10477"/>
                </a:cubicBezTo>
                <a:cubicBezTo>
                  <a:pt x="10208" y="10492"/>
                  <a:pt x="10189" y="10469"/>
                  <a:pt x="10245" y="10477"/>
                </a:cubicBezTo>
                <a:cubicBezTo>
                  <a:pt x="10254" y="10478"/>
                  <a:pt x="10344" y="10477"/>
                  <a:pt x="10287" y="10477"/>
                </a:cubicBezTo>
                <a:cubicBezTo>
                  <a:pt x="10132" y="10477"/>
                  <a:pt x="9995" y="10470"/>
                  <a:pt x="9864" y="10520"/>
                </a:cubicBezTo>
                <a:cubicBezTo>
                  <a:pt x="9835" y="10531"/>
                  <a:pt x="9834" y="10534"/>
                  <a:pt x="9864" y="10541"/>
                </a:cubicBezTo>
                <a:cubicBezTo>
                  <a:pt x="9957" y="10563"/>
                  <a:pt x="10084" y="10541"/>
                  <a:pt x="10181" y="10541"/>
                </a:cubicBezTo>
                <a:cubicBezTo>
                  <a:pt x="10217" y="10541"/>
                  <a:pt x="10403" y="10541"/>
                  <a:pt x="10308" y="10541"/>
                </a:cubicBezTo>
                <a:cubicBezTo>
                  <a:pt x="10301" y="10541"/>
                  <a:pt x="10294" y="10541"/>
                  <a:pt x="10287" y="10541"/>
                </a:cubicBezTo>
                <a:cubicBezTo>
                  <a:pt x="10222" y="10541"/>
                  <a:pt x="10154" y="10544"/>
                  <a:pt x="10118" y="10562"/>
                </a:cubicBezTo>
                <a:cubicBezTo>
                  <a:pt x="10081" y="10580"/>
                  <a:pt x="10133" y="10561"/>
                  <a:pt x="10160" y="10562"/>
                </a:cubicBezTo>
                <a:cubicBezTo>
                  <a:pt x="10203" y="10564"/>
                  <a:pt x="10233" y="10548"/>
                  <a:pt x="10266" y="10541"/>
                </a:cubicBezTo>
                <a:cubicBezTo>
                  <a:pt x="10342" y="10525"/>
                  <a:pt x="10401" y="10526"/>
                  <a:pt x="10477" y="10520"/>
                </a:cubicBezTo>
                <a:cubicBezTo>
                  <a:pt x="10508" y="10518"/>
                  <a:pt x="10485" y="10507"/>
                  <a:pt x="10456" y="10520"/>
                </a:cubicBezTo>
                <a:cubicBezTo>
                  <a:pt x="10420" y="10537"/>
                  <a:pt x="10414" y="10536"/>
                  <a:pt x="10372" y="10541"/>
                </a:cubicBezTo>
                <a:cubicBezTo>
                  <a:pt x="10325" y="10547"/>
                  <a:pt x="10260" y="10559"/>
                  <a:pt x="10223" y="10562"/>
                </a:cubicBezTo>
                <a:cubicBezTo>
                  <a:pt x="10110" y="10572"/>
                  <a:pt x="9967" y="10531"/>
                  <a:pt x="9864" y="10583"/>
                </a:cubicBezTo>
                <a:cubicBezTo>
                  <a:pt x="9839" y="10595"/>
                  <a:pt x="9829" y="10618"/>
                  <a:pt x="9800" y="10647"/>
                </a:cubicBezTo>
                <a:cubicBezTo>
                  <a:pt x="9775" y="10689"/>
                  <a:pt x="9747" y="10666"/>
                  <a:pt x="9758" y="10668"/>
                </a:cubicBezTo>
                <a:cubicBezTo>
                  <a:pt x="9846" y="10682"/>
                  <a:pt x="9928" y="10653"/>
                  <a:pt x="10012" y="10647"/>
                </a:cubicBezTo>
                <a:cubicBezTo>
                  <a:pt x="10139" y="10637"/>
                  <a:pt x="10205" y="10607"/>
                  <a:pt x="10308" y="10562"/>
                </a:cubicBezTo>
                <a:cubicBezTo>
                  <a:pt x="10352" y="10543"/>
                  <a:pt x="10424" y="10524"/>
                  <a:pt x="10435" y="10477"/>
                </a:cubicBezTo>
                <a:cubicBezTo>
                  <a:pt x="10452" y="10402"/>
                  <a:pt x="10375" y="10423"/>
                  <a:pt x="10329" y="10414"/>
                </a:cubicBezTo>
                <a:cubicBezTo>
                  <a:pt x="10270" y="10402"/>
                  <a:pt x="10199" y="10397"/>
                  <a:pt x="10139" y="10393"/>
                </a:cubicBezTo>
                <a:cubicBezTo>
                  <a:pt x="10040" y="10386"/>
                  <a:pt x="9938" y="10379"/>
                  <a:pt x="9842" y="10372"/>
                </a:cubicBezTo>
                <a:cubicBezTo>
                  <a:pt x="9759" y="10366"/>
                  <a:pt x="9787" y="10370"/>
                  <a:pt x="9715" y="10350"/>
                </a:cubicBezTo>
                <a:cubicBezTo>
                  <a:pt x="9691" y="10335"/>
                  <a:pt x="9625" y="10336"/>
                  <a:pt x="9652" y="10329"/>
                </a:cubicBezTo>
                <a:cubicBezTo>
                  <a:pt x="9726" y="10309"/>
                  <a:pt x="9924" y="10366"/>
                  <a:pt x="9864" y="10329"/>
                </a:cubicBezTo>
                <a:cubicBezTo>
                  <a:pt x="9839" y="10305"/>
                  <a:pt x="9828" y="10298"/>
                  <a:pt x="9800" y="10308"/>
                </a:cubicBezTo>
                <a:cubicBezTo>
                  <a:pt x="9736" y="10305"/>
                  <a:pt x="9669" y="10291"/>
                  <a:pt x="9610" y="10287"/>
                </a:cubicBezTo>
                <a:cubicBezTo>
                  <a:pt x="9554" y="10283"/>
                  <a:pt x="9496" y="10290"/>
                  <a:pt x="9440" y="10287"/>
                </a:cubicBezTo>
                <a:cubicBezTo>
                  <a:pt x="9466" y="10259"/>
                  <a:pt x="9437" y="10253"/>
                  <a:pt x="9483" y="10223"/>
                </a:cubicBezTo>
                <a:cubicBezTo>
                  <a:pt x="9533" y="10190"/>
                  <a:pt x="9589" y="10190"/>
                  <a:pt x="9652" y="10181"/>
                </a:cubicBezTo>
                <a:cubicBezTo>
                  <a:pt x="9687" y="10176"/>
                  <a:pt x="9819" y="10165"/>
                  <a:pt x="9842" y="10139"/>
                </a:cubicBezTo>
                <a:cubicBezTo>
                  <a:pt x="9872" y="10106"/>
                  <a:pt x="9746" y="10119"/>
                  <a:pt x="9737" y="10118"/>
                </a:cubicBezTo>
                <a:cubicBezTo>
                  <a:pt x="9728" y="10117"/>
                  <a:pt x="9637" y="10118"/>
                  <a:pt x="9694" y="10118"/>
                </a:cubicBezTo>
                <a:cubicBezTo>
                  <a:pt x="9758" y="10118"/>
                  <a:pt x="9821" y="10118"/>
                  <a:pt x="9885" y="10118"/>
                </a:cubicBezTo>
                <a:cubicBezTo>
                  <a:pt x="9915" y="10118"/>
                  <a:pt x="10115" y="10118"/>
                  <a:pt x="10012" y="10118"/>
                </a:cubicBezTo>
                <a:cubicBezTo>
                  <a:pt x="9970" y="10118"/>
                  <a:pt x="9711" y="10118"/>
                  <a:pt x="9864" y="10118"/>
                </a:cubicBezTo>
                <a:cubicBezTo>
                  <a:pt x="9968" y="10118"/>
                  <a:pt x="10050" y="10148"/>
                  <a:pt x="10139" y="10160"/>
                </a:cubicBezTo>
                <a:cubicBezTo>
                  <a:pt x="10267" y="10178"/>
                  <a:pt x="10299" y="10171"/>
                  <a:pt x="10393" y="10202"/>
                </a:cubicBezTo>
                <a:cubicBezTo>
                  <a:pt x="10507" y="10240"/>
                  <a:pt x="10431" y="10221"/>
                  <a:pt x="10350" y="10223"/>
                </a:cubicBezTo>
                <a:cubicBezTo>
                  <a:pt x="10258" y="10225"/>
                  <a:pt x="10167" y="10223"/>
                  <a:pt x="10075" y="10223"/>
                </a:cubicBezTo>
                <a:cubicBezTo>
                  <a:pt x="10032" y="10223"/>
                  <a:pt x="9948" y="10223"/>
                  <a:pt x="9991" y="10223"/>
                </a:cubicBezTo>
                <a:cubicBezTo>
                  <a:pt x="10068" y="10223"/>
                  <a:pt x="10146" y="10223"/>
                  <a:pt x="10223" y="10223"/>
                </a:cubicBezTo>
                <a:cubicBezTo>
                  <a:pt x="10245" y="10223"/>
                  <a:pt x="10466" y="10223"/>
                  <a:pt x="10350" y="10223"/>
                </a:cubicBezTo>
                <a:cubicBezTo>
                  <a:pt x="10247" y="10223"/>
                  <a:pt x="10155" y="10222"/>
                  <a:pt x="10054" y="10202"/>
                </a:cubicBezTo>
                <a:cubicBezTo>
                  <a:pt x="10035" y="10198"/>
                  <a:pt x="9755" y="10181"/>
                  <a:pt x="9864" y="10181"/>
                </a:cubicBezTo>
                <a:cubicBezTo>
                  <a:pt x="9879" y="10181"/>
                  <a:pt x="10092" y="10203"/>
                  <a:pt x="10075" y="10223"/>
                </a:cubicBezTo>
                <a:cubicBezTo>
                  <a:pt x="10044" y="10259"/>
                  <a:pt x="9911" y="10201"/>
                  <a:pt x="9864" y="10245"/>
                </a:cubicBezTo>
                <a:cubicBezTo>
                  <a:pt x="9829" y="10277"/>
                  <a:pt x="9858" y="10290"/>
                  <a:pt x="9927" y="10308"/>
                </a:cubicBezTo>
                <a:cubicBezTo>
                  <a:pt x="10032" y="10336"/>
                  <a:pt x="10157" y="10307"/>
                  <a:pt x="10266" y="10329"/>
                </a:cubicBezTo>
                <a:cubicBezTo>
                  <a:pt x="10344" y="10348"/>
                  <a:pt x="10366" y="10353"/>
                  <a:pt x="10414" y="10372"/>
                </a:cubicBezTo>
                <a:cubicBezTo>
                  <a:pt x="10365" y="10372"/>
                  <a:pt x="10357" y="10372"/>
                  <a:pt x="10308" y="10372"/>
                </a:cubicBezTo>
                <a:cubicBezTo>
                  <a:pt x="10254" y="10372"/>
                  <a:pt x="10082" y="10372"/>
                  <a:pt x="10096" y="10372"/>
                </a:cubicBezTo>
                <a:cubicBezTo>
                  <a:pt x="10116" y="10372"/>
                  <a:pt x="10221" y="10385"/>
                  <a:pt x="10160" y="10350"/>
                </a:cubicBezTo>
                <a:cubicBezTo>
                  <a:pt x="10078" y="10303"/>
                  <a:pt x="10037" y="10269"/>
                  <a:pt x="9948" y="10202"/>
                </a:cubicBezTo>
                <a:cubicBezTo>
                  <a:pt x="9875" y="10146"/>
                  <a:pt x="9794" y="10151"/>
                  <a:pt x="9715" y="10096"/>
                </a:cubicBezTo>
                <a:cubicBezTo>
                  <a:pt x="9676" y="10069"/>
                  <a:pt x="9662" y="10121"/>
                  <a:pt x="9737" y="10096"/>
                </a:cubicBezTo>
                <a:cubicBezTo>
                  <a:pt x="9770" y="10090"/>
                  <a:pt x="9798" y="10076"/>
                  <a:pt x="9842" y="10075"/>
                </a:cubicBezTo>
                <a:cubicBezTo>
                  <a:pt x="9887" y="10074"/>
                  <a:pt x="9910" y="10068"/>
                  <a:pt x="9927" y="10096"/>
                </a:cubicBezTo>
                <a:cubicBezTo>
                  <a:pt x="9943" y="10123"/>
                  <a:pt x="9932" y="10122"/>
                  <a:pt x="9906" y="10139"/>
                </a:cubicBezTo>
                <a:cubicBezTo>
                  <a:pt x="9883" y="10154"/>
                  <a:pt x="9881" y="10160"/>
                  <a:pt x="9842" y="10160"/>
                </a:cubicBezTo>
                <a:cubicBezTo>
                  <a:pt x="9806" y="10160"/>
                  <a:pt x="9787" y="10141"/>
                  <a:pt x="9779" y="10139"/>
                </a:cubicBezTo>
                <a:cubicBezTo>
                  <a:pt x="9727" y="10124"/>
                  <a:pt x="9740" y="10144"/>
                  <a:pt x="9800" y="10139"/>
                </a:cubicBezTo>
                <a:cubicBezTo>
                  <a:pt x="9842" y="10136"/>
                  <a:pt x="9892" y="10139"/>
                  <a:pt x="9821" y="10139"/>
                </a:cubicBezTo>
                <a:cubicBezTo>
                  <a:pt x="9785" y="10139"/>
                  <a:pt x="9728" y="10158"/>
                  <a:pt x="9758" y="10139"/>
                </a:cubicBezTo>
                <a:cubicBezTo>
                  <a:pt x="9794" y="10116"/>
                  <a:pt x="9799" y="10123"/>
                  <a:pt x="9842" y="10118"/>
                </a:cubicBezTo>
                <a:cubicBezTo>
                  <a:pt x="9863" y="10116"/>
                  <a:pt x="9885" y="10119"/>
                  <a:pt x="9906" y="10118"/>
                </a:cubicBezTo>
              </a:path>
              <a:path w="2245" h="3367">
                <a:moveTo>
                  <a:pt x="9504" y="10139"/>
                </a:moveTo>
                <a:cubicBezTo>
                  <a:pt x="9415" y="10139"/>
                  <a:pt x="8976" y="10102"/>
                  <a:pt x="8953" y="10160"/>
                </a:cubicBezTo>
                <a:cubicBezTo>
                  <a:pt x="8941" y="10189"/>
                  <a:pt x="8937" y="10200"/>
                  <a:pt x="8932" y="10223"/>
                </a:cubicBezTo>
                <a:cubicBezTo>
                  <a:pt x="8927" y="10251"/>
                  <a:pt x="8917" y="10259"/>
                  <a:pt x="8911" y="10287"/>
                </a:cubicBezTo>
                <a:cubicBezTo>
                  <a:pt x="8896" y="10365"/>
                  <a:pt x="8923" y="10475"/>
                  <a:pt x="8932" y="10520"/>
                </a:cubicBezTo>
                <a:cubicBezTo>
                  <a:pt x="8944" y="10581"/>
                  <a:pt x="8917" y="10660"/>
                  <a:pt x="8911" y="10689"/>
                </a:cubicBezTo>
                <a:cubicBezTo>
                  <a:pt x="8903" y="10729"/>
                  <a:pt x="8886" y="10875"/>
                  <a:pt x="8890" y="10901"/>
                </a:cubicBezTo>
                <a:cubicBezTo>
                  <a:pt x="8895" y="10934"/>
                  <a:pt x="8907" y="10919"/>
                  <a:pt x="8911" y="10964"/>
                </a:cubicBezTo>
                <a:cubicBezTo>
                  <a:pt x="8911" y="10971"/>
                  <a:pt x="8911" y="10978"/>
                  <a:pt x="8911" y="10985"/>
                </a:cubicBezTo>
                <a:cubicBezTo>
                  <a:pt x="9047" y="10985"/>
                  <a:pt x="9189" y="10984"/>
                  <a:pt x="9313" y="10964"/>
                </a:cubicBezTo>
                <a:cubicBezTo>
                  <a:pt x="9402" y="10949"/>
                  <a:pt x="9507" y="10975"/>
                  <a:pt x="9567" y="10943"/>
                </a:cubicBezTo>
                <a:cubicBezTo>
                  <a:pt x="9597" y="10927"/>
                  <a:pt x="9626" y="10914"/>
                  <a:pt x="9652" y="10901"/>
                </a:cubicBezTo>
                <a:cubicBezTo>
                  <a:pt x="9633" y="10834"/>
                  <a:pt x="9631" y="10841"/>
                  <a:pt x="9546" y="10837"/>
                </a:cubicBezTo>
                <a:cubicBezTo>
                  <a:pt x="9399" y="10830"/>
                  <a:pt x="9250" y="10837"/>
                  <a:pt x="9102" y="10837"/>
                </a:cubicBezTo>
                <a:cubicBezTo>
                  <a:pt x="9093" y="10837"/>
                  <a:pt x="9002" y="10837"/>
                  <a:pt x="9059" y="10837"/>
                </a:cubicBezTo>
                <a:cubicBezTo>
                  <a:pt x="9145" y="10837"/>
                  <a:pt x="9447" y="10800"/>
                  <a:pt x="9483" y="10858"/>
                </a:cubicBezTo>
                <a:cubicBezTo>
                  <a:pt x="9483" y="10865"/>
                  <a:pt x="9483" y="10873"/>
                  <a:pt x="9483" y="10880"/>
                </a:cubicBezTo>
                <a:cubicBezTo>
                  <a:pt x="9456" y="10897"/>
                  <a:pt x="9456" y="10919"/>
                  <a:pt x="9398" y="10922"/>
                </a:cubicBezTo>
                <a:cubicBezTo>
                  <a:pt x="9339" y="10925"/>
                  <a:pt x="9247" y="10927"/>
                  <a:pt x="9250" y="10922"/>
                </a:cubicBezTo>
                <a:cubicBezTo>
                  <a:pt x="9263" y="10901"/>
                  <a:pt x="9286" y="10905"/>
                  <a:pt x="9229" y="10901"/>
                </a:cubicBezTo>
                <a:cubicBezTo>
                  <a:pt x="9181" y="10898"/>
                  <a:pt x="9139" y="10886"/>
                  <a:pt x="9102" y="10880"/>
                </a:cubicBezTo>
                <a:cubicBezTo>
                  <a:pt x="9070" y="10875"/>
                  <a:pt x="9029" y="10880"/>
                  <a:pt x="8996" y="10880"/>
                </a:cubicBezTo>
                <a:cubicBezTo>
                  <a:pt x="9003" y="10869"/>
                  <a:pt x="9005" y="10840"/>
                  <a:pt x="9017" y="10816"/>
                </a:cubicBezTo>
                <a:cubicBezTo>
                  <a:pt x="9027" y="10796"/>
                  <a:pt x="9042" y="10797"/>
                  <a:pt x="9017" y="10753"/>
                </a:cubicBezTo>
                <a:cubicBezTo>
                  <a:pt x="9002" y="10726"/>
                  <a:pt x="8996" y="10726"/>
                  <a:pt x="8996" y="10668"/>
                </a:cubicBezTo>
                <a:cubicBezTo>
                  <a:pt x="8996" y="10515"/>
                  <a:pt x="8993" y="10322"/>
                  <a:pt x="9017" y="10202"/>
                </a:cubicBezTo>
                <a:cubicBezTo>
                  <a:pt x="9022" y="10178"/>
                  <a:pt x="9021" y="10145"/>
                  <a:pt x="9038" y="10139"/>
                </a:cubicBezTo>
                <a:cubicBezTo>
                  <a:pt x="9224" y="10068"/>
                  <a:pt x="9552" y="10139"/>
                  <a:pt x="9758" y="10139"/>
                </a:cubicBezTo>
                <a:cubicBezTo>
                  <a:pt x="9707" y="10167"/>
                  <a:pt x="9680" y="10217"/>
                  <a:pt x="9652" y="10245"/>
                </a:cubicBezTo>
                <a:cubicBezTo>
                  <a:pt x="9604" y="10294"/>
                  <a:pt x="9527" y="10315"/>
                  <a:pt x="9483" y="10372"/>
                </a:cubicBezTo>
                <a:cubicBezTo>
                  <a:pt x="9446" y="10420"/>
                  <a:pt x="9395" y="10464"/>
                  <a:pt x="9334" y="10477"/>
                </a:cubicBezTo>
                <a:cubicBezTo>
                  <a:pt x="9319" y="10480"/>
                  <a:pt x="9176" y="10477"/>
                  <a:pt x="9229" y="10477"/>
                </a:cubicBezTo>
                <a:cubicBezTo>
                  <a:pt x="9250" y="10477"/>
                  <a:pt x="9271" y="10477"/>
                  <a:pt x="9292" y="10477"/>
                </a:cubicBezTo>
                <a:cubicBezTo>
                  <a:pt x="9380" y="10477"/>
                  <a:pt x="9628" y="10522"/>
                  <a:pt x="9694" y="10456"/>
                </a:cubicBezTo>
                <a:cubicBezTo>
                  <a:pt x="9719" y="10431"/>
                  <a:pt x="9689" y="10462"/>
                  <a:pt x="9652" y="10456"/>
                </a:cubicBezTo>
                <a:cubicBezTo>
                  <a:pt x="9583" y="10456"/>
                  <a:pt x="9524" y="10450"/>
                  <a:pt x="9461" y="10477"/>
                </a:cubicBezTo>
                <a:cubicBezTo>
                  <a:pt x="9435" y="10488"/>
                  <a:pt x="9356" y="10555"/>
                  <a:pt x="9356" y="10499"/>
                </a:cubicBezTo>
                <a:cubicBezTo>
                  <a:pt x="9363" y="10499"/>
                  <a:pt x="9370" y="10499"/>
                  <a:pt x="9377" y="10499"/>
                </a:cubicBezTo>
                <a:cubicBezTo>
                  <a:pt x="9406" y="10473"/>
                  <a:pt x="9472" y="10407"/>
                  <a:pt x="9525" y="10393"/>
                </a:cubicBezTo>
                <a:cubicBezTo>
                  <a:pt x="9596" y="10374"/>
                  <a:pt x="9662" y="10344"/>
                  <a:pt x="9737" y="10329"/>
                </a:cubicBezTo>
                <a:cubicBezTo>
                  <a:pt x="9773" y="10322"/>
                  <a:pt x="9793" y="10339"/>
                  <a:pt x="9821" y="10350"/>
                </a:cubicBezTo>
                <a:cubicBezTo>
                  <a:pt x="9754" y="10365"/>
                  <a:pt x="9731" y="10394"/>
                  <a:pt x="9673" y="10456"/>
                </a:cubicBezTo>
                <a:cubicBezTo>
                  <a:pt x="9623" y="10509"/>
                  <a:pt x="9540" y="10591"/>
                  <a:pt x="9504" y="10647"/>
                </a:cubicBezTo>
                <a:cubicBezTo>
                  <a:pt x="9465" y="10707"/>
                  <a:pt x="9384" y="10724"/>
                  <a:pt x="9377" y="10795"/>
                </a:cubicBezTo>
                <a:cubicBezTo>
                  <a:pt x="9377" y="10823"/>
                  <a:pt x="9384" y="10830"/>
                  <a:pt x="9419" y="10816"/>
                </a:cubicBezTo>
                <a:cubicBezTo>
                  <a:pt x="9488" y="10790"/>
                  <a:pt x="9561" y="10755"/>
                  <a:pt x="9631" y="10731"/>
                </a:cubicBezTo>
                <a:cubicBezTo>
                  <a:pt x="9682" y="10714"/>
                  <a:pt x="9708" y="10662"/>
                  <a:pt x="9737" y="10647"/>
                </a:cubicBezTo>
                <a:cubicBezTo>
                  <a:pt x="9809" y="10609"/>
                  <a:pt x="9770" y="10662"/>
                  <a:pt x="9758" y="10626"/>
                </a:cubicBezTo>
                <a:cubicBezTo>
                  <a:pt x="9708" y="10626"/>
                  <a:pt x="9671" y="10619"/>
                  <a:pt x="9631" y="10647"/>
                </a:cubicBezTo>
                <a:cubicBezTo>
                  <a:pt x="9593" y="10674"/>
                  <a:pt x="9545" y="10746"/>
                  <a:pt x="9588" y="10668"/>
                </a:cubicBezTo>
                <a:cubicBezTo>
                  <a:pt x="9625" y="10601"/>
                  <a:pt x="9670" y="10539"/>
                  <a:pt x="9715" y="10477"/>
                </a:cubicBezTo>
                <a:cubicBezTo>
                  <a:pt x="9773" y="10397"/>
                  <a:pt x="9803" y="10354"/>
                  <a:pt x="9842" y="10266"/>
                </a:cubicBezTo>
                <a:cubicBezTo>
                  <a:pt x="9876" y="10140"/>
                  <a:pt x="9811" y="10303"/>
                  <a:pt x="9800" y="10329"/>
                </a:cubicBezTo>
                <a:cubicBezTo>
                  <a:pt x="9769" y="10401"/>
                  <a:pt x="9719" y="10468"/>
                  <a:pt x="9694" y="10541"/>
                </a:cubicBezTo>
                <a:cubicBezTo>
                  <a:pt x="9677" y="10589"/>
                  <a:pt x="9581" y="10680"/>
                  <a:pt x="9631" y="10668"/>
                </a:cubicBezTo>
                <a:cubicBezTo>
                  <a:pt x="9672" y="10658"/>
                  <a:pt x="9737" y="10564"/>
                  <a:pt x="9779" y="10541"/>
                </a:cubicBezTo>
                <a:cubicBezTo>
                  <a:pt x="9828" y="10514"/>
                  <a:pt x="9835" y="10500"/>
                  <a:pt x="9885" y="10477"/>
                </a:cubicBezTo>
                <a:cubicBezTo>
                  <a:pt x="9853" y="10493"/>
                  <a:pt x="9785" y="10512"/>
                  <a:pt x="9758" y="10541"/>
                </a:cubicBezTo>
                <a:cubicBezTo>
                  <a:pt x="9719" y="10583"/>
                  <a:pt x="9672" y="10614"/>
                  <a:pt x="9631" y="10647"/>
                </a:cubicBezTo>
                <a:cubicBezTo>
                  <a:pt x="9617" y="10661"/>
                  <a:pt x="9602" y="10675"/>
                  <a:pt x="9588" y="10689"/>
                </a:cubicBezTo>
                <a:cubicBezTo>
                  <a:pt x="9596" y="10630"/>
                  <a:pt x="9601" y="10613"/>
                  <a:pt x="9652" y="10583"/>
                </a:cubicBezTo>
                <a:cubicBezTo>
                  <a:pt x="9703" y="10553"/>
                  <a:pt x="9735" y="10519"/>
                  <a:pt x="9779" y="10477"/>
                </a:cubicBezTo>
                <a:cubicBezTo>
                  <a:pt x="9818" y="10440"/>
                  <a:pt x="9869" y="10424"/>
                  <a:pt x="9800" y="10414"/>
                </a:cubicBezTo>
                <a:cubicBezTo>
                  <a:pt x="9740" y="10405"/>
                  <a:pt x="9671" y="10414"/>
                  <a:pt x="9610" y="10414"/>
                </a:cubicBezTo>
                <a:cubicBezTo>
                  <a:pt x="9628" y="10386"/>
                  <a:pt x="9641" y="10355"/>
                  <a:pt x="9673" y="10329"/>
                </a:cubicBezTo>
                <a:cubicBezTo>
                  <a:pt x="9684" y="10320"/>
                  <a:pt x="9797" y="10273"/>
                  <a:pt x="9779" y="10245"/>
                </a:cubicBezTo>
                <a:cubicBezTo>
                  <a:pt x="9759" y="10214"/>
                  <a:pt x="9678" y="10261"/>
                  <a:pt x="9715" y="10266"/>
                </a:cubicBezTo>
                <a:cubicBezTo>
                  <a:pt x="9760" y="10272"/>
                  <a:pt x="9761" y="10260"/>
                  <a:pt x="9779" y="10245"/>
                </a:cubicBezTo>
                <a:cubicBezTo>
                  <a:pt x="9817" y="10213"/>
                  <a:pt x="9786" y="10225"/>
                  <a:pt x="9737" y="10223"/>
                </a:cubicBezTo>
                <a:cubicBezTo>
                  <a:pt x="9645" y="10219"/>
                  <a:pt x="9553" y="10223"/>
                  <a:pt x="9461" y="10223"/>
                </a:cubicBezTo>
                <a:cubicBezTo>
                  <a:pt x="9447" y="10223"/>
                  <a:pt x="9433" y="10223"/>
                  <a:pt x="9419" y="10223"/>
                </a:cubicBezTo>
                <a:cubicBezTo>
                  <a:pt x="9461" y="10223"/>
                  <a:pt x="9462" y="10223"/>
                  <a:pt x="9504" y="10223"/>
                </a:cubicBezTo>
                <a:cubicBezTo>
                  <a:pt x="9514" y="10223"/>
                  <a:pt x="9602" y="10223"/>
                  <a:pt x="9546" y="10223"/>
                </a:cubicBezTo>
                <a:cubicBezTo>
                  <a:pt x="9447" y="10223"/>
                  <a:pt x="9391" y="10223"/>
                  <a:pt x="9292" y="10223"/>
                </a:cubicBezTo>
                <a:cubicBezTo>
                  <a:pt x="9260" y="10223"/>
                  <a:pt x="9231" y="10230"/>
                  <a:pt x="9207" y="10245"/>
                </a:cubicBezTo>
                <a:cubicBezTo>
                  <a:pt x="9204" y="10247"/>
                  <a:pt x="9145" y="10264"/>
                  <a:pt x="9144" y="10266"/>
                </a:cubicBezTo>
                <a:cubicBezTo>
                  <a:pt x="9122" y="10301"/>
                  <a:pt x="9144" y="10450"/>
                  <a:pt x="9165" y="10456"/>
                </a:cubicBezTo>
                <a:cubicBezTo>
                  <a:pt x="9217" y="10470"/>
                  <a:pt x="9247" y="10442"/>
                  <a:pt x="9292" y="10435"/>
                </a:cubicBezTo>
                <a:cubicBezTo>
                  <a:pt x="9341" y="10427"/>
                  <a:pt x="9325" y="10441"/>
                  <a:pt x="9334" y="10393"/>
                </a:cubicBezTo>
                <a:cubicBezTo>
                  <a:pt x="9334" y="10386"/>
                  <a:pt x="9334" y="10379"/>
                  <a:pt x="9334" y="10372"/>
                </a:cubicBezTo>
                <a:cubicBezTo>
                  <a:pt x="9316" y="10357"/>
                  <a:pt x="9311" y="10338"/>
                  <a:pt x="9271" y="10329"/>
                </a:cubicBezTo>
                <a:cubicBezTo>
                  <a:pt x="9238" y="10321"/>
                  <a:pt x="9208" y="10327"/>
                  <a:pt x="9186" y="10350"/>
                </a:cubicBezTo>
                <a:cubicBezTo>
                  <a:pt x="9157" y="10380"/>
                  <a:pt x="9168" y="10397"/>
                  <a:pt x="9165" y="10435"/>
                </a:cubicBezTo>
                <a:cubicBezTo>
                  <a:pt x="9165" y="10442"/>
                  <a:pt x="9165" y="10449"/>
                  <a:pt x="9165" y="10456"/>
                </a:cubicBezTo>
                <a:cubicBezTo>
                  <a:pt x="9208" y="10456"/>
                  <a:pt x="9231" y="10446"/>
                  <a:pt x="9250" y="10435"/>
                </a:cubicBezTo>
                <a:cubicBezTo>
                  <a:pt x="9274" y="10421"/>
                  <a:pt x="9283" y="10410"/>
                  <a:pt x="9292" y="10372"/>
                </a:cubicBezTo>
                <a:cubicBezTo>
                  <a:pt x="9298" y="10348"/>
                  <a:pt x="9284" y="10300"/>
                  <a:pt x="9271" y="10287"/>
                </a:cubicBezTo>
                <a:cubicBezTo>
                  <a:pt x="9249" y="10265"/>
                  <a:pt x="9256" y="10239"/>
                  <a:pt x="9229" y="10223"/>
                </a:cubicBezTo>
                <a:cubicBezTo>
                  <a:pt x="9193" y="10202"/>
                  <a:pt x="9173" y="10240"/>
                  <a:pt x="9165" y="10245"/>
                </a:cubicBezTo>
                <a:cubicBezTo>
                  <a:pt x="9150" y="10284"/>
                  <a:pt x="9146" y="10301"/>
                  <a:pt x="9144" y="10350"/>
                </a:cubicBezTo>
                <a:cubicBezTo>
                  <a:pt x="9142" y="10389"/>
                  <a:pt x="9135" y="10402"/>
                  <a:pt x="9165" y="10414"/>
                </a:cubicBezTo>
                <a:cubicBezTo>
                  <a:pt x="9217" y="10434"/>
                  <a:pt x="9293" y="10410"/>
                  <a:pt x="9334" y="10393"/>
                </a:cubicBezTo>
                <a:cubicBezTo>
                  <a:pt x="9365" y="10380"/>
                  <a:pt x="9401" y="10352"/>
                  <a:pt x="9377" y="10308"/>
                </a:cubicBezTo>
                <a:cubicBezTo>
                  <a:pt x="9362" y="10281"/>
                  <a:pt x="9312" y="10234"/>
                  <a:pt x="9271" y="10223"/>
                </a:cubicBezTo>
                <a:cubicBezTo>
                  <a:pt x="9241" y="10215"/>
                  <a:pt x="9150" y="10196"/>
                  <a:pt x="9123" y="10202"/>
                </a:cubicBezTo>
                <a:cubicBezTo>
                  <a:pt x="9083" y="10210"/>
                  <a:pt x="9070" y="10228"/>
                  <a:pt x="9059" y="10266"/>
                </a:cubicBezTo>
                <a:cubicBezTo>
                  <a:pt x="9049" y="10299"/>
                  <a:pt x="9054" y="10389"/>
                  <a:pt x="9080" y="10414"/>
                </a:cubicBezTo>
                <a:cubicBezTo>
                  <a:pt x="9087" y="10414"/>
                  <a:pt x="9095" y="10414"/>
                  <a:pt x="9102" y="10414"/>
                </a:cubicBezTo>
                <a:cubicBezTo>
                  <a:pt x="9151" y="10377"/>
                  <a:pt x="9126" y="10416"/>
                  <a:pt x="9123" y="10372"/>
                </a:cubicBezTo>
                <a:cubicBezTo>
                  <a:pt x="9119" y="10321"/>
                  <a:pt x="9127" y="10338"/>
                  <a:pt x="9080" y="10329"/>
                </a:cubicBezTo>
                <a:cubicBezTo>
                  <a:pt x="9073" y="10329"/>
                  <a:pt x="9066" y="10329"/>
                  <a:pt x="9059" y="10329"/>
                </a:cubicBezTo>
                <a:cubicBezTo>
                  <a:pt x="9052" y="10383"/>
                  <a:pt x="9041" y="10357"/>
                  <a:pt x="9038" y="10414"/>
                </a:cubicBezTo>
                <a:cubicBezTo>
                  <a:pt x="9034" y="10474"/>
                  <a:pt x="9038" y="10438"/>
                  <a:pt x="9080" y="10435"/>
                </a:cubicBezTo>
                <a:cubicBezTo>
                  <a:pt x="9138" y="10431"/>
                  <a:pt x="9175" y="10437"/>
                  <a:pt x="9207" y="10414"/>
                </a:cubicBezTo>
                <a:cubicBezTo>
                  <a:pt x="9214" y="10409"/>
                  <a:pt x="9281" y="10341"/>
                  <a:pt x="9250" y="10329"/>
                </a:cubicBezTo>
                <a:cubicBezTo>
                  <a:pt x="9215" y="10316"/>
                  <a:pt x="9200" y="10374"/>
                  <a:pt x="9186" y="10393"/>
                </a:cubicBezTo>
                <a:cubicBezTo>
                  <a:pt x="9186" y="10434"/>
                  <a:pt x="9174" y="10465"/>
                  <a:pt x="9207" y="10477"/>
                </a:cubicBezTo>
                <a:cubicBezTo>
                  <a:pt x="9246" y="10492"/>
                  <a:pt x="9377" y="10490"/>
                  <a:pt x="9398" y="10456"/>
                </a:cubicBezTo>
                <a:cubicBezTo>
                  <a:pt x="9404" y="10446"/>
                  <a:pt x="9398" y="10378"/>
                  <a:pt x="9398" y="10372"/>
                </a:cubicBezTo>
                <a:cubicBezTo>
                  <a:pt x="9357" y="10372"/>
                  <a:pt x="9322" y="10352"/>
                  <a:pt x="9313" y="10350"/>
                </a:cubicBezTo>
                <a:cubicBezTo>
                  <a:pt x="9266" y="10341"/>
                  <a:pt x="9248" y="10356"/>
                  <a:pt x="9229" y="10372"/>
                </a:cubicBezTo>
                <a:cubicBezTo>
                  <a:pt x="9184" y="10411"/>
                  <a:pt x="9189" y="10420"/>
                  <a:pt x="9186" y="10477"/>
                </a:cubicBezTo>
                <a:cubicBezTo>
                  <a:pt x="9183" y="10525"/>
                  <a:pt x="9186" y="10516"/>
                  <a:pt x="9229" y="10520"/>
                </a:cubicBezTo>
                <a:cubicBezTo>
                  <a:pt x="9288" y="10526"/>
                  <a:pt x="9348" y="10512"/>
                  <a:pt x="9377" y="10499"/>
                </a:cubicBezTo>
                <a:cubicBezTo>
                  <a:pt x="9404" y="10487"/>
                  <a:pt x="9416" y="10481"/>
                  <a:pt x="9440" y="10456"/>
                </a:cubicBezTo>
                <a:cubicBezTo>
                  <a:pt x="9395" y="10450"/>
                  <a:pt x="9378" y="10437"/>
                  <a:pt x="9334" y="10435"/>
                </a:cubicBezTo>
                <a:cubicBezTo>
                  <a:pt x="9279" y="10432"/>
                  <a:pt x="9282" y="10456"/>
                  <a:pt x="9250" y="10499"/>
                </a:cubicBezTo>
                <a:cubicBezTo>
                  <a:pt x="9236" y="10517"/>
                  <a:pt x="9212" y="10534"/>
                  <a:pt x="9250" y="10541"/>
                </a:cubicBezTo>
                <a:cubicBezTo>
                  <a:pt x="9341" y="10558"/>
                  <a:pt x="9453" y="10541"/>
                  <a:pt x="9546" y="10541"/>
                </a:cubicBezTo>
                <a:cubicBezTo>
                  <a:pt x="9531" y="10495"/>
                  <a:pt x="9558" y="10506"/>
                  <a:pt x="9504" y="10499"/>
                </a:cubicBezTo>
                <a:cubicBezTo>
                  <a:pt x="9454" y="10493"/>
                  <a:pt x="9397" y="10493"/>
                  <a:pt x="9377" y="10520"/>
                </a:cubicBezTo>
                <a:cubicBezTo>
                  <a:pt x="9343" y="10565"/>
                  <a:pt x="9339" y="10555"/>
                  <a:pt x="9334" y="10604"/>
                </a:cubicBezTo>
                <a:cubicBezTo>
                  <a:pt x="9330" y="10640"/>
                  <a:pt x="9318" y="10656"/>
                  <a:pt x="9313" y="10689"/>
                </a:cubicBezTo>
                <a:cubicBezTo>
                  <a:pt x="9308" y="10717"/>
                  <a:pt x="9302" y="10753"/>
                  <a:pt x="9334" y="10753"/>
                </a:cubicBezTo>
                <a:cubicBezTo>
                  <a:pt x="9354" y="10733"/>
                  <a:pt x="9358" y="10726"/>
                  <a:pt x="9377" y="10731"/>
                </a:cubicBezTo>
                <a:cubicBezTo>
                  <a:pt x="9400" y="10702"/>
                  <a:pt x="9434" y="10704"/>
                  <a:pt x="9440" y="10668"/>
                </a:cubicBezTo>
                <a:cubicBezTo>
                  <a:pt x="9444" y="10642"/>
                  <a:pt x="9392" y="10628"/>
                  <a:pt x="9356" y="10626"/>
                </a:cubicBezTo>
                <a:cubicBezTo>
                  <a:pt x="9332" y="10625"/>
                  <a:pt x="9283" y="10636"/>
                  <a:pt x="9271" y="10647"/>
                </a:cubicBezTo>
                <a:cubicBezTo>
                  <a:pt x="9230" y="10685"/>
                  <a:pt x="9249" y="10696"/>
                  <a:pt x="9207" y="10731"/>
                </a:cubicBezTo>
                <a:cubicBezTo>
                  <a:pt x="9236" y="10723"/>
                  <a:pt x="9286" y="10722"/>
                  <a:pt x="9313" y="10710"/>
                </a:cubicBezTo>
                <a:cubicBezTo>
                  <a:pt x="9354" y="10691"/>
                  <a:pt x="9328" y="10684"/>
                  <a:pt x="9313" y="10647"/>
                </a:cubicBezTo>
                <a:cubicBezTo>
                  <a:pt x="9287" y="10583"/>
                  <a:pt x="9229" y="10554"/>
                  <a:pt x="9165" y="10541"/>
                </a:cubicBezTo>
                <a:cubicBezTo>
                  <a:pt x="9110" y="10529"/>
                  <a:pt x="9107" y="10559"/>
                  <a:pt x="9102" y="10604"/>
                </a:cubicBezTo>
                <a:cubicBezTo>
                  <a:pt x="9102" y="10626"/>
                  <a:pt x="9102" y="10633"/>
                  <a:pt x="9102" y="10647"/>
                </a:cubicBezTo>
                <a:cubicBezTo>
                  <a:pt x="9115" y="10655"/>
                  <a:pt x="9124" y="10682"/>
                  <a:pt x="9165" y="10668"/>
                </a:cubicBezTo>
                <a:cubicBezTo>
                  <a:pt x="9182" y="10662"/>
                  <a:pt x="9201" y="10630"/>
                  <a:pt x="9207" y="10604"/>
                </a:cubicBezTo>
                <a:cubicBezTo>
                  <a:pt x="9222" y="10541"/>
                  <a:pt x="9191" y="10565"/>
                  <a:pt x="9186" y="10562"/>
                </a:cubicBezTo>
                <a:cubicBezTo>
                  <a:pt x="9186" y="10619"/>
                  <a:pt x="9172" y="10658"/>
                  <a:pt x="9165" y="10710"/>
                </a:cubicBezTo>
                <a:cubicBezTo>
                  <a:pt x="9163" y="10728"/>
                  <a:pt x="9181" y="10821"/>
                  <a:pt x="9123" y="10795"/>
                </a:cubicBezTo>
                <a:cubicBezTo>
                  <a:pt x="9095" y="10782"/>
                  <a:pt x="9123" y="10687"/>
                  <a:pt x="9102" y="10710"/>
                </a:cubicBezTo>
                <a:cubicBezTo>
                  <a:pt x="9074" y="10742"/>
                  <a:pt x="9085" y="10755"/>
                  <a:pt x="9080" y="10795"/>
                </a:cubicBezTo>
                <a:cubicBezTo>
                  <a:pt x="9080" y="10830"/>
                  <a:pt x="9063" y="10901"/>
                  <a:pt x="9102" y="10901"/>
                </a:cubicBezTo>
                <a:cubicBezTo>
                  <a:pt x="9161" y="10901"/>
                  <a:pt x="9163" y="10848"/>
                  <a:pt x="9186" y="10837"/>
                </a:cubicBezTo>
                <a:cubicBezTo>
                  <a:pt x="9222" y="10820"/>
                  <a:pt x="9237" y="10821"/>
                  <a:pt x="9271" y="10795"/>
                </a:cubicBezTo>
                <a:cubicBezTo>
                  <a:pt x="9304" y="10769"/>
                  <a:pt x="9306" y="10740"/>
                  <a:pt x="9334" y="10731"/>
                </a:cubicBezTo>
                <a:cubicBezTo>
                  <a:pt x="9434" y="10697"/>
                  <a:pt x="9556" y="10752"/>
                  <a:pt x="9652" y="10710"/>
                </a:cubicBezTo>
                <a:cubicBezTo>
                  <a:pt x="9678" y="10698"/>
                  <a:pt x="9759" y="10669"/>
                  <a:pt x="9779" y="10647"/>
                </a:cubicBezTo>
                <a:cubicBezTo>
                  <a:pt x="9817" y="10606"/>
                  <a:pt x="9838" y="10601"/>
                  <a:pt x="9885" y="10562"/>
                </a:cubicBezTo>
                <a:cubicBezTo>
                  <a:pt x="9892" y="10555"/>
                  <a:pt x="9899" y="10548"/>
                  <a:pt x="9906" y="10541"/>
                </a:cubicBezTo>
                <a:cubicBezTo>
                  <a:pt x="9702" y="10541"/>
                  <a:pt x="9374" y="10544"/>
                  <a:pt x="9250" y="10520"/>
                </a:cubicBezTo>
                <a:cubicBezTo>
                  <a:pt x="9224" y="10515"/>
                  <a:pt x="9192" y="10520"/>
                  <a:pt x="9165" y="10520"/>
                </a:cubicBezTo>
                <a:cubicBezTo>
                  <a:pt x="9091" y="10520"/>
                  <a:pt x="9156" y="10504"/>
                  <a:pt x="9186" y="10499"/>
                </a:cubicBezTo>
                <a:cubicBezTo>
                  <a:pt x="9252" y="10487"/>
                  <a:pt x="9331" y="10480"/>
                  <a:pt x="9398" y="10477"/>
                </a:cubicBezTo>
                <a:cubicBezTo>
                  <a:pt x="9492" y="10473"/>
                  <a:pt x="9582" y="10473"/>
                  <a:pt x="9673" y="10456"/>
                </a:cubicBezTo>
                <a:cubicBezTo>
                  <a:pt x="9749" y="10442"/>
                  <a:pt x="9904" y="10426"/>
                  <a:pt x="9969" y="10393"/>
                </a:cubicBezTo>
                <a:cubicBezTo>
                  <a:pt x="10051" y="10351"/>
                  <a:pt x="10057" y="10329"/>
                  <a:pt x="10160" y="10329"/>
                </a:cubicBezTo>
                <a:cubicBezTo>
                  <a:pt x="10163" y="10329"/>
                  <a:pt x="10145" y="10328"/>
                  <a:pt x="10160" y="10287"/>
                </a:cubicBezTo>
                <a:cubicBezTo>
                  <a:pt x="10179" y="10237"/>
                  <a:pt x="10231" y="10227"/>
                  <a:pt x="10266" y="10181"/>
                </a:cubicBezTo>
                <a:cubicBezTo>
                  <a:pt x="10296" y="10141"/>
                  <a:pt x="10281" y="10145"/>
                  <a:pt x="10329" y="10139"/>
                </a:cubicBezTo>
                <a:cubicBezTo>
                  <a:pt x="10372" y="10134"/>
                  <a:pt x="10377" y="10135"/>
                  <a:pt x="10414" y="10118"/>
                </a:cubicBezTo>
                <a:cubicBezTo>
                  <a:pt x="10453" y="10100"/>
                  <a:pt x="10501" y="10047"/>
                  <a:pt x="10541" y="10033"/>
                </a:cubicBezTo>
                <a:cubicBezTo>
                  <a:pt x="10576" y="10026"/>
                  <a:pt x="10612" y="10019"/>
                  <a:pt x="10647" y="100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Ink 13"/>
          <p:cNvSpPr/>
          <p:nvPr/>
        </p:nvSpPr>
        <p:spPr>
          <a:xfrm>
            <a:off x="3497400" y="4152960"/>
            <a:ext cx="976320" cy="312840"/>
          </a:xfrm>
          <a:custGeom>
            <a:avLst/>
            <a:gdLst/>
            <a:ahLst/>
            <a:rect l="l" t="t" r="r" b="b"/>
            <a:pathLst>
              <a:path w="2711" h="869">
                <a:moveTo>
                  <a:pt x="10922" y="11557"/>
                </a:moveTo>
                <a:cubicBezTo>
                  <a:pt x="10907" y="11586"/>
                  <a:pt x="10922" y="11601"/>
                  <a:pt x="10901" y="11620"/>
                </a:cubicBezTo>
                <a:cubicBezTo>
                  <a:pt x="10880" y="11639"/>
                  <a:pt x="10885" y="11653"/>
                  <a:pt x="10858" y="11663"/>
                </a:cubicBezTo>
                <a:cubicBezTo>
                  <a:pt x="10823" y="11675"/>
                  <a:pt x="10805" y="11662"/>
                  <a:pt x="10795" y="11642"/>
                </a:cubicBezTo>
                <a:cubicBezTo>
                  <a:pt x="10778" y="11605"/>
                  <a:pt x="10813" y="11585"/>
                  <a:pt x="10816" y="11578"/>
                </a:cubicBezTo>
                <a:cubicBezTo>
                  <a:pt x="10817" y="11576"/>
                  <a:pt x="10870" y="11532"/>
                  <a:pt x="10837" y="11557"/>
                </a:cubicBezTo>
                <a:cubicBezTo>
                  <a:pt x="10804" y="11582"/>
                  <a:pt x="10803" y="11611"/>
                  <a:pt x="10774" y="11620"/>
                </a:cubicBezTo>
                <a:cubicBezTo>
                  <a:pt x="10742" y="11630"/>
                  <a:pt x="10724" y="11635"/>
                  <a:pt x="10710" y="11642"/>
                </a:cubicBezTo>
                <a:cubicBezTo>
                  <a:pt x="10685" y="11654"/>
                  <a:pt x="10677" y="11648"/>
                  <a:pt x="10647" y="11663"/>
                </a:cubicBezTo>
                <a:cubicBezTo>
                  <a:pt x="10620" y="11676"/>
                  <a:pt x="10605" y="11677"/>
                  <a:pt x="10583" y="11684"/>
                </a:cubicBezTo>
                <a:cubicBezTo>
                  <a:pt x="10553" y="11694"/>
                  <a:pt x="10527" y="11693"/>
                  <a:pt x="10499" y="11705"/>
                </a:cubicBezTo>
                <a:cubicBezTo>
                  <a:pt x="10484" y="11711"/>
                  <a:pt x="10474" y="11723"/>
                  <a:pt x="10435" y="11726"/>
                </a:cubicBezTo>
                <a:cubicBezTo>
                  <a:pt x="10357" y="11732"/>
                  <a:pt x="10291" y="11722"/>
                  <a:pt x="10223" y="11747"/>
                </a:cubicBezTo>
                <a:cubicBezTo>
                  <a:pt x="10192" y="11759"/>
                  <a:pt x="10202" y="11774"/>
                  <a:pt x="10181" y="11790"/>
                </a:cubicBezTo>
                <a:cubicBezTo>
                  <a:pt x="10152" y="11812"/>
                  <a:pt x="10152" y="11800"/>
                  <a:pt x="10118" y="11832"/>
                </a:cubicBezTo>
                <a:cubicBezTo>
                  <a:pt x="10085" y="11863"/>
                  <a:pt x="10095" y="11873"/>
                  <a:pt x="10054" y="11896"/>
                </a:cubicBezTo>
                <a:cubicBezTo>
                  <a:pt x="10028" y="11911"/>
                  <a:pt x="9967" y="11904"/>
                  <a:pt x="9948" y="11917"/>
                </a:cubicBezTo>
                <a:cubicBezTo>
                  <a:pt x="9931" y="11929"/>
                  <a:pt x="9935" y="11961"/>
                  <a:pt x="9906" y="11980"/>
                </a:cubicBezTo>
                <a:cubicBezTo>
                  <a:pt x="9881" y="11996"/>
                  <a:pt x="9876" y="12016"/>
                  <a:pt x="9885" y="12001"/>
                </a:cubicBezTo>
                <a:cubicBezTo>
                  <a:pt x="9896" y="11982"/>
                  <a:pt x="9913" y="11913"/>
                  <a:pt x="9948" y="11896"/>
                </a:cubicBezTo>
                <a:cubicBezTo>
                  <a:pt x="9984" y="11878"/>
                  <a:pt x="10059" y="11888"/>
                  <a:pt x="10096" y="11874"/>
                </a:cubicBezTo>
                <a:cubicBezTo>
                  <a:pt x="10123" y="11864"/>
                  <a:pt x="10101" y="11876"/>
                  <a:pt x="10118" y="11853"/>
                </a:cubicBezTo>
                <a:cubicBezTo>
                  <a:pt x="10051" y="11853"/>
                  <a:pt x="9986" y="11858"/>
                  <a:pt x="9948" y="11874"/>
                </a:cubicBezTo>
                <a:cubicBezTo>
                  <a:pt x="9920" y="11886"/>
                  <a:pt x="9933" y="11882"/>
                  <a:pt x="9906" y="11896"/>
                </a:cubicBezTo>
                <a:cubicBezTo>
                  <a:pt x="9901" y="11948"/>
                  <a:pt x="9900" y="11974"/>
                  <a:pt x="9885" y="12001"/>
                </a:cubicBezTo>
                <a:cubicBezTo>
                  <a:pt x="9865" y="12036"/>
                  <a:pt x="9850" y="12041"/>
                  <a:pt x="9885" y="12023"/>
                </a:cubicBezTo>
                <a:cubicBezTo>
                  <a:pt x="9915" y="12008"/>
                  <a:pt x="9965" y="11988"/>
                  <a:pt x="9991" y="12023"/>
                </a:cubicBezTo>
                <a:cubicBezTo>
                  <a:pt x="10008" y="12045"/>
                  <a:pt x="9998" y="12062"/>
                  <a:pt x="10012" y="12086"/>
                </a:cubicBezTo>
                <a:cubicBezTo>
                  <a:pt x="10014" y="12090"/>
                  <a:pt x="10031" y="12148"/>
                  <a:pt x="10033" y="12150"/>
                </a:cubicBezTo>
                <a:cubicBezTo>
                  <a:pt x="10041" y="12156"/>
                  <a:pt x="10105" y="12209"/>
                  <a:pt x="10118" y="12213"/>
                </a:cubicBezTo>
                <a:cubicBezTo>
                  <a:pt x="10346" y="12286"/>
                  <a:pt x="10936" y="12256"/>
                  <a:pt x="11155" y="12192"/>
                </a:cubicBezTo>
                <a:cubicBezTo>
                  <a:pt x="11183" y="12184"/>
                  <a:pt x="11212" y="12175"/>
                  <a:pt x="11239" y="12171"/>
                </a:cubicBezTo>
                <a:cubicBezTo>
                  <a:pt x="11329" y="12158"/>
                  <a:pt x="11438" y="12169"/>
                  <a:pt x="11515" y="12192"/>
                </a:cubicBezTo>
                <a:cubicBezTo>
                  <a:pt x="11539" y="12216"/>
                  <a:pt x="11550" y="12223"/>
                  <a:pt x="11578" y="12213"/>
                </a:cubicBezTo>
                <a:cubicBezTo>
                  <a:pt x="11550" y="12213"/>
                  <a:pt x="11564" y="12213"/>
                  <a:pt x="11536" y="12213"/>
                </a:cubicBezTo>
                <a:cubicBezTo>
                  <a:pt x="11491" y="12213"/>
                  <a:pt x="11422" y="12232"/>
                  <a:pt x="11409" y="12234"/>
                </a:cubicBezTo>
                <a:cubicBezTo>
                  <a:pt x="11365" y="12239"/>
                  <a:pt x="11286" y="12209"/>
                  <a:pt x="11261" y="12213"/>
                </a:cubicBezTo>
                <a:cubicBezTo>
                  <a:pt x="11205" y="12222"/>
                  <a:pt x="11257" y="12231"/>
                  <a:pt x="11282" y="12234"/>
                </a:cubicBezTo>
                <a:cubicBezTo>
                  <a:pt x="11310" y="12237"/>
                  <a:pt x="11317" y="12252"/>
                  <a:pt x="11345" y="12255"/>
                </a:cubicBezTo>
                <a:cubicBezTo>
                  <a:pt x="11429" y="12265"/>
                  <a:pt x="11472" y="12255"/>
                  <a:pt x="11557" y="12255"/>
                </a:cubicBezTo>
                <a:cubicBezTo>
                  <a:pt x="11644" y="12255"/>
                  <a:pt x="11756" y="12270"/>
                  <a:pt x="11811" y="12277"/>
                </a:cubicBezTo>
                <a:cubicBezTo>
                  <a:pt x="11866" y="12284"/>
                  <a:pt x="11891" y="12281"/>
                  <a:pt x="11938" y="12298"/>
                </a:cubicBezTo>
                <a:cubicBezTo>
                  <a:pt x="11959" y="12306"/>
                  <a:pt x="11970" y="12337"/>
                  <a:pt x="11980" y="12340"/>
                </a:cubicBezTo>
                <a:cubicBezTo>
                  <a:pt x="12015" y="12352"/>
                  <a:pt x="12140" y="12360"/>
                  <a:pt x="12150" y="12361"/>
                </a:cubicBezTo>
                <a:cubicBezTo>
                  <a:pt x="12198" y="12367"/>
                  <a:pt x="12260" y="12378"/>
                  <a:pt x="12298" y="12382"/>
                </a:cubicBezTo>
                <a:cubicBezTo>
                  <a:pt x="12326" y="12385"/>
                  <a:pt x="12333" y="12405"/>
                  <a:pt x="12361" y="12404"/>
                </a:cubicBezTo>
                <a:cubicBezTo>
                  <a:pt x="12394" y="12403"/>
                  <a:pt x="12401" y="12387"/>
                  <a:pt x="12425" y="12382"/>
                </a:cubicBezTo>
                <a:cubicBezTo>
                  <a:pt x="12414" y="12350"/>
                  <a:pt x="12407" y="12343"/>
                  <a:pt x="12404" y="12319"/>
                </a:cubicBezTo>
                <a:cubicBezTo>
                  <a:pt x="12389" y="12211"/>
                  <a:pt x="12415" y="12078"/>
                  <a:pt x="12382" y="12001"/>
                </a:cubicBezTo>
                <a:cubicBezTo>
                  <a:pt x="12370" y="11974"/>
                  <a:pt x="12374" y="11972"/>
                  <a:pt x="12361" y="11938"/>
                </a:cubicBezTo>
                <a:cubicBezTo>
                  <a:pt x="12347" y="11902"/>
                  <a:pt x="12340" y="11890"/>
                  <a:pt x="12319" y="11853"/>
                </a:cubicBezTo>
                <a:cubicBezTo>
                  <a:pt x="12307" y="11833"/>
                  <a:pt x="12305" y="11811"/>
                  <a:pt x="12277" y="11790"/>
                </a:cubicBezTo>
                <a:cubicBezTo>
                  <a:pt x="12255" y="11773"/>
                  <a:pt x="12236" y="11773"/>
                  <a:pt x="12192" y="11769"/>
                </a:cubicBezTo>
                <a:cubicBezTo>
                  <a:pt x="12024" y="11754"/>
                  <a:pt x="11841" y="11764"/>
                  <a:pt x="11684" y="11747"/>
                </a:cubicBezTo>
                <a:cubicBezTo>
                  <a:pt x="11626" y="11741"/>
                  <a:pt x="11572" y="11731"/>
                  <a:pt x="11515" y="11726"/>
                </a:cubicBezTo>
                <a:cubicBezTo>
                  <a:pt x="11451" y="11720"/>
                  <a:pt x="11470" y="11718"/>
                  <a:pt x="11430" y="11705"/>
                </a:cubicBezTo>
                <a:cubicBezTo>
                  <a:pt x="11415" y="11700"/>
                  <a:pt x="11311" y="11691"/>
                  <a:pt x="11303" y="11684"/>
                </a:cubicBezTo>
                <a:cubicBezTo>
                  <a:pt x="11256" y="11639"/>
                  <a:pt x="11295" y="11643"/>
                  <a:pt x="11239" y="11620"/>
                </a:cubicBezTo>
                <a:cubicBezTo>
                  <a:pt x="11217" y="11611"/>
                  <a:pt x="11166" y="11601"/>
                  <a:pt x="11112" y="11599"/>
                </a:cubicBezTo>
                <a:cubicBezTo>
                  <a:pt x="11073" y="11598"/>
                  <a:pt x="11036" y="11581"/>
                  <a:pt x="11007" y="11578"/>
                </a:cubicBezTo>
                <a:cubicBezTo>
                  <a:pt x="10968" y="11574"/>
                  <a:pt x="10951" y="11576"/>
                  <a:pt x="10922" y="11599"/>
                </a:cubicBezTo>
                <a:cubicBezTo>
                  <a:pt x="10894" y="11621"/>
                  <a:pt x="10880" y="11678"/>
                  <a:pt x="10858" y="11705"/>
                </a:cubicBezTo>
                <a:cubicBezTo>
                  <a:pt x="10836" y="11732"/>
                  <a:pt x="10832" y="11734"/>
                  <a:pt x="10837" y="11747"/>
                </a:cubicBezTo>
                <a:cubicBezTo>
                  <a:pt x="10860" y="11807"/>
                  <a:pt x="10937" y="11807"/>
                  <a:pt x="10985" y="11811"/>
                </a:cubicBezTo>
                <a:cubicBezTo>
                  <a:pt x="11028" y="11814"/>
                  <a:pt x="11082" y="11823"/>
                  <a:pt x="11112" y="11790"/>
                </a:cubicBezTo>
                <a:cubicBezTo>
                  <a:pt x="11112" y="11769"/>
                  <a:pt x="11112" y="11761"/>
                  <a:pt x="11112" y="11747"/>
                </a:cubicBezTo>
                <a:cubicBezTo>
                  <a:pt x="11112" y="11698"/>
                  <a:pt x="11124" y="11639"/>
                  <a:pt x="11091" y="11620"/>
                </a:cubicBezTo>
                <a:cubicBezTo>
                  <a:pt x="11042" y="11592"/>
                  <a:pt x="10918" y="11625"/>
                  <a:pt x="10880" y="11642"/>
                </a:cubicBezTo>
                <a:cubicBezTo>
                  <a:pt x="10855" y="11653"/>
                  <a:pt x="10840" y="11671"/>
                  <a:pt x="10816" y="11684"/>
                </a:cubicBezTo>
                <a:cubicBezTo>
                  <a:pt x="10823" y="11686"/>
                  <a:pt x="10863" y="11703"/>
                  <a:pt x="10901" y="11705"/>
                </a:cubicBezTo>
                <a:cubicBezTo>
                  <a:pt x="10920" y="11706"/>
                  <a:pt x="11118" y="11711"/>
                  <a:pt x="11091" y="11684"/>
                </a:cubicBezTo>
                <a:cubicBezTo>
                  <a:pt x="11078" y="11671"/>
                  <a:pt x="10904" y="11683"/>
                  <a:pt x="10922" y="11705"/>
                </a:cubicBezTo>
                <a:cubicBezTo>
                  <a:pt x="10945" y="11733"/>
                  <a:pt x="11030" y="11770"/>
                  <a:pt x="11070" y="11790"/>
                </a:cubicBezTo>
                <a:cubicBezTo>
                  <a:pt x="11078" y="11794"/>
                  <a:pt x="11225" y="11816"/>
                  <a:pt x="11155" y="11790"/>
                </a:cubicBezTo>
                <a:cubicBezTo>
                  <a:pt x="11090" y="11766"/>
                  <a:pt x="11034" y="11769"/>
                  <a:pt x="10964" y="11769"/>
                </a:cubicBezTo>
                <a:cubicBezTo>
                  <a:pt x="10907" y="11769"/>
                  <a:pt x="10895" y="11759"/>
                  <a:pt x="10901" y="11769"/>
                </a:cubicBezTo>
                <a:cubicBezTo>
                  <a:pt x="10915" y="11776"/>
                  <a:pt x="10929" y="11783"/>
                  <a:pt x="10943" y="11790"/>
                </a:cubicBezTo>
                <a:cubicBezTo>
                  <a:pt x="11084" y="11813"/>
                  <a:pt x="11198" y="11832"/>
                  <a:pt x="11345" y="11832"/>
                </a:cubicBezTo>
                <a:cubicBezTo>
                  <a:pt x="11401" y="11832"/>
                  <a:pt x="11528" y="11832"/>
                  <a:pt x="11472" y="11832"/>
                </a:cubicBezTo>
                <a:cubicBezTo>
                  <a:pt x="11389" y="11832"/>
                  <a:pt x="11319" y="11833"/>
                  <a:pt x="11239" y="11811"/>
                </a:cubicBezTo>
                <a:cubicBezTo>
                  <a:pt x="11206" y="11802"/>
                  <a:pt x="11133" y="11809"/>
                  <a:pt x="11218" y="11790"/>
                </a:cubicBezTo>
                <a:cubicBezTo>
                  <a:pt x="11257" y="11781"/>
                  <a:pt x="11473" y="11815"/>
                  <a:pt x="11366" y="11769"/>
                </a:cubicBezTo>
                <a:cubicBezTo>
                  <a:pt x="11305" y="11743"/>
                  <a:pt x="11262" y="11751"/>
                  <a:pt x="11197" y="11747"/>
                </a:cubicBezTo>
                <a:cubicBezTo>
                  <a:pt x="11095" y="11740"/>
                  <a:pt x="11218" y="11761"/>
                  <a:pt x="11239" y="11769"/>
                </a:cubicBezTo>
                <a:cubicBezTo>
                  <a:pt x="11319" y="11785"/>
                  <a:pt x="11395" y="11796"/>
                  <a:pt x="11472" y="11811"/>
                </a:cubicBezTo>
                <a:cubicBezTo>
                  <a:pt x="11538" y="11824"/>
                  <a:pt x="11498" y="11811"/>
                  <a:pt x="11451" y="11811"/>
                </a:cubicBezTo>
                <a:cubicBezTo>
                  <a:pt x="11397" y="11811"/>
                  <a:pt x="11210" y="11791"/>
                  <a:pt x="11239" y="11832"/>
                </a:cubicBezTo>
                <a:cubicBezTo>
                  <a:pt x="11331" y="11964"/>
                  <a:pt x="11572" y="11989"/>
                  <a:pt x="11705" y="12001"/>
                </a:cubicBezTo>
                <a:cubicBezTo>
                  <a:pt x="11797" y="12009"/>
                  <a:pt x="11872" y="12051"/>
                  <a:pt x="11959" y="12086"/>
                </a:cubicBezTo>
                <a:cubicBezTo>
                  <a:pt x="11901" y="12072"/>
                  <a:pt x="11852" y="12067"/>
                  <a:pt x="11790" y="12065"/>
                </a:cubicBezTo>
                <a:cubicBezTo>
                  <a:pt x="11586" y="12059"/>
                  <a:pt x="11380" y="12065"/>
                  <a:pt x="11176" y="12065"/>
                </a:cubicBezTo>
                <a:cubicBezTo>
                  <a:pt x="11273" y="12086"/>
                  <a:pt x="11372" y="12110"/>
                  <a:pt x="11472" y="12128"/>
                </a:cubicBezTo>
                <a:cubicBezTo>
                  <a:pt x="11637" y="12158"/>
                  <a:pt x="11791" y="12213"/>
                  <a:pt x="11959" y="12234"/>
                </a:cubicBezTo>
                <a:cubicBezTo>
                  <a:pt x="11973" y="12234"/>
                  <a:pt x="11987" y="12234"/>
                  <a:pt x="12001" y="12234"/>
                </a:cubicBezTo>
                <a:cubicBezTo>
                  <a:pt x="11902" y="12234"/>
                  <a:pt x="11489" y="12239"/>
                  <a:pt x="11620" y="12255"/>
                </a:cubicBezTo>
                <a:cubicBezTo>
                  <a:pt x="11706" y="12265"/>
                  <a:pt x="11776" y="12303"/>
                  <a:pt x="11853" y="12319"/>
                </a:cubicBezTo>
                <a:cubicBezTo>
                  <a:pt x="11935" y="12336"/>
                  <a:pt x="11962" y="12319"/>
                  <a:pt x="11853" y="12319"/>
                </a:cubicBezTo>
                <a:cubicBezTo>
                  <a:pt x="11773" y="12319"/>
                  <a:pt x="11855" y="12319"/>
                  <a:pt x="11896" y="12319"/>
                </a:cubicBezTo>
                <a:cubicBezTo>
                  <a:pt x="11974" y="12319"/>
                  <a:pt x="12036" y="12324"/>
                  <a:pt x="12107" y="12298"/>
                </a:cubicBezTo>
                <a:cubicBezTo>
                  <a:pt x="12148" y="12283"/>
                  <a:pt x="12147" y="12284"/>
                  <a:pt x="12128" y="12234"/>
                </a:cubicBezTo>
                <a:cubicBezTo>
                  <a:pt x="12096" y="12151"/>
                  <a:pt x="11941" y="12167"/>
                  <a:pt x="11874" y="12150"/>
                </a:cubicBezTo>
                <a:cubicBezTo>
                  <a:pt x="11820" y="12137"/>
                  <a:pt x="11778" y="12119"/>
                  <a:pt x="11726" y="12107"/>
                </a:cubicBezTo>
                <a:cubicBezTo>
                  <a:pt x="11719" y="12107"/>
                  <a:pt x="11712" y="12107"/>
                  <a:pt x="11705" y="12107"/>
                </a:cubicBezTo>
                <a:cubicBezTo>
                  <a:pt x="11780" y="12107"/>
                  <a:pt x="11846" y="12122"/>
                  <a:pt x="11917" y="12128"/>
                </a:cubicBezTo>
                <a:cubicBezTo>
                  <a:pt x="11958" y="12131"/>
                  <a:pt x="12286" y="12128"/>
                  <a:pt x="12192" y="12128"/>
                </a:cubicBezTo>
                <a:cubicBezTo>
                  <a:pt x="12109" y="12128"/>
                  <a:pt x="12129" y="12092"/>
                  <a:pt x="12044" y="12086"/>
                </a:cubicBezTo>
                <a:cubicBezTo>
                  <a:pt x="12016" y="12084"/>
                  <a:pt x="11848" y="12066"/>
                  <a:pt x="11896" y="12044"/>
                </a:cubicBezTo>
                <a:cubicBezTo>
                  <a:pt x="11938" y="12044"/>
                  <a:pt x="11952" y="12044"/>
                  <a:pt x="11980" y="12044"/>
                </a:cubicBezTo>
                <a:cubicBezTo>
                  <a:pt x="12027" y="12044"/>
                  <a:pt x="12169" y="12056"/>
                  <a:pt x="12150" y="12044"/>
                </a:cubicBezTo>
                <a:cubicBezTo>
                  <a:pt x="12123" y="12028"/>
                  <a:pt x="12072" y="11993"/>
                  <a:pt x="12065" y="12023"/>
                </a:cubicBezTo>
                <a:cubicBezTo>
                  <a:pt x="12057" y="12058"/>
                  <a:pt x="12076" y="12098"/>
                  <a:pt x="12086" y="12128"/>
                </a:cubicBezTo>
                <a:cubicBezTo>
                  <a:pt x="12096" y="12159"/>
                  <a:pt x="12086" y="12176"/>
                  <a:pt x="12107" y="12192"/>
                </a:cubicBezTo>
                <a:cubicBezTo>
                  <a:pt x="12121" y="12203"/>
                  <a:pt x="12159" y="12227"/>
                  <a:pt x="12192" y="12234"/>
                </a:cubicBezTo>
                <a:cubicBezTo>
                  <a:pt x="12278" y="12251"/>
                  <a:pt x="12265" y="12223"/>
                  <a:pt x="12298" y="12192"/>
                </a:cubicBezTo>
                <a:cubicBezTo>
                  <a:pt x="12323" y="12169"/>
                  <a:pt x="12354" y="12146"/>
                  <a:pt x="12340" y="12107"/>
                </a:cubicBezTo>
                <a:cubicBezTo>
                  <a:pt x="12331" y="12081"/>
                  <a:pt x="12309" y="12090"/>
                  <a:pt x="12298" y="12107"/>
                </a:cubicBezTo>
                <a:cubicBezTo>
                  <a:pt x="12268" y="12150"/>
                  <a:pt x="12299" y="12160"/>
                  <a:pt x="12298" y="12192"/>
                </a:cubicBezTo>
                <a:cubicBezTo>
                  <a:pt x="12296" y="12237"/>
                  <a:pt x="12307" y="12235"/>
                  <a:pt x="12319" y="12255"/>
                </a:cubicBezTo>
                <a:cubicBezTo>
                  <a:pt x="12340" y="12255"/>
                  <a:pt x="12347" y="12255"/>
                  <a:pt x="12340" y="12277"/>
                </a:cubicBezTo>
                <a:cubicBezTo>
                  <a:pt x="12337" y="12242"/>
                  <a:pt x="12324" y="12227"/>
                  <a:pt x="12319" y="12192"/>
                </a:cubicBezTo>
                <a:cubicBezTo>
                  <a:pt x="12311" y="12133"/>
                  <a:pt x="12312" y="12077"/>
                  <a:pt x="12298" y="12044"/>
                </a:cubicBezTo>
                <a:cubicBezTo>
                  <a:pt x="12296" y="12038"/>
                  <a:pt x="12285" y="12003"/>
                  <a:pt x="12277" y="11980"/>
                </a:cubicBezTo>
                <a:cubicBezTo>
                  <a:pt x="12269" y="11956"/>
                  <a:pt x="12253" y="11932"/>
                  <a:pt x="12234" y="11959"/>
                </a:cubicBezTo>
                <a:cubicBezTo>
                  <a:pt x="12218" y="11983"/>
                  <a:pt x="12204" y="12062"/>
                  <a:pt x="12255" y="12023"/>
                </a:cubicBezTo>
                <a:cubicBezTo>
                  <a:pt x="12274" y="12008"/>
                  <a:pt x="12268" y="11960"/>
                  <a:pt x="12277" y="11938"/>
                </a:cubicBezTo>
                <a:cubicBezTo>
                  <a:pt x="12286" y="11916"/>
                  <a:pt x="12315" y="11885"/>
                  <a:pt x="12298" y="11853"/>
                </a:cubicBezTo>
                <a:cubicBezTo>
                  <a:pt x="12280" y="11819"/>
                  <a:pt x="12238" y="11834"/>
                  <a:pt x="12192" y="11832"/>
                </a:cubicBezTo>
                <a:cubicBezTo>
                  <a:pt x="12163" y="11831"/>
                  <a:pt x="12061" y="11816"/>
                  <a:pt x="12065" y="11853"/>
                </a:cubicBezTo>
                <a:cubicBezTo>
                  <a:pt x="12070" y="11893"/>
                  <a:pt x="12120" y="11874"/>
                  <a:pt x="12107" y="11853"/>
                </a:cubicBezTo>
                <a:cubicBezTo>
                  <a:pt x="12089" y="11825"/>
                  <a:pt x="12053" y="11767"/>
                  <a:pt x="12023" y="11747"/>
                </a:cubicBezTo>
                <a:cubicBezTo>
                  <a:pt x="11984" y="11721"/>
                  <a:pt x="11872" y="11673"/>
                  <a:pt x="11832" y="11663"/>
                </a:cubicBezTo>
                <a:cubicBezTo>
                  <a:pt x="11774" y="11648"/>
                  <a:pt x="11723" y="11677"/>
                  <a:pt x="11705" y="11726"/>
                </a:cubicBezTo>
                <a:cubicBezTo>
                  <a:pt x="11691" y="11765"/>
                  <a:pt x="11721" y="11773"/>
                  <a:pt x="11747" y="11790"/>
                </a:cubicBezTo>
                <a:cubicBezTo>
                  <a:pt x="11800" y="11824"/>
                  <a:pt x="11897" y="11863"/>
                  <a:pt x="11959" y="11874"/>
                </a:cubicBezTo>
                <a:cubicBezTo>
                  <a:pt x="12049" y="11889"/>
                  <a:pt x="12100" y="11874"/>
                  <a:pt x="12192" y="11874"/>
                </a:cubicBezTo>
                <a:cubicBezTo>
                  <a:pt x="11959" y="11874"/>
                  <a:pt x="11291" y="11914"/>
                  <a:pt x="11515" y="11853"/>
                </a:cubicBezTo>
                <a:cubicBezTo>
                  <a:pt x="11550" y="11853"/>
                  <a:pt x="11571" y="11853"/>
                  <a:pt x="11599" y="11853"/>
                </a:cubicBezTo>
                <a:cubicBezTo>
                  <a:pt x="11733" y="11853"/>
                  <a:pt x="11816" y="11858"/>
                  <a:pt x="11938" y="11896"/>
                </a:cubicBezTo>
                <a:cubicBezTo>
                  <a:pt x="12032" y="11926"/>
                  <a:pt x="12116" y="11935"/>
                  <a:pt x="12213" y="11938"/>
                </a:cubicBezTo>
                <a:cubicBezTo>
                  <a:pt x="12233" y="11939"/>
                  <a:pt x="12335" y="11938"/>
                  <a:pt x="12234" y="11938"/>
                </a:cubicBezTo>
                <a:cubicBezTo>
                  <a:pt x="12213" y="11938"/>
                  <a:pt x="12192" y="11938"/>
                  <a:pt x="12171" y="11938"/>
                </a:cubicBezTo>
                <a:cubicBezTo>
                  <a:pt x="12012" y="11938"/>
                  <a:pt x="11862" y="11928"/>
                  <a:pt x="11705" y="11917"/>
                </a:cubicBezTo>
                <a:cubicBezTo>
                  <a:pt x="11473" y="11901"/>
                  <a:pt x="10867" y="11855"/>
                  <a:pt x="11091" y="11917"/>
                </a:cubicBezTo>
                <a:cubicBezTo>
                  <a:pt x="11196" y="11946"/>
                  <a:pt x="11298" y="11974"/>
                  <a:pt x="11409" y="11980"/>
                </a:cubicBezTo>
                <a:cubicBezTo>
                  <a:pt x="11451" y="11982"/>
                  <a:pt x="11494" y="11980"/>
                  <a:pt x="11536" y="11980"/>
                </a:cubicBezTo>
                <a:cubicBezTo>
                  <a:pt x="11428" y="11946"/>
                  <a:pt x="11330" y="11905"/>
                  <a:pt x="11218" y="11896"/>
                </a:cubicBezTo>
                <a:cubicBezTo>
                  <a:pt x="11204" y="11896"/>
                  <a:pt x="11190" y="11896"/>
                  <a:pt x="11176" y="11896"/>
                </a:cubicBezTo>
                <a:cubicBezTo>
                  <a:pt x="11159" y="11896"/>
                  <a:pt x="11021" y="11896"/>
                  <a:pt x="11070" y="11896"/>
                </a:cubicBezTo>
                <a:cubicBezTo>
                  <a:pt x="11136" y="11896"/>
                  <a:pt x="11366" y="11934"/>
                  <a:pt x="11282" y="11874"/>
                </a:cubicBezTo>
                <a:cubicBezTo>
                  <a:pt x="11181" y="11801"/>
                  <a:pt x="11093" y="11831"/>
                  <a:pt x="10985" y="11811"/>
                </a:cubicBezTo>
                <a:cubicBezTo>
                  <a:pt x="10948" y="11804"/>
                  <a:pt x="10960" y="11793"/>
                  <a:pt x="10922" y="11790"/>
                </a:cubicBezTo>
                <a:cubicBezTo>
                  <a:pt x="10894" y="11788"/>
                  <a:pt x="10908" y="11790"/>
                  <a:pt x="10880" y="11790"/>
                </a:cubicBezTo>
                <a:cubicBezTo>
                  <a:pt x="10809" y="11790"/>
                  <a:pt x="10739" y="11790"/>
                  <a:pt x="10668" y="11790"/>
                </a:cubicBezTo>
                <a:cubicBezTo>
                  <a:pt x="10634" y="11797"/>
                  <a:pt x="10570" y="11800"/>
                  <a:pt x="10647" y="11811"/>
                </a:cubicBezTo>
                <a:cubicBezTo>
                  <a:pt x="10731" y="11823"/>
                  <a:pt x="10882" y="11705"/>
                  <a:pt x="10880" y="11790"/>
                </a:cubicBezTo>
                <a:cubicBezTo>
                  <a:pt x="10879" y="11828"/>
                  <a:pt x="10807" y="11792"/>
                  <a:pt x="10774" y="11811"/>
                </a:cubicBezTo>
                <a:cubicBezTo>
                  <a:pt x="10769" y="11814"/>
                  <a:pt x="10716" y="11868"/>
                  <a:pt x="10710" y="11874"/>
                </a:cubicBezTo>
                <a:cubicBezTo>
                  <a:pt x="10691" y="11895"/>
                  <a:pt x="10672" y="11915"/>
                  <a:pt x="10689" y="11938"/>
                </a:cubicBezTo>
                <a:cubicBezTo>
                  <a:pt x="10710" y="11938"/>
                  <a:pt x="10717" y="11938"/>
                  <a:pt x="10731" y="11938"/>
                </a:cubicBezTo>
                <a:cubicBezTo>
                  <a:pt x="10782" y="11938"/>
                  <a:pt x="10864" y="11956"/>
                  <a:pt x="10901" y="11917"/>
                </a:cubicBezTo>
                <a:cubicBezTo>
                  <a:pt x="10922" y="11894"/>
                  <a:pt x="10943" y="11855"/>
                  <a:pt x="10922" y="11832"/>
                </a:cubicBezTo>
                <a:cubicBezTo>
                  <a:pt x="10898" y="11805"/>
                  <a:pt x="10833" y="11845"/>
                  <a:pt x="10816" y="11853"/>
                </a:cubicBezTo>
                <a:cubicBezTo>
                  <a:pt x="10800" y="11861"/>
                  <a:pt x="10748" y="11883"/>
                  <a:pt x="10753" y="11917"/>
                </a:cubicBezTo>
                <a:cubicBezTo>
                  <a:pt x="10758" y="11952"/>
                  <a:pt x="10738" y="11932"/>
                  <a:pt x="10816" y="11938"/>
                </a:cubicBezTo>
                <a:cubicBezTo>
                  <a:pt x="10862" y="11942"/>
                  <a:pt x="10879" y="11936"/>
                  <a:pt x="10901" y="11917"/>
                </a:cubicBezTo>
                <a:cubicBezTo>
                  <a:pt x="10901" y="11910"/>
                  <a:pt x="10901" y="11903"/>
                  <a:pt x="10901" y="11896"/>
                </a:cubicBezTo>
                <a:cubicBezTo>
                  <a:pt x="10889" y="11893"/>
                  <a:pt x="10840" y="11876"/>
                  <a:pt x="10795" y="11874"/>
                </a:cubicBezTo>
                <a:cubicBezTo>
                  <a:pt x="10765" y="11873"/>
                  <a:pt x="10685" y="11891"/>
                  <a:pt x="10689" y="11853"/>
                </a:cubicBezTo>
                <a:cubicBezTo>
                  <a:pt x="10692" y="11825"/>
                  <a:pt x="10761" y="11859"/>
                  <a:pt x="10753" y="11832"/>
                </a:cubicBezTo>
                <a:cubicBezTo>
                  <a:pt x="10735" y="11771"/>
                  <a:pt x="10725" y="11814"/>
                  <a:pt x="10710" y="11747"/>
                </a:cubicBezTo>
                <a:cubicBezTo>
                  <a:pt x="10703" y="11717"/>
                  <a:pt x="10731" y="11640"/>
                  <a:pt x="10689" y="11642"/>
                </a:cubicBezTo>
                <a:cubicBezTo>
                  <a:pt x="10649" y="11644"/>
                  <a:pt x="10572" y="11742"/>
                  <a:pt x="10541" y="11769"/>
                </a:cubicBezTo>
                <a:cubicBezTo>
                  <a:pt x="10513" y="11793"/>
                  <a:pt x="10473" y="11839"/>
                  <a:pt x="10456" y="11853"/>
                </a:cubicBezTo>
                <a:cubicBezTo>
                  <a:pt x="10435" y="11870"/>
                  <a:pt x="10399" y="11896"/>
                  <a:pt x="10372" y="11917"/>
                </a:cubicBezTo>
                <a:cubicBezTo>
                  <a:pt x="10328" y="11951"/>
                  <a:pt x="10338" y="11957"/>
                  <a:pt x="10308" y="12001"/>
                </a:cubicBezTo>
                <a:cubicBezTo>
                  <a:pt x="10294" y="12022"/>
                  <a:pt x="10231" y="12004"/>
                  <a:pt x="10329" y="12023"/>
                </a:cubicBezTo>
                <a:cubicBezTo>
                  <a:pt x="10379" y="12032"/>
                  <a:pt x="10448" y="12023"/>
                  <a:pt x="10499" y="12023"/>
                </a:cubicBezTo>
                <a:cubicBezTo>
                  <a:pt x="10536" y="11964"/>
                  <a:pt x="10563" y="11977"/>
                  <a:pt x="10541" y="11938"/>
                </a:cubicBezTo>
                <a:cubicBezTo>
                  <a:pt x="10514" y="11890"/>
                  <a:pt x="10438" y="11881"/>
                  <a:pt x="10393" y="11874"/>
                </a:cubicBezTo>
                <a:cubicBezTo>
                  <a:pt x="10373" y="11871"/>
                  <a:pt x="10196" y="11874"/>
                  <a:pt x="10245" y="11874"/>
                </a:cubicBezTo>
                <a:cubicBezTo>
                  <a:pt x="10273" y="11874"/>
                  <a:pt x="10432" y="11874"/>
                  <a:pt x="10329" y="11874"/>
                </a:cubicBezTo>
                <a:cubicBezTo>
                  <a:pt x="10289" y="11874"/>
                  <a:pt x="10149" y="11874"/>
                  <a:pt x="10181" y="11874"/>
                </a:cubicBezTo>
                <a:cubicBezTo>
                  <a:pt x="10231" y="11874"/>
                  <a:pt x="10262" y="11865"/>
                  <a:pt x="10308" y="11853"/>
                </a:cubicBezTo>
                <a:cubicBezTo>
                  <a:pt x="10332" y="11847"/>
                  <a:pt x="10388" y="11813"/>
                  <a:pt x="10393" y="11811"/>
                </a:cubicBezTo>
                <a:cubicBezTo>
                  <a:pt x="10438" y="11789"/>
                  <a:pt x="10478" y="11784"/>
                  <a:pt x="10520" y="11769"/>
                </a:cubicBezTo>
                <a:cubicBezTo>
                  <a:pt x="10460" y="11777"/>
                  <a:pt x="10428" y="11799"/>
                  <a:pt x="10372" y="11811"/>
                </a:cubicBezTo>
                <a:cubicBezTo>
                  <a:pt x="10321" y="11822"/>
                  <a:pt x="10290" y="11816"/>
                  <a:pt x="10245" y="11832"/>
                </a:cubicBezTo>
                <a:cubicBezTo>
                  <a:pt x="10215" y="11843"/>
                  <a:pt x="10221" y="11873"/>
                  <a:pt x="10202" y="11896"/>
                </a:cubicBezTo>
                <a:cubicBezTo>
                  <a:pt x="10180" y="11923"/>
                  <a:pt x="10152" y="11921"/>
                  <a:pt x="10139" y="11938"/>
                </a:cubicBezTo>
                <a:cubicBezTo>
                  <a:pt x="10121" y="11962"/>
                  <a:pt x="10117" y="11961"/>
                  <a:pt x="10096" y="11980"/>
                </a:cubicBezTo>
                <a:cubicBezTo>
                  <a:pt x="10068" y="12005"/>
                  <a:pt x="10041" y="12013"/>
                  <a:pt x="10096" y="12044"/>
                </a:cubicBezTo>
                <a:cubicBezTo>
                  <a:pt x="10155" y="12078"/>
                  <a:pt x="10224" y="12062"/>
                  <a:pt x="10287" y="12086"/>
                </a:cubicBezTo>
                <a:cubicBezTo>
                  <a:pt x="10345" y="12108"/>
                  <a:pt x="10350" y="12123"/>
                  <a:pt x="10414" y="12128"/>
                </a:cubicBezTo>
                <a:cubicBezTo>
                  <a:pt x="10442" y="12128"/>
                  <a:pt x="10456" y="12128"/>
                  <a:pt x="10477" y="12128"/>
                </a:cubicBezTo>
                <a:cubicBezTo>
                  <a:pt x="10518" y="12128"/>
                  <a:pt x="10569" y="12128"/>
                  <a:pt x="10499" y="12128"/>
                </a:cubicBezTo>
                <a:cubicBezTo>
                  <a:pt x="10452" y="12128"/>
                  <a:pt x="10246" y="12112"/>
                  <a:pt x="10393" y="12150"/>
                </a:cubicBezTo>
                <a:cubicBezTo>
                  <a:pt x="10469" y="12170"/>
                  <a:pt x="10549" y="12157"/>
                  <a:pt x="10626" y="12171"/>
                </a:cubicBezTo>
                <a:cubicBezTo>
                  <a:pt x="10710" y="12186"/>
                  <a:pt x="10771" y="12210"/>
                  <a:pt x="10858" y="12213"/>
                </a:cubicBezTo>
                <a:cubicBezTo>
                  <a:pt x="10965" y="12216"/>
                  <a:pt x="11331" y="12202"/>
                  <a:pt x="11282" y="12192"/>
                </a:cubicBezTo>
                <a:cubicBezTo>
                  <a:pt x="11225" y="12180"/>
                  <a:pt x="11148" y="12177"/>
                  <a:pt x="11091" y="12171"/>
                </a:cubicBezTo>
                <a:cubicBezTo>
                  <a:pt x="10987" y="12159"/>
                  <a:pt x="10941" y="12144"/>
                  <a:pt x="10837" y="12107"/>
                </a:cubicBezTo>
                <a:cubicBezTo>
                  <a:pt x="10727" y="12068"/>
                  <a:pt x="10677" y="12065"/>
                  <a:pt x="10562" y="12065"/>
                </a:cubicBezTo>
                <a:cubicBezTo>
                  <a:pt x="10527" y="12065"/>
                  <a:pt x="10491" y="12065"/>
                  <a:pt x="10456" y="12065"/>
                </a:cubicBezTo>
                <a:cubicBezTo>
                  <a:pt x="10604" y="12065"/>
                  <a:pt x="10986" y="12065"/>
                  <a:pt x="10985" y="12065"/>
                </a:cubicBezTo>
                <a:cubicBezTo>
                  <a:pt x="10886" y="12047"/>
                  <a:pt x="10791" y="12044"/>
                  <a:pt x="10689" y="12044"/>
                </a:cubicBezTo>
                <a:cubicBezTo>
                  <a:pt x="10590" y="12044"/>
                  <a:pt x="10548" y="12044"/>
                  <a:pt x="10477" y="12044"/>
                </a:cubicBezTo>
                <a:cubicBezTo>
                  <a:pt x="10476" y="12044"/>
                  <a:pt x="10307" y="12044"/>
                  <a:pt x="10372" y="12044"/>
                </a:cubicBezTo>
                <a:cubicBezTo>
                  <a:pt x="10435" y="12044"/>
                  <a:pt x="10457" y="12044"/>
                  <a:pt x="10499" y="12044"/>
                </a:cubicBezTo>
                <a:cubicBezTo>
                  <a:pt x="10795" y="12044"/>
                  <a:pt x="11092" y="12044"/>
                  <a:pt x="11388" y="12044"/>
                </a:cubicBezTo>
                <a:cubicBezTo>
                  <a:pt x="11339" y="12044"/>
                  <a:pt x="11373" y="12044"/>
                  <a:pt x="11324" y="12044"/>
                </a:cubicBezTo>
                <a:cubicBezTo>
                  <a:pt x="11208" y="12044"/>
                  <a:pt x="11097" y="12033"/>
                  <a:pt x="10985" y="12023"/>
                </a:cubicBezTo>
                <a:cubicBezTo>
                  <a:pt x="10908" y="12016"/>
                  <a:pt x="10837" y="12016"/>
                  <a:pt x="10774" y="11980"/>
                </a:cubicBezTo>
                <a:cubicBezTo>
                  <a:pt x="10746" y="11964"/>
                  <a:pt x="10882" y="11980"/>
                  <a:pt x="10922" y="11980"/>
                </a:cubicBezTo>
                <a:cubicBezTo>
                  <a:pt x="11077" y="11980"/>
                  <a:pt x="11197" y="12002"/>
                  <a:pt x="11345" y="12023"/>
                </a:cubicBezTo>
                <a:cubicBezTo>
                  <a:pt x="11399" y="12031"/>
                  <a:pt x="11437" y="12041"/>
                  <a:pt x="11451" y="12044"/>
                </a:cubicBezTo>
                <a:cubicBezTo>
                  <a:pt x="11348" y="12044"/>
                  <a:pt x="11273" y="12013"/>
                  <a:pt x="11176" y="12001"/>
                </a:cubicBezTo>
                <a:cubicBezTo>
                  <a:pt x="11092" y="11990"/>
                  <a:pt x="11007" y="11982"/>
                  <a:pt x="10922" y="11980"/>
                </a:cubicBezTo>
                <a:cubicBezTo>
                  <a:pt x="10903" y="11979"/>
                  <a:pt x="10752" y="11975"/>
                  <a:pt x="10774" y="12001"/>
                </a:cubicBezTo>
                <a:cubicBezTo>
                  <a:pt x="10806" y="12039"/>
                  <a:pt x="10932" y="12071"/>
                  <a:pt x="10985" y="12086"/>
                </a:cubicBezTo>
                <a:cubicBezTo>
                  <a:pt x="11007" y="12092"/>
                  <a:pt x="11159" y="12110"/>
                  <a:pt x="11176" y="12128"/>
                </a:cubicBezTo>
                <a:cubicBezTo>
                  <a:pt x="11280" y="12234"/>
                  <a:pt x="10879" y="12128"/>
                  <a:pt x="10731" y="12128"/>
                </a:cubicBezTo>
                <a:cubicBezTo>
                  <a:pt x="10724" y="12128"/>
                  <a:pt x="10717" y="12128"/>
                  <a:pt x="10710" y="12128"/>
                </a:cubicBezTo>
                <a:cubicBezTo>
                  <a:pt x="10762" y="12116"/>
                  <a:pt x="10802" y="12109"/>
                  <a:pt x="10858" y="12107"/>
                </a:cubicBezTo>
                <a:cubicBezTo>
                  <a:pt x="10898" y="12106"/>
                  <a:pt x="11171" y="12107"/>
                  <a:pt x="11070" y="12107"/>
                </a:cubicBezTo>
                <a:cubicBezTo>
                  <a:pt x="10997" y="12107"/>
                  <a:pt x="10904" y="12109"/>
                  <a:pt x="10837" y="12086"/>
                </a:cubicBezTo>
                <a:cubicBezTo>
                  <a:pt x="10773" y="12064"/>
                  <a:pt x="10638" y="12052"/>
                  <a:pt x="10583" y="12023"/>
                </a:cubicBezTo>
                <a:cubicBezTo>
                  <a:pt x="10484" y="11971"/>
                  <a:pt x="10626" y="11962"/>
                  <a:pt x="10668" y="11959"/>
                </a:cubicBezTo>
                <a:cubicBezTo>
                  <a:pt x="10693" y="11957"/>
                  <a:pt x="10882" y="11959"/>
                  <a:pt x="10774" y="11959"/>
                </a:cubicBezTo>
                <a:cubicBezTo>
                  <a:pt x="10675" y="11959"/>
                  <a:pt x="10576" y="11959"/>
                  <a:pt x="10477" y="11959"/>
                </a:cubicBezTo>
                <a:cubicBezTo>
                  <a:pt x="10456" y="11959"/>
                  <a:pt x="10449" y="11959"/>
                  <a:pt x="10435" y="11959"/>
                </a:cubicBezTo>
                <a:cubicBezTo>
                  <a:pt x="10465" y="11952"/>
                  <a:pt x="10542" y="11938"/>
                  <a:pt x="10604" y="11938"/>
                </a:cubicBezTo>
                <a:cubicBezTo>
                  <a:pt x="10652" y="11938"/>
                  <a:pt x="10951" y="11925"/>
                  <a:pt x="10943" y="11917"/>
                </a:cubicBezTo>
                <a:cubicBezTo>
                  <a:pt x="10917" y="11891"/>
                  <a:pt x="10807" y="11861"/>
                  <a:pt x="10774" y="11853"/>
                </a:cubicBezTo>
                <a:cubicBezTo>
                  <a:pt x="10680" y="11830"/>
                  <a:pt x="10595" y="11832"/>
                  <a:pt x="10499" y="11832"/>
                </a:cubicBezTo>
                <a:cubicBezTo>
                  <a:pt x="10428" y="11832"/>
                  <a:pt x="10391" y="11817"/>
                  <a:pt x="10329" y="11811"/>
                </a:cubicBezTo>
                <a:cubicBezTo>
                  <a:pt x="10310" y="11809"/>
                  <a:pt x="10209" y="11811"/>
                  <a:pt x="10308" y="11811"/>
                </a:cubicBezTo>
                <a:cubicBezTo>
                  <a:pt x="10369" y="11811"/>
                  <a:pt x="10372" y="11808"/>
                  <a:pt x="10372" y="11811"/>
                </a:cubicBezTo>
                <a:cubicBezTo>
                  <a:pt x="10369" y="11840"/>
                  <a:pt x="10338" y="11844"/>
                  <a:pt x="10308" y="11853"/>
                </a:cubicBezTo>
                <a:cubicBezTo>
                  <a:pt x="10275" y="11863"/>
                  <a:pt x="10234" y="11859"/>
                  <a:pt x="10202" y="11874"/>
                </a:cubicBezTo>
                <a:cubicBezTo>
                  <a:pt x="10180" y="11884"/>
                  <a:pt x="10201" y="11882"/>
                  <a:pt x="10181" y="11896"/>
                </a:cubicBezTo>
                <a:cubicBezTo>
                  <a:pt x="10214" y="11900"/>
                  <a:pt x="10265" y="11915"/>
                  <a:pt x="10287" y="11917"/>
                </a:cubicBezTo>
                <a:cubicBezTo>
                  <a:pt x="10343" y="11922"/>
                  <a:pt x="10393" y="11919"/>
                  <a:pt x="10456" y="11917"/>
                </a:cubicBezTo>
                <a:cubicBezTo>
                  <a:pt x="10808" y="11904"/>
                  <a:pt x="11783" y="11917"/>
                  <a:pt x="11430" y="11917"/>
                </a:cubicBezTo>
                <a:cubicBezTo>
                  <a:pt x="11416" y="11917"/>
                  <a:pt x="11402" y="11917"/>
                  <a:pt x="11388" y="11917"/>
                </a:cubicBezTo>
                <a:cubicBezTo>
                  <a:pt x="11267" y="11917"/>
                  <a:pt x="11093" y="11906"/>
                  <a:pt x="11007" y="11896"/>
                </a:cubicBezTo>
                <a:cubicBezTo>
                  <a:pt x="10978" y="11896"/>
                  <a:pt x="10964" y="11896"/>
                  <a:pt x="10943" y="11896"/>
                </a:cubicBezTo>
                <a:cubicBezTo>
                  <a:pt x="10975" y="11871"/>
                  <a:pt x="10938" y="11870"/>
                  <a:pt x="11007" y="11853"/>
                </a:cubicBezTo>
                <a:cubicBezTo>
                  <a:pt x="11049" y="11843"/>
                  <a:pt x="11080" y="11834"/>
                  <a:pt x="11134" y="11832"/>
                </a:cubicBezTo>
                <a:cubicBezTo>
                  <a:pt x="11181" y="11831"/>
                  <a:pt x="11247" y="11849"/>
                  <a:pt x="11261" y="11811"/>
                </a:cubicBezTo>
                <a:cubicBezTo>
                  <a:pt x="11267" y="11795"/>
                  <a:pt x="11242" y="11728"/>
                  <a:pt x="11239" y="11726"/>
                </a:cubicBezTo>
                <a:cubicBezTo>
                  <a:pt x="11222" y="11713"/>
                  <a:pt x="11177" y="11695"/>
                  <a:pt x="11155" y="11684"/>
                </a:cubicBezTo>
                <a:cubicBezTo>
                  <a:pt x="11094" y="11653"/>
                  <a:pt x="11029" y="11665"/>
                  <a:pt x="10964" y="11663"/>
                </a:cubicBezTo>
                <a:cubicBezTo>
                  <a:pt x="10852" y="11660"/>
                  <a:pt x="10658" y="11630"/>
                  <a:pt x="10562" y="11684"/>
                </a:cubicBezTo>
                <a:cubicBezTo>
                  <a:pt x="10495" y="11722"/>
                  <a:pt x="10560" y="11720"/>
                  <a:pt x="10520" y="11769"/>
                </a:cubicBezTo>
                <a:cubicBezTo>
                  <a:pt x="10508" y="11784"/>
                  <a:pt x="10491" y="11793"/>
                  <a:pt x="10477" y="11811"/>
                </a:cubicBezTo>
                <a:cubicBezTo>
                  <a:pt x="10465" y="11826"/>
                  <a:pt x="10450" y="11845"/>
                  <a:pt x="10435" y="11874"/>
                </a:cubicBezTo>
                <a:cubicBezTo>
                  <a:pt x="10422" y="11899"/>
                  <a:pt x="10440" y="11926"/>
                  <a:pt x="10414" y="11938"/>
                </a:cubicBezTo>
                <a:cubicBezTo>
                  <a:pt x="10280" y="12001"/>
                  <a:pt x="9873" y="11941"/>
                  <a:pt x="9758" y="11917"/>
                </a:cubicBezTo>
                <a:cubicBezTo>
                  <a:pt x="9715" y="11908"/>
                  <a:pt x="9708" y="11920"/>
                  <a:pt x="9758" y="11917"/>
                </a:cubicBezTo>
                <a:cubicBezTo>
                  <a:pt x="9786" y="11915"/>
                  <a:pt x="9814" y="11917"/>
                  <a:pt x="9842" y="11917"/>
                </a:cubicBezTo>
                <a:cubicBezTo>
                  <a:pt x="9880" y="11917"/>
                  <a:pt x="10170" y="11917"/>
                  <a:pt x="10160" y="11938"/>
                </a:cubicBezTo>
                <a:cubicBezTo>
                  <a:pt x="10157" y="11944"/>
                  <a:pt x="10106" y="11980"/>
                  <a:pt x="10096" y="12001"/>
                </a:cubicBezTo>
                <a:cubicBezTo>
                  <a:pt x="10088" y="12018"/>
                  <a:pt x="10058" y="12039"/>
                  <a:pt x="10054" y="12065"/>
                </a:cubicBezTo>
                <a:cubicBezTo>
                  <a:pt x="10046" y="12112"/>
                  <a:pt x="10050" y="12134"/>
                  <a:pt x="10075" y="12150"/>
                </a:cubicBezTo>
                <a:cubicBezTo>
                  <a:pt x="10138" y="12191"/>
                  <a:pt x="10356" y="12150"/>
                  <a:pt x="10435" y="12150"/>
                </a:cubicBezTo>
                <a:cubicBezTo>
                  <a:pt x="10479" y="12153"/>
                  <a:pt x="10555" y="12130"/>
                  <a:pt x="10583" y="12171"/>
                </a:cubicBezTo>
                <a:cubicBezTo>
                  <a:pt x="10562" y="12171"/>
                  <a:pt x="10555" y="12171"/>
                  <a:pt x="10541" y="12171"/>
                </a:cubicBezTo>
                <a:cubicBezTo>
                  <a:pt x="10486" y="12160"/>
                  <a:pt x="10404" y="12167"/>
                  <a:pt x="10350" y="12150"/>
                </a:cubicBezTo>
                <a:cubicBezTo>
                  <a:pt x="10283" y="12128"/>
                  <a:pt x="10255" y="12112"/>
                  <a:pt x="10181" y="12107"/>
                </a:cubicBezTo>
                <a:cubicBezTo>
                  <a:pt x="10146" y="12105"/>
                  <a:pt x="10062" y="12095"/>
                  <a:pt x="10096" y="12086"/>
                </a:cubicBezTo>
                <a:cubicBezTo>
                  <a:pt x="10248" y="12045"/>
                  <a:pt x="10575" y="12164"/>
                  <a:pt x="10668" y="12065"/>
                </a:cubicBezTo>
                <a:cubicBezTo>
                  <a:pt x="10709" y="12021"/>
                  <a:pt x="10575" y="12024"/>
                  <a:pt x="10520" y="12001"/>
                </a:cubicBezTo>
                <a:cubicBezTo>
                  <a:pt x="10480" y="11984"/>
                  <a:pt x="10374" y="11978"/>
                  <a:pt x="10414" y="11959"/>
                </a:cubicBezTo>
                <a:cubicBezTo>
                  <a:pt x="10449" y="11959"/>
                  <a:pt x="10471" y="11959"/>
                  <a:pt x="10499" y="11959"/>
                </a:cubicBezTo>
                <a:cubicBezTo>
                  <a:pt x="10722" y="11959"/>
                  <a:pt x="11012" y="11969"/>
                  <a:pt x="11197" y="11938"/>
                </a:cubicBezTo>
                <a:cubicBezTo>
                  <a:pt x="11204" y="11938"/>
                  <a:pt x="11211" y="11938"/>
                  <a:pt x="11218" y="119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Ink 14"/>
          <p:cNvSpPr/>
          <p:nvPr/>
        </p:nvSpPr>
        <p:spPr>
          <a:xfrm>
            <a:off x="3176640" y="4389480"/>
            <a:ext cx="2911320" cy="1181160"/>
          </a:xfrm>
          <a:custGeom>
            <a:avLst/>
            <a:gdLst/>
            <a:ahLst/>
            <a:rect l="l" t="t" r="r" b="b"/>
            <a:pathLst>
              <a:path w="8087" h="3282">
                <a:moveTo>
                  <a:pt x="14372" y="12234"/>
                </a:moveTo>
                <a:cubicBezTo>
                  <a:pt x="14372" y="12304"/>
                  <a:pt x="14355" y="12408"/>
                  <a:pt x="14351" y="12446"/>
                </a:cubicBezTo>
                <a:cubicBezTo>
                  <a:pt x="14345" y="12501"/>
                  <a:pt x="14351" y="12559"/>
                  <a:pt x="14351" y="12615"/>
                </a:cubicBezTo>
                <a:cubicBezTo>
                  <a:pt x="14384" y="12648"/>
                  <a:pt x="14381" y="12593"/>
                  <a:pt x="14393" y="12658"/>
                </a:cubicBezTo>
                <a:cubicBezTo>
                  <a:pt x="14405" y="12723"/>
                  <a:pt x="14393" y="12803"/>
                  <a:pt x="14393" y="12869"/>
                </a:cubicBezTo>
                <a:cubicBezTo>
                  <a:pt x="14516" y="12869"/>
                  <a:pt x="14643" y="12878"/>
                  <a:pt x="14753" y="12890"/>
                </a:cubicBezTo>
                <a:cubicBezTo>
                  <a:pt x="14962" y="12913"/>
                  <a:pt x="15189" y="12852"/>
                  <a:pt x="15388" y="12912"/>
                </a:cubicBezTo>
                <a:cubicBezTo>
                  <a:pt x="15418" y="12921"/>
                  <a:pt x="15444" y="12923"/>
                  <a:pt x="15473" y="12933"/>
                </a:cubicBezTo>
                <a:cubicBezTo>
                  <a:pt x="15508" y="12945"/>
                  <a:pt x="15567" y="12969"/>
                  <a:pt x="15579" y="12975"/>
                </a:cubicBezTo>
                <a:cubicBezTo>
                  <a:pt x="15595" y="12983"/>
                  <a:pt x="15615" y="13015"/>
                  <a:pt x="15621" y="13017"/>
                </a:cubicBezTo>
                <a:cubicBezTo>
                  <a:pt x="15657" y="13029"/>
                  <a:pt x="15665" y="13028"/>
                  <a:pt x="15684" y="13039"/>
                </a:cubicBezTo>
                <a:cubicBezTo>
                  <a:pt x="15715" y="13058"/>
                  <a:pt x="15734" y="13073"/>
                  <a:pt x="15769" y="13081"/>
                </a:cubicBezTo>
                <a:cubicBezTo>
                  <a:pt x="15790" y="13081"/>
                  <a:pt x="15797" y="13081"/>
                  <a:pt x="15811" y="13081"/>
                </a:cubicBezTo>
                <a:cubicBezTo>
                  <a:pt x="15811" y="13148"/>
                  <a:pt x="15822" y="13236"/>
                  <a:pt x="15790" y="13271"/>
                </a:cubicBezTo>
                <a:cubicBezTo>
                  <a:pt x="15767" y="13296"/>
                  <a:pt x="15774" y="13289"/>
                  <a:pt x="15727" y="13293"/>
                </a:cubicBezTo>
                <a:cubicBezTo>
                  <a:pt x="15663" y="13298"/>
                  <a:pt x="15613" y="13293"/>
                  <a:pt x="15557" y="13314"/>
                </a:cubicBezTo>
                <a:cubicBezTo>
                  <a:pt x="15511" y="13331"/>
                  <a:pt x="15481" y="13368"/>
                  <a:pt x="15452" y="13377"/>
                </a:cubicBezTo>
                <a:cubicBezTo>
                  <a:pt x="15423" y="13386"/>
                  <a:pt x="15377" y="13377"/>
                  <a:pt x="15346" y="13377"/>
                </a:cubicBezTo>
                <a:cubicBezTo>
                  <a:pt x="15342" y="13430"/>
                  <a:pt x="15351" y="13460"/>
                  <a:pt x="15325" y="13504"/>
                </a:cubicBezTo>
                <a:cubicBezTo>
                  <a:pt x="15299" y="13548"/>
                  <a:pt x="15305" y="13537"/>
                  <a:pt x="15261" y="13547"/>
                </a:cubicBezTo>
                <a:cubicBezTo>
                  <a:pt x="15165" y="13568"/>
                  <a:pt x="15054" y="13546"/>
                  <a:pt x="14965" y="13568"/>
                </a:cubicBezTo>
                <a:cubicBezTo>
                  <a:pt x="14930" y="13577"/>
                  <a:pt x="14841" y="13572"/>
                  <a:pt x="14817" y="13589"/>
                </a:cubicBezTo>
                <a:cubicBezTo>
                  <a:pt x="14792" y="13607"/>
                  <a:pt x="14752" y="13683"/>
                  <a:pt x="14732" y="13695"/>
                </a:cubicBezTo>
                <a:cubicBezTo>
                  <a:pt x="14717" y="13704"/>
                  <a:pt x="14643" y="13732"/>
                  <a:pt x="14626" y="13737"/>
                </a:cubicBezTo>
                <a:cubicBezTo>
                  <a:pt x="14518" y="13766"/>
                  <a:pt x="14361" y="13725"/>
                  <a:pt x="14266" y="13716"/>
                </a:cubicBezTo>
                <a:cubicBezTo>
                  <a:pt x="14225" y="13712"/>
                  <a:pt x="14218" y="13713"/>
                  <a:pt x="14203" y="13737"/>
                </a:cubicBezTo>
                <a:cubicBezTo>
                  <a:pt x="14172" y="13786"/>
                  <a:pt x="14176" y="13836"/>
                  <a:pt x="14160" y="13885"/>
                </a:cubicBezTo>
                <a:cubicBezTo>
                  <a:pt x="14137" y="13956"/>
                  <a:pt x="14160" y="14030"/>
                  <a:pt x="14139" y="14097"/>
                </a:cubicBezTo>
                <a:cubicBezTo>
                  <a:pt x="14116" y="14170"/>
                  <a:pt x="14113" y="14213"/>
                  <a:pt x="14097" y="14287"/>
                </a:cubicBezTo>
                <a:cubicBezTo>
                  <a:pt x="14080" y="14322"/>
                  <a:pt x="14073" y="14327"/>
                  <a:pt x="14076" y="14351"/>
                </a:cubicBezTo>
              </a:path>
              <a:path w="8087" h="3282">
                <a:moveTo>
                  <a:pt x="14160" y="13758"/>
                </a:moveTo>
                <a:cubicBezTo>
                  <a:pt x="14090" y="13758"/>
                  <a:pt x="14019" y="13758"/>
                  <a:pt x="13949" y="13758"/>
                </a:cubicBezTo>
                <a:cubicBezTo>
                  <a:pt x="13937" y="13771"/>
                  <a:pt x="13903" y="13795"/>
                  <a:pt x="13885" y="13822"/>
                </a:cubicBezTo>
                <a:cubicBezTo>
                  <a:pt x="13885" y="13829"/>
                  <a:pt x="13885" y="13836"/>
                  <a:pt x="13885" y="13843"/>
                </a:cubicBezTo>
                <a:cubicBezTo>
                  <a:pt x="13845" y="13853"/>
                  <a:pt x="13865" y="13847"/>
                  <a:pt x="13843" y="13864"/>
                </a:cubicBezTo>
                <a:cubicBezTo>
                  <a:pt x="13739" y="13864"/>
                  <a:pt x="13645" y="13866"/>
                  <a:pt x="13547" y="13885"/>
                </a:cubicBezTo>
                <a:cubicBezTo>
                  <a:pt x="13517" y="13891"/>
                  <a:pt x="13463" y="13904"/>
                  <a:pt x="13441" y="13906"/>
                </a:cubicBezTo>
                <a:cubicBezTo>
                  <a:pt x="13413" y="13909"/>
                  <a:pt x="13383" y="13901"/>
                  <a:pt x="13356" y="13906"/>
                </a:cubicBezTo>
                <a:cubicBezTo>
                  <a:pt x="13349" y="13909"/>
                  <a:pt x="13317" y="13943"/>
                  <a:pt x="13293" y="13949"/>
                </a:cubicBezTo>
                <a:cubicBezTo>
                  <a:pt x="13273" y="13954"/>
                  <a:pt x="13249" y="13943"/>
                  <a:pt x="13229" y="13949"/>
                </a:cubicBezTo>
                <a:cubicBezTo>
                  <a:pt x="13216" y="13956"/>
                  <a:pt x="13198" y="13981"/>
                  <a:pt x="13166" y="13991"/>
                </a:cubicBezTo>
                <a:cubicBezTo>
                  <a:pt x="13144" y="13991"/>
                  <a:pt x="13137" y="13991"/>
                  <a:pt x="13123" y="13991"/>
                </a:cubicBezTo>
                <a:cubicBezTo>
                  <a:pt x="13115" y="13995"/>
                  <a:pt x="13085" y="14025"/>
                  <a:pt x="13060" y="14033"/>
                </a:cubicBezTo>
                <a:cubicBezTo>
                  <a:pt x="13039" y="14033"/>
                  <a:pt x="13031" y="14033"/>
                  <a:pt x="13017" y="14033"/>
                </a:cubicBezTo>
                <a:cubicBezTo>
                  <a:pt x="13015" y="14033"/>
                  <a:pt x="12985" y="14054"/>
                  <a:pt x="12954" y="14055"/>
                </a:cubicBezTo>
                <a:cubicBezTo>
                  <a:pt x="12926" y="14056"/>
                  <a:pt x="12897" y="14053"/>
                  <a:pt x="12869" y="14055"/>
                </a:cubicBezTo>
                <a:cubicBezTo>
                  <a:pt x="12868" y="14055"/>
                  <a:pt x="12836" y="14075"/>
                  <a:pt x="12806" y="14076"/>
                </a:cubicBezTo>
                <a:cubicBezTo>
                  <a:pt x="12778" y="14077"/>
                  <a:pt x="12749" y="14074"/>
                  <a:pt x="12721" y="14076"/>
                </a:cubicBezTo>
                <a:cubicBezTo>
                  <a:pt x="12693" y="14071"/>
                  <a:pt x="12686" y="14056"/>
                  <a:pt x="12658" y="14055"/>
                </a:cubicBezTo>
                <a:cubicBezTo>
                  <a:pt x="12601" y="14053"/>
                  <a:pt x="12545" y="14055"/>
                  <a:pt x="12488" y="14055"/>
                </a:cubicBezTo>
                <a:cubicBezTo>
                  <a:pt x="12477" y="14062"/>
                  <a:pt x="12450" y="14083"/>
                  <a:pt x="12425" y="14097"/>
                </a:cubicBezTo>
                <a:cubicBezTo>
                  <a:pt x="12396" y="14113"/>
                  <a:pt x="12373" y="14117"/>
                  <a:pt x="12340" y="14139"/>
                </a:cubicBezTo>
                <a:cubicBezTo>
                  <a:pt x="12305" y="14162"/>
                  <a:pt x="12274" y="14212"/>
                  <a:pt x="12234" y="14224"/>
                </a:cubicBezTo>
                <a:cubicBezTo>
                  <a:pt x="12167" y="14244"/>
                  <a:pt x="12041" y="14241"/>
                  <a:pt x="11980" y="14245"/>
                </a:cubicBezTo>
                <a:cubicBezTo>
                  <a:pt x="11926" y="14249"/>
                  <a:pt x="11872" y="14226"/>
                  <a:pt x="11832" y="14224"/>
                </a:cubicBezTo>
                <a:cubicBezTo>
                  <a:pt x="11735" y="14219"/>
                  <a:pt x="11682" y="14248"/>
                  <a:pt x="11599" y="14266"/>
                </a:cubicBezTo>
                <a:cubicBezTo>
                  <a:pt x="11578" y="14266"/>
                  <a:pt x="11571" y="14266"/>
                  <a:pt x="11557" y="14266"/>
                </a:cubicBezTo>
                <a:cubicBezTo>
                  <a:pt x="11546" y="14273"/>
                  <a:pt x="11519" y="14295"/>
                  <a:pt x="11493" y="14309"/>
                </a:cubicBezTo>
                <a:cubicBezTo>
                  <a:pt x="11452" y="14332"/>
                  <a:pt x="11455" y="14342"/>
                  <a:pt x="11409" y="14351"/>
                </a:cubicBezTo>
                <a:cubicBezTo>
                  <a:pt x="11299" y="14373"/>
                  <a:pt x="11161" y="14351"/>
                  <a:pt x="11049" y="14351"/>
                </a:cubicBezTo>
                <a:cubicBezTo>
                  <a:pt x="11014" y="14345"/>
                  <a:pt x="10999" y="14333"/>
                  <a:pt x="10964" y="14330"/>
                </a:cubicBezTo>
                <a:cubicBezTo>
                  <a:pt x="10904" y="14325"/>
                  <a:pt x="10840" y="14348"/>
                  <a:pt x="10795" y="14351"/>
                </a:cubicBezTo>
                <a:cubicBezTo>
                  <a:pt x="10718" y="14356"/>
                  <a:pt x="10639" y="14351"/>
                  <a:pt x="10562" y="14351"/>
                </a:cubicBezTo>
                <a:cubicBezTo>
                  <a:pt x="10551" y="14345"/>
                  <a:pt x="10528" y="14319"/>
                  <a:pt x="10499" y="14309"/>
                </a:cubicBezTo>
                <a:cubicBezTo>
                  <a:pt x="10478" y="14302"/>
                  <a:pt x="10411" y="14291"/>
                  <a:pt x="10393" y="14287"/>
                </a:cubicBezTo>
                <a:cubicBezTo>
                  <a:pt x="10386" y="14287"/>
                  <a:pt x="10379" y="14287"/>
                  <a:pt x="10372" y="14287"/>
                </a:cubicBezTo>
                <a:cubicBezTo>
                  <a:pt x="10344" y="14282"/>
                  <a:pt x="10336" y="14267"/>
                  <a:pt x="10308" y="14266"/>
                </a:cubicBezTo>
                <a:cubicBezTo>
                  <a:pt x="10195" y="14262"/>
                  <a:pt x="10070" y="14252"/>
                  <a:pt x="9969" y="14245"/>
                </a:cubicBezTo>
                <a:cubicBezTo>
                  <a:pt x="9906" y="14241"/>
                  <a:pt x="9842" y="14248"/>
                  <a:pt x="9779" y="14245"/>
                </a:cubicBezTo>
                <a:cubicBezTo>
                  <a:pt x="9760" y="14216"/>
                  <a:pt x="9779" y="14231"/>
                  <a:pt x="9737" y="14224"/>
                </a:cubicBezTo>
                <a:cubicBezTo>
                  <a:pt x="9717" y="14212"/>
                  <a:pt x="9715" y="14209"/>
                  <a:pt x="9673" y="14203"/>
                </a:cubicBezTo>
                <a:cubicBezTo>
                  <a:pt x="9666" y="14201"/>
                  <a:pt x="9638" y="14189"/>
                  <a:pt x="9610" y="14182"/>
                </a:cubicBezTo>
                <a:cubicBezTo>
                  <a:pt x="9566" y="14172"/>
                  <a:pt x="9538" y="14162"/>
                  <a:pt x="9483" y="14160"/>
                </a:cubicBezTo>
                <a:cubicBezTo>
                  <a:pt x="9461" y="14160"/>
                  <a:pt x="9454" y="14160"/>
                  <a:pt x="9440" y="14160"/>
                </a:cubicBezTo>
                <a:cubicBezTo>
                  <a:pt x="9439" y="14160"/>
                  <a:pt x="9406" y="14141"/>
                  <a:pt x="9377" y="14139"/>
                </a:cubicBezTo>
                <a:cubicBezTo>
                  <a:pt x="9363" y="14139"/>
                  <a:pt x="9348" y="14139"/>
                  <a:pt x="9334" y="14139"/>
                </a:cubicBezTo>
                <a:cubicBezTo>
                  <a:pt x="9325" y="14133"/>
                  <a:pt x="9289" y="14109"/>
                  <a:pt x="9271" y="14097"/>
                </a:cubicBezTo>
                <a:cubicBezTo>
                  <a:pt x="9270" y="14097"/>
                  <a:pt x="9236" y="14078"/>
                  <a:pt x="9207" y="14076"/>
                </a:cubicBezTo>
                <a:cubicBezTo>
                  <a:pt x="9193" y="14076"/>
                  <a:pt x="9179" y="14076"/>
                  <a:pt x="9165" y="14076"/>
                </a:cubicBezTo>
                <a:cubicBezTo>
                  <a:pt x="9161" y="14075"/>
                  <a:pt x="9132" y="14057"/>
                  <a:pt x="9102" y="14055"/>
                </a:cubicBezTo>
                <a:cubicBezTo>
                  <a:pt x="9095" y="14055"/>
                  <a:pt x="9087" y="14055"/>
                  <a:pt x="9080" y="14055"/>
                </a:cubicBezTo>
                <a:cubicBezTo>
                  <a:pt x="9060" y="14024"/>
                  <a:pt x="9081" y="14041"/>
                  <a:pt x="9038" y="14033"/>
                </a:cubicBezTo>
                <a:cubicBezTo>
                  <a:pt x="9028" y="14025"/>
                  <a:pt x="8992" y="14011"/>
                  <a:pt x="8975" y="13991"/>
                </a:cubicBezTo>
                <a:cubicBezTo>
                  <a:pt x="8975" y="13984"/>
                  <a:pt x="8975" y="13977"/>
                  <a:pt x="8975" y="13970"/>
                </a:cubicBezTo>
              </a:path>
              <a:path w="8087" h="3282">
                <a:moveTo>
                  <a:pt x="8975" y="15346"/>
                </a:moveTo>
                <a:cubicBezTo>
                  <a:pt x="9349" y="15346"/>
                  <a:pt x="9722" y="15346"/>
                  <a:pt x="10096" y="15346"/>
                </a:cubicBezTo>
                <a:cubicBezTo>
                  <a:pt x="10106" y="15349"/>
                  <a:pt x="10124" y="15365"/>
                  <a:pt x="10160" y="15367"/>
                </a:cubicBezTo>
                <a:cubicBezTo>
                  <a:pt x="10188" y="15368"/>
                  <a:pt x="10217" y="15367"/>
                  <a:pt x="10245" y="15367"/>
                </a:cubicBezTo>
                <a:cubicBezTo>
                  <a:pt x="10257" y="15372"/>
                  <a:pt x="10276" y="15380"/>
                  <a:pt x="10308" y="15388"/>
                </a:cubicBezTo>
                <a:cubicBezTo>
                  <a:pt x="10341" y="15396"/>
                  <a:pt x="10357" y="15405"/>
                  <a:pt x="10393" y="15409"/>
                </a:cubicBezTo>
                <a:cubicBezTo>
                  <a:pt x="10482" y="15419"/>
                  <a:pt x="10578" y="15409"/>
                  <a:pt x="10668" y="15409"/>
                </a:cubicBezTo>
                <a:cubicBezTo>
                  <a:pt x="10679" y="15412"/>
                  <a:pt x="10694" y="15428"/>
                  <a:pt x="10731" y="15430"/>
                </a:cubicBezTo>
                <a:cubicBezTo>
                  <a:pt x="11209" y="15450"/>
                  <a:pt x="11692" y="15430"/>
                  <a:pt x="12171" y="15430"/>
                </a:cubicBezTo>
                <a:cubicBezTo>
                  <a:pt x="12182" y="15427"/>
                  <a:pt x="12197" y="15411"/>
                  <a:pt x="12234" y="15409"/>
                </a:cubicBezTo>
                <a:cubicBezTo>
                  <a:pt x="12318" y="15406"/>
                  <a:pt x="12404" y="15409"/>
                  <a:pt x="12488" y="15409"/>
                </a:cubicBezTo>
                <a:cubicBezTo>
                  <a:pt x="12506" y="15382"/>
                  <a:pt x="12503" y="15385"/>
                  <a:pt x="12531" y="15367"/>
                </a:cubicBezTo>
                <a:cubicBezTo>
                  <a:pt x="12509" y="15367"/>
                  <a:pt x="12502" y="15367"/>
                  <a:pt x="12531" y="15367"/>
                </a:cubicBezTo>
                <a:cubicBezTo>
                  <a:pt x="12548" y="15354"/>
                  <a:pt x="12557" y="15335"/>
                  <a:pt x="12594" y="15325"/>
                </a:cubicBezTo>
                <a:cubicBezTo>
                  <a:pt x="12617" y="15318"/>
                  <a:pt x="12629" y="15316"/>
                  <a:pt x="12658" y="15303"/>
                </a:cubicBezTo>
              </a:path>
              <a:path w="8087" h="3282">
                <a:moveTo>
                  <a:pt x="8953" y="14033"/>
                </a:moveTo>
                <a:cubicBezTo>
                  <a:pt x="8953" y="14160"/>
                  <a:pt x="8956" y="14321"/>
                  <a:pt x="8975" y="14414"/>
                </a:cubicBezTo>
                <a:cubicBezTo>
                  <a:pt x="8981" y="14443"/>
                  <a:pt x="8999" y="14462"/>
                  <a:pt x="8996" y="14478"/>
                </a:cubicBezTo>
                <a:cubicBezTo>
                  <a:pt x="8992" y="14497"/>
                  <a:pt x="8951" y="14518"/>
                  <a:pt x="8953" y="14541"/>
                </a:cubicBezTo>
                <a:cubicBezTo>
                  <a:pt x="8956" y="14570"/>
                  <a:pt x="8973" y="14576"/>
                  <a:pt x="8975" y="14605"/>
                </a:cubicBezTo>
                <a:cubicBezTo>
                  <a:pt x="8978" y="14651"/>
                  <a:pt x="8979" y="14646"/>
                  <a:pt x="8996" y="14668"/>
                </a:cubicBezTo>
                <a:cubicBezTo>
                  <a:pt x="9000" y="14673"/>
                  <a:pt x="9013" y="14730"/>
                  <a:pt x="9017" y="14732"/>
                </a:cubicBezTo>
                <a:cubicBezTo>
                  <a:pt x="9057" y="14758"/>
                  <a:pt x="9051" y="14712"/>
                  <a:pt x="9059" y="14774"/>
                </a:cubicBezTo>
                <a:cubicBezTo>
                  <a:pt x="9065" y="14820"/>
                  <a:pt x="9059" y="14822"/>
                  <a:pt x="9059" y="14774"/>
                </a:cubicBezTo>
                <a:cubicBezTo>
                  <a:pt x="9059" y="14715"/>
                  <a:pt x="9055" y="14657"/>
                  <a:pt x="9038" y="14626"/>
                </a:cubicBezTo>
                <a:cubicBezTo>
                  <a:pt x="9021" y="14594"/>
                  <a:pt x="9004" y="14577"/>
                  <a:pt x="8996" y="14541"/>
                </a:cubicBezTo>
                <a:cubicBezTo>
                  <a:pt x="8996" y="14520"/>
                  <a:pt x="8996" y="14513"/>
                  <a:pt x="8996" y="14499"/>
                </a:cubicBezTo>
                <a:cubicBezTo>
                  <a:pt x="8996" y="14485"/>
                  <a:pt x="8996" y="14380"/>
                  <a:pt x="8996" y="14436"/>
                </a:cubicBezTo>
                <a:cubicBezTo>
                  <a:pt x="8996" y="14505"/>
                  <a:pt x="9007" y="14568"/>
                  <a:pt x="9017" y="14626"/>
                </a:cubicBezTo>
                <a:cubicBezTo>
                  <a:pt x="9029" y="14699"/>
                  <a:pt x="9017" y="14785"/>
                  <a:pt x="9017" y="14859"/>
                </a:cubicBezTo>
                <a:cubicBezTo>
                  <a:pt x="9022" y="14816"/>
                  <a:pt x="9036" y="14798"/>
                  <a:pt x="9038" y="14753"/>
                </a:cubicBezTo>
                <a:cubicBezTo>
                  <a:pt x="9040" y="14718"/>
                  <a:pt x="9023" y="14703"/>
                  <a:pt x="9017" y="14668"/>
                </a:cubicBezTo>
                <a:cubicBezTo>
                  <a:pt x="9010" y="14628"/>
                  <a:pt x="9020" y="14613"/>
                  <a:pt x="8996" y="14647"/>
                </a:cubicBezTo>
                <a:cubicBezTo>
                  <a:pt x="8975" y="14676"/>
                  <a:pt x="8968" y="14702"/>
                  <a:pt x="8953" y="14732"/>
                </a:cubicBezTo>
                <a:cubicBezTo>
                  <a:pt x="8939" y="14760"/>
                  <a:pt x="8945" y="14845"/>
                  <a:pt x="8932" y="14817"/>
                </a:cubicBezTo>
                <a:cubicBezTo>
                  <a:pt x="8909" y="14769"/>
                  <a:pt x="8951" y="14713"/>
                  <a:pt x="8953" y="14668"/>
                </a:cubicBezTo>
                <a:cubicBezTo>
                  <a:pt x="8958" y="14549"/>
                  <a:pt x="8953" y="14428"/>
                  <a:pt x="8953" y="14309"/>
                </a:cubicBezTo>
                <a:cubicBezTo>
                  <a:pt x="8940" y="14330"/>
                  <a:pt x="8934" y="14343"/>
                  <a:pt x="8932" y="14393"/>
                </a:cubicBezTo>
                <a:cubicBezTo>
                  <a:pt x="8926" y="14548"/>
                  <a:pt x="8929" y="14717"/>
                  <a:pt x="8953" y="14859"/>
                </a:cubicBezTo>
                <a:cubicBezTo>
                  <a:pt x="8971" y="14970"/>
                  <a:pt x="8927" y="15120"/>
                  <a:pt x="8975" y="15198"/>
                </a:cubicBezTo>
                <a:cubicBezTo>
                  <a:pt x="8984" y="15212"/>
                  <a:pt x="9005" y="15246"/>
                  <a:pt x="9017" y="15261"/>
                </a:cubicBezTo>
                <a:cubicBezTo>
                  <a:pt x="9041" y="15291"/>
                  <a:pt x="9036" y="15275"/>
                  <a:pt x="9038" y="15240"/>
                </a:cubicBezTo>
                <a:cubicBezTo>
                  <a:pt x="9042" y="15180"/>
                  <a:pt x="9044" y="15174"/>
                  <a:pt x="9038" y="15176"/>
                </a:cubicBezTo>
                <a:cubicBezTo>
                  <a:pt x="9024" y="15182"/>
                  <a:pt x="9018" y="15215"/>
                  <a:pt x="9017" y="15240"/>
                </a:cubicBezTo>
                <a:cubicBezTo>
                  <a:pt x="9017" y="15261"/>
                  <a:pt x="9017" y="15268"/>
                  <a:pt x="9017" y="15282"/>
                </a:cubicBezTo>
                <a:cubicBezTo>
                  <a:pt x="9244" y="15282"/>
                  <a:pt x="9531" y="15328"/>
                  <a:pt x="9737" y="15261"/>
                </a:cubicBezTo>
                <a:cubicBezTo>
                  <a:pt x="9674" y="15240"/>
                  <a:pt x="9638" y="15240"/>
                  <a:pt x="9567" y="15240"/>
                </a:cubicBezTo>
                <a:cubicBezTo>
                  <a:pt x="9495" y="15240"/>
                  <a:pt x="9443" y="15230"/>
                  <a:pt x="9377" y="15219"/>
                </a:cubicBezTo>
                <a:cubicBezTo>
                  <a:pt x="9325" y="15210"/>
                  <a:pt x="9278" y="15201"/>
                  <a:pt x="9229" y="15198"/>
                </a:cubicBezTo>
                <a:cubicBezTo>
                  <a:pt x="9192" y="15196"/>
                  <a:pt x="9171" y="15181"/>
                  <a:pt x="9144" y="15176"/>
                </a:cubicBezTo>
                <a:cubicBezTo>
                  <a:pt x="9101" y="15169"/>
                  <a:pt x="9113" y="15161"/>
                  <a:pt x="9080" y="15155"/>
                </a:cubicBezTo>
                <a:cubicBezTo>
                  <a:pt x="9061" y="15151"/>
                  <a:pt x="9036" y="15155"/>
                  <a:pt x="9017" y="15155"/>
                </a:cubicBezTo>
                <a:cubicBezTo>
                  <a:pt x="9151" y="15155"/>
                  <a:pt x="9285" y="15155"/>
                  <a:pt x="9419" y="15155"/>
                </a:cubicBezTo>
                <a:cubicBezTo>
                  <a:pt x="9357" y="15155"/>
                  <a:pt x="9303" y="15151"/>
                  <a:pt x="9250" y="15134"/>
                </a:cubicBezTo>
                <a:cubicBezTo>
                  <a:pt x="9208" y="15120"/>
                  <a:pt x="9163" y="15105"/>
                  <a:pt x="9123" y="15092"/>
                </a:cubicBezTo>
                <a:cubicBezTo>
                  <a:pt x="9088" y="15080"/>
                  <a:pt x="9259" y="15072"/>
                  <a:pt x="9292" y="15071"/>
                </a:cubicBezTo>
                <a:cubicBezTo>
                  <a:pt x="9417" y="15068"/>
                  <a:pt x="9608" y="15105"/>
                  <a:pt x="9715" y="15049"/>
                </a:cubicBezTo>
                <a:cubicBezTo>
                  <a:pt x="9708" y="15049"/>
                  <a:pt x="9701" y="15049"/>
                  <a:pt x="9694" y="15049"/>
                </a:cubicBezTo>
                <a:cubicBezTo>
                  <a:pt x="9639" y="15034"/>
                  <a:pt x="9592" y="15028"/>
                  <a:pt x="9525" y="15028"/>
                </a:cubicBezTo>
                <a:cubicBezTo>
                  <a:pt x="9390" y="15028"/>
                  <a:pt x="9222" y="15052"/>
                  <a:pt x="9102" y="15007"/>
                </a:cubicBezTo>
                <a:cubicBezTo>
                  <a:pt x="9105" y="15007"/>
                  <a:pt x="9284" y="15006"/>
                  <a:pt x="9271" y="14986"/>
                </a:cubicBezTo>
                <a:cubicBezTo>
                  <a:pt x="9249" y="14953"/>
                  <a:pt x="9105" y="15005"/>
                  <a:pt x="9102" y="15007"/>
                </a:cubicBezTo>
                <a:cubicBezTo>
                  <a:pt x="9077" y="15027"/>
                  <a:pt x="9068" y="15055"/>
                  <a:pt x="9059" y="14986"/>
                </a:cubicBezTo>
                <a:cubicBezTo>
                  <a:pt x="9050" y="14916"/>
                  <a:pt x="9050" y="14790"/>
                  <a:pt x="9080" y="14753"/>
                </a:cubicBezTo>
                <a:cubicBezTo>
                  <a:pt x="9094" y="14737"/>
                  <a:pt x="9113" y="14734"/>
                  <a:pt x="9144" y="14732"/>
                </a:cubicBezTo>
                <a:cubicBezTo>
                  <a:pt x="9228" y="14727"/>
                  <a:pt x="9314" y="14732"/>
                  <a:pt x="9398" y="14732"/>
                </a:cubicBezTo>
                <a:cubicBezTo>
                  <a:pt x="9496" y="14732"/>
                  <a:pt x="9397" y="14732"/>
                  <a:pt x="9377" y="14732"/>
                </a:cubicBezTo>
                <a:cubicBezTo>
                  <a:pt x="9307" y="14732"/>
                  <a:pt x="9224" y="14723"/>
                  <a:pt x="9186" y="14753"/>
                </a:cubicBezTo>
                <a:cubicBezTo>
                  <a:pt x="9135" y="14794"/>
                  <a:pt x="9188" y="14769"/>
                  <a:pt x="9207" y="14817"/>
                </a:cubicBezTo>
                <a:cubicBezTo>
                  <a:pt x="9242" y="14906"/>
                  <a:pt x="9341" y="14913"/>
                  <a:pt x="9440" y="14922"/>
                </a:cubicBezTo>
                <a:cubicBezTo>
                  <a:pt x="9512" y="14928"/>
                  <a:pt x="9591" y="14922"/>
                  <a:pt x="9483" y="14922"/>
                </a:cubicBezTo>
                <a:cubicBezTo>
                  <a:pt x="9405" y="14922"/>
                  <a:pt x="9328" y="14922"/>
                  <a:pt x="9250" y="14922"/>
                </a:cubicBezTo>
                <a:cubicBezTo>
                  <a:pt x="9303" y="14928"/>
                  <a:pt x="9316" y="14942"/>
                  <a:pt x="9377" y="14944"/>
                </a:cubicBezTo>
                <a:cubicBezTo>
                  <a:pt x="9459" y="14947"/>
                  <a:pt x="9855" y="14944"/>
                  <a:pt x="9800" y="14944"/>
                </a:cubicBezTo>
                <a:cubicBezTo>
                  <a:pt x="9772" y="14944"/>
                  <a:pt x="9758" y="14944"/>
                  <a:pt x="9737" y="14944"/>
                </a:cubicBezTo>
                <a:cubicBezTo>
                  <a:pt x="9650" y="14944"/>
                  <a:pt x="9418" y="14944"/>
                  <a:pt x="9398" y="14944"/>
                </a:cubicBezTo>
                <a:cubicBezTo>
                  <a:pt x="9472" y="14944"/>
                  <a:pt x="9789" y="14962"/>
                  <a:pt x="9715" y="14944"/>
                </a:cubicBezTo>
                <a:cubicBezTo>
                  <a:pt x="9582" y="14912"/>
                  <a:pt x="9446" y="14923"/>
                  <a:pt x="9313" y="14880"/>
                </a:cubicBezTo>
                <a:cubicBezTo>
                  <a:pt x="9186" y="14839"/>
                  <a:pt x="9061" y="14790"/>
                  <a:pt x="8932" y="14753"/>
                </a:cubicBezTo>
                <a:cubicBezTo>
                  <a:pt x="8900" y="14744"/>
                  <a:pt x="8859" y="14721"/>
                  <a:pt x="8826" y="14711"/>
                </a:cubicBezTo>
                <a:cubicBezTo>
                  <a:pt x="8897" y="14730"/>
                  <a:pt x="8966" y="14741"/>
                  <a:pt x="9038" y="14753"/>
                </a:cubicBezTo>
                <a:cubicBezTo>
                  <a:pt x="9121" y="14766"/>
                  <a:pt x="9189" y="14791"/>
                  <a:pt x="9271" y="14795"/>
                </a:cubicBezTo>
                <a:cubicBezTo>
                  <a:pt x="9331" y="14798"/>
                  <a:pt x="9413" y="14779"/>
                  <a:pt x="9440" y="14774"/>
                </a:cubicBezTo>
                <a:cubicBezTo>
                  <a:pt x="9443" y="14773"/>
                  <a:pt x="9597" y="14762"/>
                  <a:pt x="9567" y="14753"/>
                </a:cubicBezTo>
                <a:cubicBezTo>
                  <a:pt x="9529" y="14742"/>
                  <a:pt x="9449" y="14736"/>
                  <a:pt x="9419" y="14732"/>
                </a:cubicBezTo>
                <a:cubicBezTo>
                  <a:pt x="9378" y="14727"/>
                  <a:pt x="9334" y="14732"/>
                  <a:pt x="9292" y="14732"/>
                </a:cubicBezTo>
                <a:cubicBezTo>
                  <a:pt x="9334" y="14732"/>
                  <a:pt x="9335" y="14732"/>
                  <a:pt x="9377" y="14732"/>
                </a:cubicBezTo>
                <a:cubicBezTo>
                  <a:pt x="9425" y="14732"/>
                  <a:pt x="9682" y="14732"/>
                  <a:pt x="9588" y="14732"/>
                </a:cubicBezTo>
                <a:cubicBezTo>
                  <a:pt x="9560" y="14732"/>
                  <a:pt x="9532" y="14732"/>
                  <a:pt x="9504" y="14732"/>
                </a:cubicBezTo>
                <a:cubicBezTo>
                  <a:pt x="9337" y="14732"/>
                  <a:pt x="9192" y="14700"/>
                  <a:pt x="9038" y="14690"/>
                </a:cubicBezTo>
                <a:cubicBezTo>
                  <a:pt x="9032" y="14690"/>
                  <a:pt x="8886" y="14654"/>
                  <a:pt x="8890" y="14647"/>
                </a:cubicBezTo>
                <a:cubicBezTo>
                  <a:pt x="8911" y="14604"/>
                  <a:pt x="9399" y="14647"/>
                  <a:pt x="9504" y="14647"/>
                </a:cubicBezTo>
                <a:cubicBezTo>
                  <a:pt x="9455" y="14647"/>
                  <a:pt x="9446" y="14656"/>
                  <a:pt x="9398" y="14647"/>
                </a:cubicBezTo>
                <a:cubicBezTo>
                  <a:pt x="9297" y="14628"/>
                  <a:pt x="9206" y="14626"/>
                  <a:pt x="9102" y="14626"/>
                </a:cubicBezTo>
                <a:cubicBezTo>
                  <a:pt x="9066" y="14626"/>
                  <a:pt x="9059" y="14626"/>
                  <a:pt x="9038" y="14626"/>
                </a:cubicBezTo>
                <a:cubicBezTo>
                  <a:pt x="9158" y="14626"/>
                  <a:pt x="9278" y="14626"/>
                  <a:pt x="9398" y="14626"/>
                </a:cubicBezTo>
                <a:cubicBezTo>
                  <a:pt x="9499" y="14601"/>
                  <a:pt x="9363" y="14607"/>
                  <a:pt x="9334" y="14605"/>
                </a:cubicBezTo>
                <a:cubicBezTo>
                  <a:pt x="9287" y="14603"/>
                  <a:pt x="9244" y="14607"/>
                  <a:pt x="9207" y="14584"/>
                </a:cubicBezTo>
                <a:cubicBezTo>
                  <a:pt x="9159" y="14555"/>
                  <a:pt x="9231" y="14563"/>
                  <a:pt x="9271" y="14563"/>
                </a:cubicBezTo>
                <a:cubicBezTo>
                  <a:pt x="9394" y="14563"/>
                  <a:pt x="9605" y="14629"/>
                  <a:pt x="9419" y="14541"/>
                </a:cubicBezTo>
                <a:cubicBezTo>
                  <a:pt x="9333" y="14500"/>
                  <a:pt x="9216" y="14442"/>
                  <a:pt x="9144" y="14393"/>
                </a:cubicBezTo>
                <a:cubicBezTo>
                  <a:pt x="9094" y="14359"/>
                  <a:pt x="9026" y="14362"/>
                  <a:pt x="8996" y="14309"/>
                </a:cubicBezTo>
                <a:cubicBezTo>
                  <a:pt x="8975" y="14272"/>
                  <a:pt x="9068" y="14287"/>
                  <a:pt x="9080" y="14287"/>
                </a:cubicBezTo>
                <a:cubicBezTo>
                  <a:pt x="9151" y="14287"/>
                  <a:pt x="9221" y="14287"/>
                  <a:pt x="9292" y="14287"/>
                </a:cubicBezTo>
                <a:cubicBezTo>
                  <a:pt x="9241" y="14287"/>
                  <a:pt x="9080" y="14287"/>
                  <a:pt x="9102" y="14287"/>
                </a:cubicBezTo>
                <a:cubicBezTo>
                  <a:pt x="9204" y="14287"/>
                  <a:pt x="9133" y="14300"/>
                  <a:pt x="9123" y="14287"/>
                </a:cubicBezTo>
                <a:cubicBezTo>
                  <a:pt x="9095" y="14251"/>
                  <a:pt x="9119" y="14238"/>
                  <a:pt x="9102" y="14203"/>
                </a:cubicBezTo>
                <a:cubicBezTo>
                  <a:pt x="9095" y="14189"/>
                  <a:pt x="9060" y="14165"/>
                  <a:pt x="9059" y="14160"/>
                </a:cubicBezTo>
                <a:cubicBezTo>
                  <a:pt x="9047" y="14118"/>
                  <a:pt x="9062" y="14142"/>
                  <a:pt x="9038" y="14118"/>
                </a:cubicBezTo>
                <a:cubicBezTo>
                  <a:pt x="9064" y="14105"/>
                  <a:pt x="9065" y="14097"/>
                  <a:pt x="9123" y="14097"/>
                </a:cubicBezTo>
                <a:cubicBezTo>
                  <a:pt x="9164" y="14097"/>
                  <a:pt x="9220" y="14078"/>
                  <a:pt x="9229" y="14076"/>
                </a:cubicBezTo>
                <a:cubicBezTo>
                  <a:pt x="9277" y="14066"/>
                  <a:pt x="9318" y="14085"/>
                  <a:pt x="9356" y="14097"/>
                </a:cubicBezTo>
                <a:cubicBezTo>
                  <a:pt x="9392" y="14108"/>
                  <a:pt x="9438" y="14123"/>
                  <a:pt x="9461" y="14139"/>
                </a:cubicBezTo>
                <a:cubicBezTo>
                  <a:pt x="9489" y="14158"/>
                  <a:pt x="9532" y="14151"/>
                  <a:pt x="9546" y="14182"/>
                </a:cubicBezTo>
                <a:cubicBezTo>
                  <a:pt x="9564" y="14223"/>
                  <a:pt x="9499" y="14195"/>
                  <a:pt x="9483" y="14203"/>
                </a:cubicBezTo>
                <a:cubicBezTo>
                  <a:pt x="9466" y="14212"/>
                  <a:pt x="9469" y="14237"/>
                  <a:pt x="9440" y="14245"/>
                </a:cubicBezTo>
                <a:cubicBezTo>
                  <a:pt x="9376" y="14263"/>
                  <a:pt x="9281" y="14230"/>
                  <a:pt x="9250" y="14224"/>
                </a:cubicBezTo>
                <a:cubicBezTo>
                  <a:pt x="9229" y="14220"/>
                  <a:pt x="9207" y="14227"/>
                  <a:pt x="9186" y="14224"/>
                </a:cubicBezTo>
                <a:cubicBezTo>
                  <a:pt x="9166" y="14224"/>
                  <a:pt x="9033" y="14224"/>
                  <a:pt x="9080" y="14224"/>
                </a:cubicBezTo>
                <a:cubicBezTo>
                  <a:pt x="9154" y="14224"/>
                  <a:pt x="9250" y="14237"/>
                  <a:pt x="9292" y="14245"/>
                </a:cubicBezTo>
                <a:cubicBezTo>
                  <a:pt x="9364" y="14259"/>
                  <a:pt x="9415" y="14279"/>
                  <a:pt x="9483" y="14309"/>
                </a:cubicBezTo>
                <a:cubicBezTo>
                  <a:pt x="9546" y="14336"/>
                  <a:pt x="9605" y="14368"/>
                  <a:pt x="9673" y="14372"/>
                </a:cubicBezTo>
                <a:cubicBezTo>
                  <a:pt x="9712" y="14374"/>
                  <a:pt x="9744" y="14387"/>
                  <a:pt x="9758" y="14393"/>
                </a:cubicBezTo>
                <a:cubicBezTo>
                  <a:pt x="9793" y="14408"/>
                  <a:pt x="9902" y="14414"/>
                  <a:pt x="9864" y="14414"/>
                </a:cubicBezTo>
                <a:cubicBezTo>
                  <a:pt x="9693" y="14414"/>
                  <a:pt x="9489" y="14439"/>
                  <a:pt x="9334" y="14393"/>
                </a:cubicBezTo>
                <a:cubicBezTo>
                  <a:pt x="9408" y="14393"/>
                  <a:pt x="9775" y="14399"/>
                  <a:pt x="9694" y="14372"/>
                </a:cubicBezTo>
                <a:cubicBezTo>
                  <a:pt x="9686" y="14369"/>
                  <a:pt x="9582" y="14318"/>
                  <a:pt x="9546" y="14309"/>
                </a:cubicBezTo>
                <a:cubicBezTo>
                  <a:pt x="9539" y="14307"/>
                  <a:pt x="9404" y="14309"/>
                  <a:pt x="9461" y="14309"/>
                </a:cubicBezTo>
                <a:cubicBezTo>
                  <a:pt x="9532" y="14309"/>
                  <a:pt x="9602" y="14309"/>
                  <a:pt x="9673" y="14309"/>
                </a:cubicBezTo>
                <a:cubicBezTo>
                  <a:pt x="9701" y="14309"/>
                  <a:pt x="9730" y="14309"/>
                  <a:pt x="9758" y="14309"/>
                </a:cubicBezTo>
                <a:cubicBezTo>
                  <a:pt x="9659" y="14309"/>
                  <a:pt x="9525" y="14317"/>
                  <a:pt x="9461" y="14330"/>
                </a:cubicBezTo>
                <a:cubicBezTo>
                  <a:pt x="9419" y="14338"/>
                  <a:pt x="9408" y="14333"/>
                  <a:pt x="9377" y="14372"/>
                </a:cubicBezTo>
                <a:cubicBezTo>
                  <a:pt x="9347" y="14408"/>
                  <a:pt x="9370" y="14417"/>
                  <a:pt x="9356" y="14457"/>
                </a:cubicBezTo>
                <a:cubicBezTo>
                  <a:pt x="9348" y="14482"/>
                  <a:pt x="9343" y="14514"/>
                  <a:pt x="9334" y="14541"/>
                </a:cubicBezTo>
                <a:cubicBezTo>
                  <a:pt x="9318" y="14587"/>
                  <a:pt x="9340" y="14465"/>
                  <a:pt x="9334" y="14436"/>
                </a:cubicBezTo>
                <a:cubicBezTo>
                  <a:pt x="9327" y="14402"/>
                  <a:pt x="9304" y="14348"/>
                  <a:pt x="9271" y="14330"/>
                </a:cubicBezTo>
                <a:cubicBezTo>
                  <a:pt x="9220" y="14303"/>
                  <a:pt x="9225" y="14326"/>
                  <a:pt x="9207" y="14330"/>
                </a:cubicBezTo>
                <a:cubicBezTo>
                  <a:pt x="9200" y="14330"/>
                  <a:pt x="9193" y="14330"/>
                  <a:pt x="9186" y="14330"/>
                </a:cubicBezTo>
                <a:cubicBezTo>
                  <a:pt x="9186" y="14377"/>
                  <a:pt x="9168" y="14484"/>
                  <a:pt x="9207" y="14499"/>
                </a:cubicBezTo>
                <a:cubicBezTo>
                  <a:pt x="9264" y="14521"/>
                  <a:pt x="9245" y="14471"/>
                  <a:pt x="9250" y="14436"/>
                </a:cubicBezTo>
                <a:cubicBezTo>
                  <a:pt x="9250" y="14429"/>
                  <a:pt x="9250" y="14421"/>
                  <a:pt x="9250" y="14414"/>
                </a:cubicBezTo>
                <a:cubicBezTo>
                  <a:pt x="9239" y="14316"/>
                  <a:pt x="9212" y="14309"/>
                  <a:pt x="9144" y="14245"/>
                </a:cubicBezTo>
                <a:cubicBezTo>
                  <a:pt x="9115" y="14217"/>
                  <a:pt x="9079" y="14160"/>
                  <a:pt x="9038" y="14160"/>
                </a:cubicBezTo>
                <a:cubicBezTo>
                  <a:pt x="9005" y="14160"/>
                  <a:pt x="8998" y="14190"/>
                  <a:pt x="8996" y="14224"/>
                </a:cubicBezTo>
                <a:cubicBezTo>
                  <a:pt x="8993" y="14283"/>
                  <a:pt x="8981" y="14365"/>
                  <a:pt x="8975" y="14393"/>
                </a:cubicBezTo>
                <a:cubicBezTo>
                  <a:pt x="8975" y="14414"/>
                  <a:pt x="8975" y="14422"/>
                  <a:pt x="8975" y="14436"/>
                </a:cubicBezTo>
                <a:cubicBezTo>
                  <a:pt x="9006" y="14448"/>
                  <a:pt x="9018" y="14466"/>
                  <a:pt x="9059" y="14457"/>
                </a:cubicBezTo>
                <a:cubicBezTo>
                  <a:pt x="9095" y="14449"/>
                  <a:pt x="9113" y="14441"/>
                  <a:pt x="9123" y="14414"/>
                </a:cubicBezTo>
                <a:cubicBezTo>
                  <a:pt x="9129" y="14398"/>
                  <a:pt x="9136" y="14307"/>
                  <a:pt x="9102" y="14330"/>
                </a:cubicBezTo>
                <a:cubicBezTo>
                  <a:pt x="9072" y="14350"/>
                  <a:pt x="9120" y="14501"/>
                  <a:pt x="9123" y="14520"/>
                </a:cubicBezTo>
                <a:cubicBezTo>
                  <a:pt x="9130" y="14563"/>
                  <a:pt x="9121" y="14568"/>
                  <a:pt x="9144" y="14605"/>
                </a:cubicBezTo>
                <a:cubicBezTo>
                  <a:pt x="9163" y="14636"/>
                  <a:pt x="9163" y="14618"/>
                  <a:pt x="9165" y="14584"/>
                </a:cubicBezTo>
                <a:cubicBezTo>
                  <a:pt x="9165" y="14563"/>
                  <a:pt x="9165" y="14555"/>
                  <a:pt x="9165" y="14541"/>
                </a:cubicBezTo>
                <a:cubicBezTo>
                  <a:pt x="9165" y="14510"/>
                  <a:pt x="9165" y="14358"/>
                  <a:pt x="9165" y="14393"/>
                </a:cubicBezTo>
                <a:cubicBezTo>
                  <a:pt x="9165" y="14401"/>
                  <a:pt x="9168" y="14509"/>
                  <a:pt x="9144" y="14478"/>
                </a:cubicBezTo>
                <a:cubicBezTo>
                  <a:pt x="9122" y="14450"/>
                  <a:pt x="9107" y="14407"/>
                  <a:pt x="9102" y="14372"/>
                </a:cubicBezTo>
                <a:cubicBezTo>
                  <a:pt x="9098" y="14339"/>
                  <a:pt x="9122" y="14246"/>
                  <a:pt x="9080" y="14245"/>
                </a:cubicBezTo>
                <a:cubicBezTo>
                  <a:pt x="9080" y="14252"/>
                  <a:pt x="9080" y="14259"/>
                  <a:pt x="9080" y="14266"/>
                </a:cubicBezTo>
                <a:cubicBezTo>
                  <a:pt x="9068" y="14300"/>
                  <a:pt x="9042" y="14363"/>
                  <a:pt x="9038" y="14393"/>
                </a:cubicBezTo>
                <a:cubicBezTo>
                  <a:pt x="9031" y="14451"/>
                  <a:pt x="9023" y="14508"/>
                  <a:pt x="9017" y="14563"/>
                </a:cubicBezTo>
                <a:cubicBezTo>
                  <a:pt x="9011" y="14613"/>
                  <a:pt x="9021" y="14630"/>
                  <a:pt x="9038" y="14668"/>
                </a:cubicBezTo>
                <a:cubicBezTo>
                  <a:pt x="9062" y="14722"/>
                  <a:pt x="9061" y="14703"/>
                  <a:pt x="9080" y="14690"/>
                </a:cubicBezTo>
                <a:cubicBezTo>
                  <a:pt x="9114" y="14667"/>
                  <a:pt x="9082" y="14662"/>
                  <a:pt x="9102" y="14711"/>
                </a:cubicBezTo>
                <a:cubicBezTo>
                  <a:pt x="9120" y="14756"/>
                  <a:pt x="9141" y="14761"/>
                  <a:pt x="9144" y="14817"/>
                </a:cubicBezTo>
                <a:cubicBezTo>
                  <a:pt x="9148" y="14885"/>
                  <a:pt x="9147" y="14847"/>
                  <a:pt x="9165" y="14859"/>
                </a:cubicBezTo>
                <a:cubicBezTo>
                  <a:pt x="9188" y="14875"/>
                  <a:pt x="9141" y="14887"/>
                  <a:pt x="9165" y="14901"/>
                </a:cubicBezTo>
                <a:cubicBezTo>
                  <a:pt x="9194" y="14918"/>
                  <a:pt x="9231" y="14892"/>
                  <a:pt x="9250" y="14880"/>
                </a:cubicBezTo>
                <a:cubicBezTo>
                  <a:pt x="9257" y="14873"/>
                  <a:pt x="9264" y="14866"/>
                  <a:pt x="9271" y="14859"/>
                </a:cubicBezTo>
              </a:path>
              <a:path w="8087" h="3282">
                <a:moveTo>
                  <a:pt x="9715" y="14880"/>
                </a:moveTo>
                <a:cubicBezTo>
                  <a:pt x="9755" y="14875"/>
                  <a:pt x="9788" y="14867"/>
                  <a:pt x="9821" y="14859"/>
                </a:cubicBezTo>
                <a:cubicBezTo>
                  <a:pt x="9878" y="14845"/>
                  <a:pt x="9931" y="14824"/>
                  <a:pt x="9991" y="14817"/>
                </a:cubicBezTo>
                <a:cubicBezTo>
                  <a:pt x="10048" y="14811"/>
                  <a:pt x="10082" y="14830"/>
                  <a:pt x="10075" y="14817"/>
                </a:cubicBezTo>
                <a:cubicBezTo>
                  <a:pt x="10055" y="14780"/>
                  <a:pt x="9919" y="14757"/>
                  <a:pt x="9885" y="14753"/>
                </a:cubicBezTo>
                <a:cubicBezTo>
                  <a:pt x="9710" y="14733"/>
                  <a:pt x="9519" y="14775"/>
                  <a:pt x="9356" y="14732"/>
                </a:cubicBezTo>
                <a:cubicBezTo>
                  <a:pt x="9320" y="14722"/>
                  <a:pt x="9239" y="14730"/>
                  <a:pt x="9334" y="14711"/>
                </a:cubicBezTo>
                <a:cubicBezTo>
                  <a:pt x="9583" y="14662"/>
                  <a:pt x="10266" y="14711"/>
                  <a:pt x="10012" y="14711"/>
                </a:cubicBezTo>
                <a:cubicBezTo>
                  <a:pt x="9840" y="14711"/>
                  <a:pt x="9688" y="14655"/>
                  <a:pt x="9525" y="14626"/>
                </a:cubicBezTo>
                <a:cubicBezTo>
                  <a:pt x="9484" y="14619"/>
                  <a:pt x="9351" y="14607"/>
                  <a:pt x="9334" y="14605"/>
                </a:cubicBezTo>
                <a:cubicBezTo>
                  <a:pt x="9327" y="14605"/>
                  <a:pt x="9320" y="14605"/>
                  <a:pt x="9313" y="14605"/>
                </a:cubicBezTo>
                <a:cubicBezTo>
                  <a:pt x="9519" y="14605"/>
                  <a:pt x="9725" y="14595"/>
                  <a:pt x="9927" y="14626"/>
                </a:cubicBezTo>
                <a:cubicBezTo>
                  <a:pt x="9953" y="14630"/>
                  <a:pt x="10171" y="14665"/>
                  <a:pt x="10012" y="14647"/>
                </a:cubicBezTo>
                <a:cubicBezTo>
                  <a:pt x="9909" y="14635"/>
                  <a:pt x="9740" y="14621"/>
                  <a:pt x="9673" y="14584"/>
                </a:cubicBezTo>
                <a:cubicBezTo>
                  <a:pt x="9605" y="14546"/>
                  <a:pt x="9715" y="14586"/>
                  <a:pt x="9779" y="14584"/>
                </a:cubicBezTo>
                <a:cubicBezTo>
                  <a:pt x="9825" y="14583"/>
                  <a:pt x="10091" y="14575"/>
                  <a:pt x="9991" y="14563"/>
                </a:cubicBezTo>
                <a:cubicBezTo>
                  <a:pt x="9897" y="14552"/>
                  <a:pt x="9829" y="14554"/>
                  <a:pt x="9737" y="14520"/>
                </a:cubicBezTo>
                <a:cubicBezTo>
                  <a:pt x="9644" y="14486"/>
                  <a:pt x="9595" y="14498"/>
                  <a:pt x="9504" y="14478"/>
                </a:cubicBezTo>
                <a:cubicBezTo>
                  <a:pt x="9437" y="14463"/>
                  <a:pt x="9485" y="14478"/>
                  <a:pt x="9546" y="14478"/>
                </a:cubicBezTo>
                <a:cubicBezTo>
                  <a:pt x="9622" y="14478"/>
                  <a:pt x="9694" y="14486"/>
                  <a:pt x="9758" y="14499"/>
                </a:cubicBezTo>
                <a:cubicBezTo>
                  <a:pt x="9788" y="14505"/>
                  <a:pt x="9896" y="14514"/>
                  <a:pt x="9864" y="14520"/>
                </a:cubicBezTo>
                <a:cubicBezTo>
                  <a:pt x="9782" y="14536"/>
                  <a:pt x="9689" y="14514"/>
                  <a:pt x="9610" y="14499"/>
                </a:cubicBezTo>
                <a:cubicBezTo>
                  <a:pt x="9525" y="14495"/>
                  <a:pt x="9439" y="14494"/>
                  <a:pt x="9356" y="14478"/>
                </a:cubicBezTo>
                <a:cubicBezTo>
                  <a:pt x="9292" y="14465"/>
                  <a:pt x="9502" y="14499"/>
                  <a:pt x="9504" y="14499"/>
                </a:cubicBezTo>
                <a:cubicBezTo>
                  <a:pt x="9607" y="14537"/>
                  <a:pt x="9694" y="14563"/>
                  <a:pt x="9800" y="14584"/>
                </a:cubicBezTo>
                <a:cubicBezTo>
                  <a:pt x="9872" y="14598"/>
                  <a:pt x="9962" y="14620"/>
                  <a:pt x="10033" y="14626"/>
                </a:cubicBezTo>
                <a:cubicBezTo>
                  <a:pt x="10103" y="14632"/>
                  <a:pt x="10232" y="14652"/>
                  <a:pt x="10287" y="14647"/>
                </a:cubicBezTo>
                <a:cubicBezTo>
                  <a:pt x="10374" y="14640"/>
                  <a:pt x="10347" y="14634"/>
                  <a:pt x="10266" y="14605"/>
                </a:cubicBezTo>
                <a:cubicBezTo>
                  <a:pt x="10211" y="14585"/>
                  <a:pt x="10182" y="14561"/>
                  <a:pt x="10139" y="14541"/>
                </a:cubicBezTo>
                <a:cubicBezTo>
                  <a:pt x="10117" y="14531"/>
                  <a:pt x="10031" y="14543"/>
                  <a:pt x="10096" y="14520"/>
                </a:cubicBezTo>
                <a:cubicBezTo>
                  <a:pt x="10165" y="14495"/>
                  <a:pt x="10284" y="14558"/>
                  <a:pt x="10223" y="14520"/>
                </a:cubicBezTo>
                <a:cubicBezTo>
                  <a:pt x="10076" y="14428"/>
                  <a:pt x="9893" y="14364"/>
                  <a:pt x="9737" y="14309"/>
                </a:cubicBezTo>
                <a:cubicBezTo>
                  <a:pt x="9724" y="14304"/>
                  <a:pt x="9670" y="14290"/>
                  <a:pt x="9673" y="14287"/>
                </a:cubicBezTo>
                <a:cubicBezTo>
                  <a:pt x="9753" y="14205"/>
                  <a:pt x="10227" y="14299"/>
                  <a:pt x="10308" y="14330"/>
                </a:cubicBezTo>
                <a:cubicBezTo>
                  <a:pt x="10384" y="14358"/>
                  <a:pt x="10394" y="14354"/>
                  <a:pt x="10477" y="14372"/>
                </a:cubicBezTo>
                <a:cubicBezTo>
                  <a:pt x="10503" y="14378"/>
                  <a:pt x="10611" y="14390"/>
                  <a:pt x="10520" y="14393"/>
                </a:cubicBezTo>
                <a:cubicBezTo>
                  <a:pt x="10411" y="14397"/>
                  <a:pt x="10327" y="14365"/>
                  <a:pt x="10223" y="14351"/>
                </a:cubicBezTo>
                <a:cubicBezTo>
                  <a:pt x="10202" y="14348"/>
                  <a:pt x="9953" y="14340"/>
                  <a:pt x="9969" y="14372"/>
                </a:cubicBezTo>
                <a:cubicBezTo>
                  <a:pt x="9995" y="14424"/>
                  <a:pt x="10118" y="14471"/>
                  <a:pt x="10160" y="14499"/>
                </a:cubicBezTo>
                <a:cubicBezTo>
                  <a:pt x="10253" y="14562"/>
                  <a:pt x="10352" y="14558"/>
                  <a:pt x="10435" y="14605"/>
                </a:cubicBezTo>
                <a:cubicBezTo>
                  <a:pt x="10479" y="14630"/>
                  <a:pt x="10483" y="14666"/>
                  <a:pt x="10477" y="14668"/>
                </a:cubicBezTo>
                <a:cubicBezTo>
                  <a:pt x="10347" y="14704"/>
                  <a:pt x="10176" y="14658"/>
                  <a:pt x="10054" y="14626"/>
                </a:cubicBezTo>
                <a:cubicBezTo>
                  <a:pt x="9984" y="14608"/>
                  <a:pt x="9933" y="14609"/>
                  <a:pt x="9864" y="14605"/>
                </a:cubicBezTo>
                <a:cubicBezTo>
                  <a:pt x="10097" y="14605"/>
                  <a:pt x="10767" y="14640"/>
                  <a:pt x="10541" y="14584"/>
                </a:cubicBezTo>
                <a:cubicBezTo>
                  <a:pt x="10468" y="14566"/>
                  <a:pt x="10404" y="14564"/>
                  <a:pt x="10329" y="14541"/>
                </a:cubicBezTo>
                <a:cubicBezTo>
                  <a:pt x="10289" y="14529"/>
                  <a:pt x="10278" y="14548"/>
                  <a:pt x="10329" y="14541"/>
                </a:cubicBezTo>
                <a:cubicBezTo>
                  <a:pt x="10361" y="14537"/>
                  <a:pt x="10579" y="14541"/>
                  <a:pt x="10477" y="14541"/>
                </a:cubicBezTo>
                <a:cubicBezTo>
                  <a:pt x="10420" y="14541"/>
                  <a:pt x="10379" y="14534"/>
                  <a:pt x="10329" y="14520"/>
                </a:cubicBezTo>
                <a:cubicBezTo>
                  <a:pt x="10276" y="14505"/>
                  <a:pt x="10246" y="14501"/>
                  <a:pt x="10181" y="14499"/>
                </a:cubicBezTo>
                <a:cubicBezTo>
                  <a:pt x="10172" y="14499"/>
                  <a:pt x="10040" y="14499"/>
                  <a:pt x="10096" y="14499"/>
                </a:cubicBezTo>
                <a:cubicBezTo>
                  <a:pt x="10159" y="14499"/>
                  <a:pt x="10363" y="14499"/>
                  <a:pt x="10350" y="14499"/>
                </a:cubicBezTo>
                <a:cubicBezTo>
                  <a:pt x="10232" y="14499"/>
                  <a:pt x="10168" y="14470"/>
                  <a:pt x="10054" y="14436"/>
                </a:cubicBezTo>
                <a:cubicBezTo>
                  <a:pt x="9997" y="14419"/>
                  <a:pt x="9844" y="14435"/>
                  <a:pt x="9885" y="14393"/>
                </a:cubicBezTo>
                <a:cubicBezTo>
                  <a:pt x="9940" y="14337"/>
                  <a:pt x="10440" y="14377"/>
                  <a:pt x="10541" y="14414"/>
                </a:cubicBezTo>
                <a:cubicBezTo>
                  <a:pt x="10614" y="14441"/>
                  <a:pt x="10655" y="14465"/>
                  <a:pt x="10731" y="14478"/>
                </a:cubicBezTo>
                <a:cubicBezTo>
                  <a:pt x="10775" y="14486"/>
                  <a:pt x="10820" y="14474"/>
                  <a:pt x="10753" y="14478"/>
                </a:cubicBezTo>
                <a:cubicBezTo>
                  <a:pt x="10494" y="14493"/>
                  <a:pt x="10229" y="14478"/>
                  <a:pt x="9969" y="14478"/>
                </a:cubicBezTo>
                <a:cubicBezTo>
                  <a:pt x="10025" y="14478"/>
                  <a:pt x="10040" y="14478"/>
                  <a:pt x="10096" y="14478"/>
                </a:cubicBezTo>
                <a:cubicBezTo>
                  <a:pt x="10357" y="14478"/>
                  <a:pt x="11098" y="14478"/>
                  <a:pt x="10837" y="14478"/>
                </a:cubicBezTo>
                <a:cubicBezTo>
                  <a:pt x="10594" y="14478"/>
                  <a:pt x="10360" y="14441"/>
                  <a:pt x="10118" y="14436"/>
                </a:cubicBezTo>
                <a:cubicBezTo>
                  <a:pt x="10042" y="14435"/>
                  <a:pt x="9840" y="14399"/>
                  <a:pt x="9779" y="14457"/>
                </a:cubicBezTo>
                <a:cubicBezTo>
                  <a:pt x="9759" y="14476"/>
                  <a:pt x="9734" y="14505"/>
                  <a:pt x="9758" y="14520"/>
                </a:cubicBezTo>
                <a:cubicBezTo>
                  <a:pt x="9804" y="14549"/>
                  <a:pt x="9952" y="14567"/>
                  <a:pt x="10012" y="14584"/>
                </a:cubicBezTo>
                <a:cubicBezTo>
                  <a:pt x="10195" y="14636"/>
                  <a:pt x="10460" y="14672"/>
                  <a:pt x="10626" y="14753"/>
                </a:cubicBezTo>
                <a:cubicBezTo>
                  <a:pt x="10719" y="14798"/>
                  <a:pt x="10919" y="14757"/>
                  <a:pt x="10901" y="14859"/>
                </a:cubicBezTo>
                <a:cubicBezTo>
                  <a:pt x="10896" y="14889"/>
                  <a:pt x="10198" y="14838"/>
                  <a:pt x="10160" y="14838"/>
                </a:cubicBezTo>
                <a:cubicBezTo>
                  <a:pt x="10083" y="14838"/>
                  <a:pt x="9824" y="14807"/>
                  <a:pt x="9885" y="14838"/>
                </a:cubicBezTo>
                <a:cubicBezTo>
                  <a:pt x="9906" y="14845"/>
                  <a:pt x="9927" y="14852"/>
                  <a:pt x="9948" y="14859"/>
                </a:cubicBezTo>
                <a:cubicBezTo>
                  <a:pt x="10288" y="14859"/>
                  <a:pt x="11147" y="15049"/>
                  <a:pt x="10880" y="14838"/>
                </a:cubicBezTo>
                <a:cubicBezTo>
                  <a:pt x="10759" y="14743"/>
                  <a:pt x="10580" y="14729"/>
                  <a:pt x="10435" y="14711"/>
                </a:cubicBezTo>
                <a:cubicBezTo>
                  <a:pt x="10194" y="14682"/>
                  <a:pt x="9956" y="14635"/>
                  <a:pt x="9715" y="14626"/>
                </a:cubicBezTo>
                <a:cubicBezTo>
                  <a:pt x="9651" y="14624"/>
                  <a:pt x="9716" y="14626"/>
                  <a:pt x="9652" y="14626"/>
                </a:cubicBezTo>
                <a:cubicBezTo>
                  <a:pt x="9775" y="14645"/>
                  <a:pt x="9886" y="14647"/>
                  <a:pt x="10012" y="14647"/>
                </a:cubicBezTo>
                <a:cubicBezTo>
                  <a:pt x="10135" y="14647"/>
                  <a:pt x="10254" y="14660"/>
                  <a:pt x="10372" y="14668"/>
                </a:cubicBezTo>
                <a:cubicBezTo>
                  <a:pt x="10374" y="14668"/>
                  <a:pt x="10551" y="14660"/>
                  <a:pt x="10435" y="14668"/>
                </a:cubicBezTo>
                <a:cubicBezTo>
                  <a:pt x="10287" y="14678"/>
                  <a:pt x="9866" y="14663"/>
                  <a:pt x="10012" y="14690"/>
                </a:cubicBezTo>
                <a:cubicBezTo>
                  <a:pt x="10171" y="14719"/>
                  <a:pt x="10618" y="14690"/>
                  <a:pt x="10456" y="14690"/>
                </a:cubicBezTo>
                <a:cubicBezTo>
                  <a:pt x="10417" y="14690"/>
                  <a:pt x="10147" y="14693"/>
                  <a:pt x="10160" y="14711"/>
                </a:cubicBezTo>
                <a:cubicBezTo>
                  <a:pt x="10206" y="14777"/>
                  <a:pt x="10346" y="14752"/>
                  <a:pt x="10414" y="14753"/>
                </a:cubicBezTo>
                <a:cubicBezTo>
                  <a:pt x="10485" y="14754"/>
                  <a:pt x="10555" y="14753"/>
                  <a:pt x="10626" y="14753"/>
                </a:cubicBezTo>
                <a:cubicBezTo>
                  <a:pt x="10669" y="14764"/>
                  <a:pt x="10792" y="14755"/>
                  <a:pt x="10753" y="14774"/>
                </a:cubicBezTo>
                <a:cubicBezTo>
                  <a:pt x="10499" y="14899"/>
                  <a:pt x="9822" y="14483"/>
                  <a:pt x="9906" y="14753"/>
                </a:cubicBezTo>
                <a:cubicBezTo>
                  <a:pt x="9921" y="14800"/>
                  <a:pt x="10003" y="14790"/>
                  <a:pt x="10054" y="14795"/>
                </a:cubicBezTo>
                <a:cubicBezTo>
                  <a:pt x="10216" y="14810"/>
                  <a:pt x="10376" y="14835"/>
                  <a:pt x="10541" y="14838"/>
                </a:cubicBezTo>
                <a:cubicBezTo>
                  <a:pt x="10561" y="14838"/>
                  <a:pt x="10795" y="14838"/>
                  <a:pt x="10753" y="14838"/>
                </a:cubicBezTo>
                <a:cubicBezTo>
                  <a:pt x="10645" y="14838"/>
                  <a:pt x="10538" y="14822"/>
                  <a:pt x="10435" y="14817"/>
                </a:cubicBezTo>
                <a:cubicBezTo>
                  <a:pt x="10196" y="14805"/>
                  <a:pt x="9508" y="14769"/>
                  <a:pt x="9737" y="14838"/>
                </a:cubicBezTo>
                <a:cubicBezTo>
                  <a:pt x="9926" y="14895"/>
                  <a:pt x="10455" y="14941"/>
                  <a:pt x="10287" y="14838"/>
                </a:cubicBezTo>
                <a:cubicBezTo>
                  <a:pt x="10234" y="14838"/>
                  <a:pt x="10221" y="14846"/>
                  <a:pt x="10202" y="14817"/>
                </a:cubicBezTo>
                <a:cubicBezTo>
                  <a:pt x="10017" y="14817"/>
                  <a:pt x="9832" y="14807"/>
                  <a:pt x="9652" y="14795"/>
                </a:cubicBezTo>
                <a:cubicBezTo>
                  <a:pt x="9610" y="14795"/>
                  <a:pt x="9595" y="14795"/>
                  <a:pt x="9567" y="14795"/>
                </a:cubicBezTo>
                <a:cubicBezTo>
                  <a:pt x="9525" y="14799"/>
                  <a:pt x="9421" y="14803"/>
                  <a:pt x="9461" y="14817"/>
                </a:cubicBezTo>
                <a:cubicBezTo>
                  <a:pt x="9626" y="14874"/>
                  <a:pt x="9878" y="14813"/>
                  <a:pt x="10054" y="14838"/>
                </a:cubicBezTo>
                <a:cubicBezTo>
                  <a:pt x="10126" y="14848"/>
                  <a:pt x="10338" y="14859"/>
                  <a:pt x="10266" y="14859"/>
                </a:cubicBezTo>
                <a:cubicBezTo>
                  <a:pt x="10132" y="14859"/>
                  <a:pt x="9985" y="14870"/>
                  <a:pt x="9864" y="14880"/>
                </a:cubicBezTo>
                <a:cubicBezTo>
                  <a:pt x="9824" y="14883"/>
                  <a:pt x="9753" y="14863"/>
                  <a:pt x="9779" y="14880"/>
                </a:cubicBezTo>
                <a:cubicBezTo>
                  <a:pt x="9941" y="14984"/>
                  <a:pt x="10191" y="14965"/>
                  <a:pt x="10372" y="14965"/>
                </a:cubicBezTo>
                <a:cubicBezTo>
                  <a:pt x="10513" y="14965"/>
                  <a:pt x="10541" y="14965"/>
                  <a:pt x="10626" y="14965"/>
                </a:cubicBezTo>
                <a:cubicBezTo>
                  <a:pt x="10641" y="14965"/>
                  <a:pt x="10819" y="14965"/>
                  <a:pt x="10710" y="14965"/>
                </a:cubicBezTo>
                <a:cubicBezTo>
                  <a:pt x="10497" y="14965"/>
                  <a:pt x="10281" y="14961"/>
                  <a:pt x="10075" y="14944"/>
                </a:cubicBezTo>
                <a:cubicBezTo>
                  <a:pt x="10022" y="14940"/>
                  <a:pt x="9894" y="14936"/>
                  <a:pt x="9906" y="14944"/>
                </a:cubicBezTo>
                <a:cubicBezTo>
                  <a:pt x="9988" y="14998"/>
                  <a:pt x="10109" y="14987"/>
                  <a:pt x="10223" y="15028"/>
                </a:cubicBezTo>
                <a:cubicBezTo>
                  <a:pt x="10368" y="15080"/>
                  <a:pt x="10515" y="15124"/>
                  <a:pt x="10668" y="15134"/>
                </a:cubicBezTo>
                <a:cubicBezTo>
                  <a:pt x="10760" y="15140"/>
                  <a:pt x="10717" y="15143"/>
                  <a:pt x="10647" y="15134"/>
                </a:cubicBezTo>
                <a:cubicBezTo>
                  <a:pt x="10548" y="15122"/>
                  <a:pt x="10449" y="15124"/>
                  <a:pt x="10350" y="15113"/>
                </a:cubicBezTo>
                <a:cubicBezTo>
                  <a:pt x="10272" y="15105"/>
                  <a:pt x="10198" y="15096"/>
                  <a:pt x="10118" y="15092"/>
                </a:cubicBezTo>
                <a:cubicBezTo>
                  <a:pt x="9984" y="15092"/>
                  <a:pt x="9608" y="15106"/>
                  <a:pt x="9737" y="15071"/>
                </a:cubicBezTo>
                <a:cubicBezTo>
                  <a:pt x="10003" y="14998"/>
                  <a:pt x="10752" y="15071"/>
                  <a:pt x="10477" y="15071"/>
                </a:cubicBezTo>
                <a:cubicBezTo>
                  <a:pt x="10385" y="15071"/>
                  <a:pt x="10294" y="15071"/>
                  <a:pt x="10202" y="15071"/>
                </a:cubicBezTo>
                <a:cubicBezTo>
                  <a:pt x="10051" y="15071"/>
                  <a:pt x="9901" y="15060"/>
                  <a:pt x="9758" y="15049"/>
                </a:cubicBezTo>
                <a:cubicBezTo>
                  <a:pt x="9734" y="15047"/>
                  <a:pt x="9585" y="15022"/>
                  <a:pt x="9694" y="15028"/>
                </a:cubicBezTo>
                <a:cubicBezTo>
                  <a:pt x="9815" y="15034"/>
                  <a:pt x="9935" y="15063"/>
                  <a:pt x="10054" y="15071"/>
                </a:cubicBezTo>
                <a:cubicBezTo>
                  <a:pt x="10121" y="15075"/>
                  <a:pt x="10415" y="15094"/>
                  <a:pt x="10350" y="15071"/>
                </a:cubicBezTo>
                <a:cubicBezTo>
                  <a:pt x="10281" y="15047"/>
                  <a:pt x="10191" y="15042"/>
                  <a:pt x="10118" y="15028"/>
                </a:cubicBezTo>
                <a:cubicBezTo>
                  <a:pt x="10053" y="15016"/>
                  <a:pt x="9994" y="15009"/>
                  <a:pt x="9927" y="15007"/>
                </a:cubicBezTo>
                <a:cubicBezTo>
                  <a:pt x="9849" y="15005"/>
                  <a:pt x="9772" y="15007"/>
                  <a:pt x="9694" y="15007"/>
                </a:cubicBezTo>
                <a:cubicBezTo>
                  <a:pt x="9687" y="15008"/>
                  <a:pt x="9559" y="15014"/>
                  <a:pt x="9631" y="15028"/>
                </a:cubicBezTo>
                <a:cubicBezTo>
                  <a:pt x="9728" y="15047"/>
                  <a:pt x="9870" y="15044"/>
                  <a:pt x="9969" y="15049"/>
                </a:cubicBezTo>
                <a:cubicBezTo>
                  <a:pt x="10020" y="15052"/>
                  <a:pt x="10224" y="15049"/>
                  <a:pt x="10202" y="15049"/>
                </a:cubicBezTo>
                <a:cubicBezTo>
                  <a:pt x="9983" y="15049"/>
                  <a:pt x="9407" y="14926"/>
                  <a:pt x="9588" y="15049"/>
                </a:cubicBezTo>
                <a:cubicBezTo>
                  <a:pt x="9670" y="15105"/>
                  <a:pt x="9776" y="15089"/>
                  <a:pt x="9864" y="15113"/>
                </a:cubicBezTo>
                <a:cubicBezTo>
                  <a:pt x="9937" y="15133"/>
                  <a:pt x="10015" y="15182"/>
                  <a:pt x="10075" y="15198"/>
                </a:cubicBezTo>
                <a:cubicBezTo>
                  <a:pt x="10123" y="15211"/>
                  <a:pt x="10161" y="15187"/>
                  <a:pt x="10096" y="15198"/>
                </a:cubicBezTo>
                <a:cubicBezTo>
                  <a:pt x="9999" y="15215"/>
                  <a:pt x="9940" y="15212"/>
                  <a:pt x="9842" y="15198"/>
                </a:cubicBezTo>
                <a:cubicBezTo>
                  <a:pt x="9769" y="15187"/>
                  <a:pt x="9697" y="15162"/>
                  <a:pt x="9631" y="15134"/>
                </a:cubicBezTo>
                <a:cubicBezTo>
                  <a:pt x="9589" y="15116"/>
                  <a:pt x="9559" y="15108"/>
                  <a:pt x="9504" y="15092"/>
                </a:cubicBezTo>
                <a:cubicBezTo>
                  <a:pt x="9494" y="15089"/>
                  <a:pt x="9459" y="15074"/>
                  <a:pt x="9419" y="15071"/>
                </a:cubicBezTo>
                <a:cubicBezTo>
                  <a:pt x="9410" y="15070"/>
                  <a:pt x="9321" y="15071"/>
                  <a:pt x="9377" y="15071"/>
                </a:cubicBezTo>
                <a:cubicBezTo>
                  <a:pt x="9666" y="15071"/>
                  <a:pt x="9956" y="15071"/>
                  <a:pt x="10245" y="15071"/>
                </a:cubicBezTo>
                <a:cubicBezTo>
                  <a:pt x="10276" y="15071"/>
                  <a:pt x="10468" y="15071"/>
                  <a:pt x="10435" y="15071"/>
                </a:cubicBezTo>
                <a:cubicBezTo>
                  <a:pt x="10285" y="15071"/>
                  <a:pt x="9810" y="15062"/>
                  <a:pt x="9864" y="15071"/>
                </a:cubicBezTo>
                <a:cubicBezTo>
                  <a:pt x="9935" y="15082"/>
                  <a:pt x="10039" y="15094"/>
                  <a:pt x="10096" y="15134"/>
                </a:cubicBezTo>
                <a:cubicBezTo>
                  <a:pt x="10136" y="15163"/>
                  <a:pt x="10175" y="15213"/>
                  <a:pt x="10160" y="15219"/>
                </a:cubicBezTo>
                <a:cubicBezTo>
                  <a:pt x="10101" y="15243"/>
                  <a:pt x="9994" y="15200"/>
                  <a:pt x="9969" y="15198"/>
                </a:cubicBezTo>
                <a:cubicBezTo>
                  <a:pt x="9919" y="15194"/>
                  <a:pt x="9766" y="15177"/>
                  <a:pt x="9737" y="15219"/>
                </a:cubicBezTo>
                <a:cubicBezTo>
                  <a:pt x="9719" y="15245"/>
                  <a:pt x="9745" y="15269"/>
                  <a:pt x="9800" y="15282"/>
                </a:cubicBezTo>
                <a:cubicBezTo>
                  <a:pt x="9871" y="15299"/>
                  <a:pt x="9962" y="15290"/>
                  <a:pt x="10033" y="15303"/>
                </a:cubicBezTo>
                <a:cubicBezTo>
                  <a:pt x="10075" y="15311"/>
                  <a:pt x="10118" y="15320"/>
                  <a:pt x="10160" y="15325"/>
                </a:cubicBezTo>
                <a:cubicBezTo>
                  <a:pt x="10329" y="15344"/>
                  <a:pt x="10503" y="15319"/>
                  <a:pt x="10668" y="15346"/>
                </a:cubicBezTo>
                <a:cubicBezTo>
                  <a:pt x="10712" y="15353"/>
                  <a:pt x="10716" y="15343"/>
                  <a:pt x="10668" y="15346"/>
                </a:cubicBezTo>
                <a:cubicBezTo>
                  <a:pt x="10600" y="15350"/>
                  <a:pt x="10543" y="15330"/>
                  <a:pt x="10477" y="15325"/>
                </a:cubicBezTo>
                <a:cubicBezTo>
                  <a:pt x="10406" y="15320"/>
                  <a:pt x="10206" y="15325"/>
                  <a:pt x="10202" y="15325"/>
                </a:cubicBezTo>
                <a:cubicBezTo>
                  <a:pt x="10420" y="15325"/>
                  <a:pt x="10646" y="15308"/>
                  <a:pt x="10858" y="15346"/>
                </a:cubicBezTo>
                <a:cubicBezTo>
                  <a:pt x="10934" y="15360"/>
                  <a:pt x="10991" y="15365"/>
                  <a:pt x="11070" y="15367"/>
                </a:cubicBezTo>
                <a:cubicBezTo>
                  <a:pt x="11111" y="15368"/>
                  <a:pt x="11269" y="15367"/>
                  <a:pt x="11239" y="15367"/>
                </a:cubicBezTo>
                <a:cubicBezTo>
                  <a:pt x="11165" y="15367"/>
                  <a:pt x="11096" y="15351"/>
                  <a:pt x="11028" y="15346"/>
                </a:cubicBezTo>
                <a:cubicBezTo>
                  <a:pt x="10978" y="15342"/>
                  <a:pt x="10799" y="15346"/>
                  <a:pt x="10816" y="15346"/>
                </a:cubicBezTo>
                <a:cubicBezTo>
                  <a:pt x="10877" y="15346"/>
                  <a:pt x="11074" y="15348"/>
                  <a:pt x="11070" y="15346"/>
                </a:cubicBezTo>
                <a:cubicBezTo>
                  <a:pt x="10993" y="15308"/>
                  <a:pt x="10939" y="15303"/>
                  <a:pt x="10858" y="15282"/>
                </a:cubicBezTo>
                <a:cubicBezTo>
                  <a:pt x="10750" y="15254"/>
                  <a:pt x="10614" y="15213"/>
                  <a:pt x="10520" y="15155"/>
                </a:cubicBezTo>
                <a:cubicBezTo>
                  <a:pt x="10447" y="15110"/>
                  <a:pt x="10384" y="15031"/>
                  <a:pt x="10308" y="14986"/>
                </a:cubicBezTo>
                <a:cubicBezTo>
                  <a:pt x="10268" y="14962"/>
                  <a:pt x="10174" y="15002"/>
                  <a:pt x="10202" y="14965"/>
                </a:cubicBezTo>
                <a:cubicBezTo>
                  <a:pt x="10230" y="14929"/>
                  <a:pt x="10405" y="14984"/>
                  <a:pt x="10435" y="14986"/>
                </a:cubicBezTo>
                <a:cubicBezTo>
                  <a:pt x="10572" y="14996"/>
                  <a:pt x="10706" y="14980"/>
                  <a:pt x="10837" y="15007"/>
                </a:cubicBezTo>
                <a:cubicBezTo>
                  <a:pt x="10858" y="15014"/>
                  <a:pt x="10880" y="15021"/>
                  <a:pt x="10901" y="15028"/>
                </a:cubicBezTo>
                <a:cubicBezTo>
                  <a:pt x="10932" y="15040"/>
                  <a:pt x="10997" y="15043"/>
                  <a:pt x="10964" y="15049"/>
                </a:cubicBezTo>
                <a:cubicBezTo>
                  <a:pt x="10826" y="15074"/>
                  <a:pt x="10630" y="15061"/>
                  <a:pt x="10499" y="15028"/>
                </a:cubicBezTo>
                <a:cubicBezTo>
                  <a:pt x="10466" y="15020"/>
                  <a:pt x="10450" y="15011"/>
                  <a:pt x="10414" y="15007"/>
                </a:cubicBezTo>
                <a:cubicBezTo>
                  <a:pt x="10363" y="15001"/>
                  <a:pt x="10346" y="15013"/>
                  <a:pt x="10308" y="15028"/>
                </a:cubicBezTo>
                <a:cubicBezTo>
                  <a:pt x="10294" y="15034"/>
                  <a:pt x="10182" y="15096"/>
                  <a:pt x="10202" y="15113"/>
                </a:cubicBezTo>
                <a:cubicBezTo>
                  <a:pt x="10273" y="15173"/>
                  <a:pt x="10349" y="15140"/>
                  <a:pt x="10435" y="15176"/>
                </a:cubicBezTo>
                <a:cubicBezTo>
                  <a:pt x="10492" y="15200"/>
                  <a:pt x="10582" y="15196"/>
                  <a:pt x="10626" y="15261"/>
                </a:cubicBezTo>
                <a:cubicBezTo>
                  <a:pt x="10695" y="15364"/>
                  <a:pt x="10611" y="15264"/>
                  <a:pt x="10626" y="15303"/>
                </a:cubicBezTo>
                <a:cubicBezTo>
                  <a:pt x="10561" y="15299"/>
                  <a:pt x="10518" y="15304"/>
                  <a:pt x="10456" y="15282"/>
                </a:cubicBezTo>
                <a:cubicBezTo>
                  <a:pt x="10423" y="15270"/>
                  <a:pt x="10377" y="15257"/>
                  <a:pt x="10350" y="15240"/>
                </a:cubicBezTo>
                <a:cubicBezTo>
                  <a:pt x="10330" y="15227"/>
                  <a:pt x="10322" y="15211"/>
                  <a:pt x="10287" y="15198"/>
                </a:cubicBezTo>
                <a:cubicBezTo>
                  <a:pt x="10228" y="15175"/>
                  <a:pt x="10238" y="15191"/>
                  <a:pt x="10181" y="15155"/>
                </a:cubicBezTo>
                <a:cubicBezTo>
                  <a:pt x="10151" y="15136"/>
                  <a:pt x="10119" y="15161"/>
                  <a:pt x="10202" y="15155"/>
                </a:cubicBezTo>
                <a:cubicBezTo>
                  <a:pt x="10351" y="15144"/>
                  <a:pt x="10498" y="15173"/>
                  <a:pt x="10647" y="15176"/>
                </a:cubicBezTo>
                <a:cubicBezTo>
                  <a:pt x="10813" y="15179"/>
                  <a:pt x="10990" y="15182"/>
                  <a:pt x="11155" y="15198"/>
                </a:cubicBezTo>
                <a:cubicBezTo>
                  <a:pt x="11300" y="15212"/>
                  <a:pt x="11431" y="15240"/>
                  <a:pt x="11578" y="15240"/>
                </a:cubicBezTo>
                <a:cubicBezTo>
                  <a:pt x="11599" y="15247"/>
                  <a:pt x="11621" y="15254"/>
                  <a:pt x="11642" y="15261"/>
                </a:cubicBezTo>
                <a:cubicBezTo>
                  <a:pt x="11677" y="15261"/>
                  <a:pt x="11740" y="15261"/>
                  <a:pt x="11705" y="15261"/>
                </a:cubicBezTo>
                <a:cubicBezTo>
                  <a:pt x="11555" y="15261"/>
                  <a:pt x="11406" y="15248"/>
                  <a:pt x="11261" y="15240"/>
                </a:cubicBezTo>
                <a:cubicBezTo>
                  <a:pt x="11163" y="15235"/>
                  <a:pt x="11072" y="15240"/>
                  <a:pt x="10985" y="15219"/>
                </a:cubicBezTo>
                <a:cubicBezTo>
                  <a:pt x="10973" y="15216"/>
                  <a:pt x="10876" y="15189"/>
                  <a:pt x="10901" y="15155"/>
                </a:cubicBezTo>
                <a:cubicBezTo>
                  <a:pt x="10926" y="15121"/>
                  <a:pt x="11398" y="15169"/>
                  <a:pt x="11303" y="15155"/>
                </a:cubicBezTo>
                <a:cubicBezTo>
                  <a:pt x="11191" y="15139"/>
                  <a:pt x="11078" y="15134"/>
                  <a:pt x="10964" y="15134"/>
                </a:cubicBezTo>
                <a:cubicBezTo>
                  <a:pt x="10849" y="15134"/>
                  <a:pt x="10769" y="15141"/>
                  <a:pt x="10668" y="15092"/>
                </a:cubicBezTo>
                <a:cubicBezTo>
                  <a:pt x="10668" y="15092"/>
                  <a:pt x="10536" y="15013"/>
                  <a:pt x="10541" y="15007"/>
                </a:cubicBezTo>
                <a:cubicBezTo>
                  <a:pt x="10709" y="14798"/>
                  <a:pt x="11571" y="15007"/>
                  <a:pt x="11303" y="15007"/>
                </a:cubicBezTo>
                <a:cubicBezTo>
                  <a:pt x="11097" y="15007"/>
                  <a:pt x="10907" y="15014"/>
                  <a:pt x="10710" y="14965"/>
                </a:cubicBezTo>
                <a:cubicBezTo>
                  <a:pt x="10621" y="14943"/>
                  <a:pt x="10534" y="14910"/>
                  <a:pt x="10456" y="14880"/>
                </a:cubicBezTo>
                <a:cubicBezTo>
                  <a:pt x="10493" y="14872"/>
                  <a:pt x="10574" y="14841"/>
                  <a:pt x="10647" y="14838"/>
                </a:cubicBezTo>
                <a:cubicBezTo>
                  <a:pt x="10936" y="14826"/>
                  <a:pt x="11700" y="14940"/>
                  <a:pt x="11430" y="14838"/>
                </a:cubicBezTo>
                <a:cubicBezTo>
                  <a:pt x="11366" y="14814"/>
                  <a:pt x="11288" y="14818"/>
                  <a:pt x="11218" y="14817"/>
                </a:cubicBezTo>
                <a:cubicBezTo>
                  <a:pt x="11068" y="14814"/>
                  <a:pt x="10919" y="14805"/>
                  <a:pt x="10774" y="14795"/>
                </a:cubicBezTo>
                <a:cubicBezTo>
                  <a:pt x="10735" y="14792"/>
                  <a:pt x="10561" y="14795"/>
                  <a:pt x="10753" y="14795"/>
                </a:cubicBezTo>
                <a:cubicBezTo>
                  <a:pt x="11035" y="14795"/>
                  <a:pt x="11810" y="14919"/>
                  <a:pt x="11557" y="14795"/>
                </a:cubicBezTo>
                <a:cubicBezTo>
                  <a:pt x="11401" y="14719"/>
                  <a:pt x="11226" y="14793"/>
                  <a:pt x="11070" y="14753"/>
                </a:cubicBezTo>
                <a:cubicBezTo>
                  <a:pt x="10883" y="14705"/>
                  <a:pt x="10721" y="14673"/>
                  <a:pt x="10520" y="14668"/>
                </a:cubicBezTo>
                <a:cubicBezTo>
                  <a:pt x="10419" y="14666"/>
                  <a:pt x="10320" y="14681"/>
                  <a:pt x="10223" y="14647"/>
                </a:cubicBezTo>
                <a:cubicBezTo>
                  <a:pt x="10192" y="14636"/>
                  <a:pt x="10160" y="14607"/>
                  <a:pt x="10160" y="14584"/>
                </a:cubicBezTo>
                <a:cubicBezTo>
                  <a:pt x="10160" y="14557"/>
                  <a:pt x="10111" y="14570"/>
                  <a:pt x="10223" y="14563"/>
                </a:cubicBezTo>
                <a:cubicBezTo>
                  <a:pt x="10456" y="14548"/>
                  <a:pt x="11070" y="14563"/>
                  <a:pt x="10837" y="14563"/>
                </a:cubicBezTo>
                <a:cubicBezTo>
                  <a:pt x="10772" y="14563"/>
                  <a:pt x="10483" y="14563"/>
                  <a:pt x="10562" y="14563"/>
                </a:cubicBezTo>
                <a:cubicBezTo>
                  <a:pt x="10753" y="14563"/>
                  <a:pt x="10943" y="14563"/>
                  <a:pt x="11134" y="14563"/>
                </a:cubicBezTo>
                <a:cubicBezTo>
                  <a:pt x="11134" y="14563"/>
                  <a:pt x="11427" y="14563"/>
                  <a:pt x="11303" y="14563"/>
                </a:cubicBezTo>
                <a:cubicBezTo>
                  <a:pt x="11139" y="14563"/>
                  <a:pt x="10975" y="14550"/>
                  <a:pt x="10816" y="14541"/>
                </a:cubicBezTo>
                <a:cubicBezTo>
                  <a:pt x="10790" y="14539"/>
                  <a:pt x="10563" y="14541"/>
                  <a:pt x="10668" y="14541"/>
                </a:cubicBezTo>
                <a:cubicBezTo>
                  <a:pt x="10737" y="14541"/>
                  <a:pt x="11062" y="14541"/>
                  <a:pt x="10985" y="14541"/>
                </a:cubicBezTo>
                <a:cubicBezTo>
                  <a:pt x="10910" y="14541"/>
                  <a:pt x="10846" y="14525"/>
                  <a:pt x="10774" y="14520"/>
                </a:cubicBezTo>
                <a:cubicBezTo>
                  <a:pt x="10732" y="14517"/>
                  <a:pt x="10689" y="14522"/>
                  <a:pt x="10647" y="14520"/>
                </a:cubicBezTo>
                <a:cubicBezTo>
                  <a:pt x="10689" y="14520"/>
                  <a:pt x="10689" y="14520"/>
                  <a:pt x="10731" y="14520"/>
                </a:cubicBezTo>
                <a:cubicBezTo>
                  <a:pt x="10762" y="14520"/>
                  <a:pt x="11002" y="14520"/>
                  <a:pt x="10901" y="14520"/>
                </a:cubicBezTo>
                <a:cubicBezTo>
                  <a:pt x="10856" y="14520"/>
                  <a:pt x="10687" y="14520"/>
                  <a:pt x="10710" y="14520"/>
                </a:cubicBezTo>
                <a:cubicBezTo>
                  <a:pt x="10816" y="14520"/>
                  <a:pt x="11091" y="14520"/>
                  <a:pt x="10985" y="14520"/>
                </a:cubicBezTo>
                <a:cubicBezTo>
                  <a:pt x="10967" y="14520"/>
                  <a:pt x="10883" y="14501"/>
                  <a:pt x="10901" y="14499"/>
                </a:cubicBezTo>
                <a:cubicBezTo>
                  <a:pt x="10920" y="14496"/>
                  <a:pt x="11108" y="14487"/>
                  <a:pt x="11091" y="14478"/>
                </a:cubicBezTo>
                <a:cubicBezTo>
                  <a:pt x="11048" y="14456"/>
                  <a:pt x="10921" y="14504"/>
                  <a:pt x="10943" y="14478"/>
                </a:cubicBezTo>
                <a:cubicBezTo>
                  <a:pt x="10959" y="14459"/>
                  <a:pt x="11005" y="14466"/>
                  <a:pt x="11028" y="14457"/>
                </a:cubicBezTo>
                <a:cubicBezTo>
                  <a:pt x="11096" y="14432"/>
                  <a:pt x="11036" y="14465"/>
                  <a:pt x="10985" y="14457"/>
                </a:cubicBezTo>
                <a:cubicBezTo>
                  <a:pt x="10919" y="14447"/>
                  <a:pt x="10860" y="14424"/>
                  <a:pt x="10795" y="14414"/>
                </a:cubicBezTo>
                <a:cubicBezTo>
                  <a:pt x="10783" y="14412"/>
                  <a:pt x="10696" y="14420"/>
                  <a:pt x="10753" y="14414"/>
                </a:cubicBezTo>
                <a:cubicBezTo>
                  <a:pt x="10891" y="14400"/>
                  <a:pt x="11043" y="14404"/>
                  <a:pt x="11176" y="14393"/>
                </a:cubicBezTo>
                <a:cubicBezTo>
                  <a:pt x="11233" y="14388"/>
                  <a:pt x="11340" y="14374"/>
                  <a:pt x="11366" y="14372"/>
                </a:cubicBezTo>
                <a:cubicBezTo>
                  <a:pt x="11385" y="14370"/>
                  <a:pt x="11500" y="14375"/>
                  <a:pt x="11451" y="14372"/>
                </a:cubicBezTo>
                <a:cubicBezTo>
                  <a:pt x="11366" y="14366"/>
                  <a:pt x="11252" y="14354"/>
                  <a:pt x="11176" y="14393"/>
                </a:cubicBezTo>
                <a:cubicBezTo>
                  <a:pt x="11136" y="14413"/>
                  <a:pt x="11092" y="14396"/>
                  <a:pt x="11112" y="14436"/>
                </a:cubicBezTo>
                <a:cubicBezTo>
                  <a:pt x="11128" y="14468"/>
                  <a:pt x="11193" y="14463"/>
                  <a:pt x="11239" y="14457"/>
                </a:cubicBezTo>
                <a:cubicBezTo>
                  <a:pt x="11295" y="14450"/>
                  <a:pt x="11348" y="14437"/>
                  <a:pt x="11409" y="14436"/>
                </a:cubicBezTo>
                <a:cubicBezTo>
                  <a:pt x="11519" y="14433"/>
                  <a:pt x="11629" y="14437"/>
                  <a:pt x="11726" y="14414"/>
                </a:cubicBezTo>
                <a:cubicBezTo>
                  <a:pt x="11737" y="14406"/>
                  <a:pt x="11866" y="14407"/>
                  <a:pt x="11747" y="14393"/>
                </a:cubicBezTo>
                <a:cubicBezTo>
                  <a:pt x="11589" y="14375"/>
                  <a:pt x="11421" y="14393"/>
                  <a:pt x="11261" y="14393"/>
                </a:cubicBezTo>
                <a:cubicBezTo>
                  <a:pt x="11430" y="14393"/>
                  <a:pt x="11895" y="14393"/>
                  <a:pt x="11726" y="14393"/>
                </a:cubicBezTo>
                <a:cubicBezTo>
                  <a:pt x="11698" y="14393"/>
                  <a:pt x="11557" y="14393"/>
                  <a:pt x="11599" y="14393"/>
                </a:cubicBezTo>
                <a:cubicBezTo>
                  <a:pt x="11665" y="14393"/>
                  <a:pt x="11852" y="14421"/>
                  <a:pt x="11790" y="14393"/>
                </a:cubicBezTo>
                <a:cubicBezTo>
                  <a:pt x="11783" y="14390"/>
                  <a:pt x="11688" y="14379"/>
                  <a:pt x="11684" y="14372"/>
                </a:cubicBezTo>
                <a:cubicBezTo>
                  <a:pt x="11664" y="14339"/>
                  <a:pt x="11662" y="14373"/>
                  <a:pt x="11705" y="14330"/>
                </a:cubicBezTo>
                <a:cubicBezTo>
                  <a:pt x="11735" y="14300"/>
                  <a:pt x="11811" y="14373"/>
                  <a:pt x="11726" y="14330"/>
                </a:cubicBezTo>
                <a:cubicBezTo>
                  <a:pt x="11673" y="14303"/>
                  <a:pt x="11608" y="14297"/>
                  <a:pt x="11557" y="14266"/>
                </a:cubicBezTo>
                <a:cubicBezTo>
                  <a:pt x="11502" y="14233"/>
                  <a:pt x="11519" y="14256"/>
                  <a:pt x="11578" y="14245"/>
                </a:cubicBezTo>
                <a:cubicBezTo>
                  <a:pt x="11606" y="14240"/>
                  <a:pt x="11806" y="14245"/>
                  <a:pt x="11705" y="14245"/>
                </a:cubicBezTo>
                <a:cubicBezTo>
                  <a:pt x="11607" y="14245"/>
                  <a:pt x="11501" y="14231"/>
                  <a:pt x="11409" y="14266"/>
                </a:cubicBezTo>
                <a:cubicBezTo>
                  <a:pt x="11345" y="14291"/>
                  <a:pt x="11202" y="14371"/>
                  <a:pt x="11155" y="14414"/>
                </a:cubicBezTo>
                <a:cubicBezTo>
                  <a:pt x="11116" y="14450"/>
                  <a:pt x="11076" y="14530"/>
                  <a:pt x="11049" y="14563"/>
                </a:cubicBezTo>
                <a:cubicBezTo>
                  <a:pt x="11009" y="14611"/>
                  <a:pt x="11010" y="14592"/>
                  <a:pt x="11049" y="14605"/>
                </a:cubicBezTo>
                <a:cubicBezTo>
                  <a:pt x="11159" y="14642"/>
                  <a:pt x="11313" y="14606"/>
                  <a:pt x="11430" y="14626"/>
                </a:cubicBezTo>
                <a:cubicBezTo>
                  <a:pt x="11463" y="14632"/>
                  <a:pt x="11632" y="14644"/>
                  <a:pt x="11536" y="14647"/>
                </a:cubicBezTo>
                <a:cubicBezTo>
                  <a:pt x="11446" y="14650"/>
                  <a:pt x="11371" y="14640"/>
                  <a:pt x="11282" y="14626"/>
                </a:cubicBezTo>
                <a:cubicBezTo>
                  <a:pt x="11081" y="14585"/>
                  <a:pt x="10874" y="14550"/>
                  <a:pt x="10668" y="14541"/>
                </a:cubicBezTo>
                <a:cubicBezTo>
                  <a:pt x="10660" y="14541"/>
                  <a:pt x="10359" y="14541"/>
                  <a:pt x="10477" y="14541"/>
                </a:cubicBezTo>
                <a:cubicBezTo>
                  <a:pt x="10773" y="14541"/>
                  <a:pt x="11070" y="14541"/>
                  <a:pt x="11366" y="14541"/>
                </a:cubicBezTo>
                <a:cubicBezTo>
                  <a:pt x="11508" y="14541"/>
                  <a:pt x="11889" y="14541"/>
                  <a:pt x="11747" y="14541"/>
                </a:cubicBezTo>
                <a:cubicBezTo>
                  <a:pt x="11653" y="14541"/>
                  <a:pt x="11190" y="14541"/>
                  <a:pt x="11324" y="14541"/>
                </a:cubicBezTo>
                <a:cubicBezTo>
                  <a:pt x="11486" y="14541"/>
                  <a:pt x="11871" y="14667"/>
                  <a:pt x="11769" y="14541"/>
                </a:cubicBezTo>
                <a:cubicBezTo>
                  <a:pt x="11733" y="14497"/>
                  <a:pt x="11625" y="14525"/>
                  <a:pt x="11578" y="14520"/>
                </a:cubicBezTo>
                <a:cubicBezTo>
                  <a:pt x="11478" y="14509"/>
                  <a:pt x="11384" y="14501"/>
                  <a:pt x="11282" y="14499"/>
                </a:cubicBezTo>
                <a:cubicBezTo>
                  <a:pt x="11200" y="14497"/>
                  <a:pt x="11128" y="14484"/>
                  <a:pt x="11049" y="14478"/>
                </a:cubicBezTo>
                <a:cubicBezTo>
                  <a:pt x="10972" y="14472"/>
                  <a:pt x="10984" y="14486"/>
                  <a:pt x="10964" y="14499"/>
                </a:cubicBezTo>
                <a:cubicBezTo>
                  <a:pt x="10943" y="14513"/>
                  <a:pt x="10938" y="14529"/>
                  <a:pt x="10922" y="14541"/>
                </a:cubicBezTo>
                <a:cubicBezTo>
                  <a:pt x="10915" y="14546"/>
                  <a:pt x="10840" y="14580"/>
                  <a:pt x="10858" y="14605"/>
                </a:cubicBezTo>
                <a:cubicBezTo>
                  <a:pt x="10900" y="14661"/>
                  <a:pt x="11110" y="14665"/>
                  <a:pt x="11176" y="14668"/>
                </a:cubicBezTo>
                <a:cubicBezTo>
                  <a:pt x="11366" y="14675"/>
                  <a:pt x="11557" y="14668"/>
                  <a:pt x="11747" y="14668"/>
                </a:cubicBezTo>
                <a:cubicBezTo>
                  <a:pt x="11659" y="14640"/>
                  <a:pt x="11611" y="14624"/>
                  <a:pt x="11493" y="14605"/>
                </a:cubicBezTo>
                <a:cubicBezTo>
                  <a:pt x="11274" y="14570"/>
                  <a:pt x="11054" y="14570"/>
                  <a:pt x="10837" y="14541"/>
                </a:cubicBezTo>
                <a:cubicBezTo>
                  <a:pt x="10645" y="14515"/>
                  <a:pt x="10461" y="14464"/>
                  <a:pt x="10266" y="14457"/>
                </a:cubicBezTo>
                <a:cubicBezTo>
                  <a:pt x="10245" y="14457"/>
                  <a:pt x="10237" y="14457"/>
                  <a:pt x="10223" y="14457"/>
                </a:cubicBezTo>
                <a:cubicBezTo>
                  <a:pt x="10242" y="14453"/>
                  <a:pt x="10341" y="14436"/>
                  <a:pt x="10393" y="14436"/>
                </a:cubicBezTo>
                <a:cubicBezTo>
                  <a:pt x="10866" y="14436"/>
                  <a:pt x="12218" y="14287"/>
                  <a:pt x="11769" y="14436"/>
                </a:cubicBezTo>
                <a:cubicBezTo>
                  <a:pt x="11718" y="14453"/>
                  <a:pt x="11673" y="14448"/>
                  <a:pt x="11620" y="14457"/>
                </a:cubicBezTo>
                <a:cubicBezTo>
                  <a:pt x="11577" y="14464"/>
                  <a:pt x="11442" y="14459"/>
                  <a:pt x="11409" y="14478"/>
                </a:cubicBezTo>
                <a:cubicBezTo>
                  <a:pt x="11323" y="14529"/>
                  <a:pt x="11401" y="14532"/>
                  <a:pt x="11451" y="14541"/>
                </a:cubicBezTo>
                <a:cubicBezTo>
                  <a:pt x="11661" y="14579"/>
                  <a:pt x="11899" y="14534"/>
                  <a:pt x="12107" y="14563"/>
                </a:cubicBezTo>
                <a:cubicBezTo>
                  <a:pt x="12209" y="14577"/>
                  <a:pt x="12085" y="14562"/>
                  <a:pt x="12065" y="14563"/>
                </a:cubicBezTo>
                <a:cubicBezTo>
                  <a:pt x="11907" y="14567"/>
                  <a:pt x="11753" y="14567"/>
                  <a:pt x="11599" y="14584"/>
                </a:cubicBezTo>
                <a:cubicBezTo>
                  <a:pt x="11571" y="14587"/>
                  <a:pt x="11585" y="14581"/>
                  <a:pt x="11557" y="14584"/>
                </a:cubicBezTo>
                <a:cubicBezTo>
                  <a:pt x="11707" y="14620"/>
                  <a:pt x="11879" y="14639"/>
                  <a:pt x="12023" y="14690"/>
                </a:cubicBezTo>
                <a:cubicBezTo>
                  <a:pt x="12175" y="14744"/>
                  <a:pt x="12363" y="14779"/>
                  <a:pt x="12488" y="14838"/>
                </a:cubicBezTo>
                <a:cubicBezTo>
                  <a:pt x="12579" y="14881"/>
                  <a:pt x="12541" y="14851"/>
                  <a:pt x="12467" y="14859"/>
                </a:cubicBezTo>
                <a:cubicBezTo>
                  <a:pt x="12329" y="14874"/>
                  <a:pt x="12178" y="14862"/>
                  <a:pt x="12044" y="14838"/>
                </a:cubicBezTo>
                <a:cubicBezTo>
                  <a:pt x="11940" y="14827"/>
                  <a:pt x="11832" y="14828"/>
                  <a:pt x="11726" y="14817"/>
                </a:cubicBezTo>
                <a:cubicBezTo>
                  <a:pt x="11682" y="14813"/>
                  <a:pt x="11556" y="14805"/>
                  <a:pt x="11599" y="14795"/>
                </a:cubicBezTo>
                <a:cubicBezTo>
                  <a:pt x="11753" y="14758"/>
                  <a:pt x="12215" y="14869"/>
                  <a:pt x="12065" y="14817"/>
                </a:cubicBezTo>
                <a:cubicBezTo>
                  <a:pt x="12013" y="14799"/>
                  <a:pt x="11981" y="14795"/>
                  <a:pt x="11917" y="14795"/>
                </a:cubicBezTo>
                <a:cubicBezTo>
                  <a:pt x="11794" y="14795"/>
                  <a:pt x="11659" y="14787"/>
                  <a:pt x="11536" y="14774"/>
                </a:cubicBezTo>
                <a:cubicBezTo>
                  <a:pt x="11471" y="14767"/>
                  <a:pt x="11400" y="14763"/>
                  <a:pt x="11366" y="14732"/>
                </a:cubicBezTo>
                <a:cubicBezTo>
                  <a:pt x="11331" y="14700"/>
                  <a:pt x="11356" y="14719"/>
                  <a:pt x="11409" y="14711"/>
                </a:cubicBezTo>
                <a:cubicBezTo>
                  <a:pt x="11522" y="14694"/>
                  <a:pt x="11997" y="14695"/>
                  <a:pt x="11959" y="14690"/>
                </a:cubicBezTo>
                <a:cubicBezTo>
                  <a:pt x="11794" y="14667"/>
                  <a:pt x="11617" y="14688"/>
                  <a:pt x="11451" y="14668"/>
                </a:cubicBezTo>
                <a:cubicBezTo>
                  <a:pt x="11365" y="14658"/>
                  <a:pt x="11271" y="14628"/>
                  <a:pt x="11197" y="14605"/>
                </a:cubicBezTo>
                <a:cubicBezTo>
                  <a:pt x="11283" y="14614"/>
                  <a:pt x="11281" y="14616"/>
                  <a:pt x="11366" y="14626"/>
                </a:cubicBezTo>
                <a:cubicBezTo>
                  <a:pt x="11502" y="14642"/>
                  <a:pt x="11686" y="14659"/>
                  <a:pt x="11811" y="14711"/>
                </a:cubicBezTo>
                <a:cubicBezTo>
                  <a:pt x="11832" y="14725"/>
                  <a:pt x="11853" y="14739"/>
                  <a:pt x="11874" y="14753"/>
                </a:cubicBezTo>
                <a:cubicBezTo>
                  <a:pt x="11923" y="14722"/>
                  <a:pt x="11930" y="14717"/>
                  <a:pt x="11790" y="14668"/>
                </a:cubicBezTo>
                <a:cubicBezTo>
                  <a:pt x="11613" y="14606"/>
                  <a:pt x="11400" y="14569"/>
                  <a:pt x="11218" y="14541"/>
                </a:cubicBezTo>
                <a:cubicBezTo>
                  <a:pt x="11150" y="14530"/>
                  <a:pt x="11065" y="14517"/>
                  <a:pt x="11007" y="14478"/>
                </a:cubicBezTo>
                <a:cubicBezTo>
                  <a:pt x="10941" y="14434"/>
                  <a:pt x="10967" y="14428"/>
                  <a:pt x="10880" y="14414"/>
                </a:cubicBezTo>
                <a:cubicBezTo>
                  <a:pt x="10804" y="14401"/>
                  <a:pt x="10712" y="14446"/>
                  <a:pt x="10647" y="14478"/>
                </a:cubicBezTo>
                <a:cubicBezTo>
                  <a:pt x="10589" y="14507"/>
                  <a:pt x="10535" y="14570"/>
                  <a:pt x="10499" y="14605"/>
                </a:cubicBezTo>
                <a:cubicBezTo>
                  <a:pt x="10485" y="14619"/>
                  <a:pt x="10397" y="14688"/>
                  <a:pt x="10393" y="14711"/>
                </a:cubicBezTo>
                <a:cubicBezTo>
                  <a:pt x="10379" y="14791"/>
                  <a:pt x="10508" y="14794"/>
                  <a:pt x="10541" y="14817"/>
                </a:cubicBezTo>
                <a:cubicBezTo>
                  <a:pt x="10637" y="14884"/>
                  <a:pt x="10735" y="14968"/>
                  <a:pt x="10837" y="15028"/>
                </a:cubicBezTo>
                <a:cubicBezTo>
                  <a:pt x="10960" y="15090"/>
                  <a:pt x="10998" y="15111"/>
                  <a:pt x="11091" y="15113"/>
                </a:cubicBezTo>
                <a:cubicBezTo>
                  <a:pt x="11160" y="15145"/>
                  <a:pt x="11284" y="15237"/>
                  <a:pt x="11366" y="15198"/>
                </a:cubicBezTo>
                <a:cubicBezTo>
                  <a:pt x="11421" y="15172"/>
                  <a:pt x="11361" y="15177"/>
                  <a:pt x="11345" y="15155"/>
                </a:cubicBezTo>
                <a:cubicBezTo>
                  <a:pt x="11300" y="15096"/>
                  <a:pt x="11200" y="15016"/>
                  <a:pt x="11134" y="14986"/>
                </a:cubicBezTo>
                <a:cubicBezTo>
                  <a:pt x="11025" y="14936"/>
                  <a:pt x="10903" y="14921"/>
                  <a:pt x="10795" y="14880"/>
                </a:cubicBezTo>
                <a:cubicBezTo>
                  <a:pt x="10766" y="14869"/>
                  <a:pt x="10711" y="14857"/>
                  <a:pt x="10689" y="14838"/>
                </a:cubicBezTo>
                <a:cubicBezTo>
                  <a:pt x="10668" y="14820"/>
                  <a:pt x="10750" y="14839"/>
                  <a:pt x="10795" y="14838"/>
                </a:cubicBezTo>
                <a:cubicBezTo>
                  <a:pt x="10847" y="14837"/>
                  <a:pt x="11049" y="14844"/>
                  <a:pt x="11028" y="14838"/>
                </a:cubicBezTo>
                <a:cubicBezTo>
                  <a:pt x="10978" y="14822"/>
                  <a:pt x="10910" y="14828"/>
                  <a:pt x="10858" y="14817"/>
                </a:cubicBezTo>
                <a:cubicBezTo>
                  <a:pt x="10731" y="14790"/>
                  <a:pt x="10823" y="14791"/>
                  <a:pt x="10774" y="14753"/>
                </a:cubicBezTo>
                <a:cubicBezTo>
                  <a:pt x="10751" y="14735"/>
                  <a:pt x="10697" y="14706"/>
                  <a:pt x="10689" y="14690"/>
                </a:cubicBezTo>
                <a:cubicBezTo>
                  <a:pt x="10674" y="14661"/>
                  <a:pt x="10656" y="14663"/>
                  <a:pt x="10689" y="14647"/>
                </a:cubicBezTo>
                <a:cubicBezTo>
                  <a:pt x="10733" y="14626"/>
                  <a:pt x="11053" y="14615"/>
                  <a:pt x="11091" y="14626"/>
                </a:cubicBezTo>
                <a:cubicBezTo>
                  <a:pt x="11183" y="14652"/>
                  <a:pt x="11115" y="14641"/>
                  <a:pt x="11091" y="14668"/>
                </a:cubicBezTo>
                <a:cubicBezTo>
                  <a:pt x="11076" y="14684"/>
                  <a:pt x="11039" y="14738"/>
                  <a:pt x="11007" y="14753"/>
                </a:cubicBezTo>
                <a:cubicBezTo>
                  <a:pt x="10982" y="14765"/>
                  <a:pt x="10941" y="14753"/>
                  <a:pt x="11007" y="14753"/>
                </a:cubicBezTo>
                <a:cubicBezTo>
                  <a:pt x="11157" y="14753"/>
                  <a:pt x="11306" y="14744"/>
                  <a:pt x="11451" y="14774"/>
                </a:cubicBezTo>
                <a:cubicBezTo>
                  <a:pt x="11490" y="14782"/>
                  <a:pt x="11539" y="14786"/>
                  <a:pt x="11515" y="14795"/>
                </a:cubicBezTo>
                <a:cubicBezTo>
                  <a:pt x="11488" y="14805"/>
                  <a:pt x="11437" y="14795"/>
                  <a:pt x="11409" y="14795"/>
                </a:cubicBezTo>
                <a:cubicBezTo>
                  <a:pt x="11311" y="14768"/>
                  <a:pt x="11233" y="14766"/>
                  <a:pt x="11134" y="14753"/>
                </a:cubicBezTo>
                <a:cubicBezTo>
                  <a:pt x="11085" y="14746"/>
                  <a:pt x="11039" y="14735"/>
                  <a:pt x="10985" y="14732"/>
                </a:cubicBezTo>
                <a:cubicBezTo>
                  <a:pt x="11062" y="14732"/>
                  <a:pt x="11014" y="14732"/>
                  <a:pt x="11091" y="14732"/>
                </a:cubicBezTo>
                <a:cubicBezTo>
                  <a:pt x="11263" y="14732"/>
                  <a:pt x="11472" y="14760"/>
                  <a:pt x="11642" y="14795"/>
                </a:cubicBezTo>
                <a:cubicBezTo>
                  <a:pt x="11784" y="14824"/>
                  <a:pt x="11899" y="14838"/>
                  <a:pt x="12044" y="14838"/>
                </a:cubicBezTo>
                <a:cubicBezTo>
                  <a:pt x="12079" y="14838"/>
                  <a:pt x="12015" y="14838"/>
                  <a:pt x="11980" y="14838"/>
                </a:cubicBezTo>
                <a:cubicBezTo>
                  <a:pt x="11832" y="14838"/>
                  <a:pt x="11424" y="14794"/>
                  <a:pt x="11557" y="14859"/>
                </a:cubicBezTo>
                <a:cubicBezTo>
                  <a:pt x="11619" y="14889"/>
                  <a:pt x="11807" y="14912"/>
                  <a:pt x="11874" y="14922"/>
                </a:cubicBezTo>
                <a:cubicBezTo>
                  <a:pt x="11946" y="14932"/>
                  <a:pt x="12133" y="14948"/>
                  <a:pt x="12065" y="14922"/>
                </a:cubicBezTo>
                <a:cubicBezTo>
                  <a:pt x="12015" y="14903"/>
                  <a:pt x="11909" y="14885"/>
                  <a:pt x="11853" y="14880"/>
                </a:cubicBezTo>
                <a:cubicBezTo>
                  <a:pt x="11779" y="14873"/>
                  <a:pt x="11714" y="14864"/>
                  <a:pt x="11642" y="14859"/>
                </a:cubicBezTo>
                <a:cubicBezTo>
                  <a:pt x="11578" y="14855"/>
                  <a:pt x="11530" y="14842"/>
                  <a:pt x="11472" y="14838"/>
                </a:cubicBezTo>
                <a:cubicBezTo>
                  <a:pt x="11414" y="14834"/>
                  <a:pt x="11371" y="14847"/>
                  <a:pt x="11324" y="14859"/>
                </a:cubicBezTo>
                <a:cubicBezTo>
                  <a:pt x="11298" y="14865"/>
                  <a:pt x="11255" y="14840"/>
                  <a:pt x="11261" y="14880"/>
                </a:cubicBezTo>
                <a:cubicBezTo>
                  <a:pt x="11269" y="14938"/>
                  <a:pt x="11497" y="14940"/>
                  <a:pt x="11515" y="14944"/>
                </a:cubicBezTo>
                <a:cubicBezTo>
                  <a:pt x="11638" y="14974"/>
                  <a:pt x="11811" y="15018"/>
                  <a:pt x="11917" y="15092"/>
                </a:cubicBezTo>
                <a:cubicBezTo>
                  <a:pt x="11952" y="15092"/>
                  <a:pt x="11945" y="15092"/>
                  <a:pt x="11874" y="15092"/>
                </a:cubicBezTo>
                <a:cubicBezTo>
                  <a:pt x="11751" y="15092"/>
                  <a:pt x="11632" y="15094"/>
                  <a:pt x="11515" y="15071"/>
                </a:cubicBezTo>
                <a:cubicBezTo>
                  <a:pt x="11461" y="15060"/>
                  <a:pt x="11411" y="15040"/>
                  <a:pt x="11366" y="15007"/>
                </a:cubicBezTo>
                <a:cubicBezTo>
                  <a:pt x="11352" y="14997"/>
                  <a:pt x="11295" y="14978"/>
                  <a:pt x="11303" y="14965"/>
                </a:cubicBezTo>
                <a:cubicBezTo>
                  <a:pt x="11333" y="14917"/>
                  <a:pt x="11374" y="14965"/>
                  <a:pt x="11430" y="14965"/>
                </a:cubicBezTo>
                <a:cubicBezTo>
                  <a:pt x="11599" y="14965"/>
                  <a:pt x="12016" y="15084"/>
                  <a:pt x="11896" y="14965"/>
                </a:cubicBezTo>
                <a:cubicBezTo>
                  <a:pt x="11850" y="14920"/>
                  <a:pt x="11724" y="14944"/>
                  <a:pt x="11663" y="14944"/>
                </a:cubicBezTo>
                <a:cubicBezTo>
                  <a:pt x="11561" y="14944"/>
                  <a:pt x="11462" y="14909"/>
                  <a:pt x="11366" y="14901"/>
                </a:cubicBezTo>
                <a:cubicBezTo>
                  <a:pt x="11293" y="14895"/>
                  <a:pt x="11237" y="14907"/>
                  <a:pt x="11176" y="14880"/>
                </a:cubicBezTo>
                <a:cubicBezTo>
                  <a:pt x="11169" y="14873"/>
                  <a:pt x="11162" y="14866"/>
                  <a:pt x="11155" y="14859"/>
                </a:cubicBezTo>
                <a:cubicBezTo>
                  <a:pt x="11127" y="14873"/>
                  <a:pt x="11137" y="14862"/>
                  <a:pt x="11112" y="14880"/>
                </a:cubicBezTo>
                <a:cubicBezTo>
                  <a:pt x="11216" y="14892"/>
                  <a:pt x="11326" y="14915"/>
                  <a:pt x="11430" y="14922"/>
                </a:cubicBezTo>
                <a:cubicBezTo>
                  <a:pt x="11488" y="14926"/>
                  <a:pt x="11625" y="14959"/>
                  <a:pt x="11557" y="14922"/>
                </a:cubicBezTo>
                <a:cubicBezTo>
                  <a:pt x="11521" y="14902"/>
                  <a:pt x="11496" y="14905"/>
                  <a:pt x="11451" y="14901"/>
                </a:cubicBezTo>
                <a:cubicBezTo>
                  <a:pt x="11365" y="14893"/>
                  <a:pt x="11282" y="14886"/>
                  <a:pt x="11197" y="14880"/>
                </a:cubicBezTo>
                <a:cubicBezTo>
                  <a:pt x="11145" y="14876"/>
                  <a:pt x="11040" y="14869"/>
                  <a:pt x="11176" y="14859"/>
                </a:cubicBezTo>
                <a:cubicBezTo>
                  <a:pt x="11331" y="14847"/>
                  <a:pt x="11491" y="14855"/>
                  <a:pt x="11642" y="14880"/>
                </a:cubicBezTo>
                <a:cubicBezTo>
                  <a:pt x="11684" y="14887"/>
                  <a:pt x="11727" y="14894"/>
                  <a:pt x="11769" y="14901"/>
                </a:cubicBezTo>
                <a:cubicBezTo>
                  <a:pt x="11902" y="14925"/>
                  <a:pt x="12016" y="14944"/>
                  <a:pt x="12150" y="14944"/>
                </a:cubicBezTo>
                <a:cubicBezTo>
                  <a:pt x="12256" y="14944"/>
                  <a:pt x="12130" y="14944"/>
                  <a:pt x="12107" y="14944"/>
                </a:cubicBezTo>
                <a:cubicBezTo>
                  <a:pt x="11997" y="14944"/>
                  <a:pt x="11897" y="14941"/>
                  <a:pt x="11790" y="14922"/>
                </a:cubicBezTo>
                <a:cubicBezTo>
                  <a:pt x="11720" y="14910"/>
                  <a:pt x="11648" y="14878"/>
                  <a:pt x="11578" y="14880"/>
                </a:cubicBezTo>
                <a:cubicBezTo>
                  <a:pt x="11567" y="14880"/>
                  <a:pt x="11495" y="14911"/>
                  <a:pt x="11515" y="14922"/>
                </a:cubicBezTo>
                <a:cubicBezTo>
                  <a:pt x="11608" y="14974"/>
                  <a:pt x="11886" y="14964"/>
                  <a:pt x="12001" y="14986"/>
                </a:cubicBezTo>
                <a:cubicBezTo>
                  <a:pt x="12177" y="15019"/>
                  <a:pt x="12355" y="15038"/>
                  <a:pt x="12531" y="15071"/>
                </a:cubicBezTo>
                <a:cubicBezTo>
                  <a:pt x="12658" y="15095"/>
                  <a:pt x="13023" y="15046"/>
                  <a:pt x="12912" y="15113"/>
                </a:cubicBezTo>
                <a:cubicBezTo>
                  <a:pt x="12846" y="15152"/>
                  <a:pt x="12661" y="15094"/>
                  <a:pt x="12594" y="15092"/>
                </a:cubicBezTo>
                <a:cubicBezTo>
                  <a:pt x="12374" y="15087"/>
                  <a:pt x="12150" y="15100"/>
                  <a:pt x="11938" y="15071"/>
                </a:cubicBezTo>
                <a:cubicBezTo>
                  <a:pt x="11880" y="15044"/>
                  <a:pt x="11853" y="15021"/>
                  <a:pt x="11769" y="15028"/>
                </a:cubicBezTo>
                <a:cubicBezTo>
                  <a:pt x="11754" y="15029"/>
                  <a:pt x="11667" y="15041"/>
                  <a:pt x="11726" y="15049"/>
                </a:cubicBezTo>
                <a:cubicBezTo>
                  <a:pt x="11885" y="15071"/>
                  <a:pt x="12085" y="15040"/>
                  <a:pt x="12213" y="15071"/>
                </a:cubicBezTo>
                <a:cubicBezTo>
                  <a:pt x="12323" y="15098"/>
                  <a:pt x="12330" y="15114"/>
                  <a:pt x="12404" y="15155"/>
                </a:cubicBezTo>
                <a:cubicBezTo>
                  <a:pt x="12411" y="15155"/>
                  <a:pt x="12418" y="15155"/>
                  <a:pt x="12425" y="15155"/>
                </a:cubicBezTo>
                <a:cubicBezTo>
                  <a:pt x="12296" y="15155"/>
                  <a:pt x="12168" y="15164"/>
                  <a:pt x="12044" y="15134"/>
                </a:cubicBezTo>
                <a:cubicBezTo>
                  <a:pt x="11954" y="15113"/>
                  <a:pt x="11868" y="15071"/>
                  <a:pt x="11790" y="15028"/>
                </a:cubicBezTo>
                <a:cubicBezTo>
                  <a:pt x="11738" y="15000"/>
                  <a:pt x="11675" y="14965"/>
                  <a:pt x="11620" y="14965"/>
                </a:cubicBezTo>
                <a:cubicBezTo>
                  <a:pt x="11552" y="14965"/>
                  <a:pt x="11760" y="14986"/>
                  <a:pt x="11769" y="14986"/>
                </a:cubicBezTo>
                <a:cubicBezTo>
                  <a:pt x="11907" y="14990"/>
                  <a:pt x="11997" y="14998"/>
                  <a:pt x="12128" y="15049"/>
                </a:cubicBezTo>
                <a:cubicBezTo>
                  <a:pt x="12150" y="15057"/>
                  <a:pt x="12265" y="15081"/>
                  <a:pt x="12255" y="15113"/>
                </a:cubicBezTo>
                <a:cubicBezTo>
                  <a:pt x="12246" y="15140"/>
                  <a:pt x="12062" y="15093"/>
                  <a:pt x="12044" y="15092"/>
                </a:cubicBezTo>
                <a:cubicBezTo>
                  <a:pt x="11972" y="15087"/>
                  <a:pt x="11901" y="15076"/>
                  <a:pt x="11832" y="15071"/>
                </a:cubicBezTo>
                <a:cubicBezTo>
                  <a:pt x="11711" y="15062"/>
                  <a:pt x="11622" y="15075"/>
                  <a:pt x="11536" y="15113"/>
                </a:cubicBezTo>
                <a:cubicBezTo>
                  <a:pt x="11516" y="15122"/>
                  <a:pt x="11421" y="15148"/>
                  <a:pt x="11430" y="15176"/>
                </a:cubicBezTo>
                <a:cubicBezTo>
                  <a:pt x="11447" y="15232"/>
                  <a:pt x="11599" y="15189"/>
                  <a:pt x="11642" y="15198"/>
                </a:cubicBezTo>
                <a:cubicBezTo>
                  <a:pt x="11783" y="15226"/>
                  <a:pt x="11925" y="15255"/>
                  <a:pt x="12065" y="15282"/>
                </a:cubicBezTo>
                <a:cubicBezTo>
                  <a:pt x="12079" y="15289"/>
                  <a:pt x="12093" y="15296"/>
                  <a:pt x="12107" y="15303"/>
                </a:cubicBezTo>
                <a:cubicBezTo>
                  <a:pt x="12098" y="15276"/>
                  <a:pt x="12156" y="15287"/>
                  <a:pt x="12128" y="15282"/>
                </a:cubicBezTo>
                <a:cubicBezTo>
                  <a:pt x="12037" y="15266"/>
                  <a:pt x="11975" y="15265"/>
                  <a:pt x="11896" y="15240"/>
                </a:cubicBezTo>
                <a:cubicBezTo>
                  <a:pt x="11841" y="15223"/>
                  <a:pt x="11785" y="15193"/>
                  <a:pt x="11726" y="15176"/>
                </a:cubicBezTo>
                <a:cubicBezTo>
                  <a:pt x="11670" y="15160"/>
                  <a:pt x="11625" y="15156"/>
                  <a:pt x="11578" y="15134"/>
                </a:cubicBezTo>
                <a:cubicBezTo>
                  <a:pt x="11542" y="15117"/>
                  <a:pt x="11456" y="15085"/>
                  <a:pt x="11493" y="15071"/>
                </a:cubicBezTo>
                <a:cubicBezTo>
                  <a:pt x="11561" y="15045"/>
                  <a:pt x="11658" y="15088"/>
                  <a:pt x="11726" y="15092"/>
                </a:cubicBezTo>
                <a:cubicBezTo>
                  <a:pt x="11778" y="15095"/>
                  <a:pt x="11895" y="15130"/>
                  <a:pt x="11938" y="15113"/>
                </a:cubicBezTo>
                <a:cubicBezTo>
                  <a:pt x="11941" y="15112"/>
                  <a:pt x="11849" y="15097"/>
                  <a:pt x="11832" y="15092"/>
                </a:cubicBezTo>
                <a:cubicBezTo>
                  <a:pt x="11808" y="15085"/>
                  <a:pt x="11716" y="15037"/>
                  <a:pt x="11663" y="15028"/>
                </a:cubicBezTo>
                <a:cubicBezTo>
                  <a:pt x="11595" y="15016"/>
                  <a:pt x="11422" y="15007"/>
                  <a:pt x="11366" y="15049"/>
                </a:cubicBezTo>
                <a:cubicBezTo>
                  <a:pt x="11346" y="15064"/>
                  <a:pt x="11313" y="15117"/>
                  <a:pt x="11282" y="15155"/>
                </a:cubicBezTo>
                <a:cubicBezTo>
                  <a:pt x="11249" y="15196"/>
                  <a:pt x="11254" y="15221"/>
                  <a:pt x="11239" y="15261"/>
                </a:cubicBezTo>
                <a:cubicBezTo>
                  <a:pt x="11228" y="15291"/>
                  <a:pt x="11240" y="15281"/>
                  <a:pt x="11218" y="15303"/>
                </a:cubicBezTo>
                <a:cubicBezTo>
                  <a:pt x="11218" y="15296"/>
                  <a:pt x="11218" y="15289"/>
                  <a:pt x="11218" y="15282"/>
                </a:cubicBezTo>
              </a:path>
              <a:path w="8087" h="3282">
                <a:moveTo>
                  <a:pt x="11261" y="15346"/>
                </a:moveTo>
                <a:cubicBezTo>
                  <a:pt x="11547" y="15346"/>
                  <a:pt x="12346" y="15474"/>
                  <a:pt x="12552" y="15325"/>
                </a:cubicBezTo>
                <a:cubicBezTo>
                  <a:pt x="12559" y="15320"/>
                  <a:pt x="12552" y="15311"/>
                  <a:pt x="12509" y="15303"/>
                </a:cubicBezTo>
                <a:cubicBezTo>
                  <a:pt x="12398" y="15281"/>
                  <a:pt x="12258" y="15293"/>
                  <a:pt x="12150" y="15282"/>
                </a:cubicBezTo>
                <a:cubicBezTo>
                  <a:pt x="12129" y="15282"/>
                  <a:pt x="12107" y="15282"/>
                  <a:pt x="12086" y="15282"/>
                </a:cubicBezTo>
                <a:cubicBezTo>
                  <a:pt x="12051" y="15282"/>
                  <a:pt x="12015" y="15282"/>
                  <a:pt x="11980" y="15282"/>
                </a:cubicBezTo>
                <a:cubicBezTo>
                  <a:pt x="12015" y="15282"/>
                  <a:pt x="12009" y="15282"/>
                  <a:pt x="12044" y="15282"/>
                </a:cubicBezTo>
                <a:cubicBezTo>
                  <a:pt x="12140" y="15282"/>
                  <a:pt x="12469" y="15282"/>
                  <a:pt x="12425" y="15282"/>
                </a:cubicBezTo>
                <a:cubicBezTo>
                  <a:pt x="12312" y="15282"/>
                  <a:pt x="12199" y="15282"/>
                  <a:pt x="12086" y="15282"/>
                </a:cubicBezTo>
                <a:cubicBezTo>
                  <a:pt x="12060" y="15282"/>
                  <a:pt x="11833" y="15282"/>
                  <a:pt x="11938" y="15282"/>
                </a:cubicBezTo>
                <a:cubicBezTo>
                  <a:pt x="12062" y="15282"/>
                  <a:pt x="12181" y="15273"/>
                  <a:pt x="12298" y="15261"/>
                </a:cubicBezTo>
                <a:cubicBezTo>
                  <a:pt x="12334" y="15257"/>
                  <a:pt x="12419" y="15241"/>
                  <a:pt x="12425" y="15240"/>
                </a:cubicBezTo>
                <a:cubicBezTo>
                  <a:pt x="12557" y="15224"/>
                  <a:pt x="12852" y="15295"/>
                  <a:pt x="12933" y="15219"/>
                </a:cubicBezTo>
                <a:cubicBezTo>
                  <a:pt x="12949" y="15204"/>
                  <a:pt x="12957" y="15191"/>
                  <a:pt x="12975" y="15176"/>
                </a:cubicBezTo>
                <a:cubicBezTo>
                  <a:pt x="12975" y="15155"/>
                  <a:pt x="12975" y="15148"/>
                  <a:pt x="12996" y="15155"/>
                </a:cubicBezTo>
                <a:cubicBezTo>
                  <a:pt x="12972" y="15150"/>
                  <a:pt x="12882" y="15134"/>
                  <a:pt x="12827" y="15134"/>
                </a:cubicBezTo>
                <a:cubicBezTo>
                  <a:pt x="12545" y="15134"/>
                  <a:pt x="12262" y="15134"/>
                  <a:pt x="11980" y="15134"/>
                </a:cubicBezTo>
                <a:cubicBezTo>
                  <a:pt x="11970" y="15134"/>
                  <a:pt x="11882" y="15134"/>
                  <a:pt x="11938" y="15134"/>
                </a:cubicBezTo>
                <a:cubicBezTo>
                  <a:pt x="12072" y="15134"/>
                  <a:pt x="12432" y="15134"/>
                  <a:pt x="12298" y="15134"/>
                </a:cubicBezTo>
                <a:cubicBezTo>
                  <a:pt x="12227" y="15134"/>
                  <a:pt x="12175" y="15156"/>
                  <a:pt x="12107" y="15176"/>
                </a:cubicBezTo>
                <a:cubicBezTo>
                  <a:pt x="12059" y="15190"/>
                  <a:pt x="11954" y="15216"/>
                  <a:pt x="11938" y="15282"/>
                </a:cubicBezTo>
                <a:cubicBezTo>
                  <a:pt x="11932" y="15308"/>
                  <a:pt x="11906" y="15296"/>
                  <a:pt x="11980" y="15303"/>
                </a:cubicBezTo>
                <a:cubicBezTo>
                  <a:pt x="12070" y="15311"/>
                  <a:pt x="12165" y="15303"/>
                  <a:pt x="12255" y="15303"/>
                </a:cubicBezTo>
                <a:cubicBezTo>
                  <a:pt x="12279" y="15303"/>
                  <a:pt x="12425" y="15316"/>
                  <a:pt x="12382" y="15303"/>
                </a:cubicBezTo>
                <a:cubicBezTo>
                  <a:pt x="12322" y="15285"/>
                  <a:pt x="12252" y="15296"/>
                  <a:pt x="12192" y="15282"/>
                </a:cubicBezTo>
                <a:cubicBezTo>
                  <a:pt x="12181" y="15279"/>
                  <a:pt x="12107" y="15268"/>
                  <a:pt x="12128" y="15240"/>
                </a:cubicBezTo>
                <a:cubicBezTo>
                  <a:pt x="12153" y="15206"/>
                  <a:pt x="12264" y="15224"/>
                  <a:pt x="12298" y="15219"/>
                </a:cubicBezTo>
                <a:cubicBezTo>
                  <a:pt x="12397" y="15203"/>
                  <a:pt x="12496" y="15213"/>
                  <a:pt x="12594" y="15198"/>
                </a:cubicBezTo>
                <a:cubicBezTo>
                  <a:pt x="12623" y="15194"/>
                  <a:pt x="12660" y="15177"/>
                  <a:pt x="12700" y="15176"/>
                </a:cubicBezTo>
                <a:cubicBezTo>
                  <a:pt x="12728" y="15175"/>
                  <a:pt x="12714" y="15176"/>
                  <a:pt x="12742" y="15176"/>
                </a:cubicBezTo>
                <a:cubicBezTo>
                  <a:pt x="12611" y="15148"/>
                  <a:pt x="12473" y="15156"/>
                  <a:pt x="12340" y="15134"/>
                </a:cubicBezTo>
                <a:cubicBezTo>
                  <a:pt x="12319" y="15131"/>
                  <a:pt x="12150" y="15118"/>
                  <a:pt x="12255" y="15113"/>
                </a:cubicBezTo>
                <a:cubicBezTo>
                  <a:pt x="12354" y="15109"/>
                  <a:pt x="12453" y="15113"/>
                  <a:pt x="12552" y="15113"/>
                </a:cubicBezTo>
                <a:cubicBezTo>
                  <a:pt x="12573" y="15113"/>
                  <a:pt x="12767" y="15113"/>
                  <a:pt x="12658" y="15113"/>
                </a:cubicBezTo>
                <a:cubicBezTo>
                  <a:pt x="12594" y="15113"/>
                  <a:pt x="12573" y="15113"/>
                  <a:pt x="12531" y="15113"/>
                </a:cubicBezTo>
                <a:cubicBezTo>
                  <a:pt x="12460" y="15113"/>
                  <a:pt x="12066" y="15155"/>
                  <a:pt x="12044" y="15092"/>
                </a:cubicBezTo>
                <a:cubicBezTo>
                  <a:pt x="12041" y="15083"/>
                  <a:pt x="12128" y="15092"/>
                  <a:pt x="12192" y="15092"/>
                </a:cubicBezTo>
                <a:cubicBezTo>
                  <a:pt x="12282" y="15092"/>
                  <a:pt x="12359" y="15074"/>
                  <a:pt x="12446" y="15071"/>
                </a:cubicBezTo>
                <a:cubicBezTo>
                  <a:pt x="12455" y="15071"/>
                  <a:pt x="12647" y="15071"/>
                  <a:pt x="12531" y="15071"/>
                </a:cubicBezTo>
                <a:cubicBezTo>
                  <a:pt x="12432" y="15071"/>
                  <a:pt x="12333" y="15071"/>
                  <a:pt x="12234" y="15071"/>
                </a:cubicBezTo>
                <a:cubicBezTo>
                  <a:pt x="12143" y="15071"/>
                  <a:pt x="11995" y="15071"/>
                  <a:pt x="12086" y="15071"/>
                </a:cubicBezTo>
                <a:cubicBezTo>
                  <a:pt x="12291" y="15071"/>
                  <a:pt x="12863" y="15071"/>
                  <a:pt x="12658" y="15071"/>
                </a:cubicBezTo>
                <a:cubicBezTo>
                  <a:pt x="12601" y="15071"/>
                  <a:pt x="12545" y="15071"/>
                  <a:pt x="12488" y="15071"/>
                </a:cubicBezTo>
                <a:cubicBezTo>
                  <a:pt x="12286" y="15071"/>
                  <a:pt x="12091" y="15089"/>
                  <a:pt x="11896" y="15028"/>
                </a:cubicBezTo>
                <a:cubicBezTo>
                  <a:pt x="11771" y="14989"/>
                  <a:pt x="11688" y="14951"/>
                  <a:pt x="11557" y="14944"/>
                </a:cubicBezTo>
                <a:cubicBezTo>
                  <a:pt x="11550" y="14944"/>
                  <a:pt x="11543" y="14944"/>
                  <a:pt x="11536" y="14944"/>
                </a:cubicBezTo>
                <a:cubicBezTo>
                  <a:pt x="11674" y="14911"/>
                  <a:pt x="11815" y="14922"/>
                  <a:pt x="11959" y="14922"/>
                </a:cubicBezTo>
                <a:cubicBezTo>
                  <a:pt x="12206" y="14922"/>
                  <a:pt x="12905" y="14922"/>
                  <a:pt x="12658" y="14922"/>
                </a:cubicBezTo>
                <a:cubicBezTo>
                  <a:pt x="12601" y="14922"/>
                  <a:pt x="12573" y="14922"/>
                  <a:pt x="12531" y="14922"/>
                </a:cubicBezTo>
                <a:cubicBezTo>
                  <a:pt x="12479" y="14922"/>
                  <a:pt x="12014" y="14922"/>
                  <a:pt x="12234" y="14922"/>
                </a:cubicBezTo>
                <a:cubicBezTo>
                  <a:pt x="12444" y="14922"/>
                  <a:pt x="12624" y="14931"/>
                  <a:pt x="12827" y="14965"/>
                </a:cubicBezTo>
                <a:cubicBezTo>
                  <a:pt x="12990" y="14992"/>
                  <a:pt x="13133" y="15029"/>
                  <a:pt x="13293" y="15071"/>
                </a:cubicBezTo>
                <a:cubicBezTo>
                  <a:pt x="13451" y="15113"/>
                  <a:pt x="13376" y="15092"/>
                  <a:pt x="13271" y="15092"/>
                </a:cubicBezTo>
                <a:cubicBezTo>
                  <a:pt x="13045" y="15092"/>
                  <a:pt x="12812" y="15095"/>
                  <a:pt x="12594" y="15071"/>
                </a:cubicBezTo>
                <a:cubicBezTo>
                  <a:pt x="12539" y="15065"/>
                  <a:pt x="12510" y="15060"/>
                  <a:pt x="12467" y="15049"/>
                </a:cubicBezTo>
                <a:cubicBezTo>
                  <a:pt x="12530" y="15049"/>
                  <a:pt x="12552" y="15049"/>
                  <a:pt x="12615" y="15049"/>
                </a:cubicBezTo>
                <a:cubicBezTo>
                  <a:pt x="12679" y="15049"/>
                  <a:pt x="12742" y="15049"/>
                  <a:pt x="12806" y="15049"/>
                </a:cubicBezTo>
                <a:cubicBezTo>
                  <a:pt x="12552" y="15049"/>
                  <a:pt x="12298" y="15049"/>
                  <a:pt x="12044" y="15049"/>
                </a:cubicBezTo>
                <a:cubicBezTo>
                  <a:pt x="12027" y="15049"/>
                  <a:pt x="11825" y="15049"/>
                  <a:pt x="11874" y="15049"/>
                </a:cubicBezTo>
                <a:cubicBezTo>
                  <a:pt x="12019" y="15049"/>
                  <a:pt x="12158" y="15041"/>
                  <a:pt x="12298" y="15028"/>
                </a:cubicBezTo>
                <a:cubicBezTo>
                  <a:pt x="12318" y="15026"/>
                  <a:pt x="12470" y="15028"/>
                  <a:pt x="12361" y="15028"/>
                </a:cubicBezTo>
                <a:cubicBezTo>
                  <a:pt x="12221" y="15028"/>
                  <a:pt x="12157" y="14997"/>
                  <a:pt x="12023" y="14965"/>
                </a:cubicBezTo>
                <a:cubicBezTo>
                  <a:pt x="11962" y="14951"/>
                  <a:pt x="11919" y="14944"/>
                  <a:pt x="11853" y="14944"/>
                </a:cubicBezTo>
                <a:cubicBezTo>
                  <a:pt x="11952" y="14944"/>
                  <a:pt x="12008" y="14944"/>
                  <a:pt x="12107" y="14944"/>
                </a:cubicBezTo>
                <a:cubicBezTo>
                  <a:pt x="12262" y="14944"/>
                  <a:pt x="12418" y="14944"/>
                  <a:pt x="12573" y="14944"/>
                </a:cubicBezTo>
                <a:cubicBezTo>
                  <a:pt x="12578" y="14944"/>
                  <a:pt x="12824" y="14944"/>
                  <a:pt x="12700" y="14944"/>
                </a:cubicBezTo>
                <a:cubicBezTo>
                  <a:pt x="12572" y="14944"/>
                  <a:pt x="12445" y="14953"/>
                  <a:pt x="12319" y="14922"/>
                </a:cubicBezTo>
                <a:cubicBezTo>
                  <a:pt x="12150" y="14880"/>
                  <a:pt x="11963" y="14841"/>
                  <a:pt x="11790" y="14817"/>
                </a:cubicBezTo>
                <a:cubicBezTo>
                  <a:pt x="11677" y="14801"/>
                  <a:pt x="11559" y="14785"/>
                  <a:pt x="11451" y="14753"/>
                </a:cubicBezTo>
                <a:cubicBezTo>
                  <a:pt x="11384" y="14733"/>
                  <a:pt x="11427" y="14734"/>
                  <a:pt x="11472" y="14732"/>
                </a:cubicBezTo>
                <a:cubicBezTo>
                  <a:pt x="11656" y="14724"/>
                  <a:pt x="11852" y="14733"/>
                  <a:pt x="12023" y="14711"/>
                </a:cubicBezTo>
                <a:cubicBezTo>
                  <a:pt x="12044" y="14711"/>
                  <a:pt x="12051" y="14711"/>
                  <a:pt x="12065" y="14711"/>
                </a:cubicBezTo>
                <a:cubicBezTo>
                  <a:pt x="11949" y="14711"/>
                  <a:pt x="11839" y="14699"/>
                  <a:pt x="11726" y="14690"/>
                </a:cubicBezTo>
                <a:cubicBezTo>
                  <a:pt x="11691" y="14687"/>
                  <a:pt x="11655" y="14692"/>
                  <a:pt x="11620" y="14690"/>
                </a:cubicBezTo>
                <a:cubicBezTo>
                  <a:pt x="11937" y="14690"/>
                  <a:pt x="12310" y="14738"/>
                  <a:pt x="12615" y="14668"/>
                </a:cubicBezTo>
                <a:cubicBezTo>
                  <a:pt x="12644" y="14661"/>
                  <a:pt x="12744" y="14645"/>
                  <a:pt x="12700" y="14626"/>
                </a:cubicBezTo>
                <a:cubicBezTo>
                  <a:pt x="12623" y="14593"/>
                  <a:pt x="12527" y="14618"/>
                  <a:pt x="12446" y="14605"/>
                </a:cubicBezTo>
                <a:cubicBezTo>
                  <a:pt x="12359" y="14591"/>
                  <a:pt x="12281" y="14584"/>
                  <a:pt x="12192" y="14584"/>
                </a:cubicBezTo>
                <a:cubicBezTo>
                  <a:pt x="12175" y="14584"/>
                  <a:pt x="12037" y="14584"/>
                  <a:pt x="12086" y="14584"/>
                </a:cubicBezTo>
                <a:cubicBezTo>
                  <a:pt x="12107" y="14584"/>
                  <a:pt x="12129" y="14584"/>
                  <a:pt x="12150" y="14584"/>
                </a:cubicBezTo>
                <a:cubicBezTo>
                  <a:pt x="12277" y="14584"/>
                  <a:pt x="12615" y="14584"/>
                  <a:pt x="12488" y="14584"/>
                </a:cubicBezTo>
                <a:cubicBezTo>
                  <a:pt x="12418" y="14584"/>
                  <a:pt x="12389" y="14584"/>
                  <a:pt x="12340" y="14584"/>
                </a:cubicBezTo>
                <a:cubicBezTo>
                  <a:pt x="12030" y="14584"/>
                  <a:pt x="11719" y="14584"/>
                  <a:pt x="11409" y="14584"/>
                </a:cubicBezTo>
                <a:cubicBezTo>
                  <a:pt x="11304" y="14584"/>
                  <a:pt x="11374" y="14584"/>
                  <a:pt x="11430" y="14584"/>
                </a:cubicBezTo>
                <a:cubicBezTo>
                  <a:pt x="11553" y="14584"/>
                  <a:pt x="12036" y="14577"/>
                  <a:pt x="12001" y="14563"/>
                </a:cubicBezTo>
                <a:cubicBezTo>
                  <a:pt x="11895" y="14522"/>
                  <a:pt x="11812" y="14519"/>
                  <a:pt x="11705" y="14499"/>
                </a:cubicBezTo>
                <a:cubicBezTo>
                  <a:pt x="11661" y="14491"/>
                  <a:pt x="11658" y="14482"/>
                  <a:pt x="11620" y="14457"/>
                </a:cubicBezTo>
                <a:cubicBezTo>
                  <a:pt x="11869" y="14457"/>
                  <a:pt x="12270" y="14457"/>
                  <a:pt x="12446" y="14457"/>
                </a:cubicBezTo>
                <a:cubicBezTo>
                  <a:pt x="12312" y="14457"/>
                  <a:pt x="11969" y="14457"/>
                  <a:pt x="11980" y="14457"/>
                </a:cubicBezTo>
                <a:cubicBezTo>
                  <a:pt x="12079" y="14457"/>
                  <a:pt x="12178" y="14457"/>
                  <a:pt x="12277" y="14457"/>
                </a:cubicBezTo>
                <a:cubicBezTo>
                  <a:pt x="12369" y="14457"/>
                  <a:pt x="12369" y="14457"/>
                  <a:pt x="12277" y="14457"/>
                </a:cubicBezTo>
                <a:cubicBezTo>
                  <a:pt x="12086" y="14457"/>
                  <a:pt x="11888" y="14470"/>
                  <a:pt x="11705" y="14436"/>
                </a:cubicBezTo>
                <a:cubicBezTo>
                  <a:pt x="11740" y="14436"/>
                  <a:pt x="11691" y="14436"/>
                  <a:pt x="11726" y="14436"/>
                </a:cubicBezTo>
                <a:cubicBezTo>
                  <a:pt x="11789" y="14436"/>
                  <a:pt x="11964" y="14439"/>
                  <a:pt x="11959" y="14436"/>
                </a:cubicBezTo>
                <a:cubicBezTo>
                  <a:pt x="11892" y="14397"/>
                  <a:pt x="11785" y="14407"/>
                  <a:pt x="11705" y="14393"/>
                </a:cubicBezTo>
                <a:cubicBezTo>
                  <a:pt x="11635" y="14376"/>
                  <a:pt x="11622" y="14369"/>
                  <a:pt x="11578" y="14372"/>
                </a:cubicBezTo>
                <a:cubicBezTo>
                  <a:pt x="11659" y="14372"/>
                  <a:pt x="11884" y="14372"/>
                  <a:pt x="11896" y="14372"/>
                </a:cubicBezTo>
                <a:cubicBezTo>
                  <a:pt x="11960" y="14372"/>
                  <a:pt x="11980" y="14372"/>
                  <a:pt x="12044" y="14372"/>
                </a:cubicBezTo>
                <a:cubicBezTo>
                  <a:pt x="12139" y="14372"/>
                  <a:pt x="12225" y="14390"/>
                  <a:pt x="12319" y="14393"/>
                </a:cubicBezTo>
                <a:cubicBezTo>
                  <a:pt x="12381" y="14395"/>
                  <a:pt x="12413" y="14404"/>
                  <a:pt x="12404" y="14393"/>
                </a:cubicBezTo>
                <a:cubicBezTo>
                  <a:pt x="12401" y="14390"/>
                  <a:pt x="12343" y="14373"/>
                  <a:pt x="12340" y="14372"/>
                </a:cubicBezTo>
                <a:cubicBezTo>
                  <a:pt x="12290" y="14354"/>
                  <a:pt x="12244" y="14361"/>
                  <a:pt x="12192" y="14351"/>
                </a:cubicBezTo>
                <a:cubicBezTo>
                  <a:pt x="12160" y="14345"/>
                  <a:pt x="12120" y="14319"/>
                  <a:pt x="12086" y="14309"/>
                </a:cubicBezTo>
                <a:cubicBezTo>
                  <a:pt x="12027" y="14292"/>
                  <a:pt x="12057" y="14309"/>
                  <a:pt x="12128" y="14309"/>
                </a:cubicBezTo>
                <a:cubicBezTo>
                  <a:pt x="12167" y="14309"/>
                  <a:pt x="12328" y="14309"/>
                  <a:pt x="12298" y="14309"/>
                </a:cubicBezTo>
                <a:cubicBezTo>
                  <a:pt x="12277" y="14309"/>
                  <a:pt x="12269" y="14309"/>
                  <a:pt x="12255" y="14309"/>
                </a:cubicBezTo>
                <a:cubicBezTo>
                  <a:pt x="12174" y="14309"/>
                  <a:pt x="12097" y="14294"/>
                  <a:pt x="12023" y="14287"/>
                </a:cubicBezTo>
                <a:cubicBezTo>
                  <a:pt x="11962" y="14281"/>
                  <a:pt x="11923" y="14288"/>
                  <a:pt x="11874" y="14309"/>
                </a:cubicBezTo>
                <a:cubicBezTo>
                  <a:pt x="11868" y="14312"/>
                  <a:pt x="11816" y="14324"/>
                  <a:pt x="11811" y="14330"/>
                </a:cubicBezTo>
                <a:cubicBezTo>
                  <a:pt x="11811" y="14337"/>
                  <a:pt x="11811" y="14344"/>
                  <a:pt x="11811" y="14351"/>
                </a:cubicBezTo>
              </a:path>
              <a:path w="8087" h="3282">
                <a:moveTo>
                  <a:pt x="12255" y="14309"/>
                </a:moveTo>
                <a:lnTo>
                  <a:pt x="12277" y="14309"/>
                </a:lnTo>
                <a:lnTo>
                  <a:pt x="12277" y="14309"/>
                </a:lnTo>
                <a:lnTo>
                  <a:pt x="12298" y="14309"/>
                </a:lnTo>
                <a:lnTo>
                  <a:pt x="12319" y="14309"/>
                </a:lnTo>
                <a:lnTo>
                  <a:pt x="12340" y="14309"/>
                </a:lnTo>
                <a:lnTo>
                  <a:pt x="12340" y="14309"/>
                </a:lnTo>
                <a:lnTo>
                  <a:pt x="12361" y="14309"/>
                </a:lnTo>
                <a:lnTo>
                  <a:pt x="12361" y="14309"/>
                </a:lnTo>
                <a:lnTo>
                  <a:pt x="12382" y="14309"/>
                </a:lnTo>
                <a:lnTo>
                  <a:pt x="12404" y="14309"/>
                </a:lnTo>
                <a:lnTo>
                  <a:pt x="12425" y="14309"/>
                </a:lnTo>
                <a:lnTo>
                  <a:pt x="12425" y="14309"/>
                </a:lnTo>
                <a:lnTo>
                  <a:pt x="12446" y="14309"/>
                </a:lnTo>
                <a:lnTo>
                  <a:pt x="12467" y="14309"/>
                </a:lnTo>
                <a:lnTo>
                  <a:pt x="12488" y="14309"/>
                </a:lnTo>
                <a:lnTo>
                  <a:pt x="12531" y="14309"/>
                </a:lnTo>
                <a:lnTo>
                  <a:pt x="12531" y="14309"/>
                </a:lnTo>
                <a:lnTo>
                  <a:pt x="12552" y="14309"/>
                </a:lnTo>
                <a:lnTo>
                  <a:pt x="12594" y="14309"/>
                </a:lnTo>
                <a:lnTo>
                  <a:pt x="12594" y="14309"/>
                </a:lnTo>
                <a:lnTo>
                  <a:pt x="12615" y="14309"/>
                </a:lnTo>
                <a:lnTo>
                  <a:pt x="12636" y="14309"/>
                </a:lnTo>
                <a:lnTo>
                  <a:pt x="12658" y="14309"/>
                </a:lnTo>
                <a:lnTo>
                  <a:pt x="12679" y="14309"/>
                </a:lnTo>
                <a:lnTo>
                  <a:pt x="12700" y="14309"/>
                </a:lnTo>
                <a:lnTo>
                  <a:pt x="12721" y="14309"/>
                </a:lnTo>
                <a:lnTo>
                  <a:pt x="12721" y="14309"/>
                </a:lnTo>
                <a:lnTo>
                  <a:pt x="12742" y="14309"/>
                </a:lnTo>
                <a:lnTo>
                  <a:pt x="12742" y="14309"/>
                </a:lnTo>
                <a:lnTo>
                  <a:pt x="12763" y="14309"/>
                </a:lnTo>
                <a:lnTo>
                  <a:pt x="12763" y="14309"/>
                </a:lnTo>
                <a:lnTo>
                  <a:pt x="12785" y="14309"/>
                </a:lnTo>
                <a:lnTo>
                  <a:pt x="12806" y="14309"/>
                </a:lnTo>
                <a:lnTo>
                  <a:pt x="12806" y="14309"/>
                </a:lnTo>
                <a:lnTo>
                  <a:pt x="12827" y="14309"/>
                </a:lnTo>
                <a:lnTo>
                  <a:pt x="12827" y="14309"/>
                </a:lnTo>
                <a:lnTo>
                  <a:pt x="12848" y="14309"/>
                </a:lnTo>
                <a:lnTo>
                  <a:pt x="12848" y="14287"/>
                </a:lnTo>
                <a:lnTo>
                  <a:pt x="12827" y="14287"/>
                </a:lnTo>
                <a:lnTo>
                  <a:pt x="12806" y="14266"/>
                </a:lnTo>
                <a:lnTo>
                  <a:pt x="12742" y="14245"/>
                </a:lnTo>
                <a:lnTo>
                  <a:pt x="12700" y="14245"/>
                </a:lnTo>
                <a:lnTo>
                  <a:pt x="12679" y="14245"/>
                </a:lnTo>
                <a:lnTo>
                  <a:pt x="12636" y="14245"/>
                </a:lnTo>
                <a:lnTo>
                  <a:pt x="12615" y="14245"/>
                </a:lnTo>
                <a:lnTo>
                  <a:pt x="12573" y="14245"/>
                </a:lnTo>
                <a:lnTo>
                  <a:pt x="12552" y="14224"/>
                </a:lnTo>
                <a:lnTo>
                  <a:pt x="12531" y="14224"/>
                </a:lnTo>
                <a:lnTo>
                  <a:pt x="12509" y="14224"/>
                </a:lnTo>
                <a:lnTo>
                  <a:pt x="12509" y="14224"/>
                </a:lnTo>
                <a:lnTo>
                  <a:pt x="12467" y="14224"/>
                </a:lnTo>
                <a:lnTo>
                  <a:pt x="12467" y="14224"/>
                </a:lnTo>
                <a:lnTo>
                  <a:pt x="12446" y="14224"/>
                </a:lnTo>
                <a:lnTo>
                  <a:pt x="12425" y="14224"/>
                </a:lnTo>
                <a:lnTo>
                  <a:pt x="12404" y="14224"/>
                </a:lnTo>
                <a:lnTo>
                  <a:pt x="12382" y="14224"/>
                </a:lnTo>
                <a:lnTo>
                  <a:pt x="12382" y="14224"/>
                </a:lnTo>
                <a:lnTo>
                  <a:pt x="12361" y="14224"/>
                </a:lnTo>
                <a:lnTo>
                  <a:pt x="12361" y="14224"/>
                </a:lnTo>
                <a:lnTo>
                  <a:pt x="12382" y="14224"/>
                </a:lnTo>
                <a:lnTo>
                  <a:pt x="12425" y="14224"/>
                </a:lnTo>
                <a:lnTo>
                  <a:pt x="12446" y="14224"/>
                </a:lnTo>
                <a:lnTo>
                  <a:pt x="12467" y="14224"/>
                </a:lnTo>
                <a:lnTo>
                  <a:pt x="12488" y="14224"/>
                </a:lnTo>
                <a:lnTo>
                  <a:pt x="12509" y="14224"/>
                </a:lnTo>
                <a:lnTo>
                  <a:pt x="12531" y="14224"/>
                </a:lnTo>
                <a:lnTo>
                  <a:pt x="12573" y="14224"/>
                </a:lnTo>
                <a:lnTo>
                  <a:pt x="12594" y="14224"/>
                </a:lnTo>
                <a:lnTo>
                  <a:pt x="12615" y="14224"/>
                </a:lnTo>
                <a:lnTo>
                  <a:pt x="12658" y="14224"/>
                </a:lnTo>
                <a:lnTo>
                  <a:pt x="12679" y="14224"/>
                </a:lnTo>
                <a:lnTo>
                  <a:pt x="12700" y="14224"/>
                </a:lnTo>
                <a:lnTo>
                  <a:pt x="12700" y="14224"/>
                </a:lnTo>
                <a:lnTo>
                  <a:pt x="12679" y="14224"/>
                </a:lnTo>
                <a:lnTo>
                  <a:pt x="12658" y="14224"/>
                </a:lnTo>
                <a:lnTo>
                  <a:pt x="12615" y="14224"/>
                </a:lnTo>
                <a:lnTo>
                  <a:pt x="12594" y="14224"/>
                </a:lnTo>
                <a:lnTo>
                  <a:pt x="12552" y="14224"/>
                </a:lnTo>
                <a:lnTo>
                  <a:pt x="12531" y="14224"/>
                </a:lnTo>
                <a:lnTo>
                  <a:pt x="12531" y="14224"/>
                </a:lnTo>
                <a:lnTo>
                  <a:pt x="12509" y="14224"/>
                </a:lnTo>
                <a:lnTo>
                  <a:pt x="12531" y="14224"/>
                </a:lnTo>
                <a:lnTo>
                  <a:pt x="12531" y="14224"/>
                </a:lnTo>
                <a:lnTo>
                  <a:pt x="12573" y="14224"/>
                </a:lnTo>
                <a:lnTo>
                  <a:pt x="12594" y="14224"/>
                </a:lnTo>
                <a:lnTo>
                  <a:pt x="12615" y="14224"/>
                </a:lnTo>
                <a:lnTo>
                  <a:pt x="12636" y="14203"/>
                </a:lnTo>
                <a:lnTo>
                  <a:pt x="12658" y="14203"/>
                </a:lnTo>
                <a:lnTo>
                  <a:pt x="12700" y="14203"/>
                </a:lnTo>
                <a:lnTo>
                  <a:pt x="12742" y="14203"/>
                </a:lnTo>
                <a:lnTo>
                  <a:pt x="12785" y="14203"/>
                </a:lnTo>
                <a:lnTo>
                  <a:pt x="12827" y="14203"/>
                </a:lnTo>
                <a:lnTo>
                  <a:pt x="12869" y="14203"/>
                </a:lnTo>
                <a:lnTo>
                  <a:pt x="12890" y="14203"/>
                </a:lnTo>
                <a:lnTo>
                  <a:pt x="12912" y="14203"/>
                </a:lnTo>
                <a:lnTo>
                  <a:pt x="12848" y="14182"/>
                </a:lnTo>
                <a:lnTo>
                  <a:pt x="12806" y="14182"/>
                </a:lnTo>
                <a:lnTo>
                  <a:pt x="12763" y="14182"/>
                </a:lnTo>
                <a:lnTo>
                  <a:pt x="12742" y="14160"/>
                </a:lnTo>
                <a:lnTo>
                  <a:pt x="12700" y="14160"/>
                </a:lnTo>
                <a:lnTo>
                  <a:pt x="12679" y="14139"/>
                </a:lnTo>
                <a:lnTo>
                  <a:pt x="12658" y="14139"/>
                </a:lnTo>
                <a:lnTo>
                  <a:pt x="12658" y="14139"/>
                </a:lnTo>
                <a:lnTo>
                  <a:pt x="12679" y="14139"/>
                </a:lnTo>
                <a:lnTo>
                  <a:pt x="12721" y="14139"/>
                </a:lnTo>
                <a:lnTo>
                  <a:pt x="12742" y="14139"/>
                </a:lnTo>
                <a:lnTo>
                  <a:pt x="12785" y="14139"/>
                </a:lnTo>
                <a:lnTo>
                  <a:pt x="12806" y="14139"/>
                </a:lnTo>
                <a:lnTo>
                  <a:pt x="12848" y="14139"/>
                </a:lnTo>
                <a:lnTo>
                  <a:pt x="12890" y="14139"/>
                </a:lnTo>
                <a:lnTo>
                  <a:pt x="12912" y="14139"/>
                </a:lnTo>
                <a:lnTo>
                  <a:pt x="12933" y="14139"/>
                </a:lnTo>
                <a:lnTo>
                  <a:pt x="12933" y="14139"/>
                </a:lnTo>
                <a:lnTo>
                  <a:pt x="12954" y="14139"/>
                </a:lnTo>
                <a:lnTo>
                  <a:pt x="12933" y="14139"/>
                </a:lnTo>
                <a:lnTo>
                  <a:pt x="12912" y="14139"/>
                </a:lnTo>
                <a:lnTo>
                  <a:pt x="12890" y="14139"/>
                </a:lnTo>
                <a:lnTo>
                  <a:pt x="12890" y="14139"/>
                </a:lnTo>
                <a:lnTo>
                  <a:pt x="12869" y="14139"/>
                </a:lnTo>
                <a:lnTo>
                  <a:pt x="12848" y="14139"/>
                </a:lnTo>
                <a:lnTo>
                  <a:pt x="12827" y="14139"/>
                </a:lnTo>
                <a:lnTo>
                  <a:pt x="12785" y="14139"/>
                </a:lnTo>
                <a:lnTo>
                  <a:pt x="12785" y="14139"/>
                </a:lnTo>
                <a:lnTo>
                  <a:pt x="12763" y="14118"/>
                </a:lnTo>
                <a:lnTo>
                  <a:pt x="12763" y="14118"/>
                </a:lnTo>
                <a:lnTo>
                  <a:pt x="12742" y="14118"/>
                </a:lnTo>
                <a:lnTo>
                  <a:pt x="12721" y="14118"/>
                </a:lnTo>
                <a:lnTo>
                  <a:pt x="12721" y="14118"/>
                </a:lnTo>
                <a:lnTo>
                  <a:pt x="12700" y="14118"/>
                </a:lnTo>
                <a:lnTo>
                  <a:pt x="12700" y="14097"/>
                </a:lnTo>
                <a:lnTo>
                  <a:pt x="12679" y="14097"/>
                </a:lnTo>
                <a:lnTo>
                  <a:pt x="12679" y="14097"/>
                </a:lnTo>
                <a:lnTo>
                  <a:pt x="12658" y="14097"/>
                </a:lnTo>
                <a:lnTo>
                  <a:pt x="12636" y="14097"/>
                </a:lnTo>
                <a:lnTo>
                  <a:pt x="12636" y="14097"/>
                </a:lnTo>
                <a:lnTo>
                  <a:pt x="12615" y="14097"/>
                </a:lnTo>
                <a:lnTo>
                  <a:pt x="12615" y="14097"/>
                </a:lnTo>
                <a:lnTo>
                  <a:pt x="12594" y="14097"/>
                </a:lnTo>
                <a:lnTo>
                  <a:pt x="12594" y="14097"/>
                </a:lnTo>
                <a:lnTo>
                  <a:pt x="12573" y="14097"/>
                </a:lnTo>
                <a:lnTo>
                  <a:pt x="12552" y="14097"/>
                </a:lnTo>
                <a:lnTo>
                  <a:pt x="12552" y="14118"/>
                </a:lnTo>
                <a:lnTo>
                  <a:pt x="12531" y="14118"/>
                </a:lnTo>
                <a:lnTo>
                  <a:pt x="12531" y="14139"/>
                </a:lnTo>
                <a:lnTo>
                  <a:pt x="12509" y="14139"/>
                </a:lnTo>
                <a:lnTo>
                  <a:pt x="12509" y="14139"/>
                </a:lnTo>
                <a:lnTo>
                  <a:pt x="12488" y="14160"/>
                </a:lnTo>
                <a:lnTo>
                  <a:pt x="12467" y="14182"/>
                </a:lnTo>
                <a:lnTo>
                  <a:pt x="12467" y="14182"/>
                </a:lnTo>
                <a:lnTo>
                  <a:pt x="12446" y="14182"/>
                </a:lnTo>
                <a:lnTo>
                  <a:pt x="12446" y="14182"/>
                </a:lnTo>
                <a:lnTo>
                  <a:pt x="12446" y="14203"/>
                </a:lnTo>
                <a:lnTo>
                  <a:pt x="12446" y="14203"/>
                </a:lnTo>
                <a:lnTo>
                  <a:pt x="12425" y="14224"/>
                </a:lnTo>
                <a:lnTo>
                  <a:pt x="12404" y="14245"/>
                </a:lnTo>
                <a:lnTo>
                  <a:pt x="12404" y="14266"/>
                </a:lnTo>
                <a:lnTo>
                  <a:pt x="12404" y="14266"/>
                </a:lnTo>
                <a:lnTo>
                  <a:pt x="12404" y="14287"/>
                </a:lnTo>
                <a:lnTo>
                  <a:pt x="12382" y="14287"/>
                </a:lnTo>
                <a:lnTo>
                  <a:pt x="12382" y="14309"/>
                </a:lnTo>
                <a:lnTo>
                  <a:pt x="12382" y="14309"/>
                </a:lnTo>
                <a:lnTo>
                  <a:pt x="12382" y="14330"/>
                </a:lnTo>
                <a:lnTo>
                  <a:pt x="12382" y="14351"/>
                </a:lnTo>
                <a:lnTo>
                  <a:pt x="12382" y="14351"/>
                </a:lnTo>
                <a:lnTo>
                  <a:pt x="12404" y="14351"/>
                </a:lnTo>
                <a:lnTo>
                  <a:pt x="12446" y="14351"/>
                </a:lnTo>
                <a:lnTo>
                  <a:pt x="12509" y="14351"/>
                </a:lnTo>
                <a:lnTo>
                  <a:pt x="12573" y="14351"/>
                </a:lnTo>
                <a:lnTo>
                  <a:pt x="12658" y="14372"/>
                </a:lnTo>
                <a:lnTo>
                  <a:pt x="12721" y="14372"/>
                </a:lnTo>
                <a:lnTo>
                  <a:pt x="12785" y="14372"/>
                </a:lnTo>
                <a:lnTo>
                  <a:pt x="12848" y="14372"/>
                </a:lnTo>
                <a:lnTo>
                  <a:pt x="12890" y="14372"/>
                </a:lnTo>
                <a:lnTo>
                  <a:pt x="12933" y="14372"/>
                </a:lnTo>
                <a:lnTo>
                  <a:pt x="12996" y="14372"/>
                </a:lnTo>
                <a:lnTo>
                  <a:pt x="13017" y="14372"/>
                </a:lnTo>
                <a:lnTo>
                  <a:pt x="13039" y="14372"/>
                </a:lnTo>
                <a:lnTo>
                  <a:pt x="13060" y="14372"/>
                </a:lnTo>
                <a:lnTo>
                  <a:pt x="13017" y="14372"/>
                </a:lnTo>
                <a:lnTo>
                  <a:pt x="12975" y="14372"/>
                </a:lnTo>
                <a:lnTo>
                  <a:pt x="12933" y="14351"/>
                </a:lnTo>
                <a:lnTo>
                  <a:pt x="12869" y="14351"/>
                </a:lnTo>
                <a:lnTo>
                  <a:pt x="12806" y="14351"/>
                </a:lnTo>
                <a:lnTo>
                  <a:pt x="12742" y="14330"/>
                </a:lnTo>
                <a:lnTo>
                  <a:pt x="12658" y="14330"/>
                </a:lnTo>
                <a:lnTo>
                  <a:pt x="12594" y="14330"/>
                </a:lnTo>
                <a:lnTo>
                  <a:pt x="12552" y="14330"/>
                </a:lnTo>
                <a:lnTo>
                  <a:pt x="12509" y="14330"/>
                </a:lnTo>
                <a:lnTo>
                  <a:pt x="12488" y="14351"/>
                </a:lnTo>
                <a:lnTo>
                  <a:pt x="12467" y="14351"/>
                </a:lnTo>
                <a:lnTo>
                  <a:pt x="12446" y="14351"/>
                </a:lnTo>
                <a:lnTo>
                  <a:pt x="12446" y="14351"/>
                </a:lnTo>
                <a:lnTo>
                  <a:pt x="12425" y="14351"/>
                </a:lnTo>
                <a:lnTo>
                  <a:pt x="12446" y="14351"/>
                </a:lnTo>
                <a:lnTo>
                  <a:pt x="12509" y="14351"/>
                </a:lnTo>
                <a:lnTo>
                  <a:pt x="12573" y="14351"/>
                </a:lnTo>
                <a:lnTo>
                  <a:pt x="12636" y="14351"/>
                </a:lnTo>
                <a:lnTo>
                  <a:pt x="12679" y="14372"/>
                </a:lnTo>
                <a:lnTo>
                  <a:pt x="12721" y="14372"/>
                </a:lnTo>
                <a:lnTo>
                  <a:pt x="12785" y="14372"/>
                </a:lnTo>
                <a:lnTo>
                  <a:pt x="12827" y="14393"/>
                </a:lnTo>
                <a:lnTo>
                  <a:pt x="12785" y="14393"/>
                </a:lnTo>
                <a:lnTo>
                  <a:pt x="12763" y="14393"/>
                </a:lnTo>
                <a:lnTo>
                  <a:pt x="12679" y="14393"/>
                </a:lnTo>
                <a:lnTo>
                  <a:pt x="12594" y="14393"/>
                </a:lnTo>
                <a:lnTo>
                  <a:pt x="12467" y="14393"/>
                </a:lnTo>
                <a:lnTo>
                  <a:pt x="12382" y="14393"/>
                </a:lnTo>
                <a:lnTo>
                  <a:pt x="12277" y="14393"/>
                </a:lnTo>
                <a:lnTo>
                  <a:pt x="12192" y="14393"/>
                </a:lnTo>
                <a:lnTo>
                  <a:pt x="12150" y="14393"/>
                </a:lnTo>
                <a:lnTo>
                  <a:pt x="12107" y="14393"/>
                </a:lnTo>
                <a:lnTo>
                  <a:pt x="12086" y="14393"/>
                </a:lnTo>
                <a:lnTo>
                  <a:pt x="12065" y="14393"/>
                </a:lnTo>
                <a:lnTo>
                  <a:pt x="12086" y="14393"/>
                </a:lnTo>
                <a:lnTo>
                  <a:pt x="12150" y="14393"/>
                </a:lnTo>
                <a:lnTo>
                  <a:pt x="12255" y="14393"/>
                </a:lnTo>
                <a:lnTo>
                  <a:pt x="12340" y="14393"/>
                </a:lnTo>
                <a:lnTo>
                  <a:pt x="12425" y="14393"/>
                </a:lnTo>
                <a:lnTo>
                  <a:pt x="12509" y="14393"/>
                </a:lnTo>
                <a:lnTo>
                  <a:pt x="12636" y="14393"/>
                </a:lnTo>
                <a:lnTo>
                  <a:pt x="12721" y="14414"/>
                </a:lnTo>
                <a:lnTo>
                  <a:pt x="12827" y="14457"/>
                </a:lnTo>
                <a:lnTo>
                  <a:pt x="12933" y="14478"/>
                </a:lnTo>
                <a:lnTo>
                  <a:pt x="12975" y="14499"/>
                </a:lnTo>
                <a:lnTo>
                  <a:pt x="13039" y="14520"/>
                </a:lnTo>
                <a:lnTo>
                  <a:pt x="13039" y="14520"/>
                </a:lnTo>
                <a:lnTo>
                  <a:pt x="13060" y="14520"/>
                </a:lnTo>
                <a:lnTo>
                  <a:pt x="13039" y="14520"/>
                </a:lnTo>
                <a:lnTo>
                  <a:pt x="13017" y="14520"/>
                </a:lnTo>
                <a:lnTo>
                  <a:pt x="12954" y="14520"/>
                </a:lnTo>
                <a:lnTo>
                  <a:pt x="12890" y="14520"/>
                </a:lnTo>
                <a:lnTo>
                  <a:pt x="12806" y="14520"/>
                </a:lnTo>
                <a:lnTo>
                  <a:pt x="12679" y="14520"/>
                </a:lnTo>
                <a:lnTo>
                  <a:pt x="12573" y="14520"/>
                </a:lnTo>
                <a:lnTo>
                  <a:pt x="12488" y="14520"/>
                </a:lnTo>
                <a:lnTo>
                  <a:pt x="12425" y="14520"/>
                </a:lnTo>
                <a:lnTo>
                  <a:pt x="12404" y="14520"/>
                </a:lnTo>
                <a:lnTo>
                  <a:pt x="12361" y="14520"/>
                </a:lnTo>
                <a:lnTo>
                  <a:pt x="12361" y="14520"/>
                </a:lnTo>
                <a:lnTo>
                  <a:pt x="12340" y="14520"/>
                </a:lnTo>
                <a:lnTo>
                  <a:pt x="12361" y="14520"/>
                </a:lnTo>
                <a:lnTo>
                  <a:pt x="12425" y="14520"/>
                </a:lnTo>
                <a:lnTo>
                  <a:pt x="12488" y="14520"/>
                </a:lnTo>
                <a:lnTo>
                  <a:pt x="12552" y="14520"/>
                </a:lnTo>
                <a:lnTo>
                  <a:pt x="12636" y="14520"/>
                </a:lnTo>
                <a:lnTo>
                  <a:pt x="12721" y="14520"/>
                </a:lnTo>
                <a:lnTo>
                  <a:pt x="12806" y="14520"/>
                </a:lnTo>
                <a:lnTo>
                  <a:pt x="12869" y="14520"/>
                </a:lnTo>
                <a:lnTo>
                  <a:pt x="12912" y="14520"/>
                </a:lnTo>
                <a:lnTo>
                  <a:pt x="12933" y="14520"/>
                </a:lnTo>
                <a:lnTo>
                  <a:pt x="12912" y="14520"/>
                </a:lnTo>
                <a:lnTo>
                  <a:pt x="12890" y="14520"/>
                </a:lnTo>
                <a:lnTo>
                  <a:pt x="12827" y="14520"/>
                </a:lnTo>
                <a:lnTo>
                  <a:pt x="12763" y="14520"/>
                </a:lnTo>
                <a:lnTo>
                  <a:pt x="12700" y="14520"/>
                </a:lnTo>
                <a:lnTo>
                  <a:pt x="12636" y="14520"/>
                </a:lnTo>
                <a:lnTo>
                  <a:pt x="12531" y="14520"/>
                </a:lnTo>
                <a:lnTo>
                  <a:pt x="12446" y="14520"/>
                </a:lnTo>
                <a:lnTo>
                  <a:pt x="12340" y="14520"/>
                </a:lnTo>
                <a:lnTo>
                  <a:pt x="12277" y="14520"/>
                </a:lnTo>
                <a:lnTo>
                  <a:pt x="12255" y="14520"/>
                </a:lnTo>
                <a:lnTo>
                  <a:pt x="12255" y="14520"/>
                </a:lnTo>
                <a:lnTo>
                  <a:pt x="12234" y="14520"/>
                </a:lnTo>
                <a:lnTo>
                  <a:pt x="12234" y="14520"/>
                </a:lnTo>
                <a:lnTo>
                  <a:pt x="12298" y="14520"/>
                </a:lnTo>
                <a:lnTo>
                  <a:pt x="12382" y="14520"/>
                </a:lnTo>
                <a:lnTo>
                  <a:pt x="12467" y="14520"/>
                </a:lnTo>
                <a:lnTo>
                  <a:pt x="12552" y="14520"/>
                </a:lnTo>
                <a:lnTo>
                  <a:pt x="12700" y="14520"/>
                </a:lnTo>
                <a:lnTo>
                  <a:pt x="12806" y="14520"/>
                </a:lnTo>
                <a:lnTo>
                  <a:pt x="12954" y="14520"/>
                </a:lnTo>
                <a:lnTo>
                  <a:pt x="13081" y="14541"/>
                </a:lnTo>
                <a:lnTo>
                  <a:pt x="13187" y="14541"/>
                </a:lnTo>
                <a:lnTo>
                  <a:pt x="13314" y="14541"/>
                </a:lnTo>
                <a:lnTo>
                  <a:pt x="13356" y="14541"/>
                </a:lnTo>
                <a:lnTo>
                  <a:pt x="13356" y="14541"/>
                </a:lnTo>
                <a:lnTo>
                  <a:pt x="13314" y="14541"/>
                </a:lnTo>
                <a:lnTo>
                  <a:pt x="13229" y="14541"/>
                </a:lnTo>
                <a:lnTo>
                  <a:pt x="13144" y="14499"/>
                </a:lnTo>
                <a:lnTo>
                  <a:pt x="12933" y="14478"/>
                </a:lnTo>
                <a:lnTo>
                  <a:pt x="12742" y="14393"/>
                </a:lnTo>
                <a:lnTo>
                  <a:pt x="12531" y="14351"/>
                </a:lnTo>
                <a:lnTo>
                  <a:pt x="12298" y="14330"/>
                </a:lnTo>
                <a:lnTo>
                  <a:pt x="12150" y="14309"/>
                </a:lnTo>
                <a:lnTo>
                  <a:pt x="12065" y="14309"/>
                </a:lnTo>
                <a:lnTo>
                  <a:pt x="12023" y="14309"/>
                </a:lnTo>
                <a:lnTo>
                  <a:pt x="12023" y="14309"/>
                </a:lnTo>
                <a:lnTo>
                  <a:pt x="12023" y="14309"/>
                </a:lnTo>
                <a:lnTo>
                  <a:pt x="12065" y="14309"/>
                </a:lnTo>
                <a:lnTo>
                  <a:pt x="12128" y="14309"/>
                </a:lnTo>
                <a:lnTo>
                  <a:pt x="12213" y="14309"/>
                </a:lnTo>
                <a:lnTo>
                  <a:pt x="12361" y="14309"/>
                </a:lnTo>
                <a:lnTo>
                  <a:pt x="12488" y="14309"/>
                </a:lnTo>
                <a:lnTo>
                  <a:pt x="12594" y="14330"/>
                </a:lnTo>
                <a:lnTo>
                  <a:pt x="12721" y="14372"/>
                </a:lnTo>
                <a:lnTo>
                  <a:pt x="12827" y="14372"/>
                </a:lnTo>
                <a:lnTo>
                  <a:pt x="12933" y="14372"/>
                </a:lnTo>
                <a:lnTo>
                  <a:pt x="13039" y="14393"/>
                </a:lnTo>
                <a:lnTo>
                  <a:pt x="13081" y="14393"/>
                </a:lnTo>
                <a:lnTo>
                  <a:pt x="13102" y="14393"/>
                </a:lnTo>
                <a:lnTo>
                  <a:pt x="13081" y="14393"/>
                </a:lnTo>
                <a:lnTo>
                  <a:pt x="13060" y="14393"/>
                </a:lnTo>
                <a:lnTo>
                  <a:pt x="13017" y="14393"/>
                </a:lnTo>
                <a:lnTo>
                  <a:pt x="12975" y="14393"/>
                </a:lnTo>
                <a:lnTo>
                  <a:pt x="12954" y="14393"/>
                </a:lnTo>
                <a:lnTo>
                  <a:pt x="12933" y="14393"/>
                </a:lnTo>
                <a:lnTo>
                  <a:pt x="12890" y="14393"/>
                </a:lnTo>
                <a:lnTo>
                  <a:pt x="12869" y="14393"/>
                </a:lnTo>
                <a:lnTo>
                  <a:pt x="12848" y="14393"/>
                </a:lnTo>
                <a:lnTo>
                  <a:pt x="12827" y="14393"/>
                </a:lnTo>
                <a:lnTo>
                  <a:pt x="12806" y="14393"/>
                </a:lnTo>
                <a:lnTo>
                  <a:pt x="12785" y="14393"/>
                </a:lnTo>
                <a:lnTo>
                  <a:pt x="12785" y="14393"/>
                </a:lnTo>
                <a:lnTo>
                  <a:pt x="12827" y="14414"/>
                </a:lnTo>
                <a:lnTo>
                  <a:pt x="12890" y="14436"/>
                </a:lnTo>
                <a:lnTo>
                  <a:pt x="13039" y="14436"/>
                </a:lnTo>
                <a:lnTo>
                  <a:pt x="13102" y="14436"/>
                </a:lnTo>
                <a:lnTo>
                  <a:pt x="13187" y="14436"/>
                </a:lnTo>
                <a:lnTo>
                  <a:pt x="13271" y="14436"/>
                </a:lnTo>
                <a:lnTo>
                  <a:pt x="13377" y="14436"/>
                </a:lnTo>
                <a:lnTo>
                  <a:pt x="13377" y="14436"/>
                </a:lnTo>
                <a:lnTo>
                  <a:pt x="13398" y="14436"/>
                </a:lnTo>
                <a:lnTo>
                  <a:pt x="13356" y="14436"/>
                </a:lnTo>
                <a:lnTo>
                  <a:pt x="13271" y="14436"/>
                </a:lnTo>
                <a:lnTo>
                  <a:pt x="13187" y="14436"/>
                </a:lnTo>
                <a:lnTo>
                  <a:pt x="13081" y="14436"/>
                </a:lnTo>
                <a:lnTo>
                  <a:pt x="12996" y="14436"/>
                </a:lnTo>
                <a:lnTo>
                  <a:pt x="12869" y="14436"/>
                </a:lnTo>
                <a:lnTo>
                  <a:pt x="12785" y="14436"/>
                </a:lnTo>
                <a:lnTo>
                  <a:pt x="12721" y="14414"/>
                </a:lnTo>
                <a:lnTo>
                  <a:pt x="12658" y="14414"/>
                </a:lnTo>
                <a:lnTo>
                  <a:pt x="12594" y="14414"/>
                </a:lnTo>
                <a:lnTo>
                  <a:pt x="12573" y="14414"/>
                </a:lnTo>
                <a:lnTo>
                  <a:pt x="12552" y="14414"/>
                </a:lnTo>
                <a:lnTo>
                  <a:pt x="12573" y="14414"/>
                </a:lnTo>
                <a:lnTo>
                  <a:pt x="12615" y="14414"/>
                </a:lnTo>
                <a:lnTo>
                  <a:pt x="12658" y="14414"/>
                </a:lnTo>
                <a:lnTo>
                  <a:pt x="12700" y="14414"/>
                </a:lnTo>
                <a:lnTo>
                  <a:pt x="12785" y="14414"/>
                </a:lnTo>
                <a:lnTo>
                  <a:pt x="12848" y="14414"/>
                </a:lnTo>
                <a:lnTo>
                  <a:pt x="12912" y="14414"/>
                </a:lnTo>
                <a:lnTo>
                  <a:pt x="12996" y="14414"/>
                </a:lnTo>
                <a:lnTo>
                  <a:pt x="13039" y="14414"/>
                </a:lnTo>
                <a:lnTo>
                  <a:pt x="13060" y="14414"/>
                </a:lnTo>
                <a:lnTo>
                  <a:pt x="13039" y="14414"/>
                </a:lnTo>
                <a:lnTo>
                  <a:pt x="13017" y="14414"/>
                </a:lnTo>
                <a:lnTo>
                  <a:pt x="12975" y="14414"/>
                </a:lnTo>
                <a:lnTo>
                  <a:pt x="12890" y="14414"/>
                </a:lnTo>
                <a:lnTo>
                  <a:pt x="12763" y="14372"/>
                </a:lnTo>
                <a:lnTo>
                  <a:pt x="12615" y="14351"/>
                </a:lnTo>
                <a:lnTo>
                  <a:pt x="12488" y="14330"/>
                </a:lnTo>
                <a:lnTo>
                  <a:pt x="12404" y="14309"/>
                </a:lnTo>
                <a:lnTo>
                  <a:pt x="12340" y="14309"/>
                </a:lnTo>
                <a:lnTo>
                  <a:pt x="12298" y="14309"/>
                </a:lnTo>
                <a:lnTo>
                  <a:pt x="12255" y="14309"/>
                </a:lnTo>
                <a:lnTo>
                  <a:pt x="12234" y="14309"/>
                </a:lnTo>
                <a:lnTo>
                  <a:pt x="12234" y="14309"/>
                </a:lnTo>
                <a:lnTo>
                  <a:pt x="12234" y="14330"/>
                </a:lnTo>
                <a:lnTo>
                  <a:pt x="12234" y="14351"/>
                </a:lnTo>
                <a:lnTo>
                  <a:pt x="12234" y="14372"/>
                </a:lnTo>
                <a:lnTo>
                  <a:pt x="12277" y="14414"/>
                </a:lnTo>
                <a:lnTo>
                  <a:pt x="12340" y="14457"/>
                </a:lnTo>
                <a:lnTo>
                  <a:pt x="12404" y="14541"/>
                </a:lnTo>
                <a:lnTo>
                  <a:pt x="12573" y="14626"/>
                </a:lnTo>
                <a:lnTo>
                  <a:pt x="12721" y="14690"/>
                </a:lnTo>
                <a:lnTo>
                  <a:pt x="12890" y="14753"/>
                </a:lnTo>
                <a:lnTo>
                  <a:pt x="13081" y="14859"/>
                </a:lnTo>
                <a:lnTo>
                  <a:pt x="13187" y="14922"/>
                </a:lnTo>
                <a:lnTo>
                  <a:pt x="13229" y="14965"/>
                </a:lnTo>
                <a:lnTo>
                  <a:pt x="13293" y="14986"/>
                </a:lnTo>
                <a:lnTo>
                  <a:pt x="13293" y="15007"/>
                </a:lnTo>
                <a:lnTo>
                  <a:pt x="13250" y="15007"/>
                </a:lnTo>
                <a:lnTo>
                  <a:pt x="13208" y="15007"/>
                </a:lnTo>
                <a:lnTo>
                  <a:pt x="13144" y="15007"/>
                </a:lnTo>
                <a:lnTo>
                  <a:pt x="13060" y="15007"/>
                </a:lnTo>
                <a:lnTo>
                  <a:pt x="12996" y="15007"/>
                </a:lnTo>
                <a:lnTo>
                  <a:pt x="12954" y="15007"/>
                </a:lnTo>
                <a:lnTo>
                  <a:pt x="12890" y="15007"/>
                </a:lnTo>
                <a:lnTo>
                  <a:pt x="12848" y="15007"/>
                </a:lnTo>
                <a:lnTo>
                  <a:pt x="12785" y="15007"/>
                </a:lnTo>
                <a:lnTo>
                  <a:pt x="12742" y="15007"/>
                </a:lnTo>
                <a:lnTo>
                  <a:pt x="12700" y="15007"/>
                </a:lnTo>
                <a:lnTo>
                  <a:pt x="12658" y="15007"/>
                </a:lnTo>
                <a:lnTo>
                  <a:pt x="12636" y="15007"/>
                </a:lnTo>
                <a:lnTo>
                  <a:pt x="12636" y="15007"/>
                </a:lnTo>
                <a:lnTo>
                  <a:pt x="12615" y="15007"/>
                </a:lnTo>
                <a:lnTo>
                  <a:pt x="12636" y="15007"/>
                </a:lnTo>
                <a:lnTo>
                  <a:pt x="12679" y="15007"/>
                </a:lnTo>
                <a:lnTo>
                  <a:pt x="12721" y="15007"/>
                </a:lnTo>
                <a:lnTo>
                  <a:pt x="12763" y="15007"/>
                </a:lnTo>
                <a:lnTo>
                  <a:pt x="12806" y="15007"/>
                </a:lnTo>
                <a:lnTo>
                  <a:pt x="12848" y="15007"/>
                </a:lnTo>
                <a:lnTo>
                  <a:pt x="12890" y="15007"/>
                </a:lnTo>
                <a:lnTo>
                  <a:pt x="12933" y="15007"/>
                </a:lnTo>
                <a:lnTo>
                  <a:pt x="12933" y="15007"/>
                </a:lnTo>
                <a:lnTo>
                  <a:pt x="12954" y="15007"/>
                </a:lnTo>
                <a:lnTo>
                  <a:pt x="12954" y="14986"/>
                </a:lnTo>
                <a:lnTo>
                  <a:pt x="12933" y="14965"/>
                </a:lnTo>
                <a:lnTo>
                  <a:pt x="12912" y="14965"/>
                </a:lnTo>
                <a:lnTo>
                  <a:pt x="12890" y="14944"/>
                </a:lnTo>
                <a:lnTo>
                  <a:pt x="12890" y="14922"/>
                </a:lnTo>
                <a:lnTo>
                  <a:pt x="12848" y="14922"/>
                </a:lnTo>
                <a:lnTo>
                  <a:pt x="12806" y="14901"/>
                </a:lnTo>
                <a:lnTo>
                  <a:pt x="12785" y="14880"/>
                </a:lnTo>
                <a:lnTo>
                  <a:pt x="12763" y="14859"/>
                </a:lnTo>
                <a:lnTo>
                  <a:pt x="12763" y="14859"/>
                </a:lnTo>
                <a:lnTo>
                  <a:pt x="12763" y="14838"/>
                </a:lnTo>
                <a:lnTo>
                  <a:pt x="12763" y="14838"/>
                </a:lnTo>
                <a:lnTo>
                  <a:pt x="12785" y="14838"/>
                </a:lnTo>
                <a:lnTo>
                  <a:pt x="12827" y="14838"/>
                </a:lnTo>
                <a:lnTo>
                  <a:pt x="12890" y="14817"/>
                </a:lnTo>
                <a:lnTo>
                  <a:pt x="12912" y="14817"/>
                </a:lnTo>
                <a:lnTo>
                  <a:pt x="12954" y="14817"/>
                </a:lnTo>
                <a:lnTo>
                  <a:pt x="12996" y="14817"/>
                </a:lnTo>
                <a:lnTo>
                  <a:pt x="13039" y="14817"/>
                </a:lnTo>
                <a:lnTo>
                  <a:pt x="13060" y="14817"/>
                </a:lnTo>
                <a:lnTo>
                  <a:pt x="13060" y="14817"/>
                </a:lnTo>
                <a:lnTo>
                  <a:pt x="13060" y="14795"/>
                </a:lnTo>
                <a:lnTo>
                  <a:pt x="12996" y="14795"/>
                </a:lnTo>
                <a:lnTo>
                  <a:pt x="12933" y="14795"/>
                </a:lnTo>
                <a:lnTo>
                  <a:pt x="12848" y="14774"/>
                </a:lnTo>
                <a:lnTo>
                  <a:pt x="12742" y="14732"/>
                </a:lnTo>
                <a:lnTo>
                  <a:pt x="12552" y="14690"/>
                </a:lnTo>
                <a:lnTo>
                  <a:pt x="12404" y="14626"/>
                </a:lnTo>
                <a:lnTo>
                  <a:pt x="12277" y="14605"/>
                </a:lnTo>
                <a:lnTo>
                  <a:pt x="12213" y="14584"/>
                </a:lnTo>
                <a:lnTo>
                  <a:pt x="12192" y="14584"/>
                </a:lnTo>
                <a:lnTo>
                  <a:pt x="12192" y="14584"/>
                </a:lnTo>
                <a:lnTo>
                  <a:pt x="12234" y="14584"/>
                </a:lnTo>
                <a:lnTo>
                  <a:pt x="12277" y="14584"/>
                </a:lnTo>
                <a:lnTo>
                  <a:pt x="12340" y="14584"/>
                </a:lnTo>
                <a:lnTo>
                  <a:pt x="12425" y="14584"/>
                </a:lnTo>
                <a:lnTo>
                  <a:pt x="12509" y="14584"/>
                </a:lnTo>
                <a:lnTo>
                  <a:pt x="12573" y="14584"/>
                </a:lnTo>
                <a:lnTo>
                  <a:pt x="12658" y="14584"/>
                </a:lnTo>
                <a:lnTo>
                  <a:pt x="12742" y="14584"/>
                </a:lnTo>
                <a:lnTo>
                  <a:pt x="12806" y="14584"/>
                </a:lnTo>
                <a:lnTo>
                  <a:pt x="12848" y="14584"/>
                </a:lnTo>
                <a:lnTo>
                  <a:pt x="12848" y="14584"/>
                </a:lnTo>
                <a:lnTo>
                  <a:pt x="12806" y="14584"/>
                </a:lnTo>
                <a:lnTo>
                  <a:pt x="12785" y="14584"/>
                </a:lnTo>
                <a:lnTo>
                  <a:pt x="12742" y="14584"/>
                </a:lnTo>
                <a:lnTo>
                  <a:pt x="12721" y="14584"/>
                </a:lnTo>
                <a:lnTo>
                  <a:pt x="12658" y="14584"/>
                </a:lnTo>
                <a:lnTo>
                  <a:pt x="12615" y="14584"/>
                </a:lnTo>
                <a:lnTo>
                  <a:pt x="12594" y="14563"/>
                </a:lnTo>
                <a:lnTo>
                  <a:pt x="12573" y="14563"/>
                </a:lnTo>
                <a:lnTo>
                  <a:pt x="12552" y="14563"/>
                </a:lnTo>
                <a:lnTo>
                  <a:pt x="12573" y="14563"/>
                </a:lnTo>
                <a:lnTo>
                  <a:pt x="12636" y="14605"/>
                </a:lnTo>
                <a:lnTo>
                  <a:pt x="12700" y="14626"/>
                </a:lnTo>
                <a:lnTo>
                  <a:pt x="12806" y="14668"/>
                </a:lnTo>
                <a:lnTo>
                  <a:pt x="12912" y="14732"/>
                </a:lnTo>
                <a:lnTo>
                  <a:pt x="12996" y="14753"/>
                </a:lnTo>
                <a:lnTo>
                  <a:pt x="13060" y="14795"/>
                </a:lnTo>
                <a:lnTo>
                  <a:pt x="13102" y="14795"/>
                </a:lnTo>
                <a:lnTo>
                  <a:pt x="13102" y="14817"/>
                </a:lnTo>
                <a:lnTo>
                  <a:pt x="13081" y="14817"/>
                </a:lnTo>
                <a:lnTo>
                  <a:pt x="13039" y="14795"/>
                </a:lnTo>
                <a:lnTo>
                  <a:pt x="12975" y="14795"/>
                </a:lnTo>
                <a:lnTo>
                  <a:pt x="12912" y="14753"/>
                </a:lnTo>
                <a:lnTo>
                  <a:pt x="12827" y="14753"/>
                </a:lnTo>
                <a:lnTo>
                  <a:pt x="12763" y="14753"/>
                </a:lnTo>
                <a:lnTo>
                  <a:pt x="12700" y="14753"/>
                </a:lnTo>
                <a:lnTo>
                  <a:pt x="12658" y="14753"/>
                </a:lnTo>
                <a:lnTo>
                  <a:pt x="12615" y="14753"/>
                </a:lnTo>
                <a:lnTo>
                  <a:pt x="12615" y="14753"/>
                </a:lnTo>
                <a:lnTo>
                  <a:pt x="12594" y="14753"/>
                </a:lnTo>
                <a:lnTo>
                  <a:pt x="12594" y="14753"/>
                </a:lnTo>
                <a:lnTo>
                  <a:pt x="12615" y="14753"/>
                </a:lnTo>
                <a:lnTo>
                  <a:pt x="12658" y="14753"/>
                </a:lnTo>
                <a:lnTo>
                  <a:pt x="12721" y="14753"/>
                </a:lnTo>
                <a:lnTo>
                  <a:pt x="12763" y="14753"/>
                </a:lnTo>
                <a:lnTo>
                  <a:pt x="12827" y="14753"/>
                </a:lnTo>
                <a:lnTo>
                  <a:pt x="12890" y="14753"/>
                </a:lnTo>
                <a:lnTo>
                  <a:pt x="12933" y="14753"/>
                </a:lnTo>
                <a:lnTo>
                  <a:pt x="12954" y="14753"/>
                </a:lnTo>
                <a:lnTo>
                  <a:pt x="12912" y="14753"/>
                </a:lnTo>
                <a:lnTo>
                  <a:pt x="12890" y="14753"/>
                </a:lnTo>
                <a:lnTo>
                  <a:pt x="12869" y="14753"/>
                </a:lnTo>
                <a:lnTo>
                  <a:pt x="12827" y="14753"/>
                </a:lnTo>
                <a:lnTo>
                  <a:pt x="12763" y="14753"/>
                </a:lnTo>
                <a:lnTo>
                  <a:pt x="12742" y="14732"/>
                </a:lnTo>
                <a:lnTo>
                  <a:pt x="12700" y="14732"/>
                </a:lnTo>
                <a:lnTo>
                  <a:pt x="12679" y="14711"/>
                </a:lnTo>
                <a:lnTo>
                  <a:pt x="12636" y="14711"/>
                </a:lnTo>
                <a:lnTo>
                  <a:pt x="12636" y="14711"/>
                </a:lnTo>
                <a:lnTo>
                  <a:pt x="12615" y="14711"/>
                </a:lnTo>
                <a:lnTo>
                  <a:pt x="12615" y="14711"/>
                </a:lnTo>
                <a:lnTo>
                  <a:pt x="12658" y="14753"/>
                </a:lnTo>
                <a:lnTo>
                  <a:pt x="12742" y="14795"/>
                </a:lnTo>
                <a:lnTo>
                  <a:pt x="12806" y="14838"/>
                </a:lnTo>
                <a:lnTo>
                  <a:pt x="12890" y="14859"/>
                </a:lnTo>
                <a:lnTo>
                  <a:pt x="13039" y="14880"/>
                </a:lnTo>
                <a:lnTo>
                  <a:pt x="13102" y="14944"/>
                </a:lnTo>
                <a:lnTo>
                  <a:pt x="13166" y="14965"/>
                </a:lnTo>
                <a:lnTo>
                  <a:pt x="13187" y="14965"/>
                </a:lnTo>
                <a:lnTo>
                  <a:pt x="13144" y="14965"/>
                </a:lnTo>
                <a:lnTo>
                  <a:pt x="13102" y="14944"/>
                </a:lnTo>
                <a:lnTo>
                  <a:pt x="13039" y="14922"/>
                </a:lnTo>
                <a:lnTo>
                  <a:pt x="12912" y="14901"/>
                </a:lnTo>
                <a:lnTo>
                  <a:pt x="12827" y="14880"/>
                </a:lnTo>
                <a:lnTo>
                  <a:pt x="12742" y="14880"/>
                </a:lnTo>
                <a:lnTo>
                  <a:pt x="12700" y="14880"/>
                </a:lnTo>
                <a:lnTo>
                  <a:pt x="12658" y="14859"/>
                </a:lnTo>
                <a:lnTo>
                  <a:pt x="12615" y="14859"/>
                </a:lnTo>
                <a:lnTo>
                  <a:pt x="12615" y="14859"/>
                </a:lnTo>
                <a:lnTo>
                  <a:pt x="12594" y="14859"/>
                </a:lnTo>
                <a:lnTo>
                  <a:pt x="12615" y="14859"/>
                </a:lnTo>
                <a:lnTo>
                  <a:pt x="12679" y="14880"/>
                </a:lnTo>
                <a:lnTo>
                  <a:pt x="12721" y="14901"/>
                </a:lnTo>
                <a:lnTo>
                  <a:pt x="12785" y="14901"/>
                </a:lnTo>
                <a:lnTo>
                  <a:pt x="12912" y="14944"/>
                </a:lnTo>
                <a:lnTo>
                  <a:pt x="12996" y="14965"/>
                </a:lnTo>
                <a:lnTo>
                  <a:pt x="13060" y="15007"/>
                </a:lnTo>
                <a:lnTo>
                  <a:pt x="13123" y="15028"/>
                </a:lnTo>
                <a:lnTo>
                  <a:pt x="13123" y="15028"/>
                </a:lnTo>
                <a:lnTo>
                  <a:pt x="13144" y="15028"/>
                </a:lnTo>
                <a:lnTo>
                  <a:pt x="13123" y="15028"/>
                </a:lnTo>
                <a:lnTo>
                  <a:pt x="13102" y="15028"/>
                </a:lnTo>
                <a:lnTo>
                  <a:pt x="13017" y="15028"/>
                </a:lnTo>
                <a:lnTo>
                  <a:pt x="12975" y="15007"/>
                </a:lnTo>
                <a:lnTo>
                  <a:pt x="12890" y="14986"/>
                </a:lnTo>
                <a:lnTo>
                  <a:pt x="12848" y="14986"/>
                </a:lnTo>
                <a:lnTo>
                  <a:pt x="12806" y="14986"/>
                </a:lnTo>
                <a:lnTo>
                  <a:pt x="12785" y="14986"/>
                </a:lnTo>
                <a:lnTo>
                  <a:pt x="12742" y="14986"/>
                </a:lnTo>
                <a:lnTo>
                  <a:pt x="12721" y="14986"/>
                </a:lnTo>
                <a:lnTo>
                  <a:pt x="12700" y="14986"/>
                </a:lnTo>
                <a:lnTo>
                  <a:pt x="12679" y="14986"/>
                </a:lnTo>
                <a:lnTo>
                  <a:pt x="12700" y="14986"/>
                </a:lnTo>
                <a:lnTo>
                  <a:pt x="12721" y="14986"/>
                </a:lnTo>
                <a:lnTo>
                  <a:pt x="12785" y="14986"/>
                </a:lnTo>
                <a:lnTo>
                  <a:pt x="12827" y="14986"/>
                </a:lnTo>
                <a:lnTo>
                  <a:pt x="12912" y="14986"/>
                </a:lnTo>
                <a:lnTo>
                  <a:pt x="13017" y="14986"/>
                </a:lnTo>
                <a:lnTo>
                  <a:pt x="13081" y="14986"/>
                </a:lnTo>
                <a:lnTo>
                  <a:pt x="13166" y="14986"/>
                </a:lnTo>
                <a:lnTo>
                  <a:pt x="13229" y="14986"/>
                </a:lnTo>
                <a:lnTo>
                  <a:pt x="13250" y="14986"/>
                </a:lnTo>
                <a:lnTo>
                  <a:pt x="13250" y="14986"/>
                </a:lnTo>
                <a:lnTo>
                  <a:pt x="13271" y="14986"/>
                </a:lnTo>
                <a:lnTo>
                  <a:pt x="13293" y="14965"/>
                </a:lnTo>
                <a:lnTo>
                  <a:pt x="13271" y="14965"/>
                </a:lnTo>
                <a:lnTo>
                  <a:pt x="13250" y="14965"/>
                </a:lnTo>
                <a:lnTo>
                  <a:pt x="13208" y="14965"/>
                </a:lnTo>
                <a:lnTo>
                  <a:pt x="13187" y="14965"/>
                </a:lnTo>
                <a:lnTo>
                  <a:pt x="13166" y="14965"/>
                </a:lnTo>
                <a:lnTo>
                  <a:pt x="13144" y="14965"/>
                </a:lnTo>
                <a:lnTo>
                  <a:pt x="13144" y="14965"/>
                </a:lnTo>
                <a:lnTo>
                  <a:pt x="13123" y="14944"/>
                </a:lnTo>
                <a:lnTo>
                  <a:pt x="13123" y="14944"/>
                </a:lnTo>
                <a:lnTo>
                  <a:pt x="13102" y="14944"/>
                </a:lnTo>
                <a:lnTo>
                  <a:pt x="13102" y="14944"/>
                </a:lnTo>
                <a:lnTo>
                  <a:pt x="13102" y="14965"/>
                </a:lnTo>
                <a:lnTo>
                  <a:pt x="13102" y="14986"/>
                </a:lnTo>
                <a:lnTo>
                  <a:pt x="13102" y="14986"/>
                </a:lnTo>
                <a:lnTo>
                  <a:pt x="13102" y="15028"/>
                </a:lnTo>
                <a:lnTo>
                  <a:pt x="13102" y="15028"/>
                </a:lnTo>
                <a:lnTo>
                  <a:pt x="13102" y="15049"/>
                </a:lnTo>
                <a:lnTo>
                  <a:pt x="13102" y="15071"/>
                </a:lnTo>
                <a:lnTo>
                  <a:pt x="13102" y="15071"/>
                </a:lnTo>
                <a:lnTo>
                  <a:pt x="13102" y="15092"/>
                </a:lnTo>
                <a:lnTo>
                  <a:pt x="13123" y="15092"/>
                </a:lnTo>
                <a:lnTo>
                  <a:pt x="13123" y="15092"/>
                </a:lnTo>
                <a:lnTo>
                  <a:pt x="13144" y="15092"/>
                </a:lnTo>
                <a:lnTo>
                  <a:pt x="13144" y="15092"/>
                </a:lnTo>
                <a:lnTo>
                  <a:pt x="13166" y="15092"/>
                </a:lnTo>
                <a:lnTo>
                  <a:pt x="13166" y="15092"/>
                </a:lnTo>
                <a:lnTo>
                  <a:pt x="13208" y="15092"/>
                </a:lnTo>
                <a:lnTo>
                  <a:pt x="13208" y="15092"/>
                </a:lnTo>
                <a:lnTo>
                  <a:pt x="13229" y="15092"/>
                </a:lnTo>
                <a:lnTo>
                  <a:pt x="13250" y="15092"/>
                </a:lnTo>
                <a:lnTo>
                  <a:pt x="13271" y="15092"/>
                </a:lnTo>
                <a:lnTo>
                  <a:pt x="13293" y="15092"/>
                </a:lnTo>
                <a:lnTo>
                  <a:pt x="13293" y="15092"/>
                </a:lnTo>
                <a:lnTo>
                  <a:pt x="13314" y="15092"/>
                </a:lnTo>
                <a:lnTo>
                  <a:pt x="13335" y="15092"/>
                </a:lnTo>
                <a:lnTo>
                  <a:pt x="13335" y="15092"/>
                </a:lnTo>
                <a:lnTo>
                  <a:pt x="13356" y="15092"/>
                </a:lnTo>
                <a:lnTo>
                  <a:pt x="13356" y="15092"/>
                </a:lnTo>
                <a:lnTo>
                  <a:pt x="13377" y="15092"/>
                </a:lnTo>
                <a:lnTo>
                  <a:pt x="13377" y="15092"/>
                </a:lnTo>
                <a:lnTo>
                  <a:pt x="13398" y="15092"/>
                </a:lnTo>
                <a:lnTo>
                  <a:pt x="13420" y="15092"/>
                </a:lnTo>
                <a:lnTo>
                  <a:pt x="13420" y="15092"/>
                </a:lnTo>
                <a:lnTo>
                  <a:pt x="13441" y="15092"/>
                </a:lnTo>
                <a:lnTo>
                  <a:pt x="13441" y="15092"/>
                </a:lnTo>
                <a:lnTo>
                  <a:pt x="13462" y="15092"/>
                </a:lnTo>
                <a:lnTo>
                  <a:pt x="13462" y="15092"/>
                </a:lnTo>
                <a:lnTo>
                  <a:pt x="13483" y="15092"/>
                </a:lnTo>
                <a:lnTo>
                  <a:pt x="13483" y="15092"/>
                </a:lnTo>
                <a:lnTo>
                  <a:pt x="13504" y="15092"/>
                </a:lnTo>
                <a:lnTo>
                  <a:pt x="13525" y="15092"/>
                </a:lnTo>
                <a:lnTo>
                  <a:pt x="13525" y="15092"/>
                </a:lnTo>
                <a:lnTo>
                  <a:pt x="13547" y="15092"/>
                </a:lnTo>
                <a:lnTo>
                  <a:pt x="13547" y="15092"/>
                </a:lnTo>
                <a:lnTo>
                  <a:pt x="13568" y="15092"/>
                </a:lnTo>
                <a:lnTo>
                  <a:pt x="13568" y="15092"/>
                </a:lnTo>
                <a:lnTo>
                  <a:pt x="13610" y="15092"/>
                </a:lnTo>
                <a:lnTo>
                  <a:pt x="13610" y="15092"/>
                </a:lnTo>
                <a:lnTo>
                  <a:pt x="13631" y="15092"/>
                </a:lnTo>
                <a:lnTo>
                  <a:pt x="13631" y="15092"/>
                </a:lnTo>
                <a:lnTo>
                  <a:pt x="13652" y="15092"/>
                </a:lnTo>
                <a:lnTo>
                  <a:pt x="13674" y="15092"/>
                </a:lnTo>
                <a:lnTo>
                  <a:pt x="13674" y="15092"/>
                </a:lnTo>
                <a:lnTo>
                  <a:pt x="13695" y="15092"/>
                </a:lnTo>
                <a:lnTo>
                  <a:pt x="13695" y="15092"/>
                </a:lnTo>
                <a:lnTo>
                  <a:pt x="13716" y="15092"/>
                </a:lnTo>
                <a:lnTo>
                  <a:pt x="13716" y="15092"/>
                </a:lnTo>
                <a:lnTo>
                  <a:pt x="13737" y="15092"/>
                </a:lnTo>
                <a:lnTo>
                  <a:pt x="13758" y="15092"/>
                </a:lnTo>
                <a:lnTo>
                  <a:pt x="13758" y="15092"/>
                </a:lnTo>
                <a:lnTo>
                  <a:pt x="13779" y="15092"/>
                </a:lnTo>
                <a:lnTo>
                  <a:pt x="13779" y="15092"/>
                </a:lnTo>
                <a:lnTo>
                  <a:pt x="13801" y="15092"/>
                </a:lnTo>
                <a:lnTo>
                  <a:pt x="13801" y="15092"/>
                </a:lnTo>
                <a:lnTo>
                  <a:pt x="13822" y="15092"/>
                </a:lnTo>
                <a:lnTo>
                  <a:pt x="13822" y="15092"/>
                </a:lnTo>
                <a:lnTo>
                  <a:pt x="13843" y="15092"/>
                </a:lnTo>
                <a:lnTo>
                  <a:pt x="13864" y="15092"/>
                </a:lnTo>
                <a:lnTo>
                  <a:pt x="13885" y="15092"/>
                </a:lnTo>
                <a:lnTo>
                  <a:pt x="13885" y="15092"/>
                </a:lnTo>
                <a:lnTo>
                  <a:pt x="13906" y="15092"/>
                </a:lnTo>
                <a:lnTo>
                  <a:pt x="13928" y="15092"/>
                </a:lnTo>
                <a:lnTo>
                  <a:pt x="13928" y="15092"/>
                </a:lnTo>
                <a:lnTo>
                  <a:pt x="13949" y="15092"/>
                </a:lnTo>
                <a:lnTo>
                  <a:pt x="13949" y="15092"/>
                </a:lnTo>
                <a:lnTo>
                  <a:pt x="13970" y="15092"/>
                </a:lnTo>
                <a:lnTo>
                  <a:pt x="13970" y="15092"/>
                </a:lnTo>
                <a:lnTo>
                  <a:pt x="13991" y="15092"/>
                </a:lnTo>
                <a:lnTo>
                  <a:pt x="14012" y="15092"/>
                </a:lnTo>
                <a:lnTo>
                  <a:pt x="14012" y="15092"/>
                </a:lnTo>
                <a:lnTo>
                  <a:pt x="14033" y="15071"/>
                </a:lnTo>
                <a:lnTo>
                  <a:pt x="14033" y="15071"/>
                </a:lnTo>
                <a:lnTo>
                  <a:pt x="14055" y="15071"/>
                </a:lnTo>
                <a:lnTo>
                  <a:pt x="14012" y="15071"/>
                </a:lnTo>
                <a:lnTo>
                  <a:pt x="14012" y="15049"/>
                </a:lnTo>
                <a:lnTo>
                  <a:pt x="13991" y="15049"/>
                </a:lnTo>
                <a:lnTo>
                  <a:pt x="13970" y="15049"/>
                </a:lnTo>
                <a:lnTo>
                  <a:pt x="13970" y="15028"/>
                </a:lnTo>
                <a:lnTo>
                  <a:pt x="13949" y="15028"/>
                </a:lnTo>
                <a:lnTo>
                  <a:pt x="13928" y="15028"/>
                </a:lnTo>
                <a:lnTo>
                  <a:pt x="13928" y="15028"/>
                </a:lnTo>
                <a:lnTo>
                  <a:pt x="13949" y="15028"/>
                </a:lnTo>
                <a:lnTo>
                  <a:pt x="13949" y="15028"/>
                </a:lnTo>
                <a:lnTo>
                  <a:pt x="13970" y="15028"/>
                </a:lnTo>
                <a:lnTo>
                  <a:pt x="13970" y="15028"/>
                </a:lnTo>
                <a:lnTo>
                  <a:pt x="13991" y="15028"/>
                </a:lnTo>
                <a:lnTo>
                  <a:pt x="13991" y="15028"/>
                </a:lnTo>
                <a:lnTo>
                  <a:pt x="14012" y="15028"/>
                </a:lnTo>
                <a:lnTo>
                  <a:pt x="14033" y="15028"/>
                </a:lnTo>
                <a:lnTo>
                  <a:pt x="14033" y="15028"/>
                </a:lnTo>
                <a:lnTo>
                  <a:pt x="14055" y="15028"/>
                </a:lnTo>
                <a:lnTo>
                  <a:pt x="14076" y="15028"/>
                </a:lnTo>
                <a:lnTo>
                  <a:pt x="14097" y="15028"/>
                </a:lnTo>
                <a:lnTo>
                  <a:pt x="14097" y="15028"/>
                </a:lnTo>
                <a:lnTo>
                  <a:pt x="14118" y="15028"/>
                </a:lnTo>
                <a:lnTo>
                  <a:pt x="14139" y="15028"/>
                </a:lnTo>
                <a:lnTo>
                  <a:pt x="14139" y="15028"/>
                </a:lnTo>
                <a:lnTo>
                  <a:pt x="14160" y="15028"/>
                </a:lnTo>
                <a:lnTo>
                  <a:pt x="14182" y="15028"/>
                </a:lnTo>
                <a:lnTo>
                  <a:pt x="14182" y="15028"/>
                </a:lnTo>
                <a:lnTo>
                  <a:pt x="14203" y="15028"/>
                </a:lnTo>
                <a:lnTo>
                  <a:pt x="14203" y="15028"/>
                </a:lnTo>
                <a:lnTo>
                  <a:pt x="14224" y="15028"/>
                </a:lnTo>
                <a:lnTo>
                  <a:pt x="14224" y="15028"/>
                </a:lnTo>
                <a:lnTo>
                  <a:pt x="14245" y="15028"/>
                </a:lnTo>
                <a:lnTo>
                  <a:pt x="14266" y="15028"/>
                </a:lnTo>
                <a:lnTo>
                  <a:pt x="14266" y="15028"/>
                </a:lnTo>
                <a:lnTo>
                  <a:pt x="14287" y="15028"/>
                </a:lnTo>
                <a:lnTo>
                  <a:pt x="14287" y="15028"/>
                </a:lnTo>
                <a:lnTo>
                  <a:pt x="14309" y="15028"/>
                </a:lnTo>
                <a:lnTo>
                  <a:pt x="14309" y="15028"/>
                </a:lnTo>
                <a:lnTo>
                  <a:pt x="14330" y="15028"/>
                </a:lnTo>
                <a:lnTo>
                  <a:pt x="14351" y="15028"/>
                </a:lnTo>
                <a:lnTo>
                  <a:pt x="14351" y="15028"/>
                </a:lnTo>
                <a:lnTo>
                  <a:pt x="14372" y="15028"/>
                </a:lnTo>
                <a:lnTo>
                  <a:pt x="14393" y="15028"/>
                </a:lnTo>
                <a:lnTo>
                  <a:pt x="14393" y="15028"/>
                </a:lnTo>
                <a:lnTo>
                  <a:pt x="14414" y="15028"/>
                </a:lnTo>
                <a:lnTo>
                  <a:pt x="14436" y="15028"/>
                </a:lnTo>
                <a:lnTo>
                  <a:pt x="14436" y="15007"/>
                </a:lnTo>
                <a:lnTo>
                  <a:pt x="14457" y="15007"/>
                </a:lnTo>
                <a:lnTo>
                  <a:pt x="14457" y="15007"/>
                </a:lnTo>
                <a:lnTo>
                  <a:pt x="14478" y="15007"/>
                </a:lnTo>
                <a:lnTo>
                  <a:pt x="14478" y="15007"/>
                </a:lnTo>
                <a:lnTo>
                  <a:pt x="14520" y="14986"/>
                </a:lnTo>
                <a:lnTo>
                  <a:pt x="14541" y="14965"/>
                </a:lnTo>
                <a:lnTo>
                  <a:pt x="14563" y="14965"/>
                </a:lnTo>
                <a:lnTo>
                  <a:pt x="14563" y="14965"/>
                </a:lnTo>
                <a:lnTo>
                  <a:pt x="14584" y="14965"/>
                </a:lnTo>
                <a:lnTo>
                  <a:pt x="14584" y="14922"/>
                </a:lnTo>
                <a:lnTo>
                  <a:pt x="14605" y="14922"/>
                </a:lnTo>
                <a:lnTo>
                  <a:pt x="14626" y="14901"/>
                </a:lnTo>
                <a:lnTo>
                  <a:pt x="14626" y="14901"/>
                </a:lnTo>
                <a:lnTo>
                  <a:pt x="14626" y="14901"/>
                </a:lnTo>
                <a:lnTo>
                  <a:pt x="14605" y="14901"/>
                </a:lnTo>
                <a:lnTo>
                  <a:pt x="14584" y="14901"/>
                </a:lnTo>
                <a:lnTo>
                  <a:pt x="14563" y="14901"/>
                </a:lnTo>
                <a:lnTo>
                  <a:pt x="14541" y="14901"/>
                </a:lnTo>
                <a:lnTo>
                  <a:pt x="14520" y="14880"/>
                </a:lnTo>
                <a:lnTo>
                  <a:pt x="14499" y="14880"/>
                </a:lnTo>
                <a:lnTo>
                  <a:pt x="14499" y="14880"/>
                </a:lnTo>
                <a:lnTo>
                  <a:pt x="14457" y="14880"/>
                </a:lnTo>
                <a:lnTo>
                  <a:pt x="14457" y="14880"/>
                </a:lnTo>
                <a:lnTo>
                  <a:pt x="14436" y="14880"/>
                </a:lnTo>
                <a:lnTo>
                  <a:pt x="14414" y="14859"/>
                </a:lnTo>
                <a:lnTo>
                  <a:pt x="14393" y="14859"/>
                </a:lnTo>
                <a:lnTo>
                  <a:pt x="14393" y="14859"/>
                </a:lnTo>
                <a:lnTo>
                  <a:pt x="14372" y="14859"/>
                </a:lnTo>
                <a:lnTo>
                  <a:pt x="14372" y="14859"/>
                </a:lnTo>
                <a:lnTo>
                  <a:pt x="14351" y="14859"/>
                </a:lnTo>
                <a:lnTo>
                  <a:pt x="14351" y="14859"/>
                </a:lnTo>
                <a:lnTo>
                  <a:pt x="14330" y="14859"/>
                </a:lnTo>
                <a:lnTo>
                  <a:pt x="14309" y="14859"/>
                </a:lnTo>
                <a:lnTo>
                  <a:pt x="14309" y="14859"/>
                </a:lnTo>
                <a:lnTo>
                  <a:pt x="14287" y="14859"/>
                </a:lnTo>
                <a:lnTo>
                  <a:pt x="14287" y="14859"/>
                </a:lnTo>
                <a:lnTo>
                  <a:pt x="14266" y="14859"/>
                </a:lnTo>
                <a:lnTo>
                  <a:pt x="14266" y="14859"/>
                </a:lnTo>
                <a:lnTo>
                  <a:pt x="14266" y="14880"/>
                </a:lnTo>
                <a:lnTo>
                  <a:pt x="14266" y="14880"/>
                </a:lnTo>
                <a:lnTo>
                  <a:pt x="14287" y="14901"/>
                </a:lnTo>
                <a:lnTo>
                  <a:pt x="14287" y="14901"/>
                </a:lnTo>
                <a:lnTo>
                  <a:pt x="14309" y="14901"/>
                </a:lnTo>
                <a:lnTo>
                  <a:pt x="14330" y="14901"/>
                </a:lnTo>
                <a:lnTo>
                  <a:pt x="14351" y="14901"/>
                </a:lnTo>
                <a:lnTo>
                  <a:pt x="14372" y="14901"/>
                </a:lnTo>
                <a:lnTo>
                  <a:pt x="14372" y="14901"/>
                </a:lnTo>
                <a:lnTo>
                  <a:pt x="14393" y="14901"/>
                </a:lnTo>
                <a:lnTo>
                  <a:pt x="14393" y="14901"/>
                </a:lnTo>
                <a:lnTo>
                  <a:pt x="14414" y="14901"/>
                </a:lnTo>
                <a:lnTo>
                  <a:pt x="14436" y="14901"/>
                </a:lnTo>
                <a:lnTo>
                  <a:pt x="14457" y="14901"/>
                </a:lnTo>
                <a:lnTo>
                  <a:pt x="14457" y="14901"/>
                </a:lnTo>
                <a:lnTo>
                  <a:pt x="14478" y="14901"/>
                </a:lnTo>
                <a:lnTo>
                  <a:pt x="14499" y="14901"/>
                </a:lnTo>
                <a:lnTo>
                  <a:pt x="14499" y="14901"/>
                </a:lnTo>
                <a:lnTo>
                  <a:pt x="14520" y="14901"/>
                </a:lnTo>
                <a:lnTo>
                  <a:pt x="14478" y="14901"/>
                </a:lnTo>
                <a:lnTo>
                  <a:pt x="14457" y="14901"/>
                </a:lnTo>
                <a:lnTo>
                  <a:pt x="14414" y="14901"/>
                </a:lnTo>
                <a:lnTo>
                  <a:pt x="14393" y="14901"/>
                </a:lnTo>
                <a:lnTo>
                  <a:pt x="14351" y="14901"/>
                </a:lnTo>
                <a:lnTo>
                  <a:pt x="14351" y="14901"/>
                </a:lnTo>
                <a:lnTo>
                  <a:pt x="14330" y="14901"/>
                </a:lnTo>
                <a:lnTo>
                  <a:pt x="14330" y="14901"/>
                </a:lnTo>
                <a:lnTo>
                  <a:pt x="14309" y="14901"/>
                </a:lnTo>
                <a:lnTo>
                  <a:pt x="14330" y="14901"/>
                </a:lnTo>
                <a:lnTo>
                  <a:pt x="14330" y="14901"/>
                </a:lnTo>
                <a:lnTo>
                  <a:pt x="14351" y="14901"/>
                </a:lnTo>
                <a:lnTo>
                  <a:pt x="14351" y="14901"/>
                </a:lnTo>
                <a:lnTo>
                  <a:pt x="14330" y="14880"/>
                </a:lnTo>
                <a:lnTo>
                  <a:pt x="14266" y="14880"/>
                </a:lnTo>
                <a:lnTo>
                  <a:pt x="14203" y="14859"/>
                </a:lnTo>
                <a:lnTo>
                  <a:pt x="14118" y="14838"/>
                </a:lnTo>
                <a:lnTo>
                  <a:pt x="13991" y="14795"/>
                </a:lnTo>
                <a:lnTo>
                  <a:pt x="13885" y="14774"/>
                </a:lnTo>
                <a:lnTo>
                  <a:pt x="13758" y="14732"/>
                </a:lnTo>
                <a:lnTo>
                  <a:pt x="13674" y="14732"/>
                </a:lnTo>
                <a:lnTo>
                  <a:pt x="13568" y="14711"/>
                </a:lnTo>
                <a:lnTo>
                  <a:pt x="13483" y="14711"/>
                </a:lnTo>
                <a:lnTo>
                  <a:pt x="13462" y="14711"/>
                </a:lnTo>
                <a:lnTo>
                  <a:pt x="13420" y="14711"/>
                </a:lnTo>
                <a:lnTo>
                  <a:pt x="13377" y="14711"/>
                </a:lnTo>
                <a:lnTo>
                  <a:pt x="13356" y="14711"/>
                </a:lnTo>
                <a:lnTo>
                  <a:pt x="13356" y="14711"/>
                </a:lnTo>
                <a:lnTo>
                  <a:pt x="13335" y="14711"/>
                </a:lnTo>
                <a:lnTo>
                  <a:pt x="13314" y="14711"/>
                </a:lnTo>
                <a:lnTo>
                  <a:pt x="13314" y="14711"/>
                </a:lnTo>
                <a:lnTo>
                  <a:pt x="13335" y="14711"/>
                </a:lnTo>
                <a:lnTo>
                  <a:pt x="13377" y="14711"/>
                </a:lnTo>
                <a:lnTo>
                  <a:pt x="13420" y="14711"/>
                </a:lnTo>
                <a:lnTo>
                  <a:pt x="13462" y="14711"/>
                </a:lnTo>
                <a:lnTo>
                  <a:pt x="13504" y="14711"/>
                </a:lnTo>
                <a:lnTo>
                  <a:pt x="13547" y="14711"/>
                </a:lnTo>
                <a:lnTo>
                  <a:pt x="13610" y="14711"/>
                </a:lnTo>
                <a:lnTo>
                  <a:pt x="13631" y="14711"/>
                </a:lnTo>
                <a:lnTo>
                  <a:pt x="13652" y="14711"/>
                </a:lnTo>
                <a:lnTo>
                  <a:pt x="13674" y="14711"/>
                </a:lnTo>
                <a:lnTo>
                  <a:pt x="13674" y="14711"/>
                </a:lnTo>
                <a:lnTo>
                  <a:pt x="13652" y="14711"/>
                </a:lnTo>
                <a:lnTo>
                  <a:pt x="13610" y="14711"/>
                </a:lnTo>
                <a:lnTo>
                  <a:pt x="13568" y="14711"/>
                </a:lnTo>
                <a:lnTo>
                  <a:pt x="13504" y="14711"/>
                </a:lnTo>
                <a:lnTo>
                  <a:pt x="13420" y="14711"/>
                </a:lnTo>
                <a:lnTo>
                  <a:pt x="13293" y="14711"/>
                </a:lnTo>
                <a:lnTo>
                  <a:pt x="13208" y="14711"/>
                </a:lnTo>
                <a:lnTo>
                  <a:pt x="13123" y="14711"/>
                </a:lnTo>
                <a:lnTo>
                  <a:pt x="13039" y="14711"/>
                </a:lnTo>
                <a:lnTo>
                  <a:pt x="12975" y="14711"/>
                </a:lnTo>
                <a:lnTo>
                  <a:pt x="12954" y="14711"/>
                </a:lnTo>
                <a:lnTo>
                  <a:pt x="12933" y="14711"/>
                </a:lnTo>
                <a:lnTo>
                  <a:pt x="12912" y="14711"/>
                </a:lnTo>
                <a:lnTo>
                  <a:pt x="12890" y="14711"/>
                </a:lnTo>
                <a:lnTo>
                  <a:pt x="12912" y="14711"/>
                </a:lnTo>
                <a:lnTo>
                  <a:pt x="12975" y="14711"/>
                </a:lnTo>
                <a:lnTo>
                  <a:pt x="13017" y="14711"/>
                </a:lnTo>
                <a:lnTo>
                  <a:pt x="13102" y="14711"/>
                </a:lnTo>
                <a:lnTo>
                  <a:pt x="13187" y="14711"/>
                </a:lnTo>
                <a:lnTo>
                  <a:pt x="13271" y="14711"/>
                </a:lnTo>
                <a:lnTo>
                  <a:pt x="13356" y="14711"/>
                </a:lnTo>
                <a:lnTo>
                  <a:pt x="13420" y="14711"/>
                </a:lnTo>
                <a:lnTo>
                  <a:pt x="13504" y="14711"/>
                </a:lnTo>
                <a:lnTo>
                  <a:pt x="13568" y="14711"/>
                </a:lnTo>
                <a:lnTo>
                  <a:pt x="13631" y="14711"/>
                </a:lnTo>
                <a:lnTo>
                  <a:pt x="13674" y="14711"/>
                </a:lnTo>
                <a:lnTo>
                  <a:pt x="13674" y="14711"/>
                </a:lnTo>
                <a:lnTo>
                  <a:pt x="13631" y="14711"/>
                </a:lnTo>
                <a:lnTo>
                  <a:pt x="13610" y="14711"/>
                </a:lnTo>
                <a:lnTo>
                  <a:pt x="13568" y="14711"/>
                </a:lnTo>
                <a:lnTo>
                  <a:pt x="13483" y="14711"/>
                </a:lnTo>
                <a:lnTo>
                  <a:pt x="13398" y="14711"/>
                </a:lnTo>
                <a:lnTo>
                  <a:pt x="13271" y="14690"/>
                </a:lnTo>
                <a:lnTo>
                  <a:pt x="13187" y="14690"/>
                </a:lnTo>
                <a:lnTo>
                  <a:pt x="13039" y="14668"/>
                </a:lnTo>
                <a:lnTo>
                  <a:pt x="12869" y="14626"/>
                </a:lnTo>
                <a:lnTo>
                  <a:pt x="12785" y="14626"/>
                </a:lnTo>
                <a:lnTo>
                  <a:pt x="12721" y="14626"/>
                </a:lnTo>
                <a:lnTo>
                  <a:pt x="12700" y="14626"/>
                </a:lnTo>
                <a:lnTo>
                  <a:pt x="12700" y="14605"/>
                </a:lnTo>
                <a:lnTo>
                  <a:pt x="12700" y="14605"/>
                </a:lnTo>
                <a:lnTo>
                  <a:pt x="12742" y="14605"/>
                </a:lnTo>
                <a:lnTo>
                  <a:pt x="12827" y="14605"/>
                </a:lnTo>
                <a:lnTo>
                  <a:pt x="12912" y="14605"/>
                </a:lnTo>
                <a:lnTo>
                  <a:pt x="12996" y="14605"/>
                </a:lnTo>
                <a:lnTo>
                  <a:pt x="13081" y="14605"/>
                </a:lnTo>
                <a:lnTo>
                  <a:pt x="13208" y="14605"/>
                </a:lnTo>
                <a:lnTo>
                  <a:pt x="13293" y="14605"/>
                </a:lnTo>
                <a:lnTo>
                  <a:pt x="13398" y="14605"/>
                </a:lnTo>
                <a:lnTo>
                  <a:pt x="13462" y="14605"/>
                </a:lnTo>
                <a:lnTo>
                  <a:pt x="13568" y="14605"/>
                </a:lnTo>
                <a:lnTo>
                  <a:pt x="13674" y="14605"/>
                </a:lnTo>
                <a:lnTo>
                  <a:pt x="13716" y="14605"/>
                </a:lnTo>
                <a:lnTo>
                  <a:pt x="13779" y="14605"/>
                </a:lnTo>
                <a:lnTo>
                  <a:pt x="13801" y="14605"/>
                </a:lnTo>
                <a:lnTo>
                  <a:pt x="13822" y="14605"/>
                </a:lnTo>
                <a:lnTo>
                  <a:pt x="13801" y="14605"/>
                </a:lnTo>
                <a:lnTo>
                  <a:pt x="13758" y="14605"/>
                </a:lnTo>
                <a:lnTo>
                  <a:pt x="13716" y="14605"/>
                </a:lnTo>
                <a:lnTo>
                  <a:pt x="13652" y="14605"/>
                </a:lnTo>
                <a:lnTo>
                  <a:pt x="13568" y="14605"/>
                </a:lnTo>
                <a:lnTo>
                  <a:pt x="13420" y="14605"/>
                </a:lnTo>
                <a:lnTo>
                  <a:pt x="13356" y="14584"/>
                </a:lnTo>
                <a:lnTo>
                  <a:pt x="13293" y="14563"/>
                </a:lnTo>
                <a:lnTo>
                  <a:pt x="13250" y="14563"/>
                </a:lnTo>
                <a:lnTo>
                  <a:pt x="13229" y="14563"/>
                </a:lnTo>
                <a:lnTo>
                  <a:pt x="13250" y="14563"/>
                </a:lnTo>
                <a:lnTo>
                  <a:pt x="13335" y="14563"/>
                </a:lnTo>
                <a:lnTo>
                  <a:pt x="13398" y="14563"/>
                </a:lnTo>
                <a:lnTo>
                  <a:pt x="13462" y="14563"/>
                </a:lnTo>
                <a:lnTo>
                  <a:pt x="13547" y="14563"/>
                </a:lnTo>
                <a:lnTo>
                  <a:pt x="13610" y="14563"/>
                </a:lnTo>
                <a:lnTo>
                  <a:pt x="13674" y="14563"/>
                </a:lnTo>
                <a:lnTo>
                  <a:pt x="13716" y="14563"/>
                </a:lnTo>
                <a:lnTo>
                  <a:pt x="13779" y="14563"/>
                </a:lnTo>
                <a:lnTo>
                  <a:pt x="13822" y="14563"/>
                </a:lnTo>
                <a:lnTo>
                  <a:pt x="13843" y="14563"/>
                </a:lnTo>
                <a:lnTo>
                  <a:pt x="13779" y="14541"/>
                </a:lnTo>
                <a:lnTo>
                  <a:pt x="13737" y="14499"/>
                </a:lnTo>
                <a:lnTo>
                  <a:pt x="13695" y="14478"/>
                </a:lnTo>
                <a:lnTo>
                  <a:pt x="13568" y="14478"/>
                </a:lnTo>
                <a:lnTo>
                  <a:pt x="13462" y="14457"/>
                </a:lnTo>
                <a:lnTo>
                  <a:pt x="13356" y="14436"/>
                </a:lnTo>
                <a:lnTo>
                  <a:pt x="13250" y="14372"/>
                </a:lnTo>
                <a:lnTo>
                  <a:pt x="13166" y="14351"/>
                </a:lnTo>
                <a:lnTo>
                  <a:pt x="13081" y="14309"/>
                </a:lnTo>
                <a:lnTo>
                  <a:pt x="13060" y="14266"/>
                </a:lnTo>
                <a:lnTo>
                  <a:pt x="13039" y="14245"/>
                </a:lnTo>
                <a:lnTo>
                  <a:pt x="13017" y="14245"/>
                </a:lnTo>
                <a:lnTo>
                  <a:pt x="13017" y="14245"/>
                </a:lnTo>
                <a:lnTo>
                  <a:pt x="13060" y="14245"/>
                </a:lnTo>
                <a:lnTo>
                  <a:pt x="13102" y="14245"/>
                </a:lnTo>
                <a:lnTo>
                  <a:pt x="13187" y="14245"/>
                </a:lnTo>
                <a:lnTo>
                  <a:pt x="13271" y="14245"/>
                </a:lnTo>
                <a:lnTo>
                  <a:pt x="13356" y="14245"/>
                </a:lnTo>
                <a:lnTo>
                  <a:pt x="13483" y="14245"/>
                </a:lnTo>
                <a:lnTo>
                  <a:pt x="13568" y="14245"/>
                </a:lnTo>
                <a:lnTo>
                  <a:pt x="13631" y="14245"/>
                </a:lnTo>
                <a:lnTo>
                  <a:pt x="13674" y="14245"/>
                </a:lnTo>
                <a:lnTo>
                  <a:pt x="13737" y="14245"/>
                </a:lnTo>
                <a:lnTo>
                  <a:pt x="13758" y="14245"/>
                </a:lnTo>
                <a:lnTo>
                  <a:pt x="13779" y="14245"/>
                </a:lnTo>
                <a:lnTo>
                  <a:pt x="13758" y="14245"/>
                </a:lnTo>
                <a:lnTo>
                  <a:pt x="13737" y="14245"/>
                </a:lnTo>
                <a:lnTo>
                  <a:pt x="13674" y="14245"/>
                </a:lnTo>
                <a:lnTo>
                  <a:pt x="13610" y="14245"/>
                </a:lnTo>
                <a:lnTo>
                  <a:pt x="13525" y="14245"/>
                </a:lnTo>
                <a:lnTo>
                  <a:pt x="13483" y="14245"/>
                </a:lnTo>
                <a:lnTo>
                  <a:pt x="13420" y="14245"/>
                </a:lnTo>
                <a:lnTo>
                  <a:pt x="13356" y="14245"/>
                </a:lnTo>
                <a:lnTo>
                  <a:pt x="13335" y="14245"/>
                </a:lnTo>
                <a:lnTo>
                  <a:pt x="13314" y="14245"/>
                </a:lnTo>
                <a:lnTo>
                  <a:pt x="13293" y="14245"/>
                </a:lnTo>
                <a:lnTo>
                  <a:pt x="13293" y="14245"/>
                </a:lnTo>
                <a:lnTo>
                  <a:pt x="13271" y="14245"/>
                </a:lnTo>
                <a:lnTo>
                  <a:pt x="13271" y="14245"/>
                </a:lnTo>
                <a:lnTo>
                  <a:pt x="13293" y="14245"/>
                </a:lnTo>
                <a:lnTo>
                  <a:pt x="13335" y="14245"/>
                </a:lnTo>
                <a:lnTo>
                  <a:pt x="13377" y="14245"/>
                </a:lnTo>
                <a:lnTo>
                  <a:pt x="13441" y="14245"/>
                </a:lnTo>
                <a:lnTo>
                  <a:pt x="13504" y="14245"/>
                </a:lnTo>
                <a:lnTo>
                  <a:pt x="13568" y="14245"/>
                </a:lnTo>
                <a:lnTo>
                  <a:pt x="13610" y="14245"/>
                </a:lnTo>
                <a:lnTo>
                  <a:pt x="13631" y="14245"/>
                </a:lnTo>
                <a:lnTo>
                  <a:pt x="13652" y="14245"/>
                </a:lnTo>
                <a:lnTo>
                  <a:pt x="13631" y="14245"/>
                </a:lnTo>
                <a:lnTo>
                  <a:pt x="13589" y="14245"/>
                </a:lnTo>
                <a:lnTo>
                  <a:pt x="13504" y="14245"/>
                </a:lnTo>
                <a:lnTo>
                  <a:pt x="13398" y="14245"/>
                </a:lnTo>
                <a:lnTo>
                  <a:pt x="13293" y="14245"/>
                </a:lnTo>
                <a:lnTo>
                  <a:pt x="13229" y="14245"/>
                </a:lnTo>
                <a:lnTo>
                  <a:pt x="13166" y="14224"/>
                </a:lnTo>
                <a:lnTo>
                  <a:pt x="13144" y="14203"/>
                </a:lnTo>
                <a:lnTo>
                  <a:pt x="13060" y="14203"/>
                </a:lnTo>
                <a:lnTo>
                  <a:pt x="13017" y="14182"/>
                </a:lnTo>
                <a:lnTo>
                  <a:pt x="12996" y="14182"/>
                </a:lnTo>
                <a:lnTo>
                  <a:pt x="12954" y="14182"/>
                </a:lnTo>
                <a:lnTo>
                  <a:pt x="12954" y="14182"/>
                </a:lnTo>
                <a:lnTo>
                  <a:pt x="12975" y="14182"/>
                </a:lnTo>
                <a:lnTo>
                  <a:pt x="13017" y="14182"/>
                </a:lnTo>
                <a:lnTo>
                  <a:pt x="13060" y="14203"/>
                </a:lnTo>
                <a:lnTo>
                  <a:pt x="13123" y="14203"/>
                </a:lnTo>
                <a:lnTo>
                  <a:pt x="13208" y="14203"/>
                </a:lnTo>
                <a:lnTo>
                  <a:pt x="13293" y="14203"/>
                </a:lnTo>
                <a:lnTo>
                  <a:pt x="13356" y="14203"/>
                </a:lnTo>
                <a:lnTo>
                  <a:pt x="13420" y="14203"/>
                </a:lnTo>
                <a:lnTo>
                  <a:pt x="13483" y="14203"/>
                </a:lnTo>
                <a:lnTo>
                  <a:pt x="13547" y="14203"/>
                </a:lnTo>
                <a:lnTo>
                  <a:pt x="13547" y="14203"/>
                </a:lnTo>
                <a:lnTo>
                  <a:pt x="13504" y="14203"/>
                </a:lnTo>
                <a:lnTo>
                  <a:pt x="13462" y="14203"/>
                </a:lnTo>
                <a:lnTo>
                  <a:pt x="13441" y="14203"/>
                </a:lnTo>
                <a:lnTo>
                  <a:pt x="13377" y="14203"/>
                </a:lnTo>
                <a:lnTo>
                  <a:pt x="13335" y="14203"/>
                </a:lnTo>
                <a:lnTo>
                  <a:pt x="13293" y="14203"/>
                </a:lnTo>
                <a:lnTo>
                  <a:pt x="13229" y="14182"/>
                </a:lnTo>
                <a:lnTo>
                  <a:pt x="13166" y="14182"/>
                </a:lnTo>
                <a:lnTo>
                  <a:pt x="13102" y="14139"/>
                </a:lnTo>
                <a:lnTo>
                  <a:pt x="13081" y="14118"/>
                </a:lnTo>
                <a:lnTo>
                  <a:pt x="13060" y="14118"/>
                </a:lnTo>
                <a:lnTo>
                  <a:pt x="13081" y="14118"/>
                </a:lnTo>
                <a:lnTo>
                  <a:pt x="13123" y="14139"/>
                </a:lnTo>
                <a:lnTo>
                  <a:pt x="13187" y="14139"/>
                </a:lnTo>
                <a:lnTo>
                  <a:pt x="13229" y="14139"/>
                </a:lnTo>
                <a:lnTo>
                  <a:pt x="13271" y="14139"/>
                </a:lnTo>
                <a:lnTo>
                  <a:pt x="13335" y="14139"/>
                </a:lnTo>
                <a:lnTo>
                  <a:pt x="13377" y="14139"/>
                </a:lnTo>
                <a:lnTo>
                  <a:pt x="13398" y="14139"/>
                </a:lnTo>
                <a:lnTo>
                  <a:pt x="13420" y="14139"/>
                </a:lnTo>
                <a:lnTo>
                  <a:pt x="13420" y="14139"/>
                </a:lnTo>
                <a:lnTo>
                  <a:pt x="13441" y="14139"/>
                </a:lnTo>
                <a:lnTo>
                  <a:pt x="13420" y="14139"/>
                </a:lnTo>
                <a:lnTo>
                  <a:pt x="13420" y="14139"/>
                </a:lnTo>
                <a:lnTo>
                  <a:pt x="13420" y="14160"/>
                </a:lnTo>
                <a:lnTo>
                  <a:pt x="13398" y="14182"/>
                </a:lnTo>
                <a:lnTo>
                  <a:pt x="13398" y="14182"/>
                </a:lnTo>
              </a:path>
              <a:path w="8087" h="3282">
                <a:moveTo>
                  <a:pt x="13420" y="14753"/>
                </a:moveTo>
                <a:cubicBezTo>
                  <a:pt x="13389" y="14777"/>
                  <a:pt x="13377" y="14803"/>
                  <a:pt x="13356" y="14817"/>
                </a:cubicBezTo>
                <a:cubicBezTo>
                  <a:pt x="13334" y="14832"/>
                  <a:pt x="13312" y="14851"/>
                  <a:pt x="13271" y="14859"/>
                </a:cubicBezTo>
                <a:cubicBezTo>
                  <a:pt x="13254" y="14862"/>
                  <a:pt x="13137" y="14859"/>
                  <a:pt x="13187" y="14859"/>
                </a:cubicBezTo>
                <a:cubicBezTo>
                  <a:pt x="13328" y="14859"/>
                  <a:pt x="13469" y="14859"/>
                  <a:pt x="13610" y="14859"/>
                </a:cubicBezTo>
                <a:cubicBezTo>
                  <a:pt x="13622" y="14859"/>
                  <a:pt x="13763" y="14859"/>
                  <a:pt x="13652" y="14859"/>
                </a:cubicBezTo>
                <a:cubicBezTo>
                  <a:pt x="13612" y="14859"/>
                  <a:pt x="13367" y="14859"/>
                  <a:pt x="13462" y="14859"/>
                </a:cubicBezTo>
                <a:cubicBezTo>
                  <a:pt x="13499" y="14859"/>
                  <a:pt x="13704" y="14859"/>
                  <a:pt x="13610" y="14859"/>
                </a:cubicBezTo>
                <a:cubicBezTo>
                  <a:pt x="13530" y="14859"/>
                  <a:pt x="13461" y="14838"/>
                  <a:pt x="13377" y="14838"/>
                </a:cubicBezTo>
                <a:cubicBezTo>
                  <a:pt x="13368" y="14838"/>
                  <a:pt x="13193" y="14838"/>
                  <a:pt x="13250" y="14838"/>
                </a:cubicBezTo>
                <a:cubicBezTo>
                  <a:pt x="13297" y="14838"/>
                  <a:pt x="13561" y="14836"/>
                  <a:pt x="13462" y="14817"/>
                </a:cubicBezTo>
                <a:cubicBezTo>
                  <a:pt x="13408" y="14806"/>
                  <a:pt x="13347" y="14808"/>
                  <a:pt x="13293" y="14795"/>
                </a:cubicBezTo>
                <a:cubicBezTo>
                  <a:pt x="13238" y="14782"/>
                  <a:pt x="13346" y="14795"/>
                  <a:pt x="13356" y="14795"/>
                </a:cubicBezTo>
                <a:cubicBezTo>
                  <a:pt x="13480" y="14795"/>
                  <a:pt x="13595" y="14805"/>
                  <a:pt x="13716" y="14817"/>
                </a:cubicBezTo>
                <a:cubicBezTo>
                  <a:pt x="13737" y="14817"/>
                  <a:pt x="13758" y="14817"/>
                  <a:pt x="13779" y="14817"/>
                </a:cubicBezTo>
                <a:cubicBezTo>
                  <a:pt x="13815" y="14817"/>
                  <a:pt x="13822" y="14817"/>
                  <a:pt x="13843" y="14817"/>
                </a:cubicBezTo>
                <a:cubicBezTo>
                  <a:pt x="13802" y="14809"/>
                  <a:pt x="13744" y="14804"/>
                  <a:pt x="13695" y="14795"/>
                </a:cubicBezTo>
                <a:cubicBezTo>
                  <a:pt x="13614" y="14780"/>
                  <a:pt x="13543" y="14756"/>
                  <a:pt x="13462" y="14753"/>
                </a:cubicBezTo>
                <a:cubicBezTo>
                  <a:pt x="13401" y="14751"/>
                  <a:pt x="13346" y="14761"/>
                  <a:pt x="13314" y="14774"/>
                </a:cubicBezTo>
                <a:cubicBezTo>
                  <a:pt x="13281" y="14788"/>
                  <a:pt x="13250" y="14774"/>
                  <a:pt x="13250" y="14817"/>
                </a:cubicBezTo>
                <a:cubicBezTo>
                  <a:pt x="13250" y="14863"/>
                  <a:pt x="13260" y="14888"/>
                  <a:pt x="13293" y="14922"/>
                </a:cubicBezTo>
                <a:cubicBezTo>
                  <a:pt x="13333" y="14964"/>
                  <a:pt x="13369" y="14961"/>
                  <a:pt x="13420" y="14965"/>
                </a:cubicBezTo>
                <a:cubicBezTo>
                  <a:pt x="13475" y="14969"/>
                  <a:pt x="13715" y="14965"/>
                  <a:pt x="13631" y="14965"/>
                </a:cubicBezTo>
                <a:cubicBezTo>
                  <a:pt x="13577" y="14965"/>
                  <a:pt x="13555" y="14947"/>
                  <a:pt x="13525" y="14944"/>
                </a:cubicBezTo>
                <a:cubicBezTo>
                  <a:pt x="13469" y="14938"/>
                  <a:pt x="13422" y="14958"/>
                  <a:pt x="13398" y="14965"/>
                </a:cubicBezTo>
                <a:cubicBezTo>
                  <a:pt x="13413" y="14973"/>
                  <a:pt x="13446" y="14994"/>
                  <a:pt x="13483" y="15007"/>
                </a:cubicBezTo>
                <a:cubicBezTo>
                  <a:pt x="13520" y="15020"/>
                  <a:pt x="13545" y="15026"/>
                  <a:pt x="13589" y="15028"/>
                </a:cubicBezTo>
                <a:cubicBezTo>
                  <a:pt x="13675" y="15033"/>
                  <a:pt x="13744" y="15016"/>
                  <a:pt x="13822" y="15007"/>
                </a:cubicBezTo>
                <a:cubicBezTo>
                  <a:pt x="13857" y="15003"/>
                  <a:pt x="13871" y="14991"/>
                  <a:pt x="13906" y="14986"/>
                </a:cubicBezTo>
                <a:cubicBezTo>
                  <a:pt x="13972" y="14976"/>
                  <a:pt x="14061" y="14971"/>
                  <a:pt x="14118" y="14965"/>
                </a:cubicBezTo>
                <a:cubicBezTo>
                  <a:pt x="14164" y="14960"/>
                  <a:pt x="14328" y="14986"/>
                  <a:pt x="14245" y="14965"/>
                </a:cubicBezTo>
                <a:cubicBezTo>
                  <a:pt x="14209" y="14956"/>
                  <a:pt x="14186" y="14945"/>
                  <a:pt x="14139" y="14944"/>
                </a:cubicBezTo>
                <a:cubicBezTo>
                  <a:pt x="14095" y="14943"/>
                  <a:pt x="14043" y="14925"/>
                  <a:pt x="14012" y="14922"/>
                </a:cubicBezTo>
                <a:cubicBezTo>
                  <a:pt x="13964" y="14917"/>
                  <a:pt x="13912" y="14922"/>
                  <a:pt x="13864" y="14922"/>
                </a:cubicBezTo>
                <a:cubicBezTo>
                  <a:pt x="13815" y="14922"/>
                  <a:pt x="13709" y="14922"/>
                  <a:pt x="13758" y="14922"/>
                </a:cubicBezTo>
                <a:cubicBezTo>
                  <a:pt x="13809" y="14922"/>
                  <a:pt x="13874" y="14922"/>
                  <a:pt x="13906" y="14922"/>
                </a:cubicBezTo>
                <a:cubicBezTo>
                  <a:pt x="13953" y="14922"/>
                  <a:pt x="14175" y="14937"/>
                  <a:pt x="14139" y="14901"/>
                </a:cubicBezTo>
                <a:cubicBezTo>
                  <a:pt x="14097" y="14858"/>
                  <a:pt x="13967" y="14821"/>
                  <a:pt x="13906" y="14795"/>
                </a:cubicBezTo>
                <a:cubicBezTo>
                  <a:pt x="13875" y="14782"/>
                  <a:pt x="13693" y="14774"/>
                  <a:pt x="13801" y="14774"/>
                </a:cubicBezTo>
                <a:cubicBezTo>
                  <a:pt x="14034" y="14774"/>
                  <a:pt x="14620" y="14937"/>
                  <a:pt x="14478" y="14753"/>
                </a:cubicBezTo>
                <a:cubicBezTo>
                  <a:pt x="14468" y="14740"/>
                  <a:pt x="14328" y="14716"/>
                  <a:pt x="14309" y="14711"/>
                </a:cubicBezTo>
                <a:cubicBezTo>
                  <a:pt x="14200" y="14685"/>
                  <a:pt x="14099" y="14682"/>
                  <a:pt x="13991" y="14647"/>
                </a:cubicBezTo>
                <a:cubicBezTo>
                  <a:pt x="13939" y="14630"/>
                  <a:pt x="13927" y="14631"/>
                  <a:pt x="13906" y="14605"/>
                </a:cubicBezTo>
                <a:cubicBezTo>
                  <a:pt x="13969" y="14605"/>
                  <a:pt x="13949" y="14605"/>
                  <a:pt x="14012" y="14605"/>
                </a:cubicBezTo>
                <a:cubicBezTo>
                  <a:pt x="14075" y="14605"/>
                  <a:pt x="14433" y="14605"/>
                  <a:pt x="14351" y="14605"/>
                </a:cubicBezTo>
                <a:cubicBezTo>
                  <a:pt x="14337" y="14605"/>
                  <a:pt x="14323" y="14605"/>
                  <a:pt x="14309" y="14605"/>
                </a:cubicBezTo>
                <a:cubicBezTo>
                  <a:pt x="14206" y="14605"/>
                  <a:pt x="14114" y="14592"/>
                  <a:pt x="14012" y="14584"/>
                </a:cubicBezTo>
                <a:cubicBezTo>
                  <a:pt x="13898" y="14575"/>
                  <a:pt x="13789" y="14563"/>
                  <a:pt x="13674" y="14563"/>
                </a:cubicBezTo>
                <a:cubicBezTo>
                  <a:pt x="13665" y="14563"/>
                  <a:pt x="13574" y="14563"/>
                  <a:pt x="13631" y="14563"/>
                </a:cubicBezTo>
                <a:cubicBezTo>
                  <a:pt x="13767" y="14563"/>
                  <a:pt x="13904" y="14556"/>
                  <a:pt x="14033" y="14541"/>
                </a:cubicBezTo>
                <a:cubicBezTo>
                  <a:pt x="14047" y="14541"/>
                  <a:pt x="14062" y="14541"/>
                  <a:pt x="14076" y="14541"/>
                </a:cubicBezTo>
                <a:cubicBezTo>
                  <a:pt x="13913" y="14541"/>
                  <a:pt x="13478" y="14467"/>
                  <a:pt x="13610" y="14563"/>
                </a:cubicBezTo>
                <a:cubicBezTo>
                  <a:pt x="13655" y="14595"/>
                  <a:pt x="13704" y="14616"/>
                  <a:pt x="13758" y="14626"/>
                </a:cubicBezTo>
                <a:cubicBezTo>
                  <a:pt x="13874" y="14648"/>
                  <a:pt x="13975" y="14663"/>
                  <a:pt x="14076" y="14732"/>
                </a:cubicBezTo>
                <a:cubicBezTo>
                  <a:pt x="14101" y="14749"/>
                  <a:pt x="14051" y="14730"/>
                  <a:pt x="14012" y="14732"/>
                </a:cubicBezTo>
                <a:cubicBezTo>
                  <a:pt x="13865" y="14738"/>
                  <a:pt x="13716" y="14732"/>
                  <a:pt x="13568" y="14732"/>
                </a:cubicBezTo>
                <a:cubicBezTo>
                  <a:pt x="13617" y="14732"/>
                  <a:pt x="13625" y="14732"/>
                  <a:pt x="13674" y="14732"/>
                </a:cubicBezTo>
                <a:cubicBezTo>
                  <a:pt x="13836" y="14732"/>
                  <a:pt x="13998" y="14732"/>
                  <a:pt x="14160" y="14732"/>
                </a:cubicBezTo>
                <a:cubicBezTo>
                  <a:pt x="14108" y="14716"/>
                  <a:pt x="14049" y="14682"/>
                  <a:pt x="13991" y="14668"/>
                </a:cubicBezTo>
                <a:cubicBezTo>
                  <a:pt x="13891" y="14644"/>
                  <a:pt x="13805" y="14570"/>
                  <a:pt x="13695" y="14520"/>
                </a:cubicBezTo>
                <a:cubicBezTo>
                  <a:pt x="13683" y="14515"/>
                  <a:pt x="13595" y="14493"/>
                  <a:pt x="13631" y="14457"/>
                </a:cubicBezTo>
                <a:cubicBezTo>
                  <a:pt x="13715" y="14374"/>
                  <a:pt x="14341" y="14457"/>
                  <a:pt x="14457" y="14457"/>
                </a:cubicBezTo>
                <a:cubicBezTo>
                  <a:pt x="14549" y="14457"/>
                  <a:pt x="14739" y="14457"/>
                  <a:pt x="14647" y="14457"/>
                </a:cubicBezTo>
                <a:cubicBezTo>
                  <a:pt x="14468" y="14457"/>
                  <a:pt x="14290" y="14454"/>
                  <a:pt x="14118" y="14436"/>
                </a:cubicBezTo>
                <a:cubicBezTo>
                  <a:pt x="14092" y="14433"/>
                  <a:pt x="14012" y="14428"/>
                  <a:pt x="14076" y="14414"/>
                </a:cubicBezTo>
                <a:cubicBezTo>
                  <a:pt x="14126" y="14403"/>
                  <a:pt x="14266" y="14429"/>
                  <a:pt x="14245" y="14414"/>
                </a:cubicBezTo>
                <a:cubicBezTo>
                  <a:pt x="14199" y="14381"/>
                  <a:pt x="14110" y="14393"/>
                  <a:pt x="14055" y="14393"/>
                </a:cubicBezTo>
                <a:cubicBezTo>
                  <a:pt x="13863" y="14393"/>
                  <a:pt x="13691" y="14347"/>
                  <a:pt x="13504" y="14309"/>
                </a:cubicBezTo>
                <a:cubicBezTo>
                  <a:pt x="13403" y="14289"/>
                  <a:pt x="13310" y="14272"/>
                  <a:pt x="13208" y="14266"/>
                </a:cubicBezTo>
                <a:cubicBezTo>
                  <a:pt x="13335" y="14266"/>
                  <a:pt x="13421" y="14286"/>
                  <a:pt x="13547" y="14309"/>
                </a:cubicBezTo>
                <a:cubicBezTo>
                  <a:pt x="13702" y="14338"/>
                  <a:pt x="13855" y="14388"/>
                  <a:pt x="14012" y="14393"/>
                </a:cubicBezTo>
                <a:cubicBezTo>
                  <a:pt x="14066" y="14395"/>
                  <a:pt x="14173" y="14408"/>
                  <a:pt x="14055" y="14414"/>
                </a:cubicBezTo>
                <a:cubicBezTo>
                  <a:pt x="13793" y="14428"/>
                  <a:pt x="13099" y="14447"/>
                  <a:pt x="13356" y="14393"/>
                </a:cubicBezTo>
                <a:cubicBezTo>
                  <a:pt x="13542" y="14354"/>
                  <a:pt x="13653" y="14393"/>
                  <a:pt x="13843" y="14393"/>
                </a:cubicBezTo>
                <a:cubicBezTo>
                  <a:pt x="13782" y="14389"/>
                  <a:pt x="13736" y="14374"/>
                  <a:pt x="13674" y="14372"/>
                </a:cubicBezTo>
                <a:cubicBezTo>
                  <a:pt x="13509" y="14367"/>
                  <a:pt x="13345" y="14375"/>
                  <a:pt x="13187" y="14351"/>
                </a:cubicBezTo>
                <a:cubicBezTo>
                  <a:pt x="13180" y="14351"/>
                  <a:pt x="13173" y="14351"/>
                  <a:pt x="13166" y="14351"/>
                </a:cubicBezTo>
                <a:cubicBezTo>
                  <a:pt x="13237" y="14351"/>
                  <a:pt x="13264" y="14351"/>
                  <a:pt x="13335" y="14351"/>
                </a:cubicBezTo>
                <a:cubicBezTo>
                  <a:pt x="13514" y="14351"/>
                  <a:pt x="13992" y="14386"/>
                  <a:pt x="13822" y="14330"/>
                </a:cubicBezTo>
                <a:cubicBezTo>
                  <a:pt x="13750" y="14307"/>
                  <a:pt x="13620" y="14311"/>
                  <a:pt x="13547" y="14309"/>
                </a:cubicBezTo>
                <a:cubicBezTo>
                  <a:pt x="13433" y="14305"/>
                  <a:pt x="13345" y="14240"/>
                  <a:pt x="13229" y="14224"/>
                </a:cubicBezTo>
                <a:cubicBezTo>
                  <a:pt x="13228" y="14224"/>
                  <a:pt x="13102" y="14228"/>
                  <a:pt x="13166" y="14224"/>
                </a:cubicBezTo>
                <a:cubicBezTo>
                  <a:pt x="13285" y="14217"/>
                  <a:pt x="13603" y="14224"/>
                  <a:pt x="13483" y="14224"/>
                </a:cubicBezTo>
                <a:cubicBezTo>
                  <a:pt x="13427" y="14224"/>
                  <a:pt x="13370" y="14224"/>
                  <a:pt x="13314" y="14224"/>
                </a:cubicBezTo>
                <a:cubicBezTo>
                  <a:pt x="13219" y="14224"/>
                  <a:pt x="13127" y="14210"/>
                  <a:pt x="13039" y="14203"/>
                </a:cubicBezTo>
                <a:cubicBezTo>
                  <a:pt x="12962" y="14197"/>
                  <a:pt x="12663" y="14203"/>
                  <a:pt x="12721" y="14203"/>
                </a:cubicBezTo>
                <a:cubicBezTo>
                  <a:pt x="12914" y="14203"/>
                  <a:pt x="13157" y="14199"/>
                  <a:pt x="13314" y="14182"/>
                </a:cubicBezTo>
                <a:cubicBezTo>
                  <a:pt x="13362" y="14177"/>
                  <a:pt x="13425" y="14164"/>
                  <a:pt x="13462" y="14160"/>
                </a:cubicBezTo>
                <a:cubicBezTo>
                  <a:pt x="13501" y="14156"/>
                  <a:pt x="13510" y="14146"/>
                  <a:pt x="13525" y="14139"/>
                </a:cubicBezTo>
                <a:cubicBezTo>
                  <a:pt x="13558" y="14124"/>
                  <a:pt x="13563" y="14131"/>
                  <a:pt x="13589" y="14118"/>
                </a:cubicBezTo>
                <a:cubicBezTo>
                  <a:pt x="13468" y="14118"/>
                  <a:pt x="13294" y="14085"/>
                  <a:pt x="13187" y="14139"/>
                </a:cubicBezTo>
                <a:cubicBezTo>
                  <a:pt x="13177" y="14144"/>
                  <a:pt x="13132" y="14171"/>
                  <a:pt x="13123" y="14182"/>
                </a:cubicBezTo>
                <a:cubicBezTo>
                  <a:pt x="13109" y="14199"/>
                  <a:pt x="13094" y="14209"/>
                  <a:pt x="13081" y="14224"/>
                </a:cubicBezTo>
                <a:cubicBezTo>
                  <a:pt x="13081" y="14259"/>
                  <a:pt x="13088" y="14273"/>
                  <a:pt x="13060" y="14266"/>
                </a:cubicBezTo>
                <a:cubicBezTo>
                  <a:pt x="13028" y="14277"/>
                  <a:pt x="13040" y="14281"/>
                  <a:pt x="12996" y="14287"/>
                </a:cubicBezTo>
                <a:cubicBezTo>
                  <a:pt x="12963" y="14291"/>
                  <a:pt x="12844" y="14300"/>
                  <a:pt x="12848" y="14266"/>
                </a:cubicBezTo>
                <a:cubicBezTo>
                  <a:pt x="12852" y="14230"/>
                  <a:pt x="12879" y="14247"/>
                  <a:pt x="12912" y="14245"/>
                </a:cubicBezTo>
                <a:cubicBezTo>
                  <a:pt x="13085" y="14235"/>
                  <a:pt x="13283" y="14271"/>
                  <a:pt x="13441" y="14224"/>
                </a:cubicBezTo>
                <a:cubicBezTo>
                  <a:pt x="13469" y="14216"/>
                  <a:pt x="13496" y="14213"/>
                  <a:pt x="13525" y="14203"/>
                </a:cubicBezTo>
                <a:cubicBezTo>
                  <a:pt x="13557" y="14192"/>
                  <a:pt x="13601" y="14212"/>
                  <a:pt x="13568" y="14182"/>
                </a:cubicBezTo>
                <a:cubicBezTo>
                  <a:pt x="13533" y="14151"/>
                  <a:pt x="13506" y="14163"/>
                  <a:pt x="13462" y="14160"/>
                </a:cubicBezTo>
                <a:cubicBezTo>
                  <a:pt x="13405" y="14156"/>
                  <a:pt x="13133" y="14158"/>
                  <a:pt x="13166" y="14139"/>
                </a:cubicBezTo>
                <a:cubicBezTo>
                  <a:pt x="13213" y="14112"/>
                  <a:pt x="13257" y="14118"/>
                  <a:pt x="13314" y="14118"/>
                </a:cubicBezTo>
                <a:cubicBezTo>
                  <a:pt x="13420" y="14118"/>
                  <a:pt x="13557" y="14122"/>
                  <a:pt x="13631" y="14097"/>
                </a:cubicBezTo>
                <a:cubicBezTo>
                  <a:pt x="13525" y="14097"/>
                  <a:pt x="13250" y="14097"/>
                  <a:pt x="13356" y="14097"/>
                </a:cubicBezTo>
                <a:cubicBezTo>
                  <a:pt x="13441" y="14097"/>
                  <a:pt x="13525" y="14097"/>
                  <a:pt x="13610" y="14097"/>
                </a:cubicBezTo>
                <a:cubicBezTo>
                  <a:pt x="13585" y="14072"/>
                  <a:pt x="13666" y="14079"/>
                  <a:pt x="13589" y="14076"/>
                </a:cubicBezTo>
                <a:cubicBezTo>
                  <a:pt x="13433" y="14069"/>
                  <a:pt x="13010" y="14076"/>
                  <a:pt x="13166" y="14076"/>
                </a:cubicBezTo>
                <a:cubicBezTo>
                  <a:pt x="13282" y="14076"/>
                  <a:pt x="13444" y="14065"/>
                  <a:pt x="13525" y="14055"/>
                </a:cubicBezTo>
                <a:cubicBezTo>
                  <a:pt x="13546" y="14053"/>
                  <a:pt x="13670" y="14055"/>
                  <a:pt x="13568" y="14055"/>
                </a:cubicBezTo>
                <a:cubicBezTo>
                  <a:pt x="13531" y="14055"/>
                  <a:pt x="13397" y="14073"/>
                  <a:pt x="13398" y="14033"/>
                </a:cubicBezTo>
                <a:cubicBezTo>
                  <a:pt x="13400" y="13983"/>
                  <a:pt x="13454" y="14018"/>
                  <a:pt x="13504" y="14012"/>
                </a:cubicBezTo>
                <a:cubicBezTo>
                  <a:pt x="13589" y="14003"/>
                  <a:pt x="13675" y="13998"/>
                  <a:pt x="13758" y="13991"/>
                </a:cubicBezTo>
                <a:cubicBezTo>
                  <a:pt x="13778" y="13989"/>
                  <a:pt x="13880" y="13991"/>
                  <a:pt x="13779" y="13991"/>
                </a:cubicBezTo>
                <a:cubicBezTo>
                  <a:pt x="13652" y="13991"/>
                  <a:pt x="13525" y="13991"/>
                  <a:pt x="13398" y="13991"/>
                </a:cubicBezTo>
                <a:cubicBezTo>
                  <a:pt x="13540" y="13991"/>
                  <a:pt x="13921" y="13991"/>
                  <a:pt x="13779" y="13991"/>
                </a:cubicBezTo>
                <a:cubicBezTo>
                  <a:pt x="13746" y="13991"/>
                  <a:pt x="13535" y="13991"/>
                  <a:pt x="13631" y="13991"/>
                </a:cubicBezTo>
                <a:cubicBezTo>
                  <a:pt x="13782" y="13991"/>
                  <a:pt x="13978" y="13985"/>
                  <a:pt x="14097" y="13970"/>
                </a:cubicBezTo>
                <a:cubicBezTo>
                  <a:pt x="14142" y="13964"/>
                  <a:pt x="14139" y="13977"/>
                  <a:pt x="14160" y="13949"/>
                </a:cubicBezTo>
                <a:cubicBezTo>
                  <a:pt x="14165" y="13942"/>
                  <a:pt x="14143" y="13935"/>
                  <a:pt x="14097" y="13928"/>
                </a:cubicBezTo>
                <a:cubicBezTo>
                  <a:pt x="13929" y="13902"/>
                  <a:pt x="13844" y="13928"/>
                  <a:pt x="13674" y="13928"/>
                </a:cubicBezTo>
                <a:cubicBezTo>
                  <a:pt x="13797" y="13928"/>
                  <a:pt x="13924" y="13919"/>
                  <a:pt x="14033" y="13906"/>
                </a:cubicBezTo>
                <a:cubicBezTo>
                  <a:pt x="14086" y="13900"/>
                  <a:pt x="14257" y="13931"/>
                  <a:pt x="14182" y="13906"/>
                </a:cubicBezTo>
                <a:cubicBezTo>
                  <a:pt x="14156" y="13898"/>
                  <a:pt x="14080" y="13890"/>
                  <a:pt x="14118" y="13885"/>
                </a:cubicBezTo>
                <a:cubicBezTo>
                  <a:pt x="14145" y="13882"/>
                  <a:pt x="14175" y="13885"/>
                  <a:pt x="14203" y="13885"/>
                </a:cubicBezTo>
                <a:cubicBezTo>
                  <a:pt x="14144" y="13874"/>
                  <a:pt x="14095" y="13866"/>
                  <a:pt x="14033" y="13864"/>
                </a:cubicBezTo>
                <a:cubicBezTo>
                  <a:pt x="13911" y="13860"/>
                  <a:pt x="13804" y="13867"/>
                  <a:pt x="13716" y="13906"/>
                </a:cubicBezTo>
                <a:cubicBezTo>
                  <a:pt x="13685" y="13920"/>
                  <a:pt x="13614" y="13912"/>
                  <a:pt x="13589" y="13928"/>
                </a:cubicBezTo>
                <a:cubicBezTo>
                  <a:pt x="13572" y="13939"/>
                  <a:pt x="13555" y="13962"/>
                  <a:pt x="13589" y="13970"/>
                </a:cubicBezTo>
                <a:cubicBezTo>
                  <a:pt x="13714" y="13999"/>
                  <a:pt x="13819" y="13980"/>
                  <a:pt x="13949" y="14033"/>
                </a:cubicBezTo>
                <a:cubicBezTo>
                  <a:pt x="14001" y="14054"/>
                  <a:pt x="14155" y="14095"/>
                  <a:pt x="14139" y="14097"/>
                </a:cubicBezTo>
                <a:cubicBezTo>
                  <a:pt x="13989" y="14116"/>
                  <a:pt x="13826" y="14097"/>
                  <a:pt x="13674" y="14097"/>
                </a:cubicBezTo>
                <a:cubicBezTo>
                  <a:pt x="13710" y="14097"/>
                  <a:pt x="13877" y="14097"/>
                  <a:pt x="13843" y="14097"/>
                </a:cubicBezTo>
                <a:cubicBezTo>
                  <a:pt x="13765" y="14097"/>
                  <a:pt x="13730" y="14097"/>
                  <a:pt x="13652" y="14097"/>
                </a:cubicBezTo>
                <a:cubicBezTo>
                  <a:pt x="13779" y="14104"/>
                  <a:pt x="13850" y="14159"/>
                  <a:pt x="13970" y="14182"/>
                </a:cubicBezTo>
                <a:cubicBezTo>
                  <a:pt x="14055" y="14198"/>
                  <a:pt x="14225" y="14168"/>
                  <a:pt x="14139" y="14160"/>
                </a:cubicBezTo>
                <a:cubicBezTo>
                  <a:pt x="13975" y="14146"/>
                  <a:pt x="13757" y="14167"/>
                  <a:pt x="13631" y="14182"/>
                </a:cubicBezTo>
                <a:cubicBezTo>
                  <a:pt x="13601" y="14186"/>
                  <a:pt x="13558" y="14163"/>
                  <a:pt x="13589" y="14182"/>
                </a:cubicBezTo>
                <a:cubicBezTo>
                  <a:pt x="13658" y="14224"/>
                  <a:pt x="13758" y="14211"/>
                  <a:pt x="13843" y="14245"/>
                </a:cubicBezTo>
                <a:cubicBezTo>
                  <a:pt x="13922" y="14277"/>
                  <a:pt x="14048" y="14304"/>
                  <a:pt x="14118" y="14351"/>
                </a:cubicBezTo>
                <a:cubicBezTo>
                  <a:pt x="14159" y="14379"/>
                  <a:pt x="14114" y="14369"/>
                  <a:pt x="14076" y="14372"/>
                </a:cubicBezTo>
                <a:cubicBezTo>
                  <a:pt x="13949" y="14382"/>
                  <a:pt x="13610" y="14372"/>
                  <a:pt x="13737" y="14372"/>
                </a:cubicBezTo>
                <a:cubicBezTo>
                  <a:pt x="13758" y="14372"/>
                  <a:pt x="13780" y="14372"/>
                  <a:pt x="13801" y="14372"/>
                </a:cubicBezTo>
                <a:cubicBezTo>
                  <a:pt x="14005" y="14372"/>
                  <a:pt x="14210" y="14372"/>
                  <a:pt x="14414" y="14372"/>
                </a:cubicBezTo>
                <a:cubicBezTo>
                  <a:pt x="14503" y="14372"/>
                  <a:pt x="14514" y="14385"/>
                  <a:pt x="14436" y="14372"/>
                </a:cubicBezTo>
                <a:cubicBezTo>
                  <a:pt x="14339" y="14356"/>
                  <a:pt x="14236" y="14340"/>
                  <a:pt x="14139" y="14330"/>
                </a:cubicBezTo>
                <a:cubicBezTo>
                  <a:pt x="14108" y="14327"/>
                  <a:pt x="13983" y="14344"/>
                  <a:pt x="13970" y="14309"/>
                </a:cubicBezTo>
                <a:cubicBezTo>
                  <a:pt x="13962" y="14287"/>
                  <a:pt x="14251" y="14287"/>
                  <a:pt x="14266" y="14287"/>
                </a:cubicBezTo>
                <a:cubicBezTo>
                  <a:pt x="14320" y="14287"/>
                  <a:pt x="14543" y="14287"/>
                  <a:pt x="14520" y="14287"/>
                </a:cubicBezTo>
                <a:cubicBezTo>
                  <a:pt x="14438" y="14287"/>
                  <a:pt x="14366" y="14274"/>
                  <a:pt x="14287" y="14266"/>
                </a:cubicBezTo>
                <a:cubicBezTo>
                  <a:pt x="14140" y="14251"/>
                  <a:pt x="13737" y="14266"/>
                  <a:pt x="13885" y="14266"/>
                </a:cubicBezTo>
                <a:cubicBezTo>
                  <a:pt x="13949" y="14266"/>
                  <a:pt x="13970" y="14266"/>
                  <a:pt x="14012" y="14266"/>
                </a:cubicBezTo>
                <a:cubicBezTo>
                  <a:pt x="14210" y="14266"/>
                  <a:pt x="14407" y="14266"/>
                  <a:pt x="14605" y="14266"/>
                </a:cubicBezTo>
                <a:cubicBezTo>
                  <a:pt x="14634" y="14266"/>
                  <a:pt x="14921" y="14266"/>
                  <a:pt x="14817" y="14266"/>
                </a:cubicBezTo>
                <a:cubicBezTo>
                  <a:pt x="14773" y="14266"/>
                  <a:pt x="14446" y="14263"/>
                  <a:pt x="14457" y="14245"/>
                </a:cubicBezTo>
                <a:cubicBezTo>
                  <a:pt x="14481" y="14207"/>
                  <a:pt x="14620" y="14173"/>
                  <a:pt x="14668" y="14160"/>
                </a:cubicBezTo>
                <a:cubicBezTo>
                  <a:pt x="14765" y="14134"/>
                  <a:pt x="14874" y="14166"/>
                  <a:pt x="14965" y="14139"/>
                </a:cubicBezTo>
                <a:cubicBezTo>
                  <a:pt x="15019" y="14123"/>
                  <a:pt x="15005" y="14110"/>
                  <a:pt x="14944" y="14097"/>
                </a:cubicBezTo>
                <a:cubicBezTo>
                  <a:pt x="14794" y="14066"/>
                  <a:pt x="14610" y="14089"/>
                  <a:pt x="14457" y="14076"/>
                </a:cubicBezTo>
                <a:cubicBezTo>
                  <a:pt x="14385" y="14070"/>
                  <a:pt x="14174" y="14064"/>
                  <a:pt x="14245" y="14055"/>
                </a:cubicBezTo>
                <a:cubicBezTo>
                  <a:pt x="14389" y="14037"/>
                  <a:pt x="14553" y="14053"/>
                  <a:pt x="14690" y="14076"/>
                </a:cubicBezTo>
                <a:cubicBezTo>
                  <a:pt x="14761" y="14076"/>
                  <a:pt x="14761" y="14076"/>
                  <a:pt x="14690" y="14076"/>
                </a:cubicBezTo>
                <a:cubicBezTo>
                  <a:pt x="14549" y="14076"/>
                  <a:pt x="14407" y="14076"/>
                  <a:pt x="14266" y="14076"/>
                </a:cubicBezTo>
                <a:cubicBezTo>
                  <a:pt x="14231" y="14076"/>
                  <a:pt x="14168" y="14076"/>
                  <a:pt x="14203" y="14076"/>
                </a:cubicBezTo>
                <a:cubicBezTo>
                  <a:pt x="14217" y="14076"/>
                  <a:pt x="14231" y="14076"/>
                  <a:pt x="14245" y="14076"/>
                </a:cubicBezTo>
                <a:cubicBezTo>
                  <a:pt x="14379" y="14076"/>
                  <a:pt x="14733" y="14116"/>
                  <a:pt x="14605" y="14076"/>
                </a:cubicBezTo>
                <a:cubicBezTo>
                  <a:pt x="14521" y="14050"/>
                  <a:pt x="14455" y="14032"/>
                  <a:pt x="14372" y="14012"/>
                </a:cubicBezTo>
                <a:cubicBezTo>
                  <a:pt x="14326" y="14001"/>
                  <a:pt x="14169" y="13956"/>
                  <a:pt x="14139" y="13928"/>
                </a:cubicBezTo>
                <a:cubicBezTo>
                  <a:pt x="14106" y="13897"/>
                  <a:pt x="14125" y="13892"/>
                  <a:pt x="14182" y="13885"/>
                </a:cubicBezTo>
                <a:cubicBezTo>
                  <a:pt x="14392" y="13858"/>
                  <a:pt x="14936" y="14021"/>
                  <a:pt x="14774" y="13885"/>
                </a:cubicBezTo>
                <a:cubicBezTo>
                  <a:pt x="14745" y="13861"/>
                  <a:pt x="14662" y="13854"/>
                  <a:pt x="14626" y="13843"/>
                </a:cubicBezTo>
                <a:cubicBezTo>
                  <a:pt x="14607" y="13837"/>
                  <a:pt x="14557" y="13832"/>
                  <a:pt x="14541" y="13822"/>
                </a:cubicBezTo>
                <a:cubicBezTo>
                  <a:pt x="14500" y="13796"/>
                  <a:pt x="14546" y="13803"/>
                  <a:pt x="14584" y="13801"/>
                </a:cubicBezTo>
                <a:cubicBezTo>
                  <a:pt x="14627" y="13799"/>
                  <a:pt x="14711" y="13801"/>
                  <a:pt x="14668" y="13801"/>
                </a:cubicBezTo>
                <a:cubicBezTo>
                  <a:pt x="14541" y="13801"/>
                  <a:pt x="14414" y="13801"/>
                  <a:pt x="14287" y="13801"/>
                </a:cubicBezTo>
                <a:cubicBezTo>
                  <a:pt x="14237" y="13791"/>
                  <a:pt x="14093" y="13802"/>
                  <a:pt x="14139" y="13779"/>
                </a:cubicBezTo>
                <a:cubicBezTo>
                  <a:pt x="14212" y="13742"/>
                  <a:pt x="14394" y="13797"/>
                  <a:pt x="14436" y="13801"/>
                </a:cubicBezTo>
                <a:cubicBezTo>
                  <a:pt x="14523" y="13808"/>
                  <a:pt x="14765" y="13777"/>
                  <a:pt x="14690" y="13822"/>
                </a:cubicBezTo>
                <a:cubicBezTo>
                  <a:pt x="14647" y="13822"/>
                  <a:pt x="14633" y="13822"/>
                  <a:pt x="14605" y="13822"/>
                </a:cubicBezTo>
                <a:cubicBezTo>
                  <a:pt x="14476" y="13822"/>
                  <a:pt x="14100" y="13816"/>
                  <a:pt x="14118" y="13822"/>
                </a:cubicBezTo>
                <a:cubicBezTo>
                  <a:pt x="14244" y="13866"/>
                  <a:pt x="14373" y="13884"/>
                  <a:pt x="14499" y="13928"/>
                </a:cubicBezTo>
                <a:cubicBezTo>
                  <a:pt x="14523" y="13936"/>
                  <a:pt x="14808" y="14034"/>
                  <a:pt x="14795" y="14055"/>
                </a:cubicBezTo>
                <a:cubicBezTo>
                  <a:pt x="14772" y="14093"/>
                  <a:pt x="14551" y="14037"/>
                  <a:pt x="14520" y="14033"/>
                </a:cubicBezTo>
                <a:cubicBezTo>
                  <a:pt x="14439" y="14024"/>
                  <a:pt x="14322" y="14018"/>
                  <a:pt x="14245" y="13991"/>
                </a:cubicBezTo>
                <a:cubicBezTo>
                  <a:pt x="14184" y="13970"/>
                  <a:pt x="14262" y="13971"/>
                  <a:pt x="14287" y="13970"/>
                </a:cubicBezTo>
                <a:cubicBezTo>
                  <a:pt x="14447" y="13962"/>
                  <a:pt x="14618" y="13956"/>
                  <a:pt x="14774" y="13991"/>
                </a:cubicBezTo>
                <a:cubicBezTo>
                  <a:pt x="14822" y="14002"/>
                  <a:pt x="14875" y="14021"/>
                  <a:pt x="14922" y="14033"/>
                </a:cubicBezTo>
                <a:cubicBezTo>
                  <a:pt x="14675" y="14033"/>
                  <a:pt x="13985" y="13940"/>
                  <a:pt x="14203" y="14055"/>
                </a:cubicBezTo>
                <a:cubicBezTo>
                  <a:pt x="14287" y="14099"/>
                  <a:pt x="14503" y="14105"/>
                  <a:pt x="14605" y="14118"/>
                </a:cubicBezTo>
                <a:cubicBezTo>
                  <a:pt x="14651" y="14124"/>
                  <a:pt x="14690" y="14113"/>
                  <a:pt x="14626" y="14118"/>
                </a:cubicBezTo>
                <a:cubicBezTo>
                  <a:pt x="14497" y="14129"/>
                  <a:pt x="14120" y="14118"/>
                  <a:pt x="14139" y="14118"/>
                </a:cubicBezTo>
                <a:cubicBezTo>
                  <a:pt x="14321" y="14118"/>
                  <a:pt x="14471" y="14132"/>
                  <a:pt x="14647" y="14182"/>
                </a:cubicBezTo>
                <a:cubicBezTo>
                  <a:pt x="14703" y="14182"/>
                  <a:pt x="14773" y="14182"/>
                  <a:pt x="14668" y="14182"/>
                </a:cubicBezTo>
                <a:cubicBezTo>
                  <a:pt x="14608" y="14182"/>
                  <a:pt x="14552" y="14165"/>
                  <a:pt x="14499" y="14160"/>
                </a:cubicBezTo>
                <a:cubicBezTo>
                  <a:pt x="14379" y="14149"/>
                  <a:pt x="14244" y="14159"/>
                  <a:pt x="14139" y="14182"/>
                </a:cubicBezTo>
                <a:cubicBezTo>
                  <a:pt x="14224" y="14182"/>
                  <a:pt x="14224" y="14182"/>
                  <a:pt x="14309" y="14182"/>
                </a:cubicBezTo>
                <a:cubicBezTo>
                  <a:pt x="14546" y="14182"/>
                  <a:pt x="14724" y="14231"/>
                  <a:pt x="14944" y="14309"/>
                </a:cubicBezTo>
                <a:cubicBezTo>
                  <a:pt x="15000" y="14329"/>
                  <a:pt x="15180" y="14358"/>
                  <a:pt x="15092" y="14393"/>
                </a:cubicBezTo>
                <a:cubicBezTo>
                  <a:pt x="14964" y="14443"/>
                  <a:pt x="14699" y="14393"/>
                  <a:pt x="14563" y="14393"/>
                </a:cubicBezTo>
                <a:cubicBezTo>
                  <a:pt x="14522" y="14393"/>
                  <a:pt x="14277" y="14393"/>
                  <a:pt x="14372" y="14393"/>
                </a:cubicBezTo>
                <a:cubicBezTo>
                  <a:pt x="14393" y="14393"/>
                  <a:pt x="14415" y="14393"/>
                  <a:pt x="14436" y="14393"/>
                </a:cubicBezTo>
                <a:cubicBezTo>
                  <a:pt x="14632" y="14393"/>
                  <a:pt x="14836" y="14374"/>
                  <a:pt x="15028" y="14414"/>
                </a:cubicBezTo>
                <a:cubicBezTo>
                  <a:pt x="15133" y="14436"/>
                  <a:pt x="15157" y="14432"/>
                  <a:pt x="15071" y="14436"/>
                </a:cubicBezTo>
                <a:cubicBezTo>
                  <a:pt x="14796" y="14448"/>
                  <a:pt x="14031" y="14559"/>
                  <a:pt x="14266" y="14414"/>
                </a:cubicBezTo>
                <a:cubicBezTo>
                  <a:pt x="14392" y="14336"/>
                  <a:pt x="14745" y="14414"/>
                  <a:pt x="14901" y="14414"/>
                </a:cubicBezTo>
                <a:cubicBezTo>
                  <a:pt x="14757" y="14414"/>
                  <a:pt x="14618" y="14408"/>
                  <a:pt x="14478" y="14393"/>
                </a:cubicBezTo>
                <a:cubicBezTo>
                  <a:pt x="14469" y="14392"/>
                  <a:pt x="14337" y="14393"/>
                  <a:pt x="14393" y="14393"/>
                </a:cubicBezTo>
                <a:cubicBezTo>
                  <a:pt x="14444" y="14393"/>
                  <a:pt x="14649" y="14393"/>
                  <a:pt x="14626" y="14393"/>
                </a:cubicBezTo>
                <a:cubicBezTo>
                  <a:pt x="14499" y="14393"/>
                  <a:pt x="14372" y="14393"/>
                  <a:pt x="14245" y="14393"/>
                </a:cubicBezTo>
                <a:cubicBezTo>
                  <a:pt x="14234" y="14392"/>
                  <a:pt x="14117" y="14376"/>
                  <a:pt x="14139" y="14372"/>
                </a:cubicBezTo>
                <a:cubicBezTo>
                  <a:pt x="14238" y="14354"/>
                  <a:pt x="14455" y="14344"/>
                  <a:pt x="14541" y="14393"/>
                </a:cubicBezTo>
                <a:cubicBezTo>
                  <a:pt x="14585" y="14418"/>
                  <a:pt x="14673" y="14406"/>
                  <a:pt x="14668" y="14457"/>
                </a:cubicBezTo>
                <a:cubicBezTo>
                  <a:pt x="14665" y="14488"/>
                  <a:pt x="14614" y="14473"/>
                  <a:pt x="14584" y="14478"/>
                </a:cubicBezTo>
                <a:cubicBezTo>
                  <a:pt x="14512" y="14490"/>
                  <a:pt x="14432" y="14479"/>
                  <a:pt x="14372" y="14457"/>
                </a:cubicBezTo>
                <a:cubicBezTo>
                  <a:pt x="14336" y="14444"/>
                  <a:pt x="14511" y="14457"/>
                  <a:pt x="14541" y="14457"/>
                </a:cubicBezTo>
                <a:cubicBezTo>
                  <a:pt x="14717" y="14457"/>
                  <a:pt x="15204" y="14457"/>
                  <a:pt x="15028" y="14457"/>
                </a:cubicBezTo>
                <a:cubicBezTo>
                  <a:pt x="14971" y="14457"/>
                  <a:pt x="14924" y="14466"/>
                  <a:pt x="14880" y="14436"/>
                </a:cubicBezTo>
                <a:cubicBezTo>
                  <a:pt x="14810" y="14389"/>
                  <a:pt x="14927" y="14426"/>
                  <a:pt x="14922" y="14414"/>
                </a:cubicBezTo>
                <a:cubicBezTo>
                  <a:pt x="14907" y="14380"/>
                  <a:pt x="14884" y="14395"/>
                  <a:pt x="14838" y="14393"/>
                </a:cubicBezTo>
                <a:cubicBezTo>
                  <a:pt x="14810" y="14392"/>
                  <a:pt x="14781" y="14393"/>
                  <a:pt x="14753" y="14393"/>
                </a:cubicBezTo>
              </a:path>
              <a:path w="8087" h="3282">
                <a:moveTo>
                  <a:pt x="14605" y="14922"/>
                </a:moveTo>
                <a:cubicBezTo>
                  <a:pt x="14658" y="14918"/>
                  <a:pt x="14690" y="14913"/>
                  <a:pt x="14732" y="14901"/>
                </a:cubicBezTo>
                <a:cubicBezTo>
                  <a:pt x="14764" y="14892"/>
                  <a:pt x="14787" y="14890"/>
                  <a:pt x="14817" y="14880"/>
                </a:cubicBezTo>
                <a:cubicBezTo>
                  <a:pt x="14820" y="14879"/>
                  <a:pt x="14859" y="14841"/>
                  <a:pt x="14880" y="14838"/>
                </a:cubicBezTo>
                <a:cubicBezTo>
                  <a:pt x="14971" y="14823"/>
                  <a:pt x="15077" y="14863"/>
                  <a:pt x="15155" y="14817"/>
                </a:cubicBezTo>
                <a:cubicBezTo>
                  <a:pt x="15174" y="14805"/>
                  <a:pt x="15187" y="14782"/>
                  <a:pt x="15198" y="14774"/>
                </a:cubicBezTo>
                <a:cubicBezTo>
                  <a:pt x="15199" y="14773"/>
                  <a:pt x="15212" y="14746"/>
                  <a:pt x="15219" y="14732"/>
                </a:cubicBezTo>
                <a:cubicBezTo>
                  <a:pt x="15246" y="14719"/>
                  <a:pt x="15234" y="14724"/>
                  <a:pt x="15261" y="14711"/>
                </a:cubicBezTo>
                <a:cubicBezTo>
                  <a:pt x="15281" y="14691"/>
                  <a:pt x="15298" y="14671"/>
                  <a:pt x="15325" y="14647"/>
                </a:cubicBezTo>
                <a:cubicBezTo>
                  <a:pt x="15362" y="14614"/>
                  <a:pt x="15371" y="14622"/>
                  <a:pt x="15409" y="14605"/>
                </a:cubicBezTo>
                <a:cubicBezTo>
                  <a:pt x="15435" y="14594"/>
                  <a:pt x="15449" y="14598"/>
                  <a:pt x="15473" y="14584"/>
                </a:cubicBezTo>
                <a:cubicBezTo>
                  <a:pt x="15517" y="14558"/>
                  <a:pt x="15490" y="14552"/>
                  <a:pt x="15515" y="14520"/>
                </a:cubicBezTo>
                <a:cubicBezTo>
                  <a:pt x="15522" y="14513"/>
                  <a:pt x="15529" y="14506"/>
                  <a:pt x="15536" y="14499"/>
                </a:cubicBezTo>
                <a:cubicBezTo>
                  <a:pt x="15536" y="14478"/>
                  <a:pt x="15536" y="14499"/>
                  <a:pt x="15536" y="14478"/>
                </a:cubicBezTo>
                <a:cubicBezTo>
                  <a:pt x="15553" y="14464"/>
                  <a:pt x="15567" y="14450"/>
                  <a:pt x="15600" y="14436"/>
                </a:cubicBezTo>
                <a:cubicBezTo>
                  <a:pt x="15611" y="14432"/>
                  <a:pt x="15625" y="14416"/>
                  <a:pt x="15663" y="14414"/>
                </a:cubicBezTo>
                <a:cubicBezTo>
                  <a:pt x="15684" y="14414"/>
                  <a:pt x="15692" y="14414"/>
                  <a:pt x="15706" y="14414"/>
                </a:cubicBezTo>
                <a:cubicBezTo>
                  <a:pt x="15717" y="14410"/>
                  <a:pt x="15732" y="14395"/>
                  <a:pt x="15769" y="14393"/>
                </a:cubicBezTo>
                <a:cubicBezTo>
                  <a:pt x="15806" y="14391"/>
                  <a:pt x="15827" y="14377"/>
                  <a:pt x="15854" y="14372"/>
                </a:cubicBezTo>
                <a:cubicBezTo>
                  <a:pt x="15861" y="14372"/>
                  <a:pt x="15868" y="14372"/>
                  <a:pt x="15875" y="14372"/>
                </a:cubicBezTo>
                <a:cubicBezTo>
                  <a:pt x="15876" y="14371"/>
                  <a:pt x="15903" y="14358"/>
                  <a:pt x="15917" y="14351"/>
                </a:cubicBezTo>
                <a:cubicBezTo>
                  <a:pt x="15924" y="14344"/>
                  <a:pt x="15953" y="14316"/>
                  <a:pt x="15960" y="14309"/>
                </a:cubicBezTo>
                <a:cubicBezTo>
                  <a:pt x="15976" y="14302"/>
                  <a:pt x="15983" y="14292"/>
                  <a:pt x="16023" y="14287"/>
                </a:cubicBezTo>
                <a:cubicBezTo>
                  <a:pt x="16049" y="14264"/>
                  <a:pt x="16066" y="14245"/>
                  <a:pt x="16108" y="14224"/>
                </a:cubicBezTo>
                <a:cubicBezTo>
                  <a:pt x="16122" y="14210"/>
                  <a:pt x="16146" y="14185"/>
                  <a:pt x="16171" y="14160"/>
                </a:cubicBezTo>
                <a:cubicBezTo>
                  <a:pt x="16199" y="14133"/>
                  <a:pt x="16224" y="14113"/>
                  <a:pt x="16256" y="14097"/>
                </a:cubicBezTo>
                <a:cubicBezTo>
                  <a:pt x="16263" y="14097"/>
                  <a:pt x="16270" y="14097"/>
                  <a:pt x="16277" y="14097"/>
                </a:cubicBezTo>
                <a:cubicBezTo>
                  <a:pt x="16301" y="14069"/>
                  <a:pt x="16267" y="14056"/>
                  <a:pt x="16319" y="14033"/>
                </a:cubicBezTo>
                <a:cubicBezTo>
                  <a:pt x="16341" y="14033"/>
                  <a:pt x="16348" y="14033"/>
                  <a:pt x="16362" y="14033"/>
                </a:cubicBezTo>
                <a:cubicBezTo>
                  <a:pt x="16379" y="14000"/>
                  <a:pt x="16388" y="14003"/>
                  <a:pt x="16404" y="13970"/>
                </a:cubicBezTo>
                <a:cubicBezTo>
                  <a:pt x="16404" y="13963"/>
                  <a:pt x="16404" y="13956"/>
                  <a:pt x="16404" y="13949"/>
                </a:cubicBezTo>
                <a:cubicBezTo>
                  <a:pt x="16435" y="13946"/>
                  <a:pt x="16467" y="13931"/>
                  <a:pt x="16489" y="13928"/>
                </a:cubicBezTo>
                <a:cubicBezTo>
                  <a:pt x="16524" y="13928"/>
                  <a:pt x="16531" y="13928"/>
                  <a:pt x="16552" y="13928"/>
                </a:cubicBezTo>
                <a:cubicBezTo>
                  <a:pt x="16572" y="13913"/>
                  <a:pt x="16579" y="13877"/>
                  <a:pt x="16616" y="13864"/>
                </a:cubicBezTo>
                <a:cubicBezTo>
                  <a:pt x="16637" y="13864"/>
                  <a:pt x="16644" y="13864"/>
                  <a:pt x="16658" y="13864"/>
                </a:cubicBezTo>
                <a:cubicBezTo>
                  <a:pt x="16681" y="13822"/>
                  <a:pt x="16662" y="13841"/>
                  <a:pt x="16700" y="13801"/>
                </a:cubicBezTo>
                <a:cubicBezTo>
                  <a:pt x="16724" y="13775"/>
                  <a:pt x="16737" y="13777"/>
                  <a:pt x="16764" y="13758"/>
                </a:cubicBezTo>
                <a:cubicBezTo>
                  <a:pt x="16795" y="13736"/>
                  <a:pt x="16800" y="13729"/>
                  <a:pt x="16827" y="13695"/>
                </a:cubicBezTo>
                <a:cubicBezTo>
                  <a:pt x="16847" y="13670"/>
                  <a:pt x="16875" y="13640"/>
                  <a:pt x="16891" y="13610"/>
                </a:cubicBezTo>
                <a:cubicBezTo>
                  <a:pt x="16905" y="13584"/>
                  <a:pt x="16901" y="13552"/>
                  <a:pt x="16912" y="13525"/>
                </a:cubicBezTo>
                <a:cubicBezTo>
                  <a:pt x="16868" y="13529"/>
                  <a:pt x="16818" y="13543"/>
                  <a:pt x="16785" y="13547"/>
                </a:cubicBezTo>
                <a:cubicBezTo>
                  <a:pt x="16764" y="13549"/>
                  <a:pt x="16743" y="13545"/>
                  <a:pt x="16722" y="13547"/>
                </a:cubicBezTo>
              </a:path>
              <a:path w="8087" h="3282">
                <a:moveTo>
                  <a:pt x="15854" y="13991"/>
                </a:moveTo>
                <a:cubicBezTo>
                  <a:pt x="15823" y="14003"/>
                  <a:pt x="15778" y="14001"/>
                  <a:pt x="15748" y="14012"/>
                </a:cubicBezTo>
                <a:cubicBezTo>
                  <a:pt x="15668" y="14041"/>
                  <a:pt x="15589" y="14094"/>
                  <a:pt x="15515" y="14139"/>
                </a:cubicBezTo>
                <a:cubicBezTo>
                  <a:pt x="15425" y="14195"/>
                  <a:pt x="15370" y="14287"/>
                  <a:pt x="15282" y="14351"/>
                </a:cubicBezTo>
                <a:cubicBezTo>
                  <a:pt x="15227" y="14391"/>
                  <a:pt x="15169" y="14442"/>
                  <a:pt x="15113" y="14478"/>
                </a:cubicBezTo>
                <a:cubicBezTo>
                  <a:pt x="15032" y="14530"/>
                  <a:pt x="15122" y="14478"/>
                  <a:pt x="15113" y="14478"/>
                </a:cubicBezTo>
                <a:cubicBezTo>
                  <a:pt x="15127" y="14464"/>
                  <a:pt x="15141" y="14450"/>
                  <a:pt x="15155" y="14436"/>
                </a:cubicBezTo>
                <a:cubicBezTo>
                  <a:pt x="15243" y="14373"/>
                  <a:pt x="15347" y="14328"/>
                  <a:pt x="15430" y="14266"/>
                </a:cubicBezTo>
                <a:cubicBezTo>
                  <a:pt x="15552" y="14175"/>
                  <a:pt x="15696" y="14136"/>
                  <a:pt x="15811" y="14055"/>
                </a:cubicBezTo>
                <a:cubicBezTo>
                  <a:pt x="15837" y="14037"/>
                  <a:pt x="15863" y="13978"/>
                  <a:pt x="15875" y="13970"/>
                </a:cubicBezTo>
                <a:cubicBezTo>
                  <a:pt x="15769" y="13985"/>
                  <a:pt x="15665" y="13997"/>
                  <a:pt x="15557" y="14012"/>
                </a:cubicBezTo>
                <a:cubicBezTo>
                  <a:pt x="15444" y="14028"/>
                  <a:pt x="15350" y="14075"/>
                  <a:pt x="15240" y="14097"/>
                </a:cubicBezTo>
                <a:cubicBezTo>
                  <a:pt x="15213" y="14102"/>
                  <a:pt x="15182" y="14092"/>
                  <a:pt x="15155" y="14097"/>
                </a:cubicBezTo>
                <a:cubicBezTo>
                  <a:pt x="15182" y="14080"/>
                  <a:pt x="15237" y="14006"/>
                  <a:pt x="15282" y="13991"/>
                </a:cubicBezTo>
                <a:cubicBezTo>
                  <a:pt x="15376" y="13959"/>
                  <a:pt x="15503" y="13953"/>
                  <a:pt x="15600" y="13928"/>
                </a:cubicBezTo>
                <a:cubicBezTo>
                  <a:pt x="15658" y="13913"/>
                  <a:pt x="15731" y="13874"/>
                  <a:pt x="15727" y="13885"/>
                </a:cubicBezTo>
                <a:cubicBezTo>
                  <a:pt x="15703" y="13958"/>
                  <a:pt x="15402" y="14135"/>
                  <a:pt x="15346" y="14182"/>
                </a:cubicBezTo>
                <a:cubicBezTo>
                  <a:pt x="15274" y="14243"/>
                  <a:pt x="15205" y="14309"/>
                  <a:pt x="15134" y="14372"/>
                </a:cubicBezTo>
                <a:cubicBezTo>
                  <a:pt x="15089" y="14413"/>
                  <a:pt x="15022" y="14491"/>
                  <a:pt x="15049" y="14436"/>
                </a:cubicBezTo>
                <a:cubicBezTo>
                  <a:pt x="15071" y="14393"/>
                  <a:pt x="15079" y="14353"/>
                  <a:pt x="15134" y="14330"/>
                </a:cubicBezTo>
                <a:cubicBezTo>
                  <a:pt x="15256" y="14279"/>
                  <a:pt x="15410" y="14280"/>
                  <a:pt x="15536" y="14224"/>
                </a:cubicBezTo>
                <a:cubicBezTo>
                  <a:pt x="15550" y="14210"/>
                  <a:pt x="15565" y="14196"/>
                  <a:pt x="15579" y="14182"/>
                </a:cubicBezTo>
                <a:cubicBezTo>
                  <a:pt x="15544" y="14176"/>
                  <a:pt x="15572" y="14161"/>
                  <a:pt x="15536" y="14160"/>
                </a:cubicBezTo>
                <a:cubicBezTo>
                  <a:pt x="15375" y="14157"/>
                  <a:pt x="15052" y="14266"/>
                  <a:pt x="14922" y="14224"/>
                </a:cubicBezTo>
                <a:cubicBezTo>
                  <a:pt x="14846" y="14199"/>
                  <a:pt x="14886" y="14193"/>
                  <a:pt x="14922" y="14139"/>
                </a:cubicBezTo>
                <a:cubicBezTo>
                  <a:pt x="14982" y="14049"/>
                  <a:pt x="15126" y="14016"/>
                  <a:pt x="15219" y="13991"/>
                </a:cubicBezTo>
                <a:cubicBezTo>
                  <a:pt x="15297" y="13970"/>
                  <a:pt x="15445" y="13940"/>
                  <a:pt x="15494" y="13928"/>
                </a:cubicBezTo>
                <a:cubicBezTo>
                  <a:pt x="15515" y="13906"/>
                  <a:pt x="15522" y="13899"/>
                  <a:pt x="15494" y="13928"/>
                </a:cubicBezTo>
                <a:cubicBezTo>
                  <a:pt x="15437" y="13962"/>
                  <a:pt x="15384" y="14001"/>
                  <a:pt x="15325" y="14033"/>
                </a:cubicBezTo>
                <a:cubicBezTo>
                  <a:pt x="15251" y="14074"/>
                  <a:pt x="15182" y="14118"/>
                  <a:pt x="15113" y="14160"/>
                </a:cubicBezTo>
                <a:cubicBezTo>
                  <a:pt x="15083" y="14178"/>
                  <a:pt x="15031" y="14220"/>
                  <a:pt x="15007" y="14224"/>
                </a:cubicBezTo>
                <a:cubicBezTo>
                  <a:pt x="15007" y="14210"/>
                  <a:pt x="15007" y="14196"/>
                  <a:pt x="15007" y="14182"/>
                </a:cubicBezTo>
                <a:cubicBezTo>
                  <a:pt x="15069" y="14143"/>
                  <a:pt x="15132" y="14064"/>
                  <a:pt x="15198" y="14033"/>
                </a:cubicBezTo>
                <a:cubicBezTo>
                  <a:pt x="15284" y="13993"/>
                  <a:pt x="15392" y="14002"/>
                  <a:pt x="15473" y="13970"/>
                </a:cubicBezTo>
                <a:cubicBezTo>
                  <a:pt x="15501" y="13959"/>
                  <a:pt x="15508" y="13937"/>
                  <a:pt x="15536" y="13928"/>
                </a:cubicBezTo>
                <a:cubicBezTo>
                  <a:pt x="15397" y="13928"/>
                  <a:pt x="14657" y="13992"/>
                  <a:pt x="14626" y="13906"/>
                </a:cubicBezTo>
                <a:cubicBezTo>
                  <a:pt x="14612" y="13865"/>
                  <a:pt x="14684" y="13815"/>
                  <a:pt x="14711" y="13801"/>
                </a:cubicBezTo>
                <a:cubicBezTo>
                  <a:pt x="14799" y="13756"/>
                  <a:pt x="14929" y="13746"/>
                  <a:pt x="15028" y="13716"/>
                </a:cubicBezTo>
                <a:cubicBezTo>
                  <a:pt x="15091" y="13697"/>
                  <a:pt x="15158" y="13690"/>
                  <a:pt x="15219" y="13674"/>
                </a:cubicBezTo>
                <a:cubicBezTo>
                  <a:pt x="15177" y="13685"/>
                  <a:pt x="15174" y="13659"/>
                  <a:pt x="15134" y="13674"/>
                </a:cubicBezTo>
                <a:cubicBezTo>
                  <a:pt x="15081" y="13694"/>
                  <a:pt x="15020" y="13733"/>
                  <a:pt x="14965" y="13758"/>
                </a:cubicBezTo>
                <a:cubicBezTo>
                  <a:pt x="14919" y="13778"/>
                  <a:pt x="14856" y="13868"/>
                  <a:pt x="14838" y="13822"/>
                </a:cubicBezTo>
                <a:cubicBezTo>
                  <a:pt x="14825" y="13788"/>
                  <a:pt x="14891" y="13734"/>
                  <a:pt x="14922" y="13716"/>
                </a:cubicBezTo>
                <a:cubicBezTo>
                  <a:pt x="15007" y="13666"/>
                  <a:pt x="15073" y="13683"/>
                  <a:pt x="15155" y="13652"/>
                </a:cubicBezTo>
                <a:cubicBezTo>
                  <a:pt x="15220" y="13627"/>
                  <a:pt x="15217" y="13579"/>
                  <a:pt x="15176" y="13631"/>
                </a:cubicBezTo>
                <a:cubicBezTo>
                  <a:pt x="15151" y="13656"/>
                  <a:pt x="15139" y="13666"/>
                  <a:pt x="15113" y="13674"/>
                </a:cubicBezTo>
                <a:cubicBezTo>
                  <a:pt x="15028" y="13674"/>
                  <a:pt x="14944" y="13674"/>
                  <a:pt x="14859" y="13674"/>
                </a:cubicBezTo>
                <a:cubicBezTo>
                  <a:pt x="14905" y="13674"/>
                  <a:pt x="14813" y="13676"/>
                  <a:pt x="14859" y="13674"/>
                </a:cubicBezTo>
                <a:cubicBezTo>
                  <a:pt x="14939" y="13671"/>
                  <a:pt x="15230" y="13635"/>
                  <a:pt x="15219" y="13631"/>
                </a:cubicBezTo>
                <a:cubicBezTo>
                  <a:pt x="15131" y="13600"/>
                  <a:pt x="14884" y="13651"/>
                  <a:pt x="14880" y="13652"/>
                </a:cubicBezTo>
                <a:cubicBezTo>
                  <a:pt x="14944" y="13645"/>
                  <a:pt x="15005" y="13639"/>
                  <a:pt x="15071" y="13631"/>
                </a:cubicBezTo>
                <a:cubicBezTo>
                  <a:pt x="15195" y="13615"/>
                  <a:pt x="15330" y="13611"/>
                  <a:pt x="15452" y="13589"/>
                </a:cubicBezTo>
                <a:cubicBezTo>
                  <a:pt x="15503" y="13580"/>
                  <a:pt x="15714" y="13540"/>
                  <a:pt x="15684" y="13547"/>
                </a:cubicBezTo>
                <a:cubicBezTo>
                  <a:pt x="15633" y="13560"/>
                  <a:pt x="15528" y="13619"/>
                  <a:pt x="15536" y="13568"/>
                </a:cubicBezTo>
                <a:cubicBezTo>
                  <a:pt x="15541" y="13540"/>
                  <a:pt x="15521" y="13555"/>
                  <a:pt x="15579" y="13525"/>
                </a:cubicBezTo>
                <a:cubicBezTo>
                  <a:pt x="15620" y="13503"/>
                  <a:pt x="15659" y="13508"/>
                  <a:pt x="15706" y="13483"/>
                </a:cubicBezTo>
                <a:cubicBezTo>
                  <a:pt x="15727" y="13483"/>
                  <a:pt x="15734" y="13483"/>
                  <a:pt x="15727" y="13462"/>
                </a:cubicBezTo>
                <a:cubicBezTo>
                  <a:pt x="15691" y="13475"/>
                  <a:pt x="15658" y="13473"/>
                  <a:pt x="15621" y="13483"/>
                </a:cubicBezTo>
                <a:cubicBezTo>
                  <a:pt x="15575" y="13496"/>
                  <a:pt x="15501" y="13560"/>
                  <a:pt x="15473" y="13568"/>
                </a:cubicBezTo>
                <a:cubicBezTo>
                  <a:pt x="15445" y="13568"/>
                  <a:pt x="15430" y="13568"/>
                  <a:pt x="15409" y="13568"/>
                </a:cubicBezTo>
                <a:cubicBezTo>
                  <a:pt x="15458" y="13538"/>
                  <a:pt x="15483" y="13510"/>
                  <a:pt x="15536" y="13483"/>
                </a:cubicBezTo>
                <a:cubicBezTo>
                  <a:pt x="15579" y="13461"/>
                  <a:pt x="15653" y="13464"/>
                  <a:pt x="15684" y="13420"/>
                </a:cubicBezTo>
                <a:cubicBezTo>
                  <a:pt x="15706" y="13389"/>
                  <a:pt x="15658" y="13446"/>
                  <a:pt x="15621" y="13441"/>
                </a:cubicBezTo>
                <a:cubicBezTo>
                  <a:pt x="15597" y="13438"/>
                  <a:pt x="15471" y="13504"/>
                  <a:pt x="15515" y="13441"/>
                </a:cubicBezTo>
                <a:cubicBezTo>
                  <a:pt x="15550" y="13391"/>
                  <a:pt x="15618" y="13385"/>
                  <a:pt x="15663" y="13356"/>
                </a:cubicBezTo>
                <a:cubicBezTo>
                  <a:pt x="15693" y="13337"/>
                  <a:pt x="15780" y="13350"/>
                  <a:pt x="15748" y="13335"/>
                </a:cubicBezTo>
                <a:cubicBezTo>
                  <a:pt x="15715" y="13320"/>
                  <a:pt x="15673" y="13352"/>
                  <a:pt x="15642" y="13356"/>
                </a:cubicBezTo>
                <a:cubicBezTo>
                  <a:pt x="15617" y="13359"/>
                  <a:pt x="15530" y="13385"/>
                  <a:pt x="15515" y="13377"/>
                </a:cubicBezTo>
                <a:cubicBezTo>
                  <a:pt x="15486" y="13362"/>
                  <a:pt x="15589" y="13341"/>
                  <a:pt x="15557" y="13335"/>
                </a:cubicBezTo>
                <a:cubicBezTo>
                  <a:pt x="15608" y="13322"/>
                  <a:pt x="15670" y="13307"/>
                  <a:pt x="15727" y="13293"/>
                </a:cubicBezTo>
                <a:cubicBezTo>
                  <a:pt x="15743" y="13289"/>
                  <a:pt x="15769" y="13276"/>
                  <a:pt x="15790" y="13271"/>
                </a:cubicBezTo>
                <a:cubicBezTo>
                  <a:pt x="15762" y="13295"/>
                  <a:pt x="15724" y="13319"/>
                  <a:pt x="15684" y="13356"/>
                </a:cubicBezTo>
                <a:cubicBezTo>
                  <a:pt x="15598" y="13436"/>
                  <a:pt x="15499" y="13524"/>
                  <a:pt x="15430" y="13610"/>
                </a:cubicBezTo>
                <a:cubicBezTo>
                  <a:pt x="15384" y="13667"/>
                  <a:pt x="15308" y="13752"/>
                  <a:pt x="15303" y="13822"/>
                </a:cubicBezTo>
                <a:cubicBezTo>
                  <a:pt x="15300" y="13870"/>
                  <a:pt x="15261" y="13871"/>
                  <a:pt x="15303" y="13906"/>
                </a:cubicBezTo>
                <a:cubicBezTo>
                  <a:pt x="15414" y="13998"/>
                  <a:pt x="15884" y="13898"/>
                  <a:pt x="16023" y="13885"/>
                </a:cubicBezTo>
                <a:cubicBezTo>
                  <a:pt x="16095" y="13867"/>
                  <a:pt x="16111" y="13866"/>
                  <a:pt x="16150" y="13843"/>
                </a:cubicBezTo>
                <a:cubicBezTo>
                  <a:pt x="16150" y="13843"/>
                  <a:pt x="16188" y="13823"/>
                  <a:pt x="16108" y="13822"/>
                </a:cubicBezTo>
                <a:cubicBezTo>
                  <a:pt x="15798" y="13817"/>
                  <a:pt x="15488" y="13843"/>
                  <a:pt x="15176" y="13843"/>
                </a:cubicBezTo>
                <a:cubicBezTo>
                  <a:pt x="15120" y="13843"/>
                  <a:pt x="15063" y="13843"/>
                  <a:pt x="15007" y="13843"/>
                </a:cubicBezTo>
                <a:cubicBezTo>
                  <a:pt x="15062" y="13788"/>
                  <a:pt x="15002" y="13758"/>
                  <a:pt x="15113" y="13695"/>
                </a:cubicBezTo>
                <a:cubicBezTo>
                  <a:pt x="15203" y="13644"/>
                  <a:pt x="15286" y="13621"/>
                  <a:pt x="15388" y="13589"/>
                </a:cubicBezTo>
                <a:cubicBezTo>
                  <a:pt x="15455" y="13568"/>
                  <a:pt x="15540" y="13543"/>
                  <a:pt x="15600" y="13525"/>
                </a:cubicBezTo>
                <a:cubicBezTo>
                  <a:pt x="15575" y="13550"/>
                  <a:pt x="15523" y="13571"/>
                  <a:pt x="15494" y="13610"/>
                </a:cubicBezTo>
                <a:cubicBezTo>
                  <a:pt x="15456" y="13661"/>
                  <a:pt x="15416" y="13739"/>
                  <a:pt x="15367" y="13801"/>
                </a:cubicBezTo>
                <a:cubicBezTo>
                  <a:pt x="15341" y="13834"/>
                  <a:pt x="15246" y="13862"/>
                  <a:pt x="15282" y="13885"/>
                </a:cubicBezTo>
                <a:cubicBezTo>
                  <a:pt x="15290" y="13890"/>
                  <a:pt x="15477" y="13865"/>
                  <a:pt x="15494" y="13864"/>
                </a:cubicBezTo>
                <a:cubicBezTo>
                  <a:pt x="15570" y="13862"/>
                  <a:pt x="15652" y="13832"/>
                  <a:pt x="15727" y="13822"/>
                </a:cubicBezTo>
                <a:cubicBezTo>
                  <a:pt x="15691" y="13815"/>
                  <a:pt x="15805" y="13770"/>
                  <a:pt x="15769" y="13779"/>
                </a:cubicBezTo>
                <a:cubicBezTo>
                  <a:pt x="15689" y="13799"/>
                  <a:pt x="15622" y="13819"/>
                  <a:pt x="15536" y="13822"/>
                </a:cubicBezTo>
                <a:cubicBezTo>
                  <a:pt x="15311" y="13829"/>
                  <a:pt x="15004" y="13814"/>
                  <a:pt x="14817" y="13801"/>
                </a:cubicBezTo>
                <a:cubicBezTo>
                  <a:pt x="14872" y="13776"/>
                  <a:pt x="14895" y="13734"/>
                  <a:pt x="14965" y="13716"/>
                </a:cubicBezTo>
                <a:cubicBezTo>
                  <a:pt x="15094" y="13683"/>
                  <a:pt x="15255" y="13697"/>
                  <a:pt x="15388" y="13695"/>
                </a:cubicBezTo>
                <a:cubicBezTo>
                  <a:pt x="15449" y="13694"/>
                  <a:pt x="15643" y="13654"/>
                  <a:pt x="15684" y="13674"/>
                </a:cubicBezTo>
                <a:cubicBezTo>
                  <a:pt x="15725" y="13694"/>
                  <a:pt x="15646" y="13676"/>
                  <a:pt x="15621" y="13695"/>
                </a:cubicBezTo>
                <a:cubicBezTo>
                  <a:pt x="15554" y="13747"/>
                  <a:pt x="15512" y="13763"/>
                  <a:pt x="15430" y="13801"/>
                </a:cubicBezTo>
                <a:cubicBezTo>
                  <a:pt x="15404" y="13813"/>
                  <a:pt x="15344" y="13824"/>
                  <a:pt x="15325" y="13843"/>
                </a:cubicBezTo>
                <a:cubicBezTo>
                  <a:pt x="15297" y="13870"/>
                  <a:pt x="15391" y="13800"/>
                  <a:pt x="15430" y="13801"/>
                </a:cubicBezTo>
                <a:cubicBezTo>
                  <a:pt x="15509" y="13773"/>
                  <a:pt x="15580" y="13742"/>
                  <a:pt x="15663" y="13716"/>
                </a:cubicBezTo>
                <a:cubicBezTo>
                  <a:pt x="15726" y="13696"/>
                  <a:pt x="15751" y="13646"/>
                  <a:pt x="15811" y="13674"/>
                </a:cubicBezTo>
                <a:cubicBezTo>
                  <a:pt x="15846" y="13690"/>
                  <a:pt x="15742" y="13704"/>
                  <a:pt x="15706" y="13716"/>
                </a:cubicBezTo>
                <a:cubicBezTo>
                  <a:pt x="15568" y="13743"/>
                  <a:pt x="15425" y="13779"/>
                  <a:pt x="15282" y="13801"/>
                </a:cubicBezTo>
                <a:cubicBezTo>
                  <a:pt x="15212" y="13812"/>
                  <a:pt x="14921" y="13877"/>
                  <a:pt x="14880" y="13864"/>
                </a:cubicBezTo>
                <a:cubicBezTo>
                  <a:pt x="14843" y="13852"/>
                  <a:pt x="14912" y="13854"/>
                  <a:pt x="14944" y="13843"/>
                </a:cubicBezTo>
                <a:cubicBezTo>
                  <a:pt x="14965" y="13836"/>
                  <a:pt x="14986" y="13829"/>
                  <a:pt x="15007" y="13822"/>
                </a:cubicBezTo>
                <a:cubicBezTo>
                  <a:pt x="15104" y="13822"/>
                  <a:pt x="15631" y="13825"/>
                  <a:pt x="15621" y="13843"/>
                </a:cubicBezTo>
                <a:cubicBezTo>
                  <a:pt x="15594" y="13891"/>
                  <a:pt x="15497" y="13909"/>
                  <a:pt x="15452" y="13928"/>
                </a:cubicBezTo>
                <a:cubicBezTo>
                  <a:pt x="15376" y="13961"/>
                  <a:pt x="15317" y="13979"/>
                  <a:pt x="15240" y="14012"/>
                </a:cubicBezTo>
                <a:cubicBezTo>
                  <a:pt x="15185" y="14035"/>
                  <a:pt x="15071" y="14043"/>
                  <a:pt x="15155" y="14076"/>
                </a:cubicBezTo>
                <a:cubicBezTo>
                  <a:pt x="15176" y="14084"/>
                  <a:pt x="15340" y="14057"/>
                  <a:pt x="15325" y="14097"/>
                </a:cubicBezTo>
                <a:cubicBezTo>
                  <a:pt x="15316" y="14120"/>
                  <a:pt x="15227" y="14191"/>
                  <a:pt x="15198" y="14203"/>
                </a:cubicBezTo>
                <a:cubicBezTo>
                  <a:pt x="15060" y="14261"/>
                  <a:pt x="14880" y="14261"/>
                  <a:pt x="14732" y="14266"/>
                </a:cubicBezTo>
                <a:cubicBezTo>
                  <a:pt x="14683" y="14266"/>
                  <a:pt x="14661" y="14266"/>
                  <a:pt x="14626" y="14266"/>
                </a:cubicBezTo>
                <a:cubicBezTo>
                  <a:pt x="14641" y="14258"/>
                  <a:pt x="14557" y="14212"/>
                  <a:pt x="14626" y="14203"/>
                </a:cubicBezTo>
                <a:cubicBezTo>
                  <a:pt x="14787" y="14182"/>
                  <a:pt x="15187" y="14089"/>
                  <a:pt x="15071" y="14203"/>
                </a:cubicBezTo>
                <a:cubicBezTo>
                  <a:pt x="15058" y="14215"/>
                  <a:pt x="14985" y="14238"/>
                  <a:pt x="14965" y="14245"/>
                </a:cubicBezTo>
                <a:cubicBezTo>
                  <a:pt x="14858" y="14283"/>
                  <a:pt x="14752" y="14303"/>
                  <a:pt x="14647" y="14330"/>
                </a:cubicBezTo>
                <a:cubicBezTo>
                  <a:pt x="14555" y="14353"/>
                  <a:pt x="14463" y="14396"/>
                  <a:pt x="14372" y="14414"/>
                </a:cubicBezTo>
                <a:cubicBezTo>
                  <a:pt x="14341" y="14420"/>
                  <a:pt x="14340" y="14407"/>
                  <a:pt x="14309" y="14414"/>
                </a:cubicBezTo>
                <a:cubicBezTo>
                  <a:pt x="14352" y="14397"/>
                  <a:pt x="14349" y="14365"/>
                  <a:pt x="14414" y="14351"/>
                </a:cubicBezTo>
                <a:cubicBezTo>
                  <a:pt x="14527" y="14327"/>
                  <a:pt x="14635" y="14340"/>
                  <a:pt x="14753" y="14330"/>
                </a:cubicBezTo>
                <a:cubicBezTo>
                  <a:pt x="14818" y="14325"/>
                  <a:pt x="14879" y="14314"/>
                  <a:pt x="14944" y="14309"/>
                </a:cubicBezTo>
                <a:cubicBezTo>
                  <a:pt x="14909" y="14325"/>
                  <a:pt x="14937" y="14339"/>
                  <a:pt x="14901" y="14351"/>
                </a:cubicBezTo>
                <a:cubicBezTo>
                  <a:pt x="14823" y="14376"/>
                  <a:pt x="14742" y="14370"/>
                  <a:pt x="14668" y="14393"/>
                </a:cubicBezTo>
                <a:cubicBezTo>
                  <a:pt x="14556" y="14428"/>
                  <a:pt x="14473" y="14497"/>
                  <a:pt x="14351" y="14499"/>
                </a:cubicBezTo>
                <a:cubicBezTo>
                  <a:pt x="14342" y="14499"/>
                  <a:pt x="14158" y="14505"/>
                  <a:pt x="14224" y="14457"/>
                </a:cubicBezTo>
                <a:cubicBezTo>
                  <a:pt x="14282" y="14414"/>
                  <a:pt x="14506" y="14455"/>
                  <a:pt x="14436" y="14436"/>
                </a:cubicBezTo>
                <a:cubicBezTo>
                  <a:pt x="14339" y="14409"/>
                  <a:pt x="14214" y="14451"/>
                  <a:pt x="14118" y="14457"/>
                </a:cubicBezTo>
                <a:cubicBezTo>
                  <a:pt x="14076" y="14457"/>
                  <a:pt x="14061" y="14457"/>
                  <a:pt x="14033" y="14457"/>
                </a:cubicBezTo>
                <a:cubicBezTo>
                  <a:pt x="14067" y="14455"/>
                  <a:pt x="13999" y="14461"/>
                  <a:pt x="14033" y="14457"/>
                </a:cubicBezTo>
                <a:cubicBezTo>
                  <a:pt x="14157" y="14442"/>
                  <a:pt x="14290" y="14438"/>
                  <a:pt x="14414" y="14436"/>
                </a:cubicBezTo>
                <a:cubicBezTo>
                  <a:pt x="14535" y="14434"/>
                  <a:pt x="14957" y="14407"/>
                  <a:pt x="14922" y="14457"/>
                </a:cubicBezTo>
                <a:cubicBezTo>
                  <a:pt x="14903" y="14484"/>
                  <a:pt x="14758" y="14533"/>
                  <a:pt x="14732" y="14541"/>
                </a:cubicBezTo>
                <a:cubicBezTo>
                  <a:pt x="14645" y="14569"/>
                  <a:pt x="14562" y="14597"/>
                  <a:pt x="14478" y="14626"/>
                </a:cubicBezTo>
                <a:cubicBezTo>
                  <a:pt x="14453" y="14634"/>
                  <a:pt x="14419" y="14637"/>
                  <a:pt x="14393" y="14647"/>
                </a:cubicBezTo>
                <a:cubicBezTo>
                  <a:pt x="14467" y="14629"/>
                  <a:pt x="14498" y="14610"/>
                  <a:pt x="14584" y="14605"/>
                </a:cubicBezTo>
                <a:cubicBezTo>
                  <a:pt x="14690" y="14599"/>
                  <a:pt x="14803" y="14627"/>
                  <a:pt x="14901" y="14584"/>
                </a:cubicBezTo>
                <a:cubicBezTo>
                  <a:pt x="15024" y="14530"/>
                  <a:pt x="14915" y="14554"/>
                  <a:pt x="14859" y="14541"/>
                </a:cubicBezTo>
                <a:cubicBezTo>
                  <a:pt x="14757" y="14517"/>
                  <a:pt x="14639" y="14553"/>
                  <a:pt x="14541" y="14563"/>
                </a:cubicBezTo>
                <a:cubicBezTo>
                  <a:pt x="14463" y="14571"/>
                  <a:pt x="14389" y="14587"/>
                  <a:pt x="14309" y="14584"/>
                </a:cubicBezTo>
                <a:cubicBezTo>
                  <a:pt x="14316" y="14577"/>
                  <a:pt x="14323" y="14570"/>
                  <a:pt x="14330" y="14563"/>
                </a:cubicBezTo>
                <a:cubicBezTo>
                  <a:pt x="14399" y="14546"/>
                  <a:pt x="14436" y="14528"/>
                  <a:pt x="14520" y="14520"/>
                </a:cubicBezTo>
                <a:cubicBezTo>
                  <a:pt x="14574" y="14515"/>
                  <a:pt x="14994" y="14517"/>
                  <a:pt x="14986" y="14541"/>
                </a:cubicBezTo>
                <a:cubicBezTo>
                  <a:pt x="14982" y="14553"/>
                  <a:pt x="14848" y="14640"/>
                  <a:pt x="14838" y="14647"/>
                </a:cubicBezTo>
                <a:cubicBezTo>
                  <a:pt x="14773" y="14688"/>
                  <a:pt x="14658" y="14736"/>
                  <a:pt x="14584" y="14753"/>
                </a:cubicBezTo>
                <a:cubicBezTo>
                  <a:pt x="14512" y="14770"/>
                  <a:pt x="14652" y="14711"/>
                  <a:pt x="14647" y="14711"/>
                </a:cubicBezTo>
                <a:cubicBezTo>
                  <a:pt x="14760" y="14702"/>
                  <a:pt x="14871" y="14693"/>
                  <a:pt x="14986" y="14690"/>
                </a:cubicBezTo>
                <a:cubicBezTo>
                  <a:pt x="14887" y="14697"/>
                  <a:pt x="14822" y="14716"/>
                  <a:pt x="14732" y="14732"/>
                </a:cubicBezTo>
                <a:cubicBezTo>
                  <a:pt x="14681" y="14741"/>
                  <a:pt x="14564" y="14801"/>
                  <a:pt x="14584" y="14753"/>
                </a:cubicBezTo>
                <a:cubicBezTo>
                  <a:pt x="14598" y="14719"/>
                  <a:pt x="14698" y="14732"/>
                  <a:pt x="14668" y="14711"/>
                </a:cubicBezTo>
                <a:cubicBezTo>
                  <a:pt x="14645" y="14695"/>
                  <a:pt x="14739" y="14709"/>
                  <a:pt x="14711" y="14711"/>
                </a:cubicBezTo>
                <a:cubicBezTo>
                  <a:pt x="14658" y="14715"/>
                  <a:pt x="14615" y="14730"/>
                  <a:pt x="14563" y="14732"/>
                </a:cubicBezTo>
                <a:cubicBezTo>
                  <a:pt x="14521" y="14734"/>
                  <a:pt x="14366" y="14730"/>
                  <a:pt x="14393" y="14732"/>
                </a:cubicBezTo>
                <a:cubicBezTo>
                  <a:pt x="14456" y="14737"/>
                  <a:pt x="14521" y="14732"/>
                  <a:pt x="14584" y="14732"/>
                </a:cubicBezTo>
                <a:cubicBezTo>
                  <a:pt x="14566" y="14743"/>
                  <a:pt x="14510" y="14790"/>
                  <a:pt x="14499" y="14795"/>
                </a:cubicBezTo>
                <a:cubicBezTo>
                  <a:pt x="14466" y="14810"/>
                  <a:pt x="14424" y="14821"/>
                  <a:pt x="14393" y="14838"/>
                </a:cubicBezTo>
                <a:cubicBezTo>
                  <a:pt x="14348" y="14863"/>
                  <a:pt x="14318" y="14824"/>
                  <a:pt x="14287" y="14859"/>
                </a:cubicBezTo>
                <a:cubicBezTo>
                  <a:pt x="14277" y="14871"/>
                  <a:pt x="14225" y="14943"/>
                  <a:pt x="14245" y="14965"/>
                </a:cubicBezTo>
                <a:cubicBezTo>
                  <a:pt x="14269" y="14991"/>
                  <a:pt x="14339" y="14979"/>
                  <a:pt x="14372" y="14986"/>
                </a:cubicBezTo>
                <a:cubicBezTo>
                  <a:pt x="14437" y="14999"/>
                  <a:pt x="14509" y="14981"/>
                  <a:pt x="14563" y="14965"/>
                </a:cubicBezTo>
                <a:cubicBezTo>
                  <a:pt x="14588" y="14957"/>
                  <a:pt x="14645" y="14934"/>
                  <a:pt x="14668" y="14922"/>
                </a:cubicBezTo>
                <a:cubicBezTo>
                  <a:pt x="14685" y="14913"/>
                  <a:pt x="14707" y="14887"/>
                  <a:pt x="14732" y="14880"/>
                </a:cubicBezTo>
                <a:cubicBezTo>
                  <a:pt x="14759" y="14872"/>
                  <a:pt x="14768" y="14866"/>
                  <a:pt x="14795" y="14859"/>
                </a:cubicBezTo>
                <a:cubicBezTo>
                  <a:pt x="14820" y="14852"/>
                  <a:pt x="14855" y="14839"/>
                  <a:pt x="14859" y="14838"/>
                </a:cubicBezTo>
                <a:cubicBezTo>
                  <a:pt x="14899" y="14824"/>
                  <a:pt x="14898" y="14836"/>
                  <a:pt x="14922" y="14817"/>
                </a:cubicBezTo>
                <a:cubicBezTo>
                  <a:pt x="14936" y="14806"/>
                  <a:pt x="14954" y="14781"/>
                  <a:pt x="14965" y="14774"/>
                </a:cubicBezTo>
                <a:cubicBezTo>
                  <a:pt x="14985" y="14761"/>
                  <a:pt x="14990" y="14719"/>
                  <a:pt x="15007" y="14711"/>
                </a:cubicBezTo>
                <a:cubicBezTo>
                  <a:pt x="15035" y="14698"/>
                  <a:pt x="15048" y="14696"/>
                  <a:pt x="15071" y="14690"/>
                </a:cubicBezTo>
                <a:cubicBezTo>
                  <a:pt x="15096" y="14683"/>
                  <a:pt x="15240" y="14691"/>
                  <a:pt x="15134" y="14711"/>
                </a:cubicBezTo>
                <a:cubicBezTo>
                  <a:pt x="15056" y="14725"/>
                  <a:pt x="14946" y="14652"/>
                  <a:pt x="14944" y="14732"/>
                </a:cubicBezTo>
                <a:cubicBezTo>
                  <a:pt x="14943" y="14760"/>
                  <a:pt x="15009" y="14712"/>
                  <a:pt x="15028" y="14732"/>
                </a:cubicBezTo>
                <a:cubicBezTo>
                  <a:pt x="15098" y="14729"/>
                  <a:pt x="15184" y="14750"/>
                  <a:pt x="15240" y="14711"/>
                </a:cubicBezTo>
                <a:cubicBezTo>
                  <a:pt x="15263" y="14695"/>
                  <a:pt x="15156" y="14752"/>
                  <a:pt x="15176" y="14732"/>
                </a:cubicBezTo>
                <a:cubicBezTo>
                  <a:pt x="15197" y="14710"/>
                  <a:pt x="15224" y="14675"/>
                  <a:pt x="15240" y="14647"/>
                </a:cubicBezTo>
                <a:cubicBezTo>
                  <a:pt x="15266" y="14603"/>
                  <a:pt x="15283" y="14569"/>
                  <a:pt x="15303" y="14541"/>
                </a:cubicBezTo>
                <a:cubicBezTo>
                  <a:pt x="15307" y="14536"/>
                  <a:pt x="15363" y="14506"/>
                  <a:pt x="15367" y="14499"/>
                </a:cubicBezTo>
                <a:cubicBezTo>
                  <a:pt x="15360" y="14499"/>
                  <a:pt x="15353" y="14499"/>
                  <a:pt x="15346" y="14499"/>
                </a:cubicBezTo>
                <a:cubicBezTo>
                  <a:pt x="15304" y="14527"/>
                  <a:pt x="15267" y="14552"/>
                  <a:pt x="15219" y="14584"/>
                </a:cubicBezTo>
                <a:cubicBezTo>
                  <a:pt x="15160" y="14623"/>
                  <a:pt x="15094" y="14668"/>
                  <a:pt x="15028" y="14690"/>
                </a:cubicBezTo>
                <a:cubicBezTo>
                  <a:pt x="15023" y="14692"/>
                  <a:pt x="14891" y="14722"/>
                  <a:pt x="14880" y="14711"/>
                </a:cubicBezTo>
                <a:cubicBezTo>
                  <a:pt x="14860" y="14691"/>
                  <a:pt x="14916" y="14666"/>
                  <a:pt x="14901" y="14690"/>
                </a:cubicBezTo>
                <a:cubicBezTo>
                  <a:pt x="14875" y="14731"/>
                  <a:pt x="14991" y="14649"/>
                  <a:pt x="14965" y="14690"/>
                </a:cubicBezTo>
                <a:cubicBezTo>
                  <a:pt x="14945" y="14721"/>
                  <a:pt x="14880" y="14805"/>
                  <a:pt x="14859" y="14817"/>
                </a:cubicBezTo>
                <a:cubicBezTo>
                  <a:pt x="14808" y="14847"/>
                  <a:pt x="14723" y="14839"/>
                  <a:pt x="14668" y="14859"/>
                </a:cubicBezTo>
                <a:cubicBezTo>
                  <a:pt x="14710" y="14817"/>
                  <a:pt x="14674" y="14803"/>
                  <a:pt x="14732" y="14774"/>
                </a:cubicBezTo>
                <a:cubicBezTo>
                  <a:pt x="14800" y="14741"/>
                  <a:pt x="14815" y="14734"/>
                  <a:pt x="14901" y="14711"/>
                </a:cubicBezTo>
                <a:cubicBezTo>
                  <a:pt x="14912" y="14708"/>
                  <a:pt x="15018" y="14721"/>
                  <a:pt x="14965" y="14711"/>
                </a:cubicBezTo>
                <a:cubicBezTo>
                  <a:pt x="14830" y="14685"/>
                  <a:pt x="14762" y="14708"/>
                  <a:pt x="14626" y="14690"/>
                </a:cubicBezTo>
                <a:cubicBezTo>
                  <a:pt x="14704" y="14672"/>
                  <a:pt x="14776" y="14639"/>
                  <a:pt x="14859" y="14626"/>
                </a:cubicBezTo>
                <a:cubicBezTo>
                  <a:pt x="15005" y="14603"/>
                  <a:pt x="15158" y="14609"/>
                  <a:pt x="15303" y="14584"/>
                </a:cubicBezTo>
                <a:cubicBezTo>
                  <a:pt x="15396" y="14568"/>
                  <a:pt x="15490" y="14535"/>
                  <a:pt x="15579" y="14520"/>
                </a:cubicBezTo>
                <a:cubicBezTo>
                  <a:pt x="15600" y="14517"/>
                  <a:pt x="15579" y="14524"/>
                  <a:pt x="15600" y="14520"/>
                </a:cubicBezTo>
                <a:cubicBezTo>
                  <a:pt x="15535" y="14530"/>
                  <a:pt x="15419" y="14561"/>
                  <a:pt x="15367" y="14563"/>
                </a:cubicBezTo>
                <a:cubicBezTo>
                  <a:pt x="15329" y="14564"/>
                  <a:pt x="15281" y="14652"/>
                  <a:pt x="15325" y="14563"/>
                </a:cubicBezTo>
                <a:cubicBezTo>
                  <a:pt x="15334" y="14544"/>
                  <a:pt x="15452" y="14468"/>
                  <a:pt x="15473" y="14457"/>
                </a:cubicBezTo>
                <a:cubicBezTo>
                  <a:pt x="15477" y="14455"/>
                  <a:pt x="15578" y="14414"/>
                  <a:pt x="15579" y="14414"/>
                </a:cubicBezTo>
                <a:cubicBezTo>
                  <a:pt x="15610" y="14420"/>
                  <a:pt x="15544" y="14466"/>
                  <a:pt x="15536" y="14436"/>
                </a:cubicBezTo>
                <a:cubicBezTo>
                  <a:pt x="15522" y="14387"/>
                  <a:pt x="15464" y="14434"/>
                  <a:pt x="15494" y="14393"/>
                </a:cubicBezTo>
                <a:cubicBezTo>
                  <a:pt x="15516" y="14363"/>
                  <a:pt x="15568" y="14331"/>
                  <a:pt x="15600" y="14309"/>
                </a:cubicBezTo>
                <a:cubicBezTo>
                  <a:pt x="15601" y="14308"/>
                  <a:pt x="15746" y="14229"/>
                  <a:pt x="15727" y="14224"/>
                </a:cubicBezTo>
                <a:cubicBezTo>
                  <a:pt x="15663" y="14206"/>
                  <a:pt x="15593" y="14245"/>
                  <a:pt x="15536" y="14266"/>
                </a:cubicBezTo>
                <a:cubicBezTo>
                  <a:pt x="15458" y="14295"/>
                  <a:pt x="15384" y="14359"/>
                  <a:pt x="15303" y="14393"/>
                </a:cubicBezTo>
                <a:cubicBezTo>
                  <a:pt x="15299" y="14394"/>
                  <a:pt x="15168" y="14490"/>
                  <a:pt x="15198" y="14436"/>
                </a:cubicBezTo>
                <a:cubicBezTo>
                  <a:pt x="15211" y="14412"/>
                  <a:pt x="15276" y="14387"/>
                  <a:pt x="15282" y="14372"/>
                </a:cubicBezTo>
                <a:cubicBezTo>
                  <a:pt x="15407" y="14341"/>
                  <a:pt x="15534" y="14298"/>
                  <a:pt x="15663" y="14287"/>
                </a:cubicBezTo>
                <a:cubicBezTo>
                  <a:pt x="15773" y="14278"/>
                  <a:pt x="15850" y="14263"/>
                  <a:pt x="15833" y="14309"/>
                </a:cubicBezTo>
                <a:cubicBezTo>
                  <a:pt x="15817" y="14353"/>
                  <a:pt x="15701" y="14392"/>
                  <a:pt x="15663" y="14414"/>
                </a:cubicBezTo>
                <a:cubicBezTo>
                  <a:pt x="15579" y="14463"/>
                  <a:pt x="15517" y="14457"/>
                  <a:pt x="15430" y="14478"/>
                </a:cubicBezTo>
                <a:cubicBezTo>
                  <a:pt x="15416" y="14478"/>
                  <a:pt x="15402" y="14478"/>
                  <a:pt x="15388" y="14478"/>
                </a:cubicBezTo>
                <a:cubicBezTo>
                  <a:pt x="15420" y="14460"/>
                  <a:pt x="15397" y="14453"/>
                  <a:pt x="15430" y="14436"/>
                </a:cubicBezTo>
                <a:cubicBezTo>
                  <a:pt x="15548" y="14376"/>
                  <a:pt x="15638" y="14354"/>
                  <a:pt x="15769" y="14330"/>
                </a:cubicBezTo>
                <a:cubicBezTo>
                  <a:pt x="15857" y="14314"/>
                  <a:pt x="15959" y="14298"/>
                  <a:pt x="16044" y="14287"/>
                </a:cubicBezTo>
                <a:cubicBezTo>
                  <a:pt x="16065" y="14287"/>
                  <a:pt x="16087" y="14287"/>
                  <a:pt x="16108" y="14287"/>
                </a:cubicBezTo>
                <a:cubicBezTo>
                  <a:pt x="16064" y="14297"/>
                  <a:pt x="15945" y="14353"/>
                  <a:pt x="15917" y="14351"/>
                </a:cubicBezTo>
                <a:cubicBezTo>
                  <a:pt x="15881" y="14348"/>
                  <a:pt x="15868" y="14357"/>
                  <a:pt x="15896" y="14330"/>
                </a:cubicBezTo>
                <a:cubicBezTo>
                  <a:pt x="15932" y="14295"/>
                  <a:pt x="16001" y="14277"/>
                  <a:pt x="16044" y="14245"/>
                </a:cubicBezTo>
                <a:cubicBezTo>
                  <a:pt x="16065" y="14230"/>
                  <a:pt x="16121" y="14179"/>
                  <a:pt x="16129" y="14160"/>
                </a:cubicBezTo>
                <a:cubicBezTo>
                  <a:pt x="16151" y="14106"/>
                  <a:pt x="16132" y="14181"/>
                  <a:pt x="16108" y="14139"/>
                </a:cubicBezTo>
                <a:cubicBezTo>
                  <a:pt x="16101" y="14127"/>
                  <a:pt x="16022" y="14171"/>
                  <a:pt x="16023" y="14160"/>
                </a:cubicBezTo>
                <a:cubicBezTo>
                  <a:pt x="16025" y="14129"/>
                  <a:pt x="16028" y="14098"/>
                  <a:pt x="16044" y="14076"/>
                </a:cubicBezTo>
                <a:cubicBezTo>
                  <a:pt x="16067" y="14043"/>
                  <a:pt x="16162" y="13990"/>
                  <a:pt x="16129" y="14012"/>
                </a:cubicBezTo>
                <a:cubicBezTo>
                  <a:pt x="16101" y="14031"/>
                  <a:pt x="16113" y="14033"/>
                  <a:pt x="16087" y="14055"/>
                </a:cubicBezTo>
                <a:cubicBezTo>
                  <a:pt x="16030" y="14102"/>
                  <a:pt x="15979" y="14160"/>
                  <a:pt x="15917" y="14203"/>
                </a:cubicBezTo>
                <a:cubicBezTo>
                  <a:pt x="15903" y="14210"/>
                  <a:pt x="15889" y="14217"/>
                  <a:pt x="15875" y="14224"/>
                </a:cubicBezTo>
                <a:cubicBezTo>
                  <a:pt x="15854" y="14182"/>
                  <a:pt x="15776" y="14234"/>
                  <a:pt x="15811" y="14203"/>
                </a:cubicBezTo>
                <a:cubicBezTo>
                  <a:pt x="15832" y="14185"/>
                  <a:pt x="15888" y="14158"/>
                  <a:pt x="15917" y="14139"/>
                </a:cubicBezTo>
                <a:cubicBezTo>
                  <a:pt x="15931" y="14130"/>
                  <a:pt x="16016" y="14116"/>
                  <a:pt x="16023" y="14097"/>
                </a:cubicBezTo>
                <a:cubicBezTo>
                  <a:pt x="16033" y="14069"/>
                  <a:pt x="15921" y="14142"/>
                  <a:pt x="15938" y="14118"/>
                </a:cubicBezTo>
                <a:cubicBezTo>
                  <a:pt x="15841" y="14173"/>
                  <a:pt x="15776" y="14232"/>
                  <a:pt x="15663" y="14245"/>
                </a:cubicBezTo>
                <a:cubicBezTo>
                  <a:pt x="15615" y="14251"/>
                  <a:pt x="15559" y="14300"/>
                  <a:pt x="15600" y="14224"/>
                </a:cubicBezTo>
                <a:cubicBezTo>
                  <a:pt x="15638" y="14154"/>
                  <a:pt x="15681" y="14132"/>
                  <a:pt x="15748" y="14097"/>
                </a:cubicBezTo>
                <a:cubicBezTo>
                  <a:pt x="15829" y="14055"/>
                  <a:pt x="15937" y="14020"/>
                  <a:pt x="16023" y="13991"/>
                </a:cubicBezTo>
                <a:cubicBezTo>
                  <a:pt x="16095" y="13967"/>
                  <a:pt x="16166" y="13930"/>
                  <a:pt x="16235" y="13906"/>
                </a:cubicBezTo>
                <a:cubicBezTo>
                  <a:pt x="16256" y="13906"/>
                  <a:pt x="16263" y="13906"/>
                  <a:pt x="16235" y="13906"/>
                </a:cubicBezTo>
                <a:cubicBezTo>
                  <a:pt x="16199" y="13934"/>
                  <a:pt x="16158" y="13978"/>
                  <a:pt x="16108" y="14012"/>
                </a:cubicBezTo>
                <a:cubicBezTo>
                  <a:pt x="16029" y="14066"/>
                  <a:pt x="16020" y="14081"/>
                  <a:pt x="15917" y="14118"/>
                </a:cubicBezTo>
                <a:cubicBezTo>
                  <a:pt x="15869" y="14135"/>
                  <a:pt x="15789" y="14184"/>
                  <a:pt x="15748" y="14182"/>
                </a:cubicBezTo>
                <a:cubicBezTo>
                  <a:pt x="15717" y="14180"/>
                  <a:pt x="15737" y="14162"/>
                  <a:pt x="15706" y="14160"/>
                </a:cubicBezTo>
                <a:cubicBezTo>
                  <a:pt x="15706" y="14153"/>
                  <a:pt x="15706" y="14146"/>
                  <a:pt x="15706" y="14139"/>
                </a:cubicBezTo>
                <a:cubicBezTo>
                  <a:pt x="15772" y="14101"/>
                  <a:pt x="15830" y="14039"/>
                  <a:pt x="15896" y="14012"/>
                </a:cubicBezTo>
                <a:cubicBezTo>
                  <a:pt x="16026" y="13958"/>
                  <a:pt x="16165" y="13944"/>
                  <a:pt x="16298" y="13906"/>
                </a:cubicBezTo>
                <a:cubicBezTo>
                  <a:pt x="16317" y="13887"/>
                  <a:pt x="16322" y="13880"/>
                  <a:pt x="16341" y="13885"/>
                </a:cubicBezTo>
                <a:cubicBezTo>
                  <a:pt x="16331" y="13884"/>
                  <a:pt x="16234" y="13865"/>
                  <a:pt x="16192" y="13864"/>
                </a:cubicBezTo>
                <a:cubicBezTo>
                  <a:pt x="16005" y="13861"/>
                  <a:pt x="15798" y="13844"/>
                  <a:pt x="15621" y="13885"/>
                </a:cubicBezTo>
                <a:cubicBezTo>
                  <a:pt x="15414" y="13932"/>
                  <a:pt x="15254" y="14022"/>
                  <a:pt x="15071" y="14118"/>
                </a:cubicBezTo>
                <a:cubicBezTo>
                  <a:pt x="14980" y="14166"/>
                  <a:pt x="14886" y="14197"/>
                  <a:pt x="14795" y="14245"/>
                </a:cubicBezTo>
                <a:cubicBezTo>
                  <a:pt x="14788" y="14252"/>
                  <a:pt x="14781" y="14259"/>
                  <a:pt x="14774" y="14266"/>
                </a:cubicBezTo>
                <a:cubicBezTo>
                  <a:pt x="15030" y="14266"/>
                  <a:pt x="15285" y="14265"/>
                  <a:pt x="15536" y="14245"/>
                </a:cubicBezTo>
                <a:cubicBezTo>
                  <a:pt x="15427" y="14323"/>
                  <a:pt x="15375" y="14370"/>
                  <a:pt x="15240" y="14414"/>
                </a:cubicBezTo>
                <a:cubicBezTo>
                  <a:pt x="15153" y="14442"/>
                  <a:pt x="15019" y="14493"/>
                  <a:pt x="14922" y="14457"/>
                </a:cubicBezTo>
                <a:cubicBezTo>
                  <a:pt x="14851" y="14431"/>
                  <a:pt x="14860" y="14484"/>
                  <a:pt x="14838" y="14414"/>
                </a:cubicBezTo>
                <a:cubicBezTo>
                  <a:pt x="14830" y="14389"/>
                  <a:pt x="14888" y="14282"/>
                  <a:pt x="14901" y="14266"/>
                </a:cubicBezTo>
                <a:cubicBezTo>
                  <a:pt x="14953" y="14205"/>
                  <a:pt x="15083" y="14141"/>
                  <a:pt x="15155" y="14097"/>
                </a:cubicBezTo>
                <a:cubicBezTo>
                  <a:pt x="15203" y="14067"/>
                  <a:pt x="15168" y="14101"/>
                  <a:pt x="15219" y="14076"/>
                </a:cubicBezTo>
                <a:cubicBezTo>
                  <a:pt x="15175" y="14106"/>
                  <a:pt x="15128" y="14149"/>
                  <a:pt x="15071" y="14182"/>
                </a:cubicBezTo>
                <a:cubicBezTo>
                  <a:pt x="15033" y="14205"/>
                  <a:pt x="14855" y="14345"/>
                  <a:pt x="14817" y="14330"/>
                </a:cubicBezTo>
                <a:cubicBezTo>
                  <a:pt x="14769" y="14311"/>
                  <a:pt x="14817" y="14294"/>
                  <a:pt x="14795" y="14245"/>
                </a:cubicBezTo>
                <a:cubicBezTo>
                  <a:pt x="14749" y="14143"/>
                  <a:pt x="14829" y="13968"/>
                  <a:pt x="14901" y="13906"/>
                </a:cubicBezTo>
                <a:cubicBezTo>
                  <a:pt x="14960" y="13856"/>
                  <a:pt x="14987" y="13869"/>
                  <a:pt x="15049" y="13843"/>
                </a:cubicBezTo>
                <a:cubicBezTo>
                  <a:pt x="15063" y="13843"/>
                  <a:pt x="15078" y="13843"/>
                  <a:pt x="15092" y="13843"/>
                </a:cubicBezTo>
                <a:cubicBezTo>
                  <a:pt x="15094" y="13856"/>
                  <a:pt x="15138" y="13829"/>
                  <a:pt x="15134" y="13885"/>
                </a:cubicBezTo>
                <a:cubicBezTo>
                  <a:pt x="15129" y="13960"/>
                  <a:pt x="15131" y="14033"/>
                  <a:pt x="15092" y="14076"/>
                </a:cubicBezTo>
                <a:cubicBezTo>
                  <a:pt x="15053" y="14120"/>
                  <a:pt x="15058" y="14116"/>
                  <a:pt x="15007" y="14139"/>
                </a:cubicBezTo>
                <a:cubicBezTo>
                  <a:pt x="14972" y="14139"/>
                  <a:pt x="14958" y="14146"/>
                  <a:pt x="14965" y="14118"/>
                </a:cubicBezTo>
                <a:cubicBezTo>
                  <a:pt x="14984" y="14040"/>
                  <a:pt x="14933" y="13986"/>
                  <a:pt x="15007" y="13928"/>
                </a:cubicBezTo>
                <a:cubicBezTo>
                  <a:pt x="15008" y="13927"/>
                  <a:pt x="15185" y="13857"/>
                  <a:pt x="15198" y="13864"/>
                </a:cubicBezTo>
                <a:cubicBezTo>
                  <a:pt x="15270" y="13902"/>
                  <a:pt x="15185" y="13889"/>
                  <a:pt x="15155" y="13970"/>
                </a:cubicBezTo>
                <a:cubicBezTo>
                  <a:pt x="15132" y="14016"/>
                  <a:pt x="15122" y="14033"/>
                  <a:pt x="15092" y="14055"/>
                </a:cubicBezTo>
                <a:cubicBezTo>
                  <a:pt x="15049" y="14071"/>
                  <a:pt x="14991" y="14182"/>
                  <a:pt x="15007" y="14139"/>
                </a:cubicBezTo>
                <a:cubicBezTo>
                  <a:pt x="15018" y="14109"/>
                  <a:pt x="15010" y="14061"/>
                  <a:pt x="15028" y="14033"/>
                </a:cubicBezTo>
                <a:cubicBezTo>
                  <a:pt x="15057" y="13989"/>
                  <a:pt x="15186" y="13918"/>
                  <a:pt x="15134" y="13928"/>
                </a:cubicBezTo>
                <a:cubicBezTo>
                  <a:pt x="15072" y="13940"/>
                  <a:pt x="15116" y="13991"/>
                  <a:pt x="15049" y="14012"/>
                </a:cubicBezTo>
                <a:cubicBezTo>
                  <a:pt x="15006" y="14026"/>
                  <a:pt x="14981" y="14083"/>
                  <a:pt x="14965" y="14033"/>
                </a:cubicBezTo>
                <a:cubicBezTo>
                  <a:pt x="14961" y="14020"/>
                  <a:pt x="15025" y="13978"/>
                  <a:pt x="15028" y="13949"/>
                </a:cubicBezTo>
                <a:cubicBezTo>
                  <a:pt x="15078" y="13913"/>
                  <a:pt x="15099" y="13888"/>
                  <a:pt x="15155" y="13864"/>
                </a:cubicBezTo>
                <a:cubicBezTo>
                  <a:pt x="15178" y="13854"/>
                  <a:pt x="15216" y="13788"/>
                  <a:pt x="15219" y="13843"/>
                </a:cubicBezTo>
                <a:cubicBezTo>
                  <a:pt x="15221" y="13884"/>
                  <a:pt x="15195" y="13919"/>
                  <a:pt x="15155" y="13928"/>
                </a:cubicBezTo>
                <a:cubicBezTo>
                  <a:pt x="15105" y="13940"/>
                  <a:pt x="15088" y="13986"/>
                  <a:pt x="15134" y="13885"/>
                </a:cubicBezTo>
                <a:cubicBezTo>
                  <a:pt x="15148" y="13854"/>
                  <a:pt x="15163" y="13755"/>
                  <a:pt x="15219" y="13758"/>
                </a:cubicBezTo>
                <a:cubicBezTo>
                  <a:pt x="15257" y="13760"/>
                  <a:pt x="15189" y="13859"/>
                  <a:pt x="15198" y="13822"/>
                </a:cubicBezTo>
                <a:cubicBezTo>
                  <a:pt x="15206" y="13788"/>
                  <a:pt x="15198" y="13814"/>
                  <a:pt x="15198" y="13779"/>
                </a:cubicBezTo>
                <a:cubicBezTo>
                  <a:pt x="15198" y="13751"/>
                  <a:pt x="15198" y="13737"/>
                  <a:pt x="15198" y="13716"/>
                </a:cubicBezTo>
                <a:cubicBezTo>
                  <a:pt x="15180" y="13758"/>
                  <a:pt x="15169" y="13757"/>
                  <a:pt x="15155" y="13801"/>
                </a:cubicBezTo>
                <a:cubicBezTo>
                  <a:pt x="15123" y="13904"/>
                  <a:pt x="15089" y="14011"/>
                  <a:pt x="15071" y="14118"/>
                </a:cubicBezTo>
                <a:cubicBezTo>
                  <a:pt x="15059" y="14186"/>
                  <a:pt x="15029" y="14292"/>
                  <a:pt x="15028" y="14351"/>
                </a:cubicBezTo>
                <a:cubicBezTo>
                  <a:pt x="15027" y="14403"/>
                  <a:pt x="15023" y="14453"/>
                  <a:pt x="15049" y="14478"/>
                </a:cubicBezTo>
                <a:cubicBezTo>
                  <a:pt x="15091" y="14519"/>
                  <a:pt x="15046" y="14462"/>
                  <a:pt x="15092" y="14478"/>
                </a:cubicBezTo>
                <a:cubicBezTo>
                  <a:pt x="15172" y="14506"/>
                  <a:pt x="15218" y="14486"/>
                  <a:pt x="15303" y="14478"/>
                </a:cubicBezTo>
                <a:cubicBezTo>
                  <a:pt x="15282" y="14478"/>
                  <a:pt x="15275" y="14478"/>
                  <a:pt x="15261" y="14478"/>
                </a:cubicBezTo>
                <a:cubicBezTo>
                  <a:pt x="15138" y="14482"/>
                  <a:pt x="15024" y="14494"/>
                  <a:pt x="14901" y="14499"/>
                </a:cubicBezTo>
                <a:cubicBezTo>
                  <a:pt x="14748" y="14506"/>
                  <a:pt x="14575" y="14479"/>
                  <a:pt x="14436" y="14520"/>
                </a:cubicBezTo>
                <a:cubicBezTo>
                  <a:pt x="14405" y="14529"/>
                  <a:pt x="14380" y="14532"/>
                  <a:pt x="14351" y="14541"/>
                </a:cubicBezTo>
                <a:cubicBezTo>
                  <a:pt x="14318" y="14551"/>
                  <a:pt x="14297" y="14556"/>
                  <a:pt x="14330" y="14563"/>
                </a:cubicBezTo>
                <a:cubicBezTo>
                  <a:pt x="14367" y="14571"/>
                  <a:pt x="14394" y="14488"/>
                  <a:pt x="14414" y="14520"/>
                </a:cubicBezTo>
                <a:cubicBezTo>
                  <a:pt x="14428" y="14542"/>
                  <a:pt x="14431" y="14538"/>
                  <a:pt x="14436" y="14584"/>
                </a:cubicBezTo>
                <a:cubicBezTo>
                  <a:pt x="14446" y="14668"/>
                  <a:pt x="14407" y="14750"/>
                  <a:pt x="14414" y="14838"/>
                </a:cubicBezTo>
                <a:cubicBezTo>
                  <a:pt x="14414" y="14859"/>
                  <a:pt x="14414" y="14866"/>
                  <a:pt x="14436" y="14859"/>
                </a:cubicBezTo>
                <a:cubicBezTo>
                  <a:pt x="14464" y="14791"/>
                  <a:pt x="14457" y="14825"/>
                  <a:pt x="14478" y="14753"/>
                </a:cubicBezTo>
                <a:cubicBezTo>
                  <a:pt x="14490" y="14712"/>
                  <a:pt x="14482" y="14713"/>
                  <a:pt x="14499" y="14690"/>
                </a:cubicBezTo>
                <a:cubicBezTo>
                  <a:pt x="14537" y="14639"/>
                  <a:pt x="14575" y="14568"/>
                  <a:pt x="14668" y="14605"/>
                </a:cubicBezTo>
                <a:cubicBezTo>
                  <a:pt x="14710" y="14621"/>
                  <a:pt x="14665" y="14653"/>
                  <a:pt x="14690" y="14668"/>
                </a:cubicBezTo>
                <a:cubicBezTo>
                  <a:pt x="14690" y="14675"/>
                  <a:pt x="14690" y="14683"/>
                  <a:pt x="14690" y="14690"/>
                </a:cubicBezTo>
                <a:cubicBezTo>
                  <a:pt x="14672" y="14700"/>
                  <a:pt x="14667" y="14751"/>
                  <a:pt x="14626" y="14753"/>
                </a:cubicBezTo>
                <a:cubicBezTo>
                  <a:pt x="14587" y="14755"/>
                  <a:pt x="14563" y="14781"/>
                  <a:pt x="14520" y="14774"/>
                </a:cubicBezTo>
                <a:cubicBezTo>
                  <a:pt x="14464" y="14765"/>
                  <a:pt x="14332" y="14751"/>
                  <a:pt x="14372" y="14711"/>
                </a:cubicBezTo>
                <a:cubicBezTo>
                  <a:pt x="14392" y="14691"/>
                  <a:pt x="14386" y="14707"/>
                  <a:pt x="14414" y="14711"/>
                </a:cubicBezTo>
                <a:cubicBezTo>
                  <a:pt x="14430" y="14713"/>
                  <a:pt x="14590" y="14722"/>
                  <a:pt x="14520" y="14732"/>
                </a:cubicBezTo>
                <a:cubicBezTo>
                  <a:pt x="14438" y="14744"/>
                  <a:pt x="14280" y="14753"/>
                  <a:pt x="14245" y="14690"/>
                </a:cubicBezTo>
                <a:cubicBezTo>
                  <a:pt x="14224" y="14653"/>
                  <a:pt x="14289" y="14620"/>
                  <a:pt x="14266" y="14584"/>
                </a:cubicBezTo>
                <a:cubicBezTo>
                  <a:pt x="14225" y="14522"/>
                  <a:pt x="14346" y="14557"/>
                  <a:pt x="14245" y="14541"/>
                </a:cubicBezTo>
                <a:cubicBezTo>
                  <a:pt x="14180" y="14531"/>
                  <a:pt x="14175" y="14563"/>
                  <a:pt x="14118" y="14584"/>
                </a:cubicBezTo>
                <a:cubicBezTo>
                  <a:pt x="14072" y="14601"/>
                  <a:pt x="14034" y="14637"/>
                  <a:pt x="13991" y="14647"/>
                </a:cubicBezTo>
                <a:cubicBezTo>
                  <a:pt x="13948" y="14657"/>
                  <a:pt x="13928" y="14637"/>
                  <a:pt x="13885" y="14647"/>
                </a:cubicBezTo>
                <a:cubicBezTo>
                  <a:pt x="13934" y="14606"/>
                  <a:pt x="13877" y="14586"/>
                  <a:pt x="13970" y="14541"/>
                </a:cubicBezTo>
                <a:cubicBezTo>
                  <a:pt x="14013" y="14521"/>
                  <a:pt x="14090" y="14507"/>
                  <a:pt x="14139" y="14499"/>
                </a:cubicBezTo>
                <a:cubicBezTo>
                  <a:pt x="14189" y="14491"/>
                  <a:pt x="14216" y="14503"/>
                  <a:pt x="14266" y="14499"/>
                </a:cubicBezTo>
                <a:cubicBezTo>
                  <a:pt x="14214" y="14522"/>
                  <a:pt x="14175" y="14569"/>
                  <a:pt x="14118" y="14584"/>
                </a:cubicBezTo>
                <a:cubicBezTo>
                  <a:pt x="14012" y="14611"/>
                  <a:pt x="13911" y="14602"/>
                  <a:pt x="13801" y="14605"/>
                </a:cubicBezTo>
                <a:cubicBezTo>
                  <a:pt x="13669" y="14609"/>
                  <a:pt x="13497" y="14605"/>
                  <a:pt x="13398" y="14584"/>
                </a:cubicBezTo>
                <a:cubicBezTo>
                  <a:pt x="13353" y="14575"/>
                  <a:pt x="13344" y="14540"/>
                  <a:pt x="13293" y="14541"/>
                </a:cubicBezTo>
                <a:cubicBezTo>
                  <a:pt x="13213" y="14543"/>
                  <a:pt x="13210" y="14590"/>
                  <a:pt x="13166" y="14605"/>
                </a:cubicBezTo>
                <a:cubicBezTo>
                  <a:pt x="13190" y="14610"/>
                  <a:pt x="13051" y="14624"/>
                  <a:pt x="13123" y="14626"/>
                </a:cubicBezTo>
                <a:cubicBezTo>
                  <a:pt x="13259" y="14630"/>
                  <a:pt x="13374" y="14649"/>
                  <a:pt x="13504" y="14668"/>
                </a:cubicBezTo>
                <a:cubicBezTo>
                  <a:pt x="13637" y="14688"/>
                  <a:pt x="13746" y="14733"/>
                  <a:pt x="13864" y="14774"/>
                </a:cubicBezTo>
                <a:cubicBezTo>
                  <a:pt x="13613" y="14774"/>
                  <a:pt x="13271" y="14702"/>
                  <a:pt x="13039" y="14753"/>
                </a:cubicBezTo>
                <a:cubicBezTo>
                  <a:pt x="13015" y="14758"/>
                  <a:pt x="12969" y="14756"/>
                  <a:pt x="12954" y="14774"/>
                </a:cubicBezTo>
                <a:cubicBezTo>
                  <a:pt x="12937" y="14796"/>
                  <a:pt x="12926" y="14804"/>
                  <a:pt x="12975" y="14838"/>
                </a:cubicBezTo>
                <a:cubicBezTo>
                  <a:pt x="13101" y="14926"/>
                  <a:pt x="13357" y="14918"/>
                  <a:pt x="13504" y="14944"/>
                </a:cubicBezTo>
                <a:cubicBezTo>
                  <a:pt x="13518" y="14944"/>
                  <a:pt x="13533" y="14944"/>
                  <a:pt x="13547" y="14944"/>
                </a:cubicBezTo>
                <a:cubicBezTo>
                  <a:pt x="13266" y="14944"/>
                  <a:pt x="12992" y="14958"/>
                  <a:pt x="12721" y="14986"/>
                </a:cubicBezTo>
                <a:cubicBezTo>
                  <a:pt x="12686" y="14990"/>
                  <a:pt x="12650" y="14982"/>
                  <a:pt x="12615" y="14986"/>
                </a:cubicBezTo>
                <a:cubicBezTo>
                  <a:pt x="12617" y="14986"/>
                  <a:pt x="12489" y="14986"/>
                  <a:pt x="12552" y="14986"/>
                </a:cubicBezTo>
                <a:cubicBezTo>
                  <a:pt x="12634" y="14986"/>
                  <a:pt x="12789" y="15011"/>
                  <a:pt x="12848" y="14944"/>
                </a:cubicBezTo>
                <a:cubicBezTo>
                  <a:pt x="12898" y="14886"/>
                  <a:pt x="13010" y="14848"/>
                  <a:pt x="12954" y="14795"/>
                </a:cubicBezTo>
                <a:cubicBezTo>
                  <a:pt x="12908" y="14751"/>
                  <a:pt x="12869" y="14797"/>
                  <a:pt x="12806" y="14795"/>
                </a:cubicBezTo>
                <a:cubicBezTo>
                  <a:pt x="12614" y="14788"/>
                  <a:pt x="12418" y="14809"/>
                  <a:pt x="12234" y="14774"/>
                </a:cubicBezTo>
                <a:cubicBezTo>
                  <a:pt x="12213" y="14770"/>
                  <a:pt x="12212" y="14758"/>
                  <a:pt x="12192" y="14753"/>
                </a:cubicBezTo>
                <a:cubicBezTo>
                  <a:pt x="12368" y="14753"/>
                  <a:pt x="12545" y="14753"/>
                  <a:pt x="12721" y="14753"/>
                </a:cubicBezTo>
                <a:cubicBezTo>
                  <a:pt x="12741" y="14753"/>
                  <a:pt x="12885" y="14753"/>
                  <a:pt x="12785" y="14753"/>
                </a:cubicBezTo>
                <a:cubicBezTo>
                  <a:pt x="12614" y="14753"/>
                  <a:pt x="12408" y="14783"/>
                  <a:pt x="12277" y="14795"/>
                </a:cubicBezTo>
                <a:cubicBezTo>
                  <a:pt x="12186" y="14803"/>
                  <a:pt x="12081" y="14769"/>
                  <a:pt x="12001" y="14774"/>
                </a:cubicBezTo>
                <a:cubicBezTo>
                  <a:pt x="11959" y="14777"/>
                  <a:pt x="11938" y="14795"/>
                  <a:pt x="11896" y="14795"/>
                </a:cubicBezTo>
                <a:cubicBezTo>
                  <a:pt x="11932" y="14832"/>
                  <a:pt x="11907" y="14849"/>
                  <a:pt x="11980" y="14901"/>
                </a:cubicBezTo>
                <a:cubicBezTo>
                  <a:pt x="12025" y="14934"/>
                  <a:pt x="12104" y="14960"/>
                  <a:pt x="12150" y="14986"/>
                </a:cubicBezTo>
                <a:cubicBezTo>
                  <a:pt x="12208" y="15018"/>
                  <a:pt x="12262" y="15038"/>
                  <a:pt x="12255" y="15049"/>
                </a:cubicBezTo>
                <a:cubicBezTo>
                  <a:pt x="12245" y="15065"/>
                  <a:pt x="12057" y="15075"/>
                  <a:pt x="12023" y="15092"/>
                </a:cubicBezTo>
                <a:cubicBezTo>
                  <a:pt x="11957" y="15124"/>
                  <a:pt x="11902" y="15153"/>
                  <a:pt x="11832" y="15176"/>
                </a:cubicBezTo>
                <a:cubicBezTo>
                  <a:pt x="11800" y="15187"/>
                  <a:pt x="11714" y="15240"/>
                  <a:pt x="11705" y="15240"/>
                </a:cubicBezTo>
                <a:cubicBezTo>
                  <a:pt x="11667" y="15241"/>
                  <a:pt x="11628" y="15221"/>
                  <a:pt x="11620" y="15219"/>
                </a:cubicBezTo>
                <a:cubicBezTo>
                  <a:pt x="11551" y="15205"/>
                  <a:pt x="11513" y="15168"/>
                  <a:pt x="11451" y="15155"/>
                </a:cubicBezTo>
                <a:cubicBezTo>
                  <a:pt x="11379" y="15140"/>
                  <a:pt x="11310" y="15157"/>
                  <a:pt x="11239" y="15134"/>
                </a:cubicBezTo>
                <a:cubicBezTo>
                  <a:pt x="11198" y="15121"/>
                  <a:pt x="11131" y="15067"/>
                  <a:pt x="11070" y="15049"/>
                </a:cubicBezTo>
                <a:cubicBezTo>
                  <a:pt x="11035" y="15039"/>
                  <a:pt x="10900" y="15035"/>
                  <a:pt x="10985" y="15028"/>
                </a:cubicBezTo>
                <a:cubicBezTo>
                  <a:pt x="11138" y="15016"/>
                  <a:pt x="11395" y="14988"/>
                  <a:pt x="11536" y="15049"/>
                </a:cubicBezTo>
                <a:cubicBezTo>
                  <a:pt x="11576" y="15066"/>
                  <a:pt x="11459" y="15045"/>
                  <a:pt x="11430" y="15049"/>
                </a:cubicBezTo>
                <a:cubicBezTo>
                  <a:pt x="11288" y="15020"/>
                  <a:pt x="11153" y="15003"/>
                  <a:pt x="11007" y="14986"/>
                </a:cubicBezTo>
                <a:cubicBezTo>
                  <a:pt x="10871" y="14970"/>
                  <a:pt x="10643" y="14956"/>
                  <a:pt x="10541" y="14944"/>
                </a:cubicBezTo>
                <a:cubicBezTo>
                  <a:pt x="10548" y="14944"/>
                  <a:pt x="10555" y="14944"/>
                  <a:pt x="10562" y="14944"/>
                </a:cubicBezTo>
                <a:cubicBezTo>
                  <a:pt x="10700" y="14944"/>
                  <a:pt x="10997" y="14898"/>
                  <a:pt x="11091" y="14965"/>
                </a:cubicBezTo>
                <a:cubicBezTo>
                  <a:pt x="11094" y="14967"/>
                  <a:pt x="11177" y="14983"/>
                  <a:pt x="11134" y="15028"/>
                </a:cubicBezTo>
                <a:cubicBezTo>
                  <a:pt x="11094" y="15069"/>
                  <a:pt x="11045" y="15022"/>
                  <a:pt x="11007" y="15049"/>
                </a:cubicBezTo>
                <a:cubicBezTo>
                  <a:pt x="10978" y="15070"/>
                  <a:pt x="10907" y="15039"/>
                  <a:pt x="10922" y="15071"/>
                </a:cubicBezTo>
                <a:cubicBezTo>
                  <a:pt x="10953" y="15137"/>
                  <a:pt x="10899" y="15095"/>
                  <a:pt x="11007" y="15113"/>
                </a:cubicBezTo>
                <a:cubicBezTo>
                  <a:pt x="11118" y="15132"/>
                  <a:pt x="11258" y="15125"/>
                  <a:pt x="11366" y="15134"/>
                </a:cubicBezTo>
                <a:cubicBezTo>
                  <a:pt x="11401" y="15134"/>
                  <a:pt x="11437" y="15134"/>
                  <a:pt x="11472" y="15134"/>
                </a:cubicBezTo>
                <a:cubicBezTo>
                  <a:pt x="11250" y="15134"/>
                  <a:pt x="10683" y="15019"/>
                  <a:pt x="10858" y="15155"/>
                </a:cubicBezTo>
                <a:cubicBezTo>
                  <a:pt x="10881" y="15173"/>
                  <a:pt x="11033" y="15203"/>
                  <a:pt x="11070" y="15219"/>
                </a:cubicBezTo>
                <a:cubicBezTo>
                  <a:pt x="11133" y="15247"/>
                  <a:pt x="11203" y="15276"/>
                  <a:pt x="11261" y="15303"/>
                </a:cubicBezTo>
                <a:cubicBezTo>
                  <a:pt x="11280" y="15323"/>
                  <a:pt x="11284" y="15330"/>
                  <a:pt x="11303" y="15325"/>
                </a:cubicBezTo>
                <a:cubicBezTo>
                  <a:pt x="11187" y="15317"/>
                  <a:pt x="11113" y="15310"/>
                  <a:pt x="11007" y="15282"/>
                </a:cubicBezTo>
                <a:cubicBezTo>
                  <a:pt x="10914" y="15257"/>
                  <a:pt x="10834" y="15251"/>
                  <a:pt x="10731" y="15240"/>
                </a:cubicBezTo>
                <a:cubicBezTo>
                  <a:pt x="10668" y="15233"/>
                  <a:pt x="10609" y="15222"/>
                  <a:pt x="10541" y="15219"/>
                </a:cubicBezTo>
                <a:cubicBezTo>
                  <a:pt x="10457" y="15215"/>
                  <a:pt x="10358" y="15210"/>
                  <a:pt x="10287" y="15240"/>
                </a:cubicBezTo>
                <a:cubicBezTo>
                  <a:pt x="10225" y="15267"/>
                  <a:pt x="10185" y="15303"/>
                  <a:pt x="10139" y="15346"/>
                </a:cubicBezTo>
                <a:cubicBezTo>
                  <a:pt x="10094" y="15388"/>
                  <a:pt x="10057" y="15422"/>
                  <a:pt x="10033" y="15452"/>
                </a:cubicBezTo>
                <a:cubicBezTo>
                  <a:pt x="10033" y="15459"/>
                  <a:pt x="10033" y="15466"/>
                  <a:pt x="10033" y="15473"/>
                </a:cubicBezTo>
                <a:cubicBezTo>
                  <a:pt x="10213" y="15473"/>
                  <a:pt x="10607" y="15539"/>
                  <a:pt x="10731" y="15452"/>
                </a:cubicBezTo>
                <a:cubicBezTo>
                  <a:pt x="10745" y="15442"/>
                  <a:pt x="10719" y="15379"/>
                  <a:pt x="10731" y="15367"/>
                </a:cubicBezTo>
                <a:cubicBezTo>
                  <a:pt x="10701" y="15361"/>
                  <a:pt x="10699" y="15328"/>
                  <a:pt x="10668" y="15325"/>
                </a:cubicBezTo>
                <a:cubicBezTo>
                  <a:pt x="10548" y="15314"/>
                  <a:pt x="10412" y="15293"/>
                  <a:pt x="10308" y="15282"/>
                </a:cubicBezTo>
                <a:cubicBezTo>
                  <a:pt x="10195" y="15271"/>
                  <a:pt x="10049" y="15266"/>
                  <a:pt x="9948" y="15261"/>
                </a:cubicBezTo>
                <a:cubicBezTo>
                  <a:pt x="9870" y="15257"/>
                  <a:pt x="9811" y="15256"/>
                  <a:pt x="9737" y="15240"/>
                </a:cubicBezTo>
                <a:cubicBezTo>
                  <a:pt x="9675" y="15226"/>
                  <a:pt x="9649" y="15219"/>
                  <a:pt x="9588" y="15198"/>
                </a:cubicBezTo>
                <a:cubicBezTo>
                  <a:pt x="9574" y="15193"/>
                  <a:pt x="9418" y="15137"/>
                  <a:pt x="9419" y="15134"/>
                </a:cubicBezTo>
                <a:cubicBezTo>
                  <a:pt x="9428" y="15109"/>
                  <a:pt x="9360" y="15131"/>
                  <a:pt x="9483" y="15113"/>
                </a:cubicBezTo>
                <a:cubicBezTo>
                  <a:pt x="9586" y="15098"/>
                  <a:pt x="9684" y="15170"/>
                  <a:pt x="9779" y="15176"/>
                </a:cubicBezTo>
                <a:cubicBezTo>
                  <a:pt x="9817" y="15178"/>
                  <a:pt x="9762" y="15151"/>
                  <a:pt x="9800" y="15155"/>
                </a:cubicBezTo>
                <a:cubicBezTo>
                  <a:pt x="9707" y="15119"/>
                  <a:pt x="9639" y="15093"/>
                  <a:pt x="9546" y="15071"/>
                </a:cubicBezTo>
                <a:cubicBezTo>
                  <a:pt x="9506" y="15062"/>
                  <a:pt x="9460" y="15056"/>
                  <a:pt x="9419" y="15049"/>
                </a:cubicBezTo>
                <a:cubicBezTo>
                  <a:pt x="9475" y="15051"/>
                  <a:pt x="9490" y="15045"/>
                  <a:pt x="9546" y="15049"/>
                </a:cubicBezTo>
                <a:cubicBezTo>
                  <a:pt x="9702" y="15061"/>
                  <a:pt x="9854" y="15069"/>
                  <a:pt x="10012" y="15071"/>
                </a:cubicBezTo>
                <a:cubicBezTo>
                  <a:pt x="10068" y="15072"/>
                  <a:pt x="10125" y="15071"/>
                  <a:pt x="10181" y="15071"/>
                </a:cubicBezTo>
                <a:cubicBezTo>
                  <a:pt x="10094" y="15032"/>
                  <a:pt x="9994" y="14994"/>
                  <a:pt x="9906" y="14944"/>
                </a:cubicBezTo>
                <a:cubicBezTo>
                  <a:pt x="9838" y="14905"/>
                  <a:pt x="9653" y="14849"/>
                  <a:pt x="9610" y="14795"/>
                </a:cubicBezTo>
                <a:cubicBezTo>
                  <a:pt x="9574" y="14750"/>
                  <a:pt x="9634" y="14760"/>
                  <a:pt x="9610" y="14711"/>
                </a:cubicBezTo>
                <a:cubicBezTo>
                  <a:pt x="9594" y="14678"/>
                  <a:pt x="9612" y="14636"/>
                  <a:pt x="9588" y="14605"/>
                </a:cubicBezTo>
                <a:cubicBezTo>
                  <a:pt x="9564" y="14575"/>
                  <a:pt x="9519" y="14576"/>
                  <a:pt x="9483" y="14541"/>
                </a:cubicBezTo>
                <a:cubicBezTo>
                  <a:pt x="9450" y="14509"/>
                  <a:pt x="9387" y="14486"/>
                  <a:pt x="9356" y="14457"/>
                </a:cubicBezTo>
                <a:cubicBezTo>
                  <a:pt x="9335" y="14437"/>
                  <a:pt x="9326" y="14403"/>
                  <a:pt x="9313" y="14393"/>
                </a:cubicBezTo>
                <a:cubicBezTo>
                  <a:pt x="9562" y="14402"/>
                  <a:pt x="9729" y="14473"/>
                  <a:pt x="9969" y="14563"/>
                </a:cubicBezTo>
                <a:cubicBezTo>
                  <a:pt x="10238" y="14664"/>
                  <a:pt x="10511" y="14765"/>
                  <a:pt x="10795" y="14817"/>
                </a:cubicBezTo>
                <a:cubicBezTo>
                  <a:pt x="11218" y="14895"/>
                  <a:pt x="11697" y="14938"/>
                  <a:pt x="12128" y="14944"/>
                </a:cubicBezTo>
                <a:cubicBezTo>
                  <a:pt x="12461" y="14948"/>
                  <a:pt x="12789" y="14986"/>
                  <a:pt x="13123" y="14986"/>
                </a:cubicBezTo>
                <a:cubicBezTo>
                  <a:pt x="13772" y="14986"/>
                  <a:pt x="14635" y="15134"/>
                  <a:pt x="15261" y="14965"/>
                </a:cubicBezTo>
                <a:cubicBezTo>
                  <a:pt x="15295" y="14956"/>
                  <a:pt x="15415" y="14899"/>
                  <a:pt x="15452" y="14880"/>
                </a:cubicBezTo>
                <a:cubicBezTo>
                  <a:pt x="15505" y="14853"/>
                  <a:pt x="15536" y="14820"/>
                  <a:pt x="15579" y="14795"/>
                </a:cubicBezTo>
                <a:cubicBezTo>
                  <a:pt x="15636" y="14762"/>
                  <a:pt x="15687" y="14724"/>
                  <a:pt x="15727" y="14690"/>
                </a:cubicBezTo>
                <a:cubicBezTo>
                  <a:pt x="15778" y="14647"/>
                  <a:pt x="15846" y="14623"/>
                  <a:pt x="15875" y="14563"/>
                </a:cubicBezTo>
                <a:cubicBezTo>
                  <a:pt x="15902" y="14508"/>
                  <a:pt x="15904" y="14486"/>
                  <a:pt x="15875" y="14457"/>
                </a:cubicBezTo>
                <a:cubicBezTo>
                  <a:pt x="15857" y="14439"/>
                  <a:pt x="15774" y="14466"/>
                  <a:pt x="15748" y="14457"/>
                </a:cubicBezTo>
              </a:path>
              <a:path w="8087" h="3282">
                <a:moveTo>
                  <a:pt x="15790" y="14372"/>
                </a:moveTo>
                <a:cubicBezTo>
                  <a:pt x="15784" y="14412"/>
                  <a:pt x="15779" y="14418"/>
                  <a:pt x="15769" y="14436"/>
                </a:cubicBezTo>
                <a:cubicBezTo>
                  <a:pt x="15755" y="14462"/>
                  <a:pt x="15741" y="14483"/>
                  <a:pt x="15727" y="14499"/>
                </a:cubicBezTo>
                <a:cubicBezTo>
                  <a:pt x="15708" y="14520"/>
                  <a:pt x="15711" y="14533"/>
                  <a:pt x="15684" y="14541"/>
                </a:cubicBezTo>
                <a:cubicBezTo>
                  <a:pt x="15625" y="14558"/>
                  <a:pt x="15526" y="14554"/>
                  <a:pt x="15473" y="14563"/>
                </a:cubicBezTo>
                <a:cubicBezTo>
                  <a:pt x="15325" y="14588"/>
                  <a:pt x="15113" y="14512"/>
                  <a:pt x="14986" y="14584"/>
                </a:cubicBezTo>
                <a:cubicBezTo>
                  <a:pt x="14961" y="14598"/>
                  <a:pt x="14953" y="14600"/>
                  <a:pt x="14922" y="14626"/>
                </a:cubicBezTo>
                <a:cubicBezTo>
                  <a:pt x="14891" y="14652"/>
                  <a:pt x="14878" y="14686"/>
                  <a:pt x="14859" y="14711"/>
                </a:cubicBezTo>
                <a:cubicBezTo>
                  <a:pt x="14848" y="14725"/>
                  <a:pt x="14831" y="14747"/>
                  <a:pt x="14817" y="14774"/>
                </a:cubicBezTo>
                <a:cubicBezTo>
                  <a:pt x="14797" y="14793"/>
                  <a:pt x="14790" y="14797"/>
                  <a:pt x="14795" y="14817"/>
                </a:cubicBezTo>
                <a:cubicBezTo>
                  <a:pt x="14823" y="14813"/>
                  <a:pt x="14831" y="14801"/>
                  <a:pt x="14859" y="14795"/>
                </a:cubicBezTo>
                <a:cubicBezTo>
                  <a:pt x="14955" y="14775"/>
                  <a:pt x="15078" y="14795"/>
                  <a:pt x="15176" y="14795"/>
                </a:cubicBezTo>
                <a:cubicBezTo>
                  <a:pt x="15128" y="14814"/>
                  <a:pt x="15100" y="14817"/>
                  <a:pt x="15049" y="14817"/>
                </a:cubicBezTo>
                <a:cubicBezTo>
                  <a:pt x="15000" y="14817"/>
                  <a:pt x="14988" y="14819"/>
                  <a:pt x="14965" y="14838"/>
                </a:cubicBezTo>
                <a:cubicBezTo>
                  <a:pt x="14954" y="14847"/>
                  <a:pt x="14915" y="14847"/>
                  <a:pt x="14901" y="14859"/>
                </a:cubicBezTo>
                <a:cubicBezTo>
                  <a:pt x="14901" y="14866"/>
                  <a:pt x="14901" y="14873"/>
                  <a:pt x="14901" y="14880"/>
                </a:cubicBezTo>
                <a:cubicBezTo>
                  <a:pt x="15068" y="14880"/>
                  <a:pt x="15276" y="14885"/>
                  <a:pt x="15409" y="14859"/>
                </a:cubicBezTo>
                <a:cubicBezTo>
                  <a:pt x="15458" y="14849"/>
                  <a:pt x="15467" y="14859"/>
                  <a:pt x="15494" y="14838"/>
                </a:cubicBezTo>
                <a:cubicBezTo>
                  <a:pt x="15507" y="14828"/>
                  <a:pt x="15529" y="14803"/>
                  <a:pt x="15536" y="14774"/>
                </a:cubicBezTo>
                <a:cubicBezTo>
                  <a:pt x="15544" y="14740"/>
                  <a:pt x="15550" y="14724"/>
                  <a:pt x="15557" y="14690"/>
                </a:cubicBezTo>
                <a:cubicBezTo>
                  <a:pt x="15567" y="14637"/>
                  <a:pt x="15559" y="14663"/>
                  <a:pt x="15600" y="14626"/>
                </a:cubicBezTo>
                <a:cubicBezTo>
                  <a:pt x="15612" y="14615"/>
                  <a:pt x="15630" y="14596"/>
                  <a:pt x="15642" y="14584"/>
                </a:cubicBezTo>
                <a:cubicBezTo>
                  <a:pt x="15655" y="14571"/>
                  <a:pt x="15668" y="14573"/>
                  <a:pt x="15684" y="14563"/>
                </a:cubicBezTo>
                <a:cubicBezTo>
                  <a:pt x="15625" y="14563"/>
                  <a:pt x="15586" y="14569"/>
                  <a:pt x="15536" y="14584"/>
                </a:cubicBezTo>
                <a:cubicBezTo>
                  <a:pt x="15498" y="14596"/>
                  <a:pt x="15453" y="14633"/>
                  <a:pt x="15430" y="14647"/>
                </a:cubicBezTo>
                <a:cubicBezTo>
                  <a:pt x="15388" y="14672"/>
                  <a:pt x="15368" y="14672"/>
                  <a:pt x="15346" y="14690"/>
                </a:cubicBezTo>
                <a:cubicBezTo>
                  <a:pt x="15323" y="14709"/>
                  <a:pt x="15313" y="14696"/>
                  <a:pt x="15282" y="14711"/>
                </a:cubicBezTo>
                <a:cubicBezTo>
                  <a:pt x="15278" y="14713"/>
                  <a:pt x="15265" y="14749"/>
                  <a:pt x="15261" y="14753"/>
                </a:cubicBezTo>
                <a:cubicBezTo>
                  <a:pt x="15303" y="14753"/>
                  <a:pt x="15304" y="14753"/>
                  <a:pt x="15346" y="14753"/>
                </a:cubicBezTo>
                <a:cubicBezTo>
                  <a:pt x="15452" y="14753"/>
                  <a:pt x="15557" y="14753"/>
                  <a:pt x="15663" y="14753"/>
                </a:cubicBezTo>
                <a:cubicBezTo>
                  <a:pt x="15656" y="14783"/>
                  <a:pt x="15659" y="14769"/>
                  <a:pt x="15642" y="14795"/>
                </a:cubicBezTo>
                <a:cubicBezTo>
                  <a:pt x="15613" y="14837"/>
                  <a:pt x="15594" y="14858"/>
                  <a:pt x="15557" y="14880"/>
                </a:cubicBezTo>
                <a:cubicBezTo>
                  <a:pt x="15538" y="14899"/>
                  <a:pt x="15534" y="14906"/>
                  <a:pt x="15515" y="14901"/>
                </a:cubicBezTo>
                <a:cubicBezTo>
                  <a:pt x="15515" y="14833"/>
                  <a:pt x="15542" y="14762"/>
                  <a:pt x="15473" y="14753"/>
                </a:cubicBezTo>
                <a:cubicBezTo>
                  <a:pt x="15432" y="14748"/>
                  <a:pt x="15387" y="14753"/>
                  <a:pt x="15346" y="14753"/>
                </a:cubicBezTo>
                <a:cubicBezTo>
                  <a:pt x="15357" y="14753"/>
                  <a:pt x="15501" y="14756"/>
                  <a:pt x="15430" y="14774"/>
                </a:cubicBezTo>
                <a:cubicBezTo>
                  <a:pt x="15376" y="14788"/>
                  <a:pt x="15363" y="14785"/>
                  <a:pt x="15325" y="14817"/>
                </a:cubicBezTo>
                <a:cubicBezTo>
                  <a:pt x="15318" y="14824"/>
                  <a:pt x="15310" y="14831"/>
                  <a:pt x="15303" y="14838"/>
                </a:cubicBezTo>
                <a:cubicBezTo>
                  <a:pt x="15286" y="14804"/>
                  <a:pt x="15285" y="14830"/>
                  <a:pt x="15303" y="14795"/>
                </a:cubicBezTo>
                <a:cubicBezTo>
                  <a:pt x="15348" y="14706"/>
                  <a:pt x="15358" y="14771"/>
                  <a:pt x="15430" y="14732"/>
                </a:cubicBezTo>
                <a:cubicBezTo>
                  <a:pt x="15487" y="14701"/>
                  <a:pt x="15539" y="14656"/>
                  <a:pt x="15600" y="14626"/>
                </a:cubicBezTo>
                <a:cubicBezTo>
                  <a:pt x="15632" y="14610"/>
                  <a:pt x="15674" y="14600"/>
                  <a:pt x="15706" y="14584"/>
                </a:cubicBezTo>
                <a:cubicBezTo>
                  <a:pt x="15739" y="14568"/>
                  <a:pt x="15734" y="14572"/>
                  <a:pt x="15769" y="14563"/>
                </a:cubicBezTo>
                <a:cubicBezTo>
                  <a:pt x="15762" y="14570"/>
                  <a:pt x="15730" y="14600"/>
                  <a:pt x="15727" y="14605"/>
                </a:cubicBezTo>
                <a:cubicBezTo>
                  <a:pt x="15707" y="14636"/>
                  <a:pt x="15685" y="14657"/>
                  <a:pt x="15663" y="14690"/>
                </a:cubicBezTo>
                <a:cubicBezTo>
                  <a:pt x="15663" y="14714"/>
                  <a:pt x="15661" y="14723"/>
                  <a:pt x="15642" y="14732"/>
                </a:cubicBezTo>
                <a:cubicBezTo>
                  <a:pt x="15669" y="14700"/>
                  <a:pt x="15680" y="14687"/>
                  <a:pt x="15706" y="14647"/>
                </a:cubicBezTo>
                <a:cubicBezTo>
                  <a:pt x="15731" y="14608"/>
                  <a:pt x="15727" y="14651"/>
                  <a:pt x="15684" y="14626"/>
                </a:cubicBezTo>
                <a:cubicBezTo>
                  <a:pt x="15663" y="14626"/>
                  <a:pt x="15656" y="14626"/>
                  <a:pt x="15663" y="14605"/>
                </a:cubicBezTo>
                <a:cubicBezTo>
                  <a:pt x="15682" y="14577"/>
                  <a:pt x="15713" y="14530"/>
                  <a:pt x="15727" y="14520"/>
                </a:cubicBezTo>
                <a:cubicBezTo>
                  <a:pt x="15777" y="14484"/>
                  <a:pt x="15810" y="14458"/>
                  <a:pt x="15854" y="14414"/>
                </a:cubicBezTo>
                <a:cubicBezTo>
                  <a:pt x="15872" y="14396"/>
                  <a:pt x="15873" y="14382"/>
                  <a:pt x="15896" y="14351"/>
                </a:cubicBezTo>
                <a:cubicBezTo>
                  <a:pt x="15910" y="14332"/>
                  <a:pt x="15929" y="14306"/>
                  <a:pt x="15938" y="14266"/>
                </a:cubicBezTo>
                <a:cubicBezTo>
                  <a:pt x="15957" y="14186"/>
                  <a:pt x="15944" y="14085"/>
                  <a:pt x="15960" y="14012"/>
                </a:cubicBezTo>
                <a:cubicBezTo>
                  <a:pt x="15960" y="14005"/>
                  <a:pt x="15960" y="13998"/>
                  <a:pt x="15960" y="13991"/>
                </a:cubicBezTo>
              </a:path>
              <a:path w="8087" h="3282">
                <a:moveTo>
                  <a:pt x="15938" y="13568"/>
                </a:moveTo>
                <a:cubicBezTo>
                  <a:pt x="15923" y="13559"/>
                  <a:pt x="15918" y="13537"/>
                  <a:pt x="15875" y="13547"/>
                </a:cubicBezTo>
                <a:cubicBezTo>
                  <a:pt x="15849" y="13553"/>
                  <a:pt x="15792" y="13589"/>
                  <a:pt x="15790" y="13589"/>
                </a:cubicBezTo>
                <a:cubicBezTo>
                  <a:pt x="15745" y="13599"/>
                  <a:pt x="15735" y="13613"/>
                  <a:pt x="15684" y="13631"/>
                </a:cubicBezTo>
                <a:cubicBezTo>
                  <a:pt x="15714" y="13581"/>
                  <a:pt x="15748" y="13546"/>
                  <a:pt x="15790" y="13504"/>
                </a:cubicBezTo>
                <a:cubicBezTo>
                  <a:pt x="15827" y="13467"/>
                  <a:pt x="15916" y="13395"/>
                  <a:pt x="15938" y="13356"/>
                </a:cubicBezTo>
                <a:cubicBezTo>
                  <a:pt x="15943" y="13346"/>
                  <a:pt x="16025" y="13241"/>
                  <a:pt x="16023" y="13229"/>
                </a:cubicBezTo>
                <a:cubicBezTo>
                  <a:pt x="16023" y="13205"/>
                  <a:pt x="16021" y="13200"/>
                  <a:pt x="16002" y="13229"/>
                </a:cubicBezTo>
                <a:cubicBezTo>
                  <a:pt x="15981" y="13253"/>
                  <a:pt x="15940" y="13296"/>
                  <a:pt x="15917" y="13335"/>
                </a:cubicBezTo>
                <a:cubicBezTo>
                  <a:pt x="15894" y="13373"/>
                  <a:pt x="15874" y="13443"/>
                  <a:pt x="15833" y="13462"/>
                </a:cubicBezTo>
                <a:cubicBezTo>
                  <a:pt x="15801" y="13477"/>
                  <a:pt x="15771" y="13510"/>
                  <a:pt x="15748" y="13483"/>
                </a:cubicBezTo>
                <a:cubicBezTo>
                  <a:pt x="15737" y="13471"/>
                  <a:pt x="15766" y="13383"/>
                  <a:pt x="15769" y="13377"/>
                </a:cubicBezTo>
                <a:cubicBezTo>
                  <a:pt x="15781" y="13353"/>
                  <a:pt x="15804" y="13306"/>
                  <a:pt x="15833" y="13293"/>
                </a:cubicBezTo>
                <a:cubicBezTo>
                  <a:pt x="15840" y="13293"/>
                  <a:pt x="15847" y="13293"/>
                  <a:pt x="15854" y="13293"/>
                </a:cubicBezTo>
                <a:cubicBezTo>
                  <a:pt x="15843" y="13311"/>
                  <a:pt x="15833" y="13362"/>
                  <a:pt x="15811" y="13398"/>
                </a:cubicBezTo>
                <a:cubicBezTo>
                  <a:pt x="15780" y="13449"/>
                  <a:pt x="15778" y="13498"/>
                  <a:pt x="15748" y="13547"/>
                </a:cubicBezTo>
                <a:cubicBezTo>
                  <a:pt x="15718" y="13597"/>
                  <a:pt x="15715" y="13722"/>
                  <a:pt x="15663" y="13695"/>
                </a:cubicBezTo>
                <a:cubicBezTo>
                  <a:pt x="15626" y="13676"/>
                  <a:pt x="15698" y="13639"/>
                  <a:pt x="15727" y="13610"/>
                </a:cubicBezTo>
                <a:cubicBezTo>
                  <a:pt x="15746" y="13591"/>
                  <a:pt x="15750" y="13584"/>
                  <a:pt x="15769" y="13589"/>
                </a:cubicBezTo>
                <a:cubicBezTo>
                  <a:pt x="15797" y="13573"/>
                  <a:pt x="15868" y="13506"/>
                  <a:pt x="15790" y="13568"/>
                </a:cubicBezTo>
                <a:cubicBezTo>
                  <a:pt x="15747" y="13602"/>
                  <a:pt x="15728" y="13635"/>
                  <a:pt x="15706" y="13674"/>
                </a:cubicBezTo>
                <a:cubicBezTo>
                  <a:pt x="15685" y="13694"/>
                  <a:pt x="15673" y="13698"/>
                  <a:pt x="15706" y="13674"/>
                </a:cubicBezTo>
                <a:cubicBezTo>
                  <a:pt x="15772" y="13626"/>
                  <a:pt x="15833" y="13606"/>
                  <a:pt x="15896" y="13568"/>
                </a:cubicBezTo>
                <a:cubicBezTo>
                  <a:pt x="15909" y="13560"/>
                  <a:pt x="15998" y="13512"/>
                  <a:pt x="16002" y="13504"/>
                </a:cubicBezTo>
                <a:cubicBezTo>
                  <a:pt x="16027" y="13455"/>
                  <a:pt x="15944" y="13580"/>
                  <a:pt x="15938" y="13589"/>
                </a:cubicBezTo>
                <a:cubicBezTo>
                  <a:pt x="15918" y="13617"/>
                  <a:pt x="15911" y="13677"/>
                  <a:pt x="15896" y="13695"/>
                </a:cubicBezTo>
                <a:cubicBezTo>
                  <a:pt x="15862" y="13712"/>
                  <a:pt x="15848" y="13710"/>
                  <a:pt x="15854" y="13737"/>
                </a:cubicBezTo>
                <a:cubicBezTo>
                  <a:pt x="15821" y="13759"/>
                  <a:pt x="15866" y="13759"/>
                  <a:pt x="15833" y="13737"/>
                </a:cubicBezTo>
                <a:cubicBezTo>
                  <a:pt x="15873" y="13697"/>
                  <a:pt x="15932" y="13631"/>
                  <a:pt x="15981" y="13610"/>
                </a:cubicBezTo>
                <a:cubicBezTo>
                  <a:pt x="16035" y="13587"/>
                  <a:pt x="16091" y="13550"/>
                  <a:pt x="16129" y="13504"/>
                </a:cubicBezTo>
                <a:cubicBezTo>
                  <a:pt x="16146" y="13470"/>
                  <a:pt x="16144" y="13456"/>
                  <a:pt x="16171" y="13462"/>
                </a:cubicBezTo>
                <a:cubicBezTo>
                  <a:pt x="16164" y="13510"/>
                  <a:pt x="16155" y="13506"/>
                  <a:pt x="16129" y="13547"/>
                </a:cubicBezTo>
                <a:cubicBezTo>
                  <a:pt x="16104" y="13586"/>
                  <a:pt x="16104" y="13618"/>
                  <a:pt x="16087" y="13652"/>
                </a:cubicBezTo>
                <a:cubicBezTo>
                  <a:pt x="16077" y="13672"/>
                  <a:pt x="16045" y="13694"/>
                  <a:pt x="16065" y="13674"/>
                </a:cubicBezTo>
                <a:cubicBezTo>
                  <a:pt x="16103" y="13636"/>
                  <a:pt x="16147" y="13628"/>
                  <a:pt x="16192" y="13589"/>
                </a:cubicBezTo>
                <a:cubicBezTo>
                  <a:pt x="16229" y="13557"/>
                  <a:pt x="16339" y="13514"/>
                  <a:pt x="16362" y="13483"/>
                </a:cubicBezTo>
                <a:cubicBezTo>
                  <a:pt x="16376" y="13464"/>
                  <a:pt x="16401" y="13423"/>
                  <a:pt x="16362" y="13462"/>
                </a:cubicBezTo>
                <a:cubicBezTo>
                  <a:pt x="16334" y="13490"/>
                  <a:pt x="16301" y="13532"/>
                  <a:pt x="16277" y="13568"/>
                </a:cubicBezTo>
                <a:cubicBezTo>
                  <a:pt x="16244" y="13617"/>
                  <a:pt x="16225" y="13670"/>
                  <a:pt x="16192" y="13716"/>
                </a:cubicBezTo>
                <a:cubicBezTo>
                  <a:pt x="16156" y="13766"/>
                  <a:pt x="16175" y="13715"/>
                  <a:pt x="16171" y="13695"/>
                </a:cubicBezTo>
                <a:cubicBezTo>
                  <a:pt x="16210" y="13664"/>
                  <a:pt x="16310" y="13648"/>
                  <a:pt x="16277" y="13610"/>
                </a:cubicBezTo>
                <a:cubicBezTo>
                  <a:pt x="16251" y="13580"/>
                  <a:pt x="16066" y="13622"/>
                  <a:pt x="16044" y="13631"/>
                </a:cubicBezTo>
                <a:cubicBezTo>
                  <a:pt x="15995" y="13651"/>
                  <a:pt x="15976" y="13658"/>
                  <a:pt x="15938" y="13695"/>
                </a:cubicBezTo>
                <a:cubicBezTo>
                  <a:pt x="15921" y="13708"/>
                  <a:pt x="15913" y="13703"/>
                  <a:pt x="15896" y="13716"/>
                </a:cubicBezTo>
                <a:cubicBezTo>
                  <a:pt x="15931" y="13674"/>
                  <a:pt x="15946" y="13687"/>
                  <a:pt x="16002" y="13652"/>
                </a:cubicBezTo>
                <a:cubicBezTo>
                  <a:pt x="16035" y="13632"/>
                  <a:pt x="16063" y="13596"/>
                  <a:pt x="16108" y="13610"/>
                </a:cubicBezTo>
                <a:cubicBezTo>
                  <a:pt x="16135" y="13618"/>
                  <a:pt x="16135" y="13639"/>
                  <a:pt x="16129" y="13674"/>
                </a:cubicBezTo>
                <a:cubicBezTo>
                  <a:pt x="16121" y="13716"/>
                  <a:pt x="16109" y="13746"/>
                  <a:pt x="16087" y="13779"/>
                </a:cubicBezTo>
                <a:cubicBezTo>
                  <a:pt x="16065" y="13812"/>
                  <a:pt x="16097" y="13765"/>
                  <a:pt x="16108" y="13758"/>
                </a:cubicBezTo>
                <a:cubicBezTo>
                  <a:pt x="16167" y="13722"/>
                  <a:pt x="16203" y="13691"/>
                  <a:pt x="16256" y="13652"/>
                </a:cubicBezTo>
                <a:cubicBezTo>
                  <a:pt x="16277" y="13652"/>
                  <a:pt x="16284" y="13652"/>
                  <a:pt x="16277" y="13631"/>
                </a:cubicBezTo>
                <a:cubicBezTo>
                  <a:pt x="16241" y="13652"/>
                  <a:pt x="16209" y="13678"/>
                  <a:pt x="16192" y="13695"/>
                </a:cubicBezTo>
                <a:cubicBezTo>
                  <a:pt x="16146" y="13741"/>
                  <a:pt x="16130" y="13761"/>
                  <a:pt x="16087" y="13801"/>
                </a:cubicBezTo>
                <a:cubicBezTo>
                  <a:pt x="16065" y="13822"/>
                  <a:pt x="16027" y="13879"/>
                  <a:pt x="16087" y="13822"/>
                </a:cubicBezTo>
                <a:cubicBezTo>
                  <a:pt x="16129" y="13798"/>
                  <a:pt x="16192" y="13753"/>
                  <a:pt x="16235" y="13737"/>
                </a:cubicBezTo>
                <a:cubicBezTo>
                  <a:pt x="16274" y="13723"/>
                  <a:pt x="16371" y="13667"/>
                  <a:pt x="16341" y="13695"/>
                </a:cubicBezTo>
                <a:cubicBezTo>
                  <a:pt x="16293" y="13739"/>
                  <a:pt x="16310" y="13768"/>
                  <a:pt x="16277" y="13822"/>
                </a:cubicBezTo>
                <a:cubicBezTo>
                  <a:pt x="16248" y="13870"/>
                  <a:pt x="16247" y="13870"/>
                  <a:pt x="16235" y="13928"/>
                </a:cubicBezTo>
                <a:cubicBezTo>
                  <a:pt x="16234" y="13932"/>
                  <a:pt x="16252" y="13873"/>
                  <a:pt x="16298" y="13843"/>
                </a:cubicBezTo>
                <a:cubicBezTo>
                  <a:pt x="16355" y="13805"/>
                  <a:pt x="16416" y="13762"/>
                  <a:pt x="16468" y="13716"/>
                </a:cubicBezTo>
                <a:cubicBezTo>
                  <a:pt x="16489" y="13716"/>
                  <a:pt x="16496" y="13716"/>
                  <a:pt x="16489" y="13695"/>
                </a:cubicBezTo>
                <a:cubicBezTo>
                  <a:pt x="16477" y="13725"/>
                  <a:pt x="16465" y="13777"/>
                  <a:pt x="16446" y="13801"/>
                </a:cubicBezTo>
                <a:cubicBezTo>
                  <a:pt x="16414" y="13843"/>
                  <a:pt x="16409" y="13952"/>
                  <a:pt x="16362" y="13928"/>
                </a:cubicBezTo>
                <a:cubicBezTo>
                  <a:pt x="16362" y="13878"/>
                  <a:pt x="16369" y="13864"/>
                  <a:pt x="16425" y="13885"/>
                </a:cubicBezTo>
                <a:cubicBezTo>
                  <a:pt x="16494" y="13714"/>
                  <a:pt x="16348" y="13767"/>
                  <a:pt x="16362" y="13695"/>
                </a:cubicBezTo>
                <a:cubicBezTo>
                  <a:pt x="16365" y="13678"/>
                  <a:pt x="16444" y="13601"/>
                  <a:pt x="16404" y="13631"/>
                </a:cubicBezTo>
                <a:cubicBezTo>
                  <a:pt x="16397" y="13638"/>
                  <a:pt x="16390" y="13645"/>
                  <a:pt x="16383" y="13652"/>
                </a:cubicBezTo>
                <a:cubicBezTo>
                  <a:pt x="16347" y="13688"/>
                  <a:pt x="16329" y="13726"/>
                  <a:pt x="16298" y="13779"/>
                </a:cubicBezTo>
                <a:cubicBezTo>
                  <a:pt x="16283" y="13804"/>
                  <a:pt x="16235" y="13900"/>
                  <a:pt x="16214" y="13906"/>
                </a:cubicBezTo>
                <a:cubicBezTo>
                  <a:pt x="16192" y="13906"/>
                  <a:pt x="16185" y="13906"/>
                  <a:pt x="16192" y="13885"/>
                </a:cubicBezTo>
                <a:cubicBezTo>
                  <a:pt x="16206" y="13862"/>
                  <a:pt x="16203" y="13826"/>
                  <a:pt x="16235" y="13801"/>
                </a:cubicBezTo>
                <a:cubicBezTo>
                  <a:pt x="16276" y="13769"/>
                  <a:pt x="16331" y="13744"/>
                  <a:pt x="16362" y="13716"/>
                </a:cubicBezTo>
                <a:cubicBezTo>
                  <a:pt x="16381" y="13699"/>
                  <a:pt x="16396" y="13689"/>
                  <a:pt x="16383" y="13695"/>
                </a:cubicBezTo>
                <a:cubicBezTo>
                  <a:pt x="16359" y="13695"/>
                  <a:pt x="16350" y="13697"/>
                  <a:pt x="16341" y="13716"/>
                </a:cubicBezTo>
                <a:cubicBezTo>
                  <a:pt x="16330" y="13759"/>
                  <a:pt x="16311" y="13793"/>
                  <a:pt x="16277" y="13843"/>
                </a:cubicBezTo>
                <a:cubicBezTo>
                  <a:pt x="16262" y="13865"/>
                  <a:pt x="16226" y="13922"/>
                  <a:pt x="16214" y="13928"/>
                </a:cubicBezTo>
                <a:cubicBezTo>
                  <a:pt x="16151" y="13958"/>
                  <a:pt x="16120" y="13903"/>
                  <a:pt x="16087" y="13885"/>
                </a:cubicBezTo>
                <a:cubicBezTo>
                  <a:pt x="16038" y="13858"/>
                  <a:pt x="15978" y="13834"/>
                  <a:pt x="15938" y="13801"/>
                </a:cubicBezTo>
                <a:cubicBezTo>
                  <a:pt x="15907" y="13776"/>
                  <a:pt x="15895" y="13754"/>
                  <a:pt x="15875" y="13737"/>
                </a:cubicBezTo>
                <a:cubicBezTo>
                  <a:pt x="15867" y="13730"/>
                  <a:pt x="15860" y="13678"/>
                  <a:pt x="15854" y="13674"/>
                </a:cubicBezTo>
                <a:cubicBezTo>
                  <a:pt x="15819" y="13652"/>
                  <a:pt x="15586" y="13674"/>
                  <a:pt x="15621" y="13674"/>
                </a:cubicBezTo>
                <a:cubicBezTo>
                  <a:pt x="15672" y="13674"/>
                  <a:pt x="15707" y="13660"/>
                  <a:pt x="15748" y="13652"/>
                </a:cubicBezTo>
                <a:cubicBezTo>
                  <a:pt x="15795" y="13642"/>
                  <a:pt x="15856" y="13639"/>
                  <a:pt x="15896" y="13631"/>
                </a:cubicBezTo>
                <a:cubicBezTo>
                  <a:pt x="16007" y="13609"/>
                  <a:pt x="16173" y="13626"/>
                  <a:pt x="16256" y="13610"/>
                </a:cubicBezTo>
                <a:cubicBezTo>
                  <a:pt x="16312" y="13600"/>
                  <a:pt x="16542" y="13593"/>
                  <a:pt x="16552" y="13631"/>
                </a:cubicBezTo>
                <a:cubicBezTo>
                  <a:pt x="16572" y="13702"/>
                  <a:pt x="16520" y="13680"/>
                  <a:pt x="16510" y="13737"/>
                </a:cubicBezTo>
                <a:cubicBezTo>
                  <a:pt x="16505" y="13764"/>
                  <a:pt x="16512" y="13794"/>
                  <a:pt x="16510" y="13822"/>
                </a:cubicBezTo>
                <a:cubicBezTo>
                  <a:pt x="16504" y="13828"/>
                  <a:pt x="16440" y="13892"/>
                  <a:pt x="16489" y="13843"/>
                </a:cubicBezTo>
                <a:cubicBezTo>
                  <a:pt x="16513" y="13819"/>
                  <a:pt x="16508" y="13812"/>
                  <a:pt x="16552" y="13779"/>
                </a:cubicBezTo>
                <a:cubicBezTo>
                  <a:pt x="16573" y="13763"/>
                  <a:pt x="16560" y="13747"/>
                  <a:pt x="16595" y="13737"/>
                </a:cubicBezTo>
                <a:cubicBezTo>
                  <a:pt x="16612" y="13732"/>
                  <a:pt x="16640" y="13737"/>
                  <a:pt x="16658" y="13737"/>
                </a:cubicBezTo>
              </a:path>
              <a:path w="8087" h="3282">
                <a:moveTo>
                  <a:pt x="14478" y="12255"/>
                </a:moveTo>
                <a:cubicBezTo>
                  <a:pt x="14563" y="12255"/>
                  <a:pt x="14680" y="12241"/>
                  <a:pt x="14732" y="12234"/>
                </a:cubicBezTo>
                <a:cubicBezTo>
                  <a:pt x="15059" y="12193"/>
                  <a:pt x="15497" y="12219"/>
                  <a:pt x="15790" y="12255"/>
                </a:cubicBezTo>
                <a:cubicBezTo>
                  <a:pt x="15886" y="12267"/>
                  <a:pt x="15980" y="12246"/>
                  <a:pt x="16065" y="12277"/>
                </a:cubicBezTo>
                <a:cubicBezTo>
                  <a:pt x="16075" y="12281"/>
                  <a:pt x="16114" y="12311"/>
                  <a:pt x="16129" y="12319"/>
                </a:cubicBezTo>
                <a:cubicBezTo>
                  <a:pt x="16166" y="12340"/>
                  <a:pt x="16159" y="12318"/>
                  <a:pt x="16171" y="12319"/>
                </a:cubicBezTo>
                <a:cubicBezTo>
                  <a:pt x="16243" y="12323"/>
                  <a:pt x="16319" y="12322"/>
                  <a:pt x="16362" y="12340"/>
                </a:cubicBezTo>
                <a:cubicBezTo>
                  <a:pt x="16413" y="12361"/>
                  <a:pt x="16374" y="12357"/>
                  <a:pt x="16404" y="12382"/>
                </a:cubicBezTo>
                <a:cubicBezTo>
                  <a:pt x="16422" y="12397"/>
                  <a:pt x="16467" y="12400"/>
                  <a:pt x="16489" y="12404"/>
                </a:cubicBezTo>
                <a:cubicBezTo>
                  <a:pt x="16540" y="12413"/>
                  <a:pt x="16589" y="12414"/>
                  <a:pt x="16616" y="12425"/>
                </a:cubicBezTo>
                <a:cubicBezTo>
                  <a:pt x="16664" y="12445"/>
                  <a:pt x="16645" y="12411"/>
                  <a:pt x="16658" y="12467"/>
                </a:cubicBezTo>
                <a:cubicBezTo>
                  <a:pt x="16666" y="12504"/>
                  <a:pt x="16672" y="12536"/>
                  <a:pt x="16679" y="12552"/>
                </a:cubicBezTo>
                <a:cubicBezTo>
                  <a:pt x="16692" y="12583"/>
                  <a:pt x="16695" y="12578"/>
                  <a:pt x="16722" y="12594"/>
                </a:cubicBezTo>
                <a:cubicBezTo>
                  <a:pt x="16746" y="12608"/>
                  <a:pt x="16771" y="12591"/>
                  <a:pt x="16785" y="12615"/>
                </a:cubicBezTo>
                <a:cubicBezTo>
                  <a:pt x="16796" y="12633"/>
                  <a:pt x="16801" y="12671"/>
                  <a:pt x="16806" y="12679"/>
                </a:cubicBezTo>
                <a:cubicBezTo>
                  <a:pt x="16822" y="12707"/>
                  <a:pt x="16820" y="12701"/>
                  <a:pt x="16827" y="12742"/>
                </a:cubicBezTo>
                <a:cubicBezTo>
                  <a:pt x="16835" y="12790"/>
                  <a:pt x="16827" y="12781"/>
                  <a:pt x="16827" y="12827"/>
                </a:cubicBezTo>
                <a:cubicBezTo>
                  <a:pt x="16827" y="12916"/>
                  <a:pt x="16840" y="13006"/>
                  <a:pt x="16849" y="13081"/>
                </a:cubicBezTo>
                <a:cubicBezTo>
                  <a:pt x="16863" y="13205"/>
                  <a:pt x="16864" y="13417"/>
                  <a:pt x="16827" y="13504"/>
                </a:cubicBezTo>
                <a:cubicBezTo>
                  <a:pt x="16815" y="13531"/>
                  <a:pt x="16810" y="13547"/>
                  <a:pt x="16806" y="13568"/>
                </a:cubicBezTo>
                <a:cubicBezTo>
                  <a:pt x="16800" y="13602"/>
                  <a:pt x="16787" y="13666"/>
                  <a:pt x="16785" y="13674"/>
                </a:cubicBezTo>
                <a:cubicBezTo>
                  <a:pt x="16785" y="13681"/>
                  <a:pt x="16785" y="13688"/>
                  <a:pt x="16785" y="13695"/>
                </a:cubicBezTo>
                <a:cubicBezTo>
                  <a:pt x="16785" y="13565"/>
                  <a:pt x="16778" y="13438"/>
                  <a:pt x="16764" y="13314"/>
                </a:cubicBezTo>
                <a:cubicBezTo>
                  <a:pt x="16753" y="13211"/>
                  <a:pt x="16770" y="13110"/>
                  <a:pt x="16743" y="13017"/>
                </a:cubicBezTo>
                <a:cubicBezTo>
                  <a:pt x="16736" y="12994"/>
                  <a:pt x="16701" y="12956"/>
                  <a:pt x="16700" y="12954"/>
                </a:cubicBezTo>
                <a:cubicBezTo>
                  <a:pt x="16690" y="12920"/>
                  <a:pt x="16685" y="12904"/>
                  <a:pt x="16679" y="12869"/>
                </a:cubicBezTo>
                <a:cubicBezTo>
                  <a:pt x="16677" y="12859"/>
                  <a:pt x="16684" y="12693"/>
                  <a:pt x="16658" y="12763"/>
                </a:cubicBezTo>
                <a:cubicBezTo>
                  <a:pt x="16634" y="12829"/>
                  <a:pt x="16655" y="12931"/>
                  <a:pt x="16637" y="12996"/>
                </a:cubicBezTo>
                <a:cubicBezTo>
                  <a:pt x="16630" y="13021"/>
                  <a:pt x="16624" y="13052"/>
                  <a:pt x="16616" y="13081"/>
                </a:cubicBezTo>
                <a:cubicBezTo>
                  <a:pt x="16607" y="13114"/>
                  <a:pt x="16599" y="13129"/>
                  <a:pt x="16595" y="13166"/>
                </a:cubicBezTo>
                <a:cubicBezTo>
                  <a:pt x="16591" y="13206"/>
                  <a:pt x="16574" y="13284"/>
                  <a:pt x="16573" y="13293"/>
                </a:cubicBezTo>
                <a:cubicBezTo>
                  <a:pt x="16569" y="13321"/>
                  <a:pt x="16592" y="13328"/>
                  <a:pt x="16595" y="13356"/>
                </a:cubicBezTo>
                <a:cubicBezTo>
                  <a:pt x="16602" y="13439"/>
                  <a:pt x="16595" y="13526"/>
                  <a:pt x="16595" y="13610"/>
                </a:cubicBezTo>
                <a:cubicBezTo>
                  <a:pt x="16613" y="13565"/>
                  <a:pt x="16628" y="13572"/>
                  <a:pt x="16637" y="13525"/>
                </a:cubicBezTo>
                <a:cubicBezTo>
                  <a:pt x="16660" y="13409"/>
                  <a:pt x="16626" y="13275"/>
                  <a:pt x="16616" y="13166"/>
                </a:cubicBezTo>
                <a:cubicBezTo>
                  <a:pt x="16611" y="13103"/>
                  <a:pt x="16632" y="13028"/>
                  <a:pt x="16595" y="12996"/>
                </a:cubicBezTo>
                <a:cubicBezTo>
                  <a:pt x="16595" y="12966"/>
                  <a:pt x="16591" y="12967"/>
                  <a:pt x="16573" y="13017"/>
                </a:cubicBezTo>
                <a:cubicBezTo>
                  <a:pt x="16560" y="13083"/>
                  <a:pt x="16554" y="13140"/>
                  <a:pt x="16552" y="13208"/>
                </a:cubicBezTo>
                <a:cubicBezTo>
                  <a:pt x="16550" y="13271"/>
                  <a:pt x="16552" y="13335"/>
                  <a:pt x="16552" y="13398"/>
                </a:cubicBezTo>
                <a:cubicBezTo>
                  <a:pt x="16567" y="13449"/>
                  <a:pt x="16537" y="13477"/>
                  <a:pt x="16573" y="13441"/>
                </a:cubicBezTo>
                <a:cubicBezTo>
                  <a:pt x="16602" y="13412"/>
                  <a:pt x="16613" y="13373"/>
                  <a:pt x="16637" y="13335"/>
                </a:cubicBezTo>
                <a:cubicBezTo>
                  <a:pt x="16676" y="13273"/>
                  <a:pt x="16694" y="13261"/>
                  <a:pt x="16700" y="13187"/>
                </a:cubicBezTo>
                <a:cubicBezTo>
                  <a:pt x="16703" y="13149"/>
                  <a:pt x="16728" y="13119"/>
                  <a:pt x="16722" y="13081"/>
                </a:cubicBezTo>
                <a:cubicBezTo>
                  <a:pt x="16714" y="13026"/>
                  <a:pt x="16703" y="13077"/>
                  <a:pt x="16700" y="13102"/>
                </a:cubicBezTo>
                <a:cubicBezTo>
                  <a:pt x="16687" y="13211"/>
                  <a:pt x="16707" y="13326"/>
                  <a:pt x="16722" y="13420"/>
                </a:cubicBezTo>
                <a:cubicBezTo>
                  <a:pt x="16726" y="13448"/>
                  <a:pt x="16718" y="13434"/>
                  <a:pt x="16722" y="13462"/>
                </a:cubicBezTo>
                <a:cubicBezTo>
                  <a:pt x="16727" y="13499"/>
                  <a:pt x="16742" y="13581"/>
                  <a:pt x="16743" y="13589"/>
                </a:cubicBezTo>
                <a:cubicBezTo>
                  <a:pt x="16749" y="13636"/>
                  <a:pt x="16741" y="13654"/>
                  <a:pt x="16722" y="13674"/>
                </a:cubicBezTo>
                <a:cubicBezTo>
                  <a:pt x="16693" y="13706"/>
                  <a:pt x="16633" y="13693"/>
                  <a:pt x="16573" y="13695"/>
                </a:cubicBezTo>
                <a:cubicBezTo>
                  <a:pt x="16511" y="13697"/>
                  <a:pt x="16462" y="13687"/>
                  <a:pt x="16404" y="13674"/>
                </a:cubicBezTo>
                <a:cubicBezTo>
                  <a:pt x="16355" y="13663"/>
                  <a:pt x="16300" y="13647"/>
                  <a:pt x="16277" y="13631"/>
                </a:cubicBezTo>
                <a:cubicBezTo>
                  <a:pt x="16243" y="13607"/>
                  <a:pt x="16226" y="13641"/>
                  <a:pt x="16235" y="13568"/>
                </a:cubicBezTo>
                <a:cubicBezTo>
                  <a:pt x="16240" y="13524"/>
                  <a:pt x="16241" y="13516"/>
                  <a:pt x="16277" y="13483"/>
                </a:cubicBezTo>
                <a:cubicBezTo>
                  <a:pt x="16305" y="13458"/>
                  <a:pt x="16367" y="13450"/>
                  <a:pt x="16383" y="13420"/>
                </a:cubicBezTo>
                <a:cubicBezTo>
                  <a:pt x="16399" y="13389"/>
                  <a:pt x="16295" y="13436"/>
                  <a:pt x="16277" y="13441"/>
                </a:cubicBezTo>
                <a:cubicBezTo>
                  <a:pt x="16250" y="13449"/>
                  <a:pt x="16178" y="13449"/>
                  <a:pt x="16150" y="13462"/>
                </a:cubicBezTo>
                <a:cubicBezTo>
                  <a:pt x="16111" y="13480"/>
                  <a:pt x="16207" y="13462"/>
                  <a:pt x="16235" y="13462"/>
                </a:cubicBezTo>
                <a:cubicBezTo>
                  <a:pt x="16300" y="13446"/>
                  <a:pt x="16348" y="13362"/>
                  <a:pt x="16404" y="13398"/>
                </a:cubicBezTo>
                <a:cubicBezTo>
                  <a:pt x="16445" y="13425"/>
                  <a:pt x="16418" y="13451"/>
                  <a:pt x="16404" y="13504"/>
                </a:cubicBezTo>
                <a:cubicBezTo>
                  <a:pt x="16394" y="13545"/>
                  <a:pt x="16372" y="13576"/>
                  <a:pt x="16341" y="13610"/>
                </a:cubicBezTo>
                <a:cubicBezTo>
                  <a:pt x="16271" y="13687"/>
                  <a:pt x="16317" y="13626"/>
                  <a:pt x="16383" y="13610"/>
                </a:cubicBezTo>
                <a:cubicBezTo>
                  <a:pt x="16544" y="13451"/>
                  <a:pt x="16383" y="13642"/>
                  <a:pt x="16383" y="13568"/>
                </a:cubicBezTo>
                <a:cubicBezTo>
                  <a:pt x="16383" y="13496"/>
                  <a:pt x="16420" y="13513"/>
                  <a:pt x="16404" y="13462"/>
                </a:cubicBezTo>
                <a:cubicBezTo>
                  <a:pt x="16388" y="13411"/>
                  <a:pt x="16415" y="13434"/>
                  <a:pt x="16362" y="13420"/>
                </a:cubicBezTo>
                <a:cubicBezTo>
                  <a:pt x="16313" y="13407"/>
                  <a:pt x="16278" y="13428"/>
                  <a:pt x="16235" y="13441"/>
                </a:cubicBezTo>
                <a:cubicBezTo>
                  <a:pt x="16178" y="13458"/>
                  <a:pt x="16126" y="13499"/>
                  <a:pt x="16150" y="13525"/>
                </a:cubicBezTo>
                <a:cubicBezTo>
                  <a:pt x="16193" y="13571"/>
                  <a:pt x="16244" y="13489"/>
                  <a:pt x="16256" y="13483"/>
                </a:cubicBezTo>
                <a:cubicBezTo>
                  <a:pt x="16333" y="13441"/>
                  <a:pt x="16365" y="13423"/>
                  <a:pt x="16404" y="13356"/>
                </a:cubicBezTo>
                <a:cubicBezTo>
                  <a:pt x="16416" y="13335"/>
                  <a:pt x="16448" y="13280"/>
                  <a:pt x="16425" y="13250"/>
                </a:cubicBezTo>
                <a:cubicBezTo>
                  <a:pt x="16398" y="13215"/>
                  <a:pt x="16359" y="13233"/>
                  <a:pt x="16319" y="13229"/>
                </a:cubicBezTo>
                <a:cubicBezTo>
                  <a:pt x="16281" y="13225"/>
                  <a:pt x="16176" y="13213"/>
                  <a:pt x="16150" y="13250"/>
                </a:cubicBezTo>
                <a:cubicBezTo>
                  <a:pt x="16124" y="13286"/>
                  <a:pt x="16214" y="13216"/>
                  <a:pt x="16235" y="13208"/>
                </a:cubicBezTo>
                <a:cubicBezTo>
                  <a:pt x="16274" y="13193"/>
                  <a:pt x="16350" y="13185"/>
                  <a:pt x="16362" y="13144"/>
                </a:cubicBezTo>
                <a:cubicBezTo>
                  <a:pt x="16381" y="13081"/>
                  <a:pt x="16380" y="13106"/>
                  <a:pt x="16319" y="13123"/>
                </a:cubicBezTo>
                <a:cubicBezTo>
                  <a:pt x="16282" y="13133"/>
                  <a:pt x="16210" y="13169"/>
                  <a:pt x="16192" y="13187"/>
                </a:cubicBezTo>
                <a:cubicBezTo>
                  <a:pt x="16159" y="13237"/>
                  <a:pt x="16155" y="13247"/>
                  <a:pt x="16129" y="13271"/>
                </a:cubicBezTo>
                <a:cubicBezTo>
                  <a:pt x="16122" y="13281"/>
                  <a:pt x="16043" y="13347"/>
                  <a:pt x="16044" y="13356"/>
                </a:cubicBezTo>
                <a:cubicBezTo>
                  <a:pt x="16051" y="13405"/>
                  <a:pt x="16097" y="13364"/>
                  <a:pt x="16129" y="13356"/>
                </a:cubicBezTo>
                <a:cubicBezTo>
                  <a:pt x="16207" y="13337"/>
                  <a:pt x="16236" y="13302"/>
                  <a:pt x="16298" y="13271"/>
                </a:cubicBezTo>
                <a:cubicBezTo>
                  <a:pt x="16351" y="13244"/>
                  <a:pt x="16357" y="13255"/>
                  <a:pt x="16383" y="13208"/>
                </a:cubicBezTo>
                <a:cubicBezTo>
                  <a:pt x="16415" y="13151"/>
                  <a:pt x="16344" y="13210"/>
                  <a:pt x="16319" y="13229"/>
                </a:cubicBezTo>
                <a:cubicBezTo>
                  <a:pt x="16282" y="13257"/>
                  <a:pt x="16180" y="13349"/>
                  <a:pt x="16171" y="13398"/>
                </a:cubicBezTo>
                <a:cubicBezTo>
                  <a:pt x="16166" y="13426"/>
                  <a:pt x="16170" y="13444"/>
                  <a:pt x="16192" y="13462"/>
                </a:cubicBezTo>
                <a:cubicBezTo>
                  <a:pt x="16223" y="13489"/>
                  <a:pt x="16292" y="13445"/>
                  <a:pt x="16319" y="13441"/>
                </a:cubicBezTo>
                <a:cubicBezTo>
                  <a:pt x="16333" y="13441"/>
                  <a:pt x="16348" y="13441"/>
                  <a:pt x="16362" y="13441"/>
                </a:cubicBezTo>
                <a:cubicBezTo>
                  <a:pt x="16397" y="13434"/>
                  <a:pt x="16433" y="13427"/>
                  <a:pt x="16468" y="13420"/>
                </a:cubicBezTo>
                <a:cubicBezTo>
                  <a:pt x="16592" y="13357"/>
                  <a:pt x="16534" y="13426"/>
                  <a:pt x="16552" y="13335"/>
                </a:cubicBezTo>
                <a:cubicBezTo>
                  <a:pt x="16555" y="13318"/>
                  <a:pt x="16572" y="13304"/>
                  <a:pt x="16552" y="13271"/>
                </a:cubicBezTo>
                <a:cubicBezTo>
                  <a:pt x="16540" y="13251"/>
                  <a:pt x="16527" y="13231"/>
                  <a:pt x="16489" y="13229"/>
                </a:cubicBezTo>
                <a:cubicBezTo>
                  <a:pt x="16432" y="13227"/>
                  <a:pt x="16432" y="13244"/>
                  <a:pt x="16404" y="13293"/>
                </a:cubicBezTo>
                <a:cubicBezTo>
                  <a:pt x="16375" y="13344"/>
                  <a:pt x="16349" y="13415"/>
                  <a:pt x="16319" y="13462"/>
                </a:cubicBezTo>
                <a:cubicBezTo>
                  <a:pt x="16286" y="13514"/>
                  <a:pt x="16267" y="13566"/>
                  <a:pt x="16235" y="13610"/>
                </a:cubicBezTo>
                <a:cubicBezTo>
                  <a:pt x="16213" y="13640"/>
                  <a:pt x="16157" y="13682"/>
                  <a:pt x="16192" y="13695"/>
                </a:cubicBezTo>
                <a:cubicBezTo>
                  <a:pt x="16224" y="13707"/>
                  <a:pt x="16333" y="13608"/>
                  <a:pt x="16319" y="13568"/>
                </a:cubicBezTo>
                <a:cubicBezTo>
                  <a:pt x="16294" y="13543"/>
                  <a:pt x="16282" y="13533"/>
                  <a:pt x="16256" y="13525"/>
                </a:cubicBezTo>
                <a:cubicBezTo>
                  <a:pt x="16328" y="13429"/>
                  <a:pt x="16336" y="13399"/>
                  <a:pt x="16362" y="13293"/>
                </a:cubicBezTo>
                <a:cubicBezTo>
                  <a:pt x="16366" y="13276"/>
                  <a:pt x="16367" y="13189"/>
                  <a:pt x="16362" y="13208"/>
                </a:cubicBezTo>
                <a:cubicBezTo>
                  <a:pt x="16353" y="13244"/>
                  <a:pt x="16334" y="13418"/>
                  <a:pt x="16341" y="13441"/>
                </a:cubicBezTo>
                <a:cubicBezTo>
                  <a:pt x="16356" y="13489"/>
                  <a:pt x="16386" y="13555"/>
                  <a:pt x="16404" y="13610"/>
                </a:cubicBezTo>
                <a:cubicBezTo>
                  <a:pt x="16418" y="13653"/>
                  <a:pt x="16396" y="13657"/>
                  <a:pt x="16446" y="13674"/>
                </a:cubicBezTo>
                <a:cubicBezTo>
                  <a:pt x="16518" y="13699"/>
                  <a:pt x="16579" y="13645"/>
                  <a:pt x="16616" y="13589"/>
                </a:cubicBezTo>
                <a:cubicBezTo>
                  <a:pt x="16652" y="13535"/>
                  <a:pt x="16646" y="13440"/>
                  <a:pt x="16658" y="13377"/>
                </a:cubicBezTo>
                <a:cubicBezTo>
                  <a:pt x="16670" y="13311"/>
                  <a:pt x="16675" y="13272"/>
                  <a:pt x="16679" y="13208"/>
                </a:cubicBezTo>
                <a:cubicBezTo>
                  <a:pt x="16677" y="13180"/>
                  <a:pt x="16679" y="13073"/>
                  <a:pt x="16637" y="13060"/>
                </a:cubicBezTo>
                <a:cubicBezTo>
                  <a:pt x="16587" y="13044"/>
                  <a:pt x="16556" y="13200"/>
                  <a:pt x="16552" y="13208"/>
                </a:cubicBezTo>
                <a:cubicBezTo>
                  <a:pt x="16524" y="13270"/>
                  <a:pt x="16509" y="13319"/>
                  <a:pt x="16489" y="13377"/>
                </a:cubicBezTo>
                <a:cubicBezTo>
                  <a:pt x="16474" y="13422"/>
                  <a:pt x="16463" y="13503"/>
                  <a:pt x="16446" y="13420"/>
                </a:cubicBezTo>
                <a:cubicBezTo>
                  <a:pt x="16440" y="13392"/>
                  <a:pt x="16446" y="13314"/>
                  <a:pt x="16446" y="13271"/>
                </a:cubicBezTo>
                <a:cubicBezTo>
                  <a:pt x="16446" y="13258"/>
                  <a:pt x="16445" y="13148"/>
                  <a:pt x="16425" y="13208"/>
                </a:cubicBezTo>
                <a:cubicBezTo>
                  <a:pt x="16380" y="13342"/>
                  <a:pt x="16425" y="13406"/>
                  <a:pt x="16425" y="13547"/>
                </a:cubicBezTo>
                <a:cubicBezTo>
                  <a:pt x="16412" y="13483"/>
                  <a:pt x="16404" y="13448"/>
                  <a:pt x="16404" y="13377"/>
                </a:cubicBezTo>
                <a:cubicBezTo>
                  <a:pt x="16404" y="13272"/>
                  <a:pt x="16437" y="13058"/>
                  <a:pt x="16383" y="12996"/>
                </a:cubicBezTo>
                <a:cubicBezTo>
                  <a:pt x="16362" y="12972"/>
                  <a:pt x="16355" y="12977"/>
                  <a:pt x="16319" y="13039"/>
                </a:cubicBezTo>
                <a:cubicBezTo>
                  <a:pt x="16270" y="13125"/>
                  <a:pt x="16245" y="13220"/>
                  <a:pt x="16214" y="13314"/>
                </a:cubicBezTo>
                <a:cubicBezTo>
                  <a:pt x="16188" y="13393"/>
                  <a:pt x="16174" y="13453"/>
                  <a:pt x="16129" y="13525"/>
                </a:cubicBezTo>
                <a:cubicBezTo>
                  <a:pt x="16111" y="13563"/>
                  <a:pt x="16108" y="13573"/>
                  <a:pt x="16087" y="13589"/>
                </a:cubicBezTo>
                <a:cubicBezTo>
                  <a:pt x="16086" y="13591"/>
                  <a:pt x="16039" y="13704"/>
                  <a:pt x="16044" y="13631"/>
                </a:cubicBezTo>
                <a:cubicBezTo>
                  <a:pt x="16046" y="13600"/>
                  <a:pt x="16056" y="13555"/>
                  <a:pt x="16065" y="13525"/>
                </a:cubicBezTo>
                <a:cubicBezTo>
                  <a:pt x="16086" y="13456"/>
                  <a:pt x="16096" y="13405"/>
                  <a:pt x="16108" y="13335"/>
                </a:cubicBezTo>
                <a:cubicBezTo>
                  <a:pt x="16116" y="13285"/>
                  <a:pt x="16134" y="13251"/>
                  <a:pt x="16150" y="13208"/>
                </a:cubicBezTo>
                <a:cubicBezTo>
                  <a:pt x="16150" y="13208"/>
                  <a:pt x="16148" y="13131"/>
                  <a:pt x="16087" y="13208"/>
                </a:cubicBezTo>
                <a:cubicBezTo>
                  <a:pt x="16060" y="13243"/>
                  <a:pt x="16031" y="13328"/>
                  <a:pt x="16002" y="13377"/>
                </a:cubicBezTo>
                <a:cubicBezTo>
                  <a:pt x="15966" y="13438"/>
                  <a:pt x="15935" y="13486"/>
                  <a:pt x="15917" y="13547"/>
                </a:cubicBezTo>
                <a:cubicBezTo>
                  <a:pt x="15906" y="13585"/>
                  <a:pt x="15917" y="13599"/>
                  <a:pt x="15917" y="13547"/>
                </a:cubicBezTo>
                <a:cubicBezTo>
                  <a:pt x="15917" y="13485"/>
                  <a:pt x="15921" y="13434"/>
                  <a:pt x="15938" y="13377"/>
                </a:cubicBezTo>
                <a:cubicBezTo>
                  <a:pt x="15953" y="13327"/>
                  <a:pt x="16033" y="13224"/>
                  <a:pt x="15981" y="13229"/>
                </a:cubicBezTo>
                <a:cubicBezTo>
                  <a:pt x="15960" y="13231"/>
                  <a:pt x="15965" y="13324"/>
                  <a:pt x="15960" y="13335"/>
                </a:cubicBezTo>
                <a:cubicBezTo>
                  <a:pt x="15938" y="13385"/>
                  <a:pt x="15923" y="13437"/>
                  <a:pt x="15896" y="13483"/>
                </a:cubicBezTo>
                <a:cubicBezTo>
                  <a:pt x="15871" y="13525"/>
                  <a:pt x="15870" y="13552"/>
                  <a:pt x="15854" y="13483"/>
                </a:cubicBezTo>
                <a:cubicBezTo>
                  <a:pt x="15828" y="13367"/>
                  <a:pt x="15892" y="13182"/>
                  <a:pt x="15833" y="13102"/>
                </a:cubicBezTo>
                <a:cubicBezTo>
                  <a:pt x="15820" y="13084"/>
                  <a:pt x="15823" y="13125"/>
                  <a:pt x="15854" y="13102"/>
                </a:cubicBezTo>
                <a:cubicBezTo>
                  <a:pt x="15889" y="13076"/>
                  <a:pt x="15917" y="13014"/>
                  <a:pt x="15938" y="12975"/>
                </a:cubicBezTo>
                <a:cubicBezTo>
                  <a:pt x="15953" y="12947"/>
                  <a:pt x="15948" y="12900"/>
                  <a:pt x="15960" y="12933"/>
                </a:cubicBezTo>
                <a:cubicBezTo>
                  <a:pt x="15960" y="12975"/>
                  <a:pt x="15960" y="12989"/>
                  <a:pt x="15960" y="13017"/>
                </a:cubicBezTo>
                <a:cubicBezTo>
                  <a:pt x="15952" y="13057"/>
                  <a:pt x="15956" y="13153"/>
                  <a:pt x="15938" y="13187"/>
                </a:cubicBezTo>
                <a:cubicBezTo>
                  <a:pt x="15902" y="13253"/>
                  <a:pt x="15918" y="13099"/>
                  <a:pt x="15917" y="13081"/>
                </a:cubicBezTo>
                <a:cubicBezTo>
                  <a:pt x="15916" y="13060"/>
                  <a:pt x="15917" y="12890"/>
                  <a:pt x="15917" y="12996"/>
                </a:cubicBezTo>
                <a:cubicBezTo>
                  <a:pt x="15917" y="13081"/>
                  <a:pt x="15917" y="13165"/>
                  <a:pt x="15917" y="13250"/>
                </a:cubicBezTo>
                <a:cubicBezTo>
                  <a:pt x="15917" y="13306"/>
                  <a:pt x="15917" y="13433"/>
                  <a:pt x="15917" y="13377"/>
                </a:cubicBezTo>
                <a:cubicBezTo>
                  <a:pt x="15917" y="13309"/>
                  <a:pt x="15938" y="13308"/>
                  <a:pt x="15960" y="13250"/>
                </a:cubicBezTo>
                <a:cubicBezTo>
                  <a:pt x="15976" y="13209"/>
                  <a:pt x="15963" y="13140"/>
                  <a:pt x="15981" y="13102"/>
                </a:cubicBezTo>
                <a:cubicBezTo>
                  <a:pt x="16002" y="13058"/>
                  <a:pt x="16021" y="13019"/>
                  <a:pt x="16023" y="13039"/>
                </a:cubicBezTo>
                <a:cubicBezTo>
                  <a:pt x="16029" y="13102"/>
                  <a:pt x="16107" y="13206"/>
                  <a:pt x="16044" y="13208"/>
                </a:cubicBezTo>
                <a:cubicBezTo>
                  <a:pt x="16014" y="13209"/>
                  <a:pt x="16028" y="13189"/>
                  <a:pt x="16044" y="13123"/>
                </a:cubicBezTo>
                <a:cubicBezTo>
                  <a:pt x="16059" y="13064"/>
                  <a:pt x="16063" y="13039"/>
                  <a:pt x="16065" y="13017"/>
                </a:cubicBezTo>
                <a:cubicBezTo>
                  <a:pt x="16070" y="12970"/>
                  <a:pt x="16073" y="12974"/>
                  <a:pt x="16065" y="13017"/>
                </a:cubicBezTo>
                <a:cubicBezTo>
                  <a:pt x="16057" y="13059"/>
                  <a:pt x="16038" y="13119"/>
                  <a:pt x="16023" y="13166"/>
                </a:cubicBezTo>
                <a:cubicBezTo>
                  <a:pt x="16004" y="13185"/>
                  <a:pt x="15997" y="13189"/>
                  <a:pt x="16002" y="13208"/>
                </a:cubicBezTo>
                <a:cubicBezTo>
                  <a:pt x="16018" y="13177"/>
                  <a:pt x="16049" y="13136"/>
                  <a:pt x="16065" y="13102"/>
                </a:cubicBezTo>
                <a:cubicBezTo>
                  <a:pt x="16088" y="13052"/>
                  <a:pt x="16108" y="13003"/>
                  <a:pt x="16129" y="12954"/>
                </a:cubicBezTo>
                <a:cubicBezTo>
                  <a:pt x="16159" y="12883"/>
                  <a:pt x="16147" y="12881"/>
                  <a:pt x="16150" y="12954"/>
                </a:cubicBezTo>
                <a:cubicBezTo>
                  <a:pt x="16154" y="13028"/>
                  <a:pt x="16137" y="13105"/>
                  <a:pt x="16129" y="13166"/>
                </a:cubicBezTo>
                <a:cubicBezTo>
                  <a:pt x="16118" y="13252"/>
                  <a:pt x="16137" y="13167"/>
                  <a:pt x="16150" y="13144"/>
                </a:cubicBezTo>
                <a:cubicBezTo>
                  <a:pt x="16180" y="13090"/>
                  <a:pt x="16210" y="13079"/>
                  <a:pt x="16256" y="13039"/>
                </a:cubicBezTo>
                <a:cubicBezTo>
                  <a:pt x="16293" y="13007"/>
                  <a:pt x="16308" y="12966"/>
                  <a:pt x="16298" y="13060"/>
                </a:cubicBezTo>
                <a:cubicBezTo>
                  <a:pt x="16291" y="13121"/>
                  <a:pt x="16280" y="13138"/>
                  <a:pt x="16235" y="13187"/>
                </a:cubicBezTo>
                <a:cubicBezTo>
                  <a:pt x="16202" y="13223"/>
                  <a:pt x="16171" y="13262"/>
                  <a:pt x="16171" y="13187"/>
                </a:cubicBezTo>
                <a:cubicBezTo>
                  <a:pt x="16171" y="13141"/>
                  <a:pt x="16181" y="13134"/>
                  <a:pt x="16214" y="13102"/>
                </a:cubicBezTo>
                <a:cubicBezTo>
                  <a:pt x="16252" y="13065"/>
                  <a:pt x="16296" y="13013"/>
                  <a:pt x="16341" y="12996"/>
                </a:cubicBezTo>
                <a:cubicBezTo>
                  <a:pt x="16355" y="12996"/>
                  <a:pt x="16369" y="12996"/>
                  <a:pt x="16383" y="12996"/>
                </a:cubicBezTo>
                <a:cubicBezTo>
                  <a:pt x="16432" y="13004"/>
                  <a:pt x="16467" y="12981"/>
                  <a:pt x="16489" y="13017"/>
                </a:cubicBezTo>
                <a:cubicBezTo>
                  <a:pt x="16510" y="13051"/>
                  <a:pt x="16470" y="13119"/>
                  <a:pt x="16468" y="13123"/>
                </a:cubicBezTo>
                <a:cubicBezTo>
                  <a:pt x="16454" y="13156"/>
                  <a:pt x="16481" y="13176"/>
                  <a:pt x="16425" y="13166"/>
                </a:cubicBezTo>
                <a:cubicBezTo>
                  <a:pt x="16397" y="13161"/>
                  <a:pt x="16381" y="13120"/>
                  <a:pt x="16362" y="13102"/>
                </a:cubicBezTo>
                <a:cubicBezTo>
                  <a:pt x="16341" y="13082"/>
                  <a:pt x="16302" y="13044"/>
                  <a:pt x="16298" y="13017"/>
                </a:cubicBezTo>
                <a:cubicBezTo>
                  <a:pt x="16290" y="12962"/>
                  <a:pt x="16334" y="12941"/>
                  <a:pt x="16383" y="12933"/>
                </a:cubicBezTo>
                <a:cubicBezTo>
                  <a:pt x="16423" y="12926"/>
                  <a:pt x="16483" y="12952"/>
                  <a:pt x="16489" y="12954"/>
                </a:cubicBezTo>
                <a:cubicBezTo>
                  <a:pt x="16537" y="12969"/>
                  <a:pt x="16548" y="12968"/>
                  <a:pt x="16510" y="12996"/>
                </a:cubicBezTo>
                <a:cubicBezTo>
                  <a:pt x="16454" y="13037"/>
                  <a:pt x="16324" y="13026"/>
                  <a:pt x="16256" y="13017"/>
                </a:cubicBezTo>
                <a:cubicBezTo>
                  <a:pt x="16158" y="13005"/>
                  <a:pt x="16048" y="12949"/>
                  <a:pt x="15960" y="12933"/>
                </a:cubicBezTo>
                <a:cubicBezTo>
                  <a:pt x="15894" y="12921"/>
                  <a:pt x="15861" y="12913"/>
                  <a:pt x="15833" y="12848"/>
                </a:cubicBezTo>
                <a:cubicBezTo>
                  <a:pt x="15817" y="12811"/>
                  <a:pt x="15834" y="12752"/>
                  <a:pt x="15854" y="12742"/>
                </a:cubicBezTo>
                <a:cubicBezTo>
                  <a:pt x="15881" y="12728"/>
                  <a:pt x="16026" y="12723"/>
                  <a:pt x="15981" y="12763"/>
                </a:cubicBezTo>
                <a:cubicBezTo>
                  <a:pt x="15953" y="12788"/>
                  <a:pt x="15849" y="12836"/>
                  <a:pt x="15811" y="12848"/>
                </a:cubicBezTo>
                <a:cubicBezTo>
                  <a:pt x="15756" y="12866"/>
                  <a:pt x="15719" y="12859"/>
                  <a:pt x="15663" y="12869"/>
                </a:cubicBezTo>
                <a:cubicBezTo>
                  <a:pt x="15606" y="12879"/>
                  <a:pt x="15551" y="12869"/>
                  <a:pt x="15621" y="12869"/>
                </a:cubicBezTo>
                <a:cubicBezTo>
                  <a:pt x="15686" y="12869"/>
                  <a:pt x="15915" y="12843"/>
                  <a:pt x="15938" y="12890"/>
                </a:cubicBezTo>
                <a:cubicBezTo>
                  <a:pt x="15955" y="12925"/>
                  <a:pt x="15920" y="12952"/>
                  <a:pt x="15917" y="12975"/>
                </a:cubicBezTo>
                <a:cubicBezTo>
                  <a:pt x="15917" y="12982"/>
                  <a:pt x="15917" y="12989"/>
                  <a:pt x="15917" y="12996"/>
                </a:cubicBezTo>
                <a:cubicBezTo>
                  <a:pt x="15920" y="13031"/>
                  <a:pt x="15961" y="13054"/>
                  <a:pt x="15938" y="13081"/>
                </a:cubicBezTo>
                <a:cubicBezTo>
                  <a:pt x="15922" y="13099"/>
                  <a:pt x="15896" y="13104"/>
                  <a:pt x="15854" y="13081"/>
                </a:cubicBezTo>
                <a:cubicBezTo>
                  <a:pt x="15813" y="13059"/>
                  <a:pt x="15819" y="13052"/>
                  <a:pt x="15790" y="13017"/>
                </a:cubicBezTo>
                <a:cubicBezTo>
                  <a:pt x="15755" y="12974"/>
                  <a:pt x="15789" y="13003"/>
                  <a:pt x="15727" y="12954"/>
                </a:cubicBezTo>
                <a:cubicBezTo>
                  <a:pt x="15698" y="12931"/>
                  <a:pt x="15629" y="12925"/>
                  <a:pt x="15642" y="12890"/>
                </a:cubicBezTo>
                <a:cubicBezTo>
                  <a:pt x="15656" y="12854"/>
                  <a:pt x="15716" y="12890"/>
                  <a:pt x="15748" y="12869"/>
                </a:cubicBezTo>
                <a:cubicBezTo>
                  <a:pt x="15800" y="12835"/>
                  <a:pt x="15678" y="12832"/>
                  <a:pt x="15621" y="12806"/>
                </a:cubicBezTo>
                <a:cubicBezTo>
                  <a:pt x="15517" y="12759"/>
                  <a:pt x="15431" y="12765"/>
                  <a:pt x="15325" y="12742"/>
                </a:cubicBezTo>
                <a:cubicBezTo>
                  <a:pt x="15295" y="12735"/>
                  <a:pt x="15212" y="12735"/>
                  <a:pt x="15240" y="12721"/>
                </a:cubicBezTo>
                <a:cubicBezTo>
                  <a:pt x="15276" y="12703"/>
                  <a:pt x="15574" y="12721"/>
                  <a:pt x="15473" y="12721"/>
                </a:cubicBezTo>
                <a:cubicBezTo>
                  <a:pt x="15395" y="12721"/>
                  <a:pt x="15318" y="12721"/>
                  <a:pt x="15240" y="12721"/>
                </a:cubicBezTo>
                <a:cubicBezTo>
                  <a:pt x="15180" y="12721"/>
                  <a:pt x="15066" y="12729"/>
                  <a:pt x="15071" y="12721"/>
                </a:cubicBezTo>
                <a:cubicBezTo>
                  <a:pt x="15094" y="12682"/>
                  <a:pt x="15210" y="12700"/>
                  <a:pt x="15240" y="12700"/>
                </a:cubicBezTo>
                <a:cubicBezTo>
                  <a:pt x="15268" y="12700"/>
                  <a:pt x="15282" y="12700"/>
                  <a:pt x="15303" y="12700"/>
                </a:cubicBezTo>
                <a:cubicBezTo>
                  <a:pt x="15373" y="12710"/>
                  <a:pt x="15423" y="12706"/>
                  <a:pt x="15325" y="12721"/>
                </a:cubicBezTo>
                <a:cubicBezTo>
                  <a:pt x="15279" y="12728"/>
                  <a:pt x="15091" y="12721"/>
                  <a:pt x="15113" y="12721"/>
                </a:cubicBezTo>
                <a:cubicBezTo>
                  <a:pt x="15282" y="12721"/>
                  <a:pt x="15748" y="12721"/>
                  <a:pt x="15579" y="12721"/>
                </a:cubicBezTo>
                <a:cubicBezTo>
                  <a:pt x="15459" y="12721"/>
                  <a:pt x="15141" y="12721"/>
                  <a:pt x="15261" y="12721"/>
                </a:cubicBezTo>
                <a:cubicBezTo>
                  <a:pt x="15392" y="12721"/>
                  <a:pt x="15502" y="12716"/>
                  <a:pt x="15621" y="12763"/>
                </a:cubicBezTo>
                <a:cubicBezTo>
                  <a:pt x="15690" y="12791"/>
                  <a:pt x="15688" y="12774"/>
                  <a:pt x="15642" y="12785"/>
                </a:cubicBezTo>
                <a:cubicBezTo>
                  <a:pt x="15571" y="12802"/>
                  <a:pt x="15433" y="12775"/>
                  <a:pt x="15367" y="12763"/>
                </a:cubicBezTo>
                <a:cubicBezTo>
                  <a:pt x="15261" y="12744"/>
                  <a:pt x="15154" y="12742"/>
                  <a:pt x="15049" y="12721"/>
                </a:cubicBezTo>
                <a:cubicBezTo>
                  <a:pt x="15042" y="12721"/>
                  <a:pt x="15035" y="12721"/>
                  <a:pt x="15028" y="12721"/>
                </a:cubicBezTo>
                <a:cubicBezTo>
                  <a:pt x="15170" y="12721"/>
                  <a:pt x="15323" y="12729"/>
                  <a:pt x="15452" y="12742"/>
                </a:cubicBezTo>
                <a:cubicBezTo>
                  <a:pt x="15537" y="12750"/>
                  <a:pt x="15505" y="12754"/>
                  <a:pt x="15452" y="12742"/>
                </a:cubicBezTo>
                <a:cubicBezTo>
                  <a:pt x="15404" y="12731"/>
                  <a:pt x="15361" y="12723"/>
                  <a:pt x="15303" y="12721"/>
                </a:cubicBezTo>
                <a:cubicBezTo>
                  <a:pt x="15289" y="12721"/>
                  <a:pt x="15186" y="12721"/>
                  <a:pt x="15240" y="12721"/>
                </a:cubicBezTo>
                <a:cubicBezTo>
                  <a:pt x="15291" y="12721"/>
                  <a:pt x="15543" y="12721"/>
                  <a:pt x="15452" y="12721"/>
                </a:cubicBezTo>
                <a:cubicBezTo>
                  <a:pt x="15240" y="12721"/>
                  <a:pt x="14689" y="12721"/>
                  <a:pt x="14901" y="12721"/>
                </a:cubicBezTo>
                <a:cubicBezTo>
                  <a:pt x="14956" y="12721"/>
                  <a:pt x="15151" y="12721"/>
                  <a:pt x="15134" y="12721"/>
                </a:cubicBezTo>
                <a:cubicBezTo>
                  <a:pt x="15068" y="12721"/>
                  <a:pt x="14876" y="12723"/>
                  <a:pt x="14880" y="12721"/>
                </a:cubicBezTo>
                <a:cubicBezTo>
                  <a:pt x="14896" y="12712"/>
                  <a:pt x="14980" y="12711"/>
                  <a:pt x="14986" y="12700"/>
                </a:cubicBezTo>
                <a:cubicBezTo>
                  <a:pt x="15005" y="12665"/>
                  <a:pt x="14964" y="12652"/>
                  <a:pt x="14901" y="12636"/>
                </a:cubicBezTo>
                <a:cubicBezTo>
                  <a:pt x="14823" y="12616"/>
                  <a:pt x="14736" y="12590"/>
                  <a:pt x="14668" y="12573"/>
                </a:cubicBezTo>
                <a:cubicBezTo>
                  <a:pt x="14606" y="12558"/>
                  <a:pt x="14459" y="12612"/>
                  <a:pt x="14414" y="12552"/>
                </a:cubicBezTo>
                <a:cubicBezTo>
                  <a:pt x="14384" y="12512"/>
                  <a:pt x="14446" y="12509"/>
                  <a:pt x="14457" y="12488"/>
                </a:cubicBezTo>
                <a:cubicBezTo>
                  <a:pt x="14551" y="12488"/>
                  <a:pt x="14676" y="12512"/>
                  <a:pt x="14753" y="12467"/>
                </a:cubicBezTo>
                <a:cubicBezTo>
                  <a:pt x="14785" y="12448"/>
                  <a:pt x="14725" y="12468"/>
                  <a:pt x="14690" y="12467"/>
                </a:cubicBezTo>
                <a:cubicBezTo>
                  <a:pt x="14644" y="12465"/>
                  <a:pt x="14602" y="12467"/>
                  <a:pt x="14668" y="12467"/>
                </a:cubicBezTo>
                <a:cubicBezTo>
                  <a:pt x="14690" y="12467"/>
                  <a:pt x="14805" y="12467"/>
                  <a:pt x="14753" y="12467"/>
                </a:cubicBezTo>
                <a:cubicBezTo>
                  <a:pt x="14647" y="12467"/>
                  <a:pt x="14363" y="12494"/>
                  <a:pt x="14457" y="12446"/>
                </a:cubicBezTo>
                <a:cubicBezTo>
                  <a:pt x="14497" y="12426"/>
                  <a:pt x="14528" y="12471"/>
                  <a:pt x="14541" y="12425"/>
                </a:cubicBezTo>
                <a:cubicBezTo>
                  <a:pt x="14549" y="12395"/>
                  <a:pt x="14531" y="12374"/>
                  <a:pt x="14520" y="12361"/>
                </a:cubicBezTo>
                <a:cubicBezTo>
                  <a:pt x="14507" y="12347"/>
                  <a:pt x="14469" y="12357"/>
                  <a:pt x="14457" y="12340"/>
                </a:cubicBezTo>
                <a:cubicBezTo>
                  <a:pt x="14445" y="12322"/>
                  <a:pt x="14419" y="12285"/>
                  <a:pt x="14414" y="12277"/>
                </a:cubicBezTo>
                <a:cubicBezTo>
                  <a:pt x="14409" y="12270"/>
                  <a:pt x="14376" y="12233"/>
                  <a:pt x="14393" y="12213"/>
                </a:cubicBezTo>
                <a:cubicBezTo>
                  <a:pt x="14408" y="12195"/>
                  <a:pt x="14453" y="12197"/>
                  <a:pt x="14478" y="12192"/>
                </a:cubicBezTo>
                <a:cubicBezTo>
                  <a:pt x="14621" y="12164"/>
                  <a:pt x="14798" y="12192"/>
                  <a:pt x="14944" y="12192"/>
                </a:cubicBezTo>
                <a:cubicBezTo>
                  <a:pt x="14982" y="12192"/>
                  <a:pt x="15142" y="12192"/>
                  <a:pt x="15113" y="12192"/>
                </a:cubicBezTo>
                <a:cubicBezTo>
                  <a:pt x="14970" y="12192"/>
                  <a:pt x="14826" y="12200"/>
                  <a:pt x="14690" y="12213"/>
                </a:cubicBezTo>
                <a:cubicBezTo>
                  <a:pt x="14655" y="12216"/>
                  <a:pt x="14573" y="12218"/>
                  <a:pt x="14605" y="12234"/>
                </a:cubicBezTo>
                <a:cubicBezTo>
                  <a:pt x="14748" y="12304"/>
                  <a:pt x="15105" y="12234"/>
                  <a:pt x="15261" y="12234"/>
                </a:cubicBezTo>
                <a:cubicBezTo>
                  <a:pt x="15346" y="12234"/>
                  <a:pt x="15515" y="12234"/>
                  <a:pt x="15430" y="12234"/>
                </a:cubicBezTo>
                <a:cubicBezTo>
                  <a:pt x="15339" y="12234"/>
                  <a:pt x="15090" y="12191"/>
                  <a:pt x="15028" y="12255"/>
                </a:cubicBezTo>
                <a:cubicBezTo>
                  <a:pt x="14985" y="12299"/>
                  <a:pt x="15035" y="12252"/>
                  <a:pt x="15113" y="12255"/>
                </a:cubicBezTo>
                <a:cubicBezTo>
                  <a:pt x="15227" y="12259"/>
                  <a:pt x="15336" y="12277"/>
                  <a:pt x="15452" y="12277"/>
                </a:cubicBezTo>
                <a:cubicBezTo>
                  <a:pt x="15564" y="12277"/>
                  <a:pt x="15387" y="12277"/>
                  <a:pt x="15367" y="12277"/>
                </a:cubicBezTo>
                <a:cubicBezTo>
                  <a:pt x="15233" y="12277"/>
                  <a:pt x="15099" y="12277"/>
                  <a:pt x="14965" y="12277"/>
                </a:cubicBezTo>
                <a:cubicBezTo>
                  <a:pt x="14908" y="12277"/>
                  <a:pt x="14698" y="12277"/>
                  <a:pt x="14711" y="12277"/>
                </a:cubicBezTo>
                <a:cubicBezTo>
                  <a:pt x="14923" y="12277"/>
                  <a:pt x="15134" y="12277"/>
                  <a:pt x="15346" y="12277"/>
                </a:cubicBezTo>
                <a:cubicBezTo>
                  <a:pt x="15299" y="12256"/>
                  <a:pt x="15291" y="12257"/>
                  <a:pt x="15240" y="12255"/>
                </a:cubicBezTo>
                <a:cubicBezTo>
                  <a:pt x="15175" y="12253"/>
                  <a:pt x="14896" y="12267"/>
                  <a:pt x="14922" y="12277"/>
                </a:cubicBezTo>
                <a:cubicBezTo>
                  <a:pt x="15011" y="12312"/>
                  <a:pt x="15162" y="12299"/>
                  <a:pt x="15261" y="12319"/>
                </a:cubicBezTo>
                <a:cubicBezTo>
                  <a:pt x="15303" y="12328"/>
                  <a:pt x="15610" y="12382"/>
                  <a:pt x="15452" y="12382"/>
                </a:cubicBezTo>
                <a:cubicBezTo>
                  <a:pt x="15204" y="12382"/>
                  <a:pt x="14922" y="12359"/>
                  <a:pt x="14690" y="12404"/>
                </a:cubicBezTo>
                <a:cubicBezTo>
                  <a:pt x="14726" y="12404"/>
                  <a:pt x="14717" y="12404"/>
                  <a:pt x="14753" y="12404"/>
                </a:cubicBezTo>
                <a:cubicBezTo>
                  <a:pt x="14828" y="12404"/>
                  <a:pt x="15222" y="12402"/>
                  <a:pt x="15134" y="12382"/>
                </a:cubicBezTo>
                <a:cubicBezTo>
                  <a:pt x="15048" y="12363"/>
                  <a:pt x="14926" y="12368"/>
                  <a:pt x="14838" y="12361"/>
                </a:cubicBezTo>
                <a:cubicBezTo>
                  <a:pt x="14746" y="12353"/>
                  <a:pt x="14499" y="12407"/>
                  <a:pt x="14563" y="12340"/>
                </a:cubicBezTo>
                <a:cubicBezTo>
                  <a:pt x="14600" y="12301"/>
                  <a:pt x="14909" y="12340"/>
                  <a:pt x="14965" y="12340"/>
                </a:cubicBezTo>
                <a:cubicBezTo>
                  <a:pt x="14906" y="12355"/>
                  <a:pt x="14899" y="12342"/>
                  <a:pt x="14838" y="12340"/>
                </a:cubicBezTo>
                <a:cubicBezTo>
                  <a:pt x="14813" y="12339"/>
                  <a:pt x="14509" y="12350"/>
                  <a:pt x="14520" y="12361"/>
                </a:cubicBezTo>
                <a:cubicBezTo>
                  <a:pt x="14556" y="12396"/>
                  <a:pt x="14768" y="12395"/>
                  <a:pt x="14817" y="12404"/>
                </a:cubicBezTo>
                <a:cubicBezTo>
                  <a:pt x="15040" y="12444"/>
                  <a:pt x="15267" y="12497"/>
                  <a:pt x="15494" y="12509"/>
                </a:cubicBezTo>
                <a:cubicBezTo>
                  <a:pt x="15522" y="12510"/>
                  <a:pt x="15466" y="12509"/>
                  <a:pt x="15494" y="12509"/>
                </a:cubicBezTo>
                <a:cubicBezTo>
                  <a:pt x="15346" y="12509"/>
                  <a:pt x="15197" y="12509"/>
                  <a:pt x="15049" y="12509"/>
                </a:cubicBezTo>
                <a:cubicBezTo>
                  <a:pt x="14991" y="12509"/>
                  <a:pt x="14786" y="12509"/>
                  <a:pt x="14795" y="12509"/>
                </a:cubicBezTo>
                <a:cubicBezTo>
                  <a:pt x="15047" y="12509"/>
                  <a:pt x="15309" y="12483"/>
                  <a:pt x="15557" y="12531"/>
                </a:cubicBezTo>
                <a:cubicBezTo>
                  <a:pt x="15585" y="12538"/>
                  <a:pt x="15614" y="12545"/>
                  <a:pt x="15642" y="12552"/>
                </a:cubicBezTo>
                <a:cubicBezTo>
                  <a:pt x="15593" y="12552"/>
                  <a:pt x="15585" y="12552"/>
                  <a:pt x="15536" y="12552"/>
                </a:cubicBezTo>
                <a:cubicBezTo>
                  <a:pt x="15343" y="12552"/>
                  <a:pt x="15136" y="12547"/>
                  <a:pt x="14944" y="12531"/>
                </a:cubicBezTo>
                <a:cubicBezTo>
                  <a:pt x="14815" y="12520"/>
                  <a:pt x="14693" y="12509"/>
                  <a:pt x="14563" y="12509"/>
                </a:cubicBezTo>
                <a:cubicBezTo>
                  <a:pt x="14562" y="12509"/>
                  <a:pt x="14423" y="12503"/>
                  <a:pt x="14457" y="12531"/>
                </a:cubicBezTo>
                <a:cubicBezTo>
                  <a:pt x="14551" y="12608"/>
                  <a:pt x="14725" y="12573"/>
                  <a:pt x="14838" y="12573"/>
                </a:cubicBezTo>
                <a:cubicBezTo>
                  <a:pt x="14997" y="12573"/>
                  <a:pt x="15126" y="12596"/>
                  <a:pt x="15261" y="12658"/>
                </a:cubicBezTo>
                <a:cubicBezTo>
                  <a:pt x="15302" y="12677"/>
                  <a:pt x="15419" y="12697"/>
                  <a:pt x="15388" y="12700"/>
                </a:cubicBezTo>
                <a:cubicBezTo>
                  <a:pt x="15188" y="12722"/>
                  <a:pt x="14970" y="12700"/>
                  <a:pt x="14774" y="12679"/>
                </a:cubicBezTo>
                <a:cubicBezTo>
                  <a:pt x="14739" y="12679"/>
                  <a:pt x="14732" y="12679"/>
                  <a:pt x="14711" y="12679"/>
                </a:cubicBezTo>
                <a:cubicBezTo>
                  <a:pt x="14993" y="12679"/>
                  <a:pt x="15275" y="12679"/>
                  <a:pt x="15557" y="12679"/>
                </a:cubicBezTo>
                <a:cubicBezTo>
                  <a:pt x="15585" y="12680"/>
                  <a:pt x="15810" y="12698"/>
                  <a:pt x="15769" y="12700"/>
                </a:cubicBezTo>
                <a:cubicBezTo>
                  <a:pt x="15591" y="12708"/>
                  <a:pt x="15417" y="12681"/>
                  <a:pt x="15240" y="12679"/>
                </a:cubicBezTo>
                <a:cubicBezTo>
                  <a:pt x="15071" y="12677"/>
                  <a:pt x="14605" y="12679"/>
                  <a:pt x="14774" y="12679"/>
                </a:cubicBezTo>
                <a:cubicBezTo>
                  <a:pt x="15006" y="12679"/>
                  <a:pt x="15225" y="12702"/>
                  <a:pt x="15452" y="12721"/>
                </a:cubicBezTo>
                <a:cubicBezTo>
                  <a:pt x="15617" y="12735"/>
                  <a:pt x="15757" y="12738"/>
                  <a:pt x="15917" y="12785"/>
                </a:cubicBezTo>
                <a:cubicBezTo>
                  <a:pt x="16015" y="12814"/>
                  <a:pt x="15882" y="12785"/>
                  <a:pt x="15854" y="12785"/>
                </a:cubicBezTo>
                <a:cubicBezTo>
                  <a:pt x="15653" y="12785"/>
                  <a:pt x="15480" y="12739"/>
                  <a:pt x="15282" y="12721"/>
                </a:cubicBezTo>
                <a:cubicBezTo>
                  <a:pt x="15232" y="12716"/>
                  <a:pt x="14820" y="12721"/>
                  <a:pt x="14986" y="12721"/>
                </a:cubicBezTo>
                <a:cubicBezTo>
                  <a:pt x="15099" y="12721"/>
                  <a:pt x="15643" y="12701"/>
                  <a:pt x="15642" y="12700"/>
                </a:cubicBezTo>
                <a:cubicBezTo>
                  <a:pt x="15604" y="12661"/>
                  <a:pt x="15314" y="12621"/>
                  <a:pt x="15240" y="12594"/>
                </a:cubicBezTo>
                <a:cubicBezTo>
                  <a:pt x="15209" y="12583"/>
                  <a:pt x="15028" y="12533"/>
                  <a:pt x="15028" y="12531"/>
                </a:cubicBezTo>
                <a:cubicBezTo>
                  <a:pt x="15039" y="12482"/>
                  <a:pt x="15300" y="12509"/>
                  <a:pt x="15325" y="12509"/>
                </a:cubicBezTo>
                <a:cubicBezTo>
                  <a:pt x="15487" y="12509"/>
                  <a:pt x="15649" y="12509"/>
                  <a:pt x="15811" y="12509"/>
                </a:cubicBezTo>
                <a:cubicBezTo>
                  <a:pt x="15720" y="12494"/>
                  <a:pt x="15644" y="12467"/>
                  <a:pt x="15557" y="12446"/>
                </a:cubicBezTo>
                <a:cubicBezTo>
                  <a:pt x="15412" y="12411"/>
                  <a:pt x="15300" y="12329"/>
                  <a:pt x="15155" y="12298"/>
                </a:cubicBezTo>
                <a:cubicBezTo>
                  <a:pt x="15057" y="12282"/>
                  <a:pt x="15043" y="12275"/>
                  <a:pt x="14986" y="12277"/>
                </a:cubicBezTo>
                <a:cubicBezTo>
                  <a:pt x="15121" y="12277"/>
                  <a:pt x="15257" y="12281"/>
                  <a:pt x="15388" y="12319"/>
                </a:cubicBezTo>
                <a:cubicBezTo>
                  <a:pt x="15505" y="12353"/>
                  <a:pt x="15603" y="12399"/>
                  <a:pt x="15727" y="12404"/>
                </a:cubicBezTo>
                <a:cubicBezTo>
                  <a:pt x="15827" y="12408"/>
                  <a:pt x="15768" y="12404"/>
                  <a:pt x="15706" y="12404"/>
                </a:cubicBezTo>
                <a:cubicBezTo>
                  <a:pt x="15662" y="12404"/>
                  <a:pt x="15506" y="12404"/>
                  <a:pt x="15536" y="12404"/>
                </a:cubicBezTo>
                <a:cubicBezTo>
                  <a:pt x="15607" y="12404"/>
                  <a:pt x="15861" y="12429"/>
                  <a:pt x="15790" y="12404"/>
                </a:cubicBezTo>
                <a:cubicBezTo>
                  <a:pt x="15722" y="12380"/>
                  <a:pt x="15580" y="12454"/>
                  <a:pt x="15579" y="12382"/>
                </a:cubicBezTo>
                <a:cubicBezTo>
                  <a:pt x="15579" y="12351"/>
                  <a:pt x="15633" y="12369"/>
                  <a:pt x="15663" y="12361"/>
                </a:cubicBezTo>
                <a:cubicBezTo>
                  <a:pt x="15730" y="12343"/>
                  <a:pt x="15685" y="12385"/>
                  <a:pt x="15663" y="12361"/>
                </a:cubicBezTo>
                <a:cubicBezTo>
                  <a:pt x="15632" y="12326"/>
                  <a:pt x="15625" y="12325"/>
                  <a:pt x="15642" y="12319"/>
                </a:cubicBezTo>
                <a:cubicBezTo>
                  <a:pt x="15723" y="12292"/>
                  <a:pt x="15851" y="12319"/>
                  <a:pt x="15938" y="12319"/>
                </a:cubicBezTo>
                <a:cubicBezTo>
                  <a:pt x="15990" y="12322"/>
                  <a:pt x="16046" y="12335"/>
                  <a:pt x="16087" y="12340"/>
                </a:cubicBezTo>
                <a:cubicBezTo>
                  <a:pt x="16122" y="12344"/>
                  <a:pt x="16157" y="12338"/>
                  <a:pt x="16192" y="12340"/>
                </a:cubicBezTo>
                <a:cubicBezTo>
                  <a:pt x="16072" y="12340"/>
                  <a:pt x="15755" y="12340"/>
                  <a:pt x="15875" y="12340"/>
                </a:cubicBezTo>
                <a:cubicBezTo>
                  <a:pt x="15971" y="12340"/>
                  <a:pt x="16058" y="12351"/>
                  <a:pt x="16150" y="12361"/>
                </a:cubicBezTo>
                <a:cubicBezTo>
                  <a:pt x="16172" y="12363"/>
                  <a:pt x="16296" y="12361"/>
                  <a:pt x="16192" y="12361"/>
                </a:cubicBezTo>
                <a:cubicBezTo>
                  <a:pt x="15980" y="12361"/>
                  <a:pt x="15769" y="12361"/>
                  <a:pt x="15557" y="12361"/>
                </a:cubicBezTo>
                <a:cubicBezTo>
                  <a:pt x="15687" y="12361"/>
                  <a:pt x="15810" y="12379"/>
                  <a:pt x="15938" y="12382"/>
                </a:cubicBezTo>
                <a:cubicBezTo>
                  <a:pt x="16030" y="12382"/>
                  <a:pt x="16051" y="12382"/>
                  <a:pt x="16108" y="12382"/>
                </a:cubicBezTo>
                <a:cubicBezTo>
                  <a:pt x="16245" y="12382"/>
                  <a:pt x="16138" y="12382"/>
                  <a:pt x="16108" y="12382"/>
                </a:cubicBezTo>
                <a:cubicBezTo>
                  <a:pt x="16053" y="12382"/>
                  <a:pt x="15654" y="12388"/>
                  <a:pt x="15663" y="12404"/>
                </a:cubicBezTo>
                <a:cubicBezTo>
                  <a:pt x="15695" y="12464"/>
                  <a:pt x="15824" y="12472"/>
                  <a:pt x="15896" y="12488"/>
                </a:cubicBezTo>
                <a:cubicBezTo>
                  <a:pt x="16060" y="12525"/>
                  <a:pt x="16204" y="12563"/>
                  <a:pt x="16362" y="12615"/>
                </a:cubicBezTo>
                <a:cubicBezTo>
                  <a:pt x="16465" y="12649"/>
                  <a:pt x="16443" y="12636"/>
                  <a:pt x="16341" y="12636"/>
                </a:cubicBezTo>
                <a:cubicBezTo>
                  <a:pt x="16200" y="12636"/>
                  <a:pt x="16058" y="12636"/>
                  <a:pt x="15917" y="12636"/>
                </a:cubicBezTo>
                <a:cubicBezTo>
                  <a:pt x="15867" y="12624"/>
                  <a:pt x="15820" y="12625"/>
                  <a:pt x="15769" y="12615"/>
                </a:cubicBezTo>
                <a:cubicBezTo>
                  <a:pt x="15719" y="12605"/>
                  <a:pt x="15825" y="12626"/>
                  <a:pt x="15875" y="12636"/>
                </a:cubicBezTo>
                <a:cubicBezTo>
                  <a:pt x="15973" y="12655"/>
                  <a:pt x="16148" y="12626"/>
                  <a:pt x="16235" y="12679"/>
                </a:cubicBezTo>
                <a:cubicBezTo>
                  <a:pt x="16321" y="12731"/>
                  <a:pt x="16210" y="12689"/>
                  <a:pt x="16171" y="12679"/>
                </a:cubicBezTo>
                <a:cubicBezTo>
                  <a:pt x="15979" y="12628"/>
                  <a:pt x="15792" y="12561"/>
                  <a:pt x="15600" y="12509"/>
                </a:cubicBezTo>
                <a:cubicBezTo>
                  <a:pt x="15474" y="12475"/>
                  <a:pt x="15346" y="12450"/>
                  <a:pt x="15219" y="12425"/>
                </a:cubicBezTo>
                <a:cubicBezTo>
                  <a:pt x="15328" y="12425"/>
                  <a:pt x="15413" y="12455"/>
                  <a:pt x="15515" y="12467"/>
                </a:cubicBezTo>
                <a:cubicBezTo>
                  <a:pt x="15666" y="12485"/>
                  <a:pt x="15790" y="12510"/>
                  <a:pt x="15938" y="12552"/>
                </a:cubicBezTo>
                <a:cubicBezTo>
                  <a:pt x="15983" y="12565"/>
                  <a:pt x="16095" y="12579"/>
                  <a:pt x="16065" y="12594"/>
                </a:cubicBezTo>
                <a:cubicBezTo>
                  <a:pt x="16052" y="12601"/>
                  <a:pt x="15818" y="12591"/>
                  <a:pt x="15938" y="12615"/>
                </a:cubicBezTo>
                <a:cubicBezTo>
                  <a:pt x="15985" y="12624"/>
                  <a:pt x="16161" y="12634"/>
                  <a:pt x="16192" y="12658"/>
                </a:cubicBezTo>
                <a:cubicBezTo>
                  <a:pt x="16224" y="12683"/>
                  <a:pt x="16075" y="12679"/>
                  <a:pt x="16065" y="12679"/>
                </a:cubicBezTo>
                <a:cubicBezTo>
                  <a:pt x="15947" y="12682"/>
                  <a:pt x="15430" y="12679"/>
                  <a:pt x="15536" y="12679"/>
                </a:cubicBezTo>
                <a:cubicBezTo>
                  <a:pt x="15617" y="12679"/>
                  <a:pt x="15637" y="12697"/>
                  <a:pt x="15706" y="12721"/>
                </a:cubicBezTo>
                <a:cubicBezTo>
                  <a:pt x="15798" y="12753"/>
                  <a:pt x="15696" y="12716"/>
                  <a:pt x="15706" y="12700"/>
                </a:cubicBezTo>
                <a:cubicBezTo>
                  <a:pt x="15717" y="12683"/>
                  <a:pt x="15740" y="12675"/>
                  <a:pt x="15748" y="12636"/>
                </a:cubicBezTo>
                <a:cubicBezTo>
                  <a:pt x="15748" y="12629"/>
                  <a:pt x="15748" y="12622"/>
                  <a:pt x="15748" y="12615"/>
                </a:cubicBezTo>
              </a:path>
              <a:path w="8087" h="3282">
                <a:moveTo>
                  <a:pt x="14711" y="12573"/>
                </a:moveTo>
                <a:lnTo>
                  <a:pt x="14690" y="12573"/>
                </a:lnTo>
                <a:lnTo>
                  <a:pt x="14690" y="12594"/>
                </a:lnTo>
                <a:lnTo>
                  <a:pt x="14668" y="12594"/>
                </a:lnTo>
                <a:lnTo>
                  <a:pt x="14668" y="12594"/>
                </a:lnTo>
                <a:lnTo>
                  <a:pt x="14647" y="12594"/>
                </a:lnTo>
                <a:lnTo>
                  <a:pt x="14626" y="12594"/>
                </a:lnTo>
                <a:lnTo>
                  <a:pt x="14626" y="12594"/>
                </a:lnTo>
                <a:lnTo>
                  <a:pt x="14626" y="12594"/>
                </a:lnTo>
                <a:lnTo>
                  <a:pt x="14605" y="12594"/>
                </a:lnTo>
                <a:lnTo>
                  <a:pt x="14605" y="12594"/>
                </a:lnTo>
                <a:lnTo>
                  <a:pt x="14605" y="12615"/>
                </a:lnTo>
                <a:lnTo>
                  <a:pt x="14605" y="12615"/>
                </a:lnTo>
                <a:lnTo>
                  <a:pt x="14605" y="12636"/>
                </a:lnTo>
                <a:lnTo>
                  <a:pt x="14605" y="12636"/>
                </a:lnTo>
                <a:lnTo>
                  <a:pt x="14605" y="12658"/>
                </a:lnTo>
                <a:lnTo>
                  <a:pt x="14605" y="12658"/>
                </a:lnTo>
                <a:lnTo>
                  <a:pt x="14605" y="12679"/>
                </a:lnTo>
                <a:lnTo>
                  <a:pt x="14605" y="12700"/>
                </a:lnTo>
                <a:lnTo>
                  <a:pt x="14605" y="12700"/>
                </a:lnTo>
                <a:lnTo>
                  <a:pt x="14584" y="12700"/>
                </a:lnTo>
                <a:lnTo>
                  <a:pt x="14584" y="12679"/>
                </a:lnTo>
                <a:lnTo>
                  <a:pt x="14563" y="12679"/>
                </a:lnTo>
                <a:lnTo>
                  <a:pt x="14563" y="12658"/>
                </a:lnTo>
                <a:lnTo>
                  <a:pt x="14563" y="12636"/>
                </a:lnTo>
                <a:lnTo>
                  <a:pt x="14563" y="12636"/>
                </a:lnTo>
                <a:lnTo>
                  <a:pt x="14563" y="12615"/>
                </a:lnTo>
                <a:lnTo>
                  <a:pt x="14563" y="12615"/>
                </a:lnTo>
                <a:lnTo>
                  <a:pt x="14563" y="12594"/>
                </a:lnTo>
                <a:lnTo>
                  <a:pt x="14563" y="12594"/>
                </a:lnTo>
                <a:lnTo>
                  <a:pt x="14563" y="12573"/>
                </a:lnTo>
                <a:lnTo>
                  <a:pt x="14563" y="12552"/>
                </a:lnTo>
                <a:lnTo>
                  <a:pt x="14541" y="12552"/>
                </a:lnTo>
                <a:lnTo>
                  <a:pt x="14541" y="12552"/>
                </a:lnTo>
                <a:lnTo>
                  <a:pt x="14541" y="12573"/>
                </a:lnTo>
                <a:lnTo>
                  <a:pt x="14541" y="12573"/>
                </a:lnTo>
                <a:lnTo>
                  <a:pt x="14541" y="12594"/>
                </a:lnTo>
                <a:lnTo>
                  <a:pt x="14520" y="12594"/>
                </a:lnTo>
                <a:lnTo>
                  <a:pt x="14520" y="12594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15"/>
                </a:lnTo>
                <a:lnTo>
                  <a:pt x="14520" y="12636"/>
                </a:lnTo>
                <a:lnTo>
                  <a:pt x="14520" y="12636"/>
                </a:lnTo>
                <a:lnTo>
                  <a:pt x="14520" y="12658"/>
                </a:lnTo>
                <a:lnTo>
                  <a:pt x="14520" y="12658"/>
                </a:lnTo>
                <a:lnTo>
                  <a:pt x="14520" y="12679"/>
                </a:lnTo>
                <a:lnTo>
                  <a:pt x="14520" y="12679"/>
                </a:lnTo>
                <a:lnTo>
                  <a:pt x="14499" y="12679"/>
                </a:lnTo>
                <a:lnTo>
                  <a:pt x="14499" y="12679"/>
                </a:lnTo>
                <a:lnTo>
                  <a:pt x="14499" y="12679"/>
                </a:lnTo>
                <a:lnTo>
                  <a:pt x="14478" y="12700"/>
                </a:lnTo>
                <a:lnTo>
                  <a:pt x="14478" y="12700"/>
                </a:lnTo>
                <a:lnTo>
                  <a:pt x="14478" y="12700"/>
                </a:lnTo>
                <a:lnTo>
                  <a:pt x="14457" y="12700"/>
                </a:lnTo>
                <a:lnTo>
                  <a:pt x="14457" y="12721"/>
                </a:lnTo>
                <a:lnTo>
                  <a:pt x="14457" y="12721"/>
                </a:lnTo>
                <a:lnTo>
                  <a:pt x="14478" y="12721"/>
                </a:lnTo>
                <a:lnTo>
                  <a:pt x="14478" y="12721"/>
                </a:lnTo>
                <a:lnTo>
                  <a:pt x="14457" y="12742"/>
                </a:lnTo>
                <a:lnTo>
                  <a:pt x="14457" y="12742"/>
                </a:lnTo>
                <a:lnTo>
                  <a:pt x="14478" y="12742"/>
                </a:lnTo>
                <a:lnTo>
                  <a:pt x="14478" y="12742"/>
                </a:lnTo>
                <a:lnTo>
                  <a:pt x="14478" y="12742"/>
                </a:lnTo>
                <a:lnTo>
                  <a:pt x="14499" y="12742"/>
                </a:lnTo>
                <a:lnTo>
                  <a:pt x="14499" y="12742"/>
                </a:lnTo>
                <a:lnTo>
                  <a:pt x="14520" y="12742"/>
                </a:lnTo>
                <a:lnTo>
                  <a:pt x="14520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41" y="12742"/>
                </a:lnTo>
                <a:lnTo>
                  <a:pt x="14520" y="12742"/>
                </a:lnTo>
                <a:lnTo>
                  <a:pt x="14520" y="12742"/>
                </a:lnTo>
                <a:lnTo>
                  <a:pt x="14541" y="12742"/>
                </a:lnTo>
                <a:lnTo>
                  <a:pt x="14563" y="12742"/>
                </a:lnTo>
                <a:lnTo>
                  <a:pt x="14563" y="12742"/>
                </a:lnTo>
                <a:lnTo>
                  <a:pt x="14605" y="12742"/>
                </a:lnTo>
                <a:lnTo>
                  <a:pt x="14605" y="12742"/>
                </a:lnTo>
                <a:lnTo>
                  <a:pt x="14626" y="12742"/>
                </a:lnTo>
                <a:lnTo>
                  <a:pt x="14647" y="12742"/>
                </a:lnTo>
                <a:lnTo>
                  <a:pt x="14668" y="12742"/>
                </a:lnTo>
                <a:lnTo>
                  <a:pt x="14690" y="12742"/>
                </a:lnTo>
                <a:lnTo>
                  <a:pt x="14690" y="12742"/>
                </a:lnTo>
                <a:lnTo>
                  <a:pt x="14711" y="12742"/>
                </a:lnTo>
                <a:lnTo>
                  <a:pt x="14711" y="12742"/>
                </a:lnTo>
                <a:lnTo>
                  <a:pt x="14753" y="12763"/>
                </a:lnTo>
                <a:lnTo>
                  <a:pt x="14774" y="12763"/>
                </a:lnTo>
                <a:lnTo>
                  <a:pt x="14795" y="12763"/>
                </a:lnTo>
                <a:lnTo>
                  <a:pt x="14795" y="12763"/>
                </a:lnTo>
                <a:lnTo>
                  <a:pt x="14817" y="12763"/>
                </a:lnTo>
                <a:lnTo>
                  <a:pt x="14817" y="12763"/>
                </a:lnTo>
                <a:lnTo>
                  <a:pt x="14838" y="12763"/>
                </a:lnTo>
                <a:lnTo>
                  <a:pt x="14838" y="12763"/>
                </a:lnTo>
                <a:lnTo>
                  <a:pt x="14859" y="12763"/>
                </a:lnTo>
                <a:lnTo>
                  <a:pt x="14880" y="12763"/>
                </a:lnTo>
                <a:lnTo>
                  <a:pt x="14901" y="12763"/>
                </a:lnTo>
                <a:lnTo>
                  <a:pt x="14901" y="12763"/>
                </a:lnTo>
                <a:lnTo>
                  <a:pt x="14922" y="12763"/>
                </a:lnTo>
                <a:lnTo>
                  <a:pt x="14944" y="12763"/>
                </a:lnTo>
                <a:lnTo>
                  <a:pt x="14965" y="12763"/>
                </a:lnTo>
                <a:lnTo>
                  <a:pt x="14965" y="12763"/>
                </a:lnTo>
                <a:lnTo>
                  <a:pt x="14986" y="12763"/>
                </a:lnTo>
                <a:lnTo>
                  <a:pt x="14986" y="12763"/>
                </a:lnTo>
                <a:lnTo>
                  <a:pt x="15007" y="12763"/>
                </a:lnTo>
                <a:lnTo>
                  <a:pt x="15028" y="12763"/>
                </a:lnTo>
                <a:lnTo>
                  <a:pt x="15028" y="12763"/>
                </a:lnTo>
                <a:lnTo>
                  <a:pt x="15049" y="12763"/>
                </a:lnTo>
                <a:lnTo>
                  <a:pt x="15071" y="12763"/>
                </a:lnTo>
                <a:lnTo>
                  <a:pt x="15092" y="12763"/>
                </a:lnTo>
                <a:lnTo>
                  <a:pt x="15113" y="12763"/>
                </a:lnTo>
                <a:lnTo>
                  <a:pt x="15134" y="12763"/>
                </a:lnTo>
                <a:lnTo>
                  <a:pt x="15134" y="12763"/>
                </a:lnTo>
                <a:lnTo>
                  <a:pt x="15155" y="12763"/>
                </a:lnTo>
                <a:lnTo>
                  <a:pt x="15176" y="12763"/>
                </a:lnTo>
                <a:lnTo>
                  <a:pt x="15176" y="12763"/>
                </a:lnTo>
                <a:lnTo>
                  <a:pt x="15198" y="12763"/>
                </a:lnTo>
                <a:lnTo>
                  <a:pt x="15219" y="12763"/>
                </a:lnTo>
                <a:lnTo>
                  <a:pt x="15240" y="12763"/>
                </a:lnTo>
                <a:lnTo>
                  <a:pt x="15240" y="12763"/>
                </a:lnTo>
                <a:lnTo>
                  <a:pt x="15261" y="12763"/>
                </a:lnTo>
                <a:lnTo>
                  <a:pt x="15261" y="12763"/>
                </a:lnTo>
                <a:lnTo>
                  <a:pt x="15282" y="12763"/>
                </a:lnTo>
                <a:lnTo>
                  <a:pt x="15282" y="12763"/>
                </a:lnTo>
                <a:lnTo>
                  <a:pt x="15240" y="12763"/>
                </a:lnTo>
                <a:lnTo>
                  <a:pt x="15219" y="12763"/>
                </a:lnTo>
                <a:lnTo>
                  <a:pt x="15198" y="12763"/>
                </a:lnTo>
                <a:lnTo>
                  <a:pt x="15155" y="12763"/>
                </a:lnTo>
                <a:lnTo>
                  <a:pt x="15134" y="12763"/>
                </a:lnTo>
                <a:lnTo>
                  <a:pt x="15134" y="12763"/>
                </a:lnTo>
                <a:lnTo>
                  <a:pt x="15092" y="12763"/>
                </a:lnTo>
                <a:lnTo>
                  <a:pt x="15071" y="12763"/>
                </a:lnTo>
                <a:lnTo>
                  <a:pt x="15049" y="12763"/>
                </a:lnTo>
                <a:lnTo>
                  <a:pt x="15028" y="12763"/>
                </a:lnTo>
                <a:lnTo>
                  <a:pt x="15007" y="12763"/>
                </a:lnTo>
                <a:lnTo>
                  <a:pt x="14986" y="12763"/>
                </a:lnTo>
                <a:lnTo>
                  <a:pt x="14944" y="12763"/>
                </a:lnTo>
                <a:lnTo>
                  <a:pt x="14922" y="12763"/>
                </a:lnTo>
                <a:lnTo>
                  <a:pt x="14922" y="12763"/>
                </a:lnTo>
                <a:lnTo>
                  <a:pt x="14880" y="12763"/>
                </a:lnTo>
                <a:lnTo>
                  <a:pt x="14880" y="12763"/>
                </a:lnTo>
                <a:lnTo>
                  <a:pt x="14859" y="12763"/>
                </a:lnTo>
                <a:lnTo>
                  <a:pt x="14859" y="12763"/>
                </a:lnTo>
                <a:lnTo>
                  <a:pt x="14838" y="12763"/>
                </a:lnTo>
                <a:lnTo>
                  <a:pt x="14817" y="12763"/>
                </a:lnTo>
                <a:lnTo>
                  <a:pt x="14795" y="12763"/>
                </a:lnTo>
                <a:lnTo>
                  <a:pt x="14795" y="12763"/>
                </a:lnTo>
                <a:lnTo>
                  <a:pt x="14774" y="12763"/>
                </a:lnTo>
                <a:lnTo>
                  <a:pt x="14774" y="12763"/>
                </a:lnTo>
                <a:lnTo>
                  <a:pt x="14753" y="12763"/>
                </a:lnTo>
                <a:lnTo>
                  <a:pt x="14753" y="12763"/>
                </a:lnTo>
                <a:lnTo>
                  <a:pt x="14732" y="12763"/>
                </a:lnTo>
                <a:lnTo>
                  <a:pt x="14711" y="12763"/>
                </a:lnTo>
                <a:lnTo>
                  <a:pt x="14711" y="12763"/>
                </a:lnTo>
                <a:lnTo>
                  <a:pt x="14690" y="12763"/>
                </a:lnTo>
                <a:lnTo>
                  <a:pt x="14690" y="12763"/>
                </a:lnTo>
                <a:lnTo>
                  <a:pt x="14668" y="12763"/>
                </a:lnTo>
                <a:lnTo>
                  <a:pt x="14668" y="12763"/>
                </a:lnTo>
                <a:lnTo>
                  <a:pt x="14647" y="12763"/>
                </a:lnTo>
                <a:lnTo>
                  <a:pt x="14626" y="12763"/>
                </a:lnTo>
                <a:lnTo>
                  <a:pt x="14626" y="12785"/>
                </a:lnTo>
                <a:lnTo>
                  <a:pt x="14605" y="12785"/>
                </a:lnTo>
                <a:lnTo>
                  <a:pt x="14605" y="12785"/>
                </a:lnTo>
                <a:lnTo>
                  <a:pt x="14584" y="12785"/>
                </a:lnTo>
                <a:lnTo>
                  <a:pt x="14584" y="12785"/>
                </a:lnTo>
                <a:lnTo>
                  <a:pt x="14605" y="12806"/>
                </a:lnTo>
                <a:lnTo>
                  <a:pt x="14626" y="12806"/>
                </a:lnTo>
                <a:lnTo>
                  <a:pt x="14668" y="12806"/>
                </a:lnTo>
                <a:lnTo>
                  <a:pt x="14711" y="12806"/>
                </a:lnTo>
                <a:lnTo>
                  <a:pt x="14774" y="12806"/>
                </a:lnTo>
                <a:lnTo>
                  <a:pt x="14838" y="12806"/>
                </a:lnTo>
                <a:lnTo>
                  <a:pt x="14880" y="12806"/>
                </a:lnTo>
                <a:lnTo>
                  <a:pt x="14901" y="12806"/>
                </a:lnTo>
                <a:lnTo>
                  <a:pt x="14922" y="12806"/>
                </a:lnTo>
                <a:lnTo>
                  <a:pt x="14944" y="12806"/>
                </a:lnTo>
                <a:lnTo>
                  <a:pt x="14965" y="12806"/>
                </a:lnTo>
                <a:lnTo>
                  <a:pt x="14986" y="12806"/>
                </a:lnTo>
                <a:lnTo>
                  <a:pt x="15007" y="12806"/>
                </a:lnTo>
                <a:lnTo>
                  <a:pt x="15007" y="12806"/>
                </a:lnTo>
                <a:lnTo>
                  <a:pt x="15028" y="12806"/>
                </a:lnTo>
                <a:lnTo>
                  <a:pt x="15049" y="12806"/>
                </a:lnTo>
                <a:lnTo>
                  <a:pt x="15071" y="12806"/>
                </a:lnTo>
                <a:lnTo>
                  <a:pt x="15092" y="12806"/>
                </a:lnTo>
                <a:lnTo>
                  <a:pt x="15092" y="12806"/>
                </a:lnTo>
                <a:lnTo>
                  <a:pt x="15134" y="12806"/>
                </a:lnTo>
                <a:lnTo>
                  <a:pt x="15134" y="12806"/>
                </a:lnTo>
                <a:lnTo>
                  <a:pt x="15155" y="12806"/>
                </a:lnTo>
                <a:lnTo>
                  <a:pt x="15176" y="12806"/>
                </a:lnTo>
                <a:lnTo>
                  <a:pt x="15198" y="12806"/>
                </a:lnTo>
                <a:lnTo>
                  <a:pt x="15219" y="12827"/>
                </a:lnTo>
                <a:lnTo>
                  <a:pt x="15261" y="12827"/>
                </a:lnTo>
                <a:lnTo>
                  <a:pt x="15282" y="12827"/>
                </a:lnTo>
                <a:lnTo>
                  <a:pt x="15282" y="12827"/>
                </a:lnTo>
                <a:lnTo>
                  <a:pt x="15303" y="12827"/>
                </a:lnTo>
                <a:lnTo>
                  <a:pt x="15303" y="12827"/>
                </a:lnTo>
                <a:lnTo>
                  <a:pt x="15325" y="12827"/>
                </a:lnTo>
                <a:lnTo>
                  <a:pt x="15325" y="12827"/>
                </a:lnTo>
                <a:lnTo>
                  <a:pt x="15346" y="12827"/>
                </a:lnTo>
                <a:lnTo>
                  <a:pt x="15367" y="12827"/>
                </a:lnTo>
                <a:lnTo>
                  <a:pt x="15367" y="12827"/>
                </a:lnTo>
                <a:lnTo>
                  <a:pt x="15388" y="12827"/>
                </a:lnTo>
                <a:lnTo>
                  <a:pt x="15409" y="12827"/>
                </a:lnTo>
                <a:lnTo>
                  <a:pt x="15409" y="12827"/>
                </a:lnTo>
                <a:lnTo>
                  <a:pt x="15452" y="12827"/>
                </a:lnTo>
                <a:lnTo>
                  <a:pt x="15452" y="12827"/>
                </a:lnTo>
                <a:lnTo>
                  <a:pt x="15473" y="12827"/>
                </a:lnTo>
                <a:lnTo>
                  <a:pt x="15473" y="12827"/>
                </a:lnTo>
                <a:lnTo>
                  <a:pt x="15473" y="12827"/>
                </a:lnTo>
                <a:lnTo>
                  <a:pt x="15494" y="12827"/>
                </a:lnTo>
                <a:lnTo>
                  <a:pt x="15515" y="12827"/>
                </a:lnTo>
                <a:lnTo>
                  <a:pt x="15515" y="12827"/>
                </a:lnTo>
                <a:lnTo>
                  <a:pt x="15557" y="12827"/>
                </a:lnTo>
                <a:lnTo>
                  <a:pt x="15579" y="12827"/>
                </a:lnTo>
                <a:lnTo>
                  <a:pt x="15579" y="12827"/>
                </a:lnTo>
                <a:lnTo>
                  <a:pt x="15579" y="12848"/>
                </a:lnTo>
                <a:lnTo>
                  <a:pt x="15579" y="12869"/>
                </a:lnTo>
                <a:lnTo>
                  <a:pt x="15600" y="12869"/>
                </a:lnTo>
                <a:lnTo>
                  <a:pt x="15642" y="12869"/>
                </a:lnTo>
                <a:lnTo>
                  <a:pt x="15663" y="12890"/>
                </a:lnTo>
                <a:lnTo>
                  <a:pt x="15727" y="12912"/>
                </a:lnTo>
                <a:lnTo>
                  <a:pt x="15748" y="12912"/>
                </a:lnTo>
                <a:lnTo>
                  <a:pt x="15769" y="12933"/>
                </a:lnTo>
                <a:lnTo>
                  <a:pt x="15833" y="12954"/>
                </a:lnTo>
                <a:lnTo>
                  <a:pt x="15896" y="12975"/>
                </a:lnTo>
                <a:lnTo>
                  <a:pt x="15960" y="12996"/>
                </a:lnTo>
                <a:lnTo>
                  <a:pt x="16023" y="13017"/>
                </a:lnTo>
                <a:lnTo>
                  <a:pt x="16023" y="13039"/>
                </a:lnTo>
                <a:lnTo>
                  <a:pt x="16065" y="13060"/>
                </a:lnTo>
                <a:lnTo>
                  <a:pt x="16108" y="13081"/>
                </a:lnTo>
                <a:lnTo>
                  <a:pt x="16129" y="13102"/>
                </a:lnTo>
                <a:lnTo>
                  <a:pt x="16192" y="13102"/>
                </a:lnTo>
                <a:lnTo>
                  <a:pt x="16235" y="13102"/>
                </a:lnTo>
                <a:lnTo>
                  <a:pt x="16256" y="13102"/>
                </a:lnTo>
                <a:lnTo>
                  <a:pt x="16277" y="13102"/>
                </a:lnTo>
                <a:lnTo>
                  <a:pt x="16298" y="13123"/>
                </a:lnTo>
                <a:lnTo>
                  <a:pt x="16319" y="13123"/>
                </a:lnTo>
                <a:lnTo>
                  <a:pt x="16319" y="13123"/>
                </a:lnTo>
                <a:lnTo>
                  <a:pt x="16298" y="13081"/>
                </a:lnTo>
                <a:lnTo>
                  <a:pt x="16277" y="13081"/>
                </a:lnTo>
                <a:lnTo>
                  <a:pt x="16277" y="13060"/>
                </a:lnTo>
                <a:lnTo>
                  <a:pt x="16277" y="13039"/>
                </a:lnTo>
                <a:lnTo>
                  <a:pt x="16235" y="12996"/>
                </a:lnTo>
                <a:lnTo>
                  <a:pt x="16214" y="12975"/>
                </a:lnTo>
                <a:lnTo>
                  <a:pt x="16214" y="12954"/>
                </a:lnTo>
                <a:lnTo>
                  <a:pt x="16192" y="12912"/>
                </a:lnTo>
                <a:lnTo>
                  <a:pt x="16171" y="12912"/>
                </a:lnTo>
                <a:lnTo>
                  <a:pt x="16129" y="12869"/>
                </a:lnTo>
                <a:lnTo>
                  <a:pt x="16108" y="12848"/>
                </a:lnTo>
                <a:lnTo>
                  <a:pt x="16065" y="12848"/>
                </a:lnTo>
                <a:lnTo>
                  <a:pt x="16065" y="12827"/>
                </a:lnTo>
                <a:lnTo>
                  <a:pt x="16065" y="12827"/>
                </a:lnTo>
                <a:lnTo>
                  <a:pt x="16087" y="12827"/>
                </a:lnTo>
                <a:lnTo>
                  <a:pt x="16087" y="12827"/>
                </a:lnTo>
                <a:lnTo>
                  <a:pt x="16108" y="12827"/>
                </a:lnTo>
                <a:lnTo>
                  <a:pt x="16171" y="12827"/>
                </a:lnTo>
                <a:lnTo>
                  <a:pt x="16171" y="12827"/>
                </a:lnTo>
                <a:lnTo>
                  <a:pt x="16214" y="12827"/>
                </a:lnTo>
                <a:lnTo>
                  <a:pt x="16235" y="12827"/>
                </a:lnTo>
                <a:lnTo>
                  <a:pt x="16277" y="12827"/>
                </a:lnTo>
                <a:lnTo>
                  <a:pt x="16277" y="12827"/>
                </a:lnTo>
                <a:lnTo>
                  <a:pt x="16235" y="12827"/>
                </a:lnTo>
                <a:lnTo>
                  <a:pt x="16171" y="12806"/>
                </a:lnTo>
                <a:lnTo>
                  <a:pt x="16108" y="12806"/>
                </a:lnTo>
                <a:lnTo>
                  <a:pt x="16002" y="12785"/>
                </a:lnTo>
                <a:lnTo>
                  <a:pt x="15896" y="12785"/>
                </a:lnTo>
                <a:lnTo>
                  <a:pt x="15811" y="12785"/>
                </a:lnTo>
                <a:lnTo>
                  <a:pt x="15727" y="12763"/>
                </a:lnTo>
                <a:lnTo>
                  <a:pt x="15684" y="12742"/>
                </a:lnTo>
                <a:lnTo>
                  <a:pt x="15663" y="12742"/>
                </a:lnTo>
                <a:lnTo>
                  <a:pt x="15642" y="12742"/>
                </a:lnTo>
                <a:lnTo>
                  <a:pt x="15642" y="12742"/>
                </a:lnTo>
                <a:lnTo>
                  <a:pt x="15663" y="12742"/>
                </a:lnTo>
                <a:lnTo>
                  <a:pt x="15727" y="12742"/>
                </a:lnTo>
                <a:lnTo>
                  <a:pt x="15790" y="12742"/>
                </a:lnTo>
                <a:lnTo>
                  <a:pt x="15875" y="12742"/>
                </a:lnTo>
                <a:lnTo>
                  <a:pt x="15938" y="12742"/>
                </a:lnTo>
                <a:lnTo>
                  <a:pt x="16002" y="12742"/>
                </a:lnTo>
                <a:lnTo>
                  <a:pt x="16065" y="12742"/>
                </a:lnTo>
                <a:lnTo>
                  <a:pt x="16129" y="12742"/>
                </a:lnTo>
                <a:lnTo>
                  <a:pt x="16171" y="12742"/>
                </a:lnTo>
                <a:lnTo>
                  <a:pt x="16192" y="12742"/>
                </a:lnTo>
                <a:lnTo>
                  <a:pt x="16214" y="12742"/>
                </a:lnTo>
                <a:lnTo>
                  <a:pt x="16235" y="12742"/>
                </a:lnTo>
                <a:lnTo>
                  <a:pt x="16256" y="12742"/>
                </a:lnTo>
                <a:lnTo>
                  <a:pt x="16256" y="12742"/>
                </a:lnTo>
                <a:lnTo>
                  <a:pt x="16235" y="12742"/>
                </a:lnTo>
                <a:lnTo>
                  <a:pt x="16214" y="12742"/>
                </a:lnTo>
                <a:lnTo>
                  <a:pt x="16214" y="12742"/>
                </a:lnTo>
                <a:lnTo>
                  <a:pt x="16214" y="12742"/>
                </a:lnTo>
                <a:lnTo>
                  <a:pt x="16214" y="12763"/>
                </a:lnTo>
                <a:lnTo>
                  <a:pt x="16235" y="12785"/>
                </a:lnTo>
                <a:lnTo>
                  <a:pt x="16298" y="12785"/>
                </a:lnTo>
                <a:lnTo>
                  <a:pt x="16362" y="12785"/>
                </a:lnTo>
                <a:lnTo>
                  <a:pt x="16446" y="12806"/>
                </a:lnTo>
                <a:lnTo>
                  <a:pt x="16489" y="12848"/>
                </a:lnTo>
                <a:lnTo>
                  <a:pt x="16552" y="12848"/>
                </a:lnTo>
                <a:lnTo>
                  <a:pt x="16616" y="12848"/>
                </a:lnTo>
                <a:lnTo>
                  <a:pt x="16658" y="12848"/>
                </a:lnTo>
                <a:lnTo>
                  <a:pt x="16679" y="12848"/>
                </a:lnTo>
                <a:lnTo>
                  <a:pt x="16700" y="12848"/>
                </a:lnTo>
                <a:lnTo>
                  <a:pt x="16700" y="12848"/>
                </a:lnTo>
                <a:lnTo>
                  <a:pt x="16700" y="12869"/>
                </a:lnTo>
                <a:lnTo>
                  <a:pt x="16700" y="12869"/>
                </a:lnTo>
                <a:lnTo>
                  <a:pt x="16679" y="12890"/>
                </a:lnTo>
                <a:lnTo>
                  <a:pt x="16658" y="12890"/>
                </a:lnTo>
                <a:lnTo>
                  <a:pt x="16658" y="12912"/>
                </a:lnTo>
                <a:lnTo>
                  <a:pt x="16637" y="12933"/>
                </a:lnTo>
                <a:lnTo>
                  <a:pt x="16616" y="12933"/>
                </a:lnTo>
                <a:lnTo>
                  <a:pt x="16595" y="12933"/>
                </a:lnTo>
                <a:lnTo>
                  <a:pt x="16595" y="12933"/>
                </a:lnTo>
                <a:lnTo>
                  <a:pt x="16573" y="12933"/>
                </a:lnTo>
                <a:lnTo>
                  <a:pt x="16552" y="12954"/>
                </a:lnTo>
                <a:lnTo>
                  <a:pt x="16531" y="12954"/>
                </a:lnTo>
                <a:lnTo>
                  <a:pt x="16510" y="12954"/>
                </a:lnTo>
                <a:lnTo>
                  <a:pt x="16510" y="12954"/>
                </a:lnTo>
                <a:lnTo>
                  <a:pt x="16489" y="12954"/>
                </a:lnTo>
                <a:lnTo>
                  <a:pt x="16489" y="12954"/>
                </a:lnTo>
                <a:lnTo>
                  <a:pt x="16489" y="12954"/>
                </a:lnTo>
                <a:lnTo>
                  <a:pt x="16510" y="12954"/>
                </a:lnTo>
                <a:lnTo>
                  <a:pt x="16552" y="12933"/>
                </a:lnTo>
                <a:lnTo>
                  <a:pt x="16573" y="12912"/>
                </a:lnTo>
                <a:lnTo>
                  <a:pt x="16595" y="12912"/>
                </a:lnTo>
                <a:lnTo>
                  <a:pt x="16637" y="12890"/>
                </a:lnTo>
                <a:lnTo>
                  <a:pt x="16637" y="12890"/>
                </a:lnTo>
                <a:lnTo>
                  <a:pt x="16658" y="12869"/>
                </a:lnTo>
                <a:lnTo>
                  <a:pt x="16679" y="12848"/>
                </a:lnTo>
                <a:lnTo>
                  <a:pt x="16679" y="12848"/>
                </a:lnTo>
                <a:lnTo>
                  <a:pt x="16679" y="12827"/>
                </a:lnTo>
                <a:lnTo>
                  <a:pt x="16679" y="12827"/>
                </a:lnTo>
                <a:lnTo>
                  <a:pt x="16637" y="12806"/>
                </a:lnTo>
                <a:lnTo>
                  <a:pt x="16595" y="12806"/>
                </a:lnTo>
                <a:lnTo>
                  <a:pt x="16552" y="12785"/>
                </a:lnTo>
                <a:lnTo>
                  <a:pt x="16446" y="12763"/>
                </a:lnTo>
                <a:lnTo>
                  <a:pt x="16319" y="12742"/>
                </a:lnTo>
                <a:lnTo>
                  <a:pt x="16235" y="12721"/>
                </a:lnTo>
                <a:lnTo>
                  <a:pt x="16192" y="12721"/>
                </a:lnTo>
                <a:lnTo>
                  <a:pt x="16150" y="12721"/>
                </a:lnTo>
                <a:lnTo>
                  <a:pt x="16150" y="12721"/>
                </a:lnTo>
                <a:lnTo>
                  <a:pt x="16150" y="12700"/>
                </a:lnTo>
                <a:lnTo>
                  <a:pt x="16150" y="12700"/>
                </a:lnTo>
                <a:lnTo>
                  <a:pt x="16171" y="12700"/>
                </a:lnTo>
                <a:lnTo>
                  <a:pt x="16171" y="12679"/>
                </a:lnTo>
                <a:lnTo>
                  <a:pt x="16171" y="12658"/>
                </a:lnTo>
                <a:lnTo>
                  <a:pt x="16171" y="12658"/>
                </a:lnTo>
                <a:lnTo>
                  <a:pt x="16171" y="12636"/>
                </a:lnTo>
                <a:lnTo>
                  <a:pt x="16171" y="12636"/>
                </a:lnTo>
                <a:lnTo>
                  <a:pt x="16150" y="12636"/>
                </a:lnTo>
                <a:lnTo>
                  <a:pt x="16150" y="12615"/>
                </a:lnTo>
                <a:lnTo>
                  <a:pt x="16129" y="12615"/>
                </a:lnTo>
                <a:lnTo>
                  <a:pt x="16108" y="12615"/>
                </a:lnTo>
                <a:lnTo>
                  <a:pt x="16108" y="12615"/>
                </a:lnTo>
                <a:lnTo>
                  <a:pt x="16087" y="12615"/>
                </a:lnTo>
                <a:lnTo>
                  <a:pt x="16044" y="12594"/>
                </a:lnTo>
                <a:lnTo>
                  <a:pt x="16023" y="12594"/>
                </a:lnTo>
                <a:lnTo>
                  <a:pt x="16002" y="12573"/>
                </a:lnTo>
                <a:lnTo>
                  <a:pt x="15981" y="12552"/>
                </a:lnTo>
                <a:lnTo>
                  <a:pt x="15960" y="12552"/>
                </a:lnTo>
                <a:lnTo>
                  <a:pt x="15938" y="12552"/>
                </a:lnTo>
                <a:lnTo>
                  <a:pt x="15938" y="12531"/>
                </a:lnTo>
                <a:lnTo>
                  <a:pt x="15938" y="12531"/>
                </a:lnTo>
                <a:lnTo>
                  <a:pt x="15960" y="12531"/>
                </a:lnTo>
                <a:lnTo>
                  <a:pt x="15981" y="12531"/>
                </a:lnTo>
                <a:lnTo>
                  <a:pt x="16023" y="12531"/>
                </a:lnTo>
                <a:lnTo>
                  <a:pt x="16044" y="12531"/>
                </a:lnTo>
                <a:lnTo>
                  <a:pt x="16087" y="12531"/>
                </a:lnTo>
                <a:lnTo>
                  <a:pt x="16108" y="12531"/>
                </a:lnTo>
                <a:lnTo>
                  <a:pt x="16129" y="12531"/>
                </a:lnTo>
                <a:lnTo>
                  <a:pt x="16150" y="12531"/>
                </a:lnTo>
                <a:lnTo>
                  <a:pt x="16192" y="12531"/>
                </a:lnTo>
                <a:lnTo>
                  <a:pt x="16192" y="12531"/>
                </a:lnTo>
                <a:lnTo>
                  <a:pt x="16214" y="12531"/>
                </a:lnTo>
                <a:lnTo>
                  <a:pt x="16214" y="12531"/>
                </a:lnTo>
                <a:lnTo>
                  <a:pt x="16235" y="12531"/>
                </a:lnTo>
                <a:lnTo>
                  <a:pt x="16256" y="12531"/>
                </a:lnTo>
                <a:lnTo>
                  <a:pt x="16256" y="12531"/>
                </a:lnTo>
                <a:lnTo>
                  <a:pt x="16277" y="12531"/>
                </a:lnTo>
                <a:lnTo>
                  <a:pt x="16277" y="12531"/>
                </a:lnTo>
                <a:lnTo>
                  <a:pt x="16298" y="12531"/>
                </a:lnTo>
                <a:lnTo>
                  <a:pt x="16319" y="12552"/>
                </a:lnTo>
                <a:lnTo>
                  <a:pt x="16362" y="12573"/>
                </a:lnTo>
                <a:lnTo>
                  <a:pt x="16383" y="12594"/>
                </a:lnTo>
                <a:lnTo>
                  <a:pt x="16425" y="12615"/>
                </a:lnTo>
                <a:lnTo>
                  <a:pt x="16446" y="12636"/>
                </a:lnTo>
                <a:lnTo>
                  <a:pt x="16489" y="12636"/>
                </a:lnTo>
                <a:lnTo>
                  <a:pt x="16510" y="12658"/>
                </a:lnTo>
                <a:lnTo>
                  <a:pt x="16531" y="12679"/>
                </a:lnTo>
                <a:lnTo>
                  <a:pt x="16531" y="12679"/>
                </a:lnTo>
                <a:lnTo>
                  <a:pt x="16531" y="12700"/>
                </a:lnTo>
                <a:lnTo>
                  <a:pt x="16531" y="12700"/>
                </a:lnTo>
                <a:lnTo>
                  <a:pt x="16552" y="12700"/>
                </a:lnTo>
                <a:lnTo>
                  <a:pt x="16552" y="12721"/>
                </a:lnTo>
                <a:lnTo>
                  <a:pt x="16552" y="12721"/>
                </a:lnTo>
                <a:lnTo>
                  <a:pt x="16552" y="12742"/>
                </a:lnTo>
                <a:lnTo>
                  <a:pt x="16552" y="12742"/>
                </a:lnTo>
                <a:lnTo>
                  <a:pt x="16552" y="12763"/>
                </a:lnTo>
                <a:lnTo>
                  <a:pt x="16552" y="12763"/>
                </a:lnTo>
                <a:lnTo>
                  <a:pt x="16573" y="12785"/>
                </a:lnTo>
                <a:lnTo>
                  <a:pt x="16573" y="12785"/>
                </a:lnTo>
                <a:lnTo>
                  <a:pt x="16573" y="12785"/>
                </a:lnTo>
                <a:lnTo>
                  <a:pt x="16595" y="12785"/>
                </a:lnTo>
                <a:lnTo>
                  <a:pt x="16595" y="12785"/>
                </a:lnTo>
                <a:lnTo>
                  <a:pt x="16595" y="12806"/>
                </a:lnTo>
                <a:lnTo>
                  <a:pt x="16637" y="12806"/>
                </a:lnTo>
                <a:lnTo>
                  <a:pt x="16658" y="12827"/>
                </a:lnTo>
                <a:lnTo>
                  <a:pt x="16679" y="12827"/>
                </a:lnTo>
                <a:lnTo>
                  <a:pt x="16700" y="12827"/>
                </a:lnTo>
                <a:lnTo>
                  <a:pt x="16722" y="12827"/>
                </a:lnTo>
                <a:lnTo>
                  <a:pt x="16722" y="12827"/>
                </a:lnTo>
                <a:lnTo>
                  <a:pt x="16722" y="12806"/>
                </a:lnTo>
                <a:lnTo>
                  <a:pt x="16722" y="12785"/>
                </a:lnTo>
                <a:lnTo>
                  <a:pt x="16722" y="12785"/>
                </a:lnTo>
                <a:lnTo>
                  <a:pt x="16722" y="12763"/>
                </a:lnTo>
                <a:lnTo>
                  <a:pt x="16722" y="12763"/>
                </a:lnTo>
                <a:lnTo>
                  <a:pt x="16743" y="12742"/>
                </a:lnTo>
                <a:lnTo>
                  <a:pt x="16743" y="12742"/>
                </a:lnTo>
                <a:lnTo>
                  <a:pt x="16743" y="12721"/>
                </a:lnTo>
                <a:lnTo>
                  <a:pt x="16743" y="12700"/>
                </a:lnTo>
                <a:lnTo>
                  <a:pt x="16722" y="12700"/>
                </a:lnTo>
                <a:lnTo>
                  <a:pt x="16722" y="12679"/>
                </a:lnTo>
                <a:lnTo>
                  <a:pt x="16700" y="12679"/>
                </a:lnTo>
                <a:lnTo>
                  <a:pt x="16679" y="12658"/>
                </a:lnTo>
                <a:lnTo>
                  <a:pt x="16679" y="12658"/>
                </a:lnTo>
                <a:lnTo>
                  <a:pt x="16658" y="12636"/>
                </a:lnTo>
                <a:lnTo>
                  <a:pt x="16637" y="12636"/>
                </a:lnTo>
                <a:lnTo>
                  <a:pt x="16616" y="12615"/>
                </a:lnTo>
                <a:lnTo>
                  <a:pt x="16616" y="12594"/>
                </a:lnTo>
                <a:lnTo>
                  <a:pt x="16595" y="12594"/>
                </a:lnTo>
                <a:lnTo>
                  <a:pt x="16552" y="12573"/>
                </a:lnTo>
                <a:lnTo>
                  <a:pt x="16552" y="12573"/>
                </a:lnTo>
                <a:lnTo>
                  <a:pt x="16531" y="12573"/>
                </a:lnTo>
                <a:lnTo>
                  <a:pt x="16531" y="12552"/>
                </a:lnTo>
                <a:lnTo>
                  <a:pt x="16510" y="12552"/>
                </a:lnTo>
                <a:lnTo>
                  <a:pt x="16489" y="12552"/>
                </a:lnTo>
                <a:lnTo>
                  <a:pt x="16489" y="12531"/>
                </a:lnTo>
                <a:lnTo>
                  <a:pt x="16468" y="12531"/>
                </a:lnTo>
                <a:lnTo>
                  <a:pt x="16468" y="12531"/>
                </a:lnTo>
                <a:lnTo>
                  <a:pt x="16468" y="12509"/>
                </a:lnTo>
                <a:lnTo>
                  <a:pt x="16446" y="12509"/>
                </a:lnTo>
                <a:lnTo>
                  <a:pt x="16425" y="12509"/>
                </a:lnTo>
                <a:lnTo>
                  <a:pt x="16425" y="12488"/>
                </a:lnTo>
                <a:lnTo>
                  <a:pt x="16404" y="12488"/>
                </a:lnTo>
                <a:lnTo>
                  <a:pt x="16404" y="12488"/>
                </a:lnTo>
                <a:lnTo>
                  <a:pt x="16383" y="12467"/>
                </a:lnTo>
                <a:lnTo>
                  <a:pt x="16383" y="12467"/>
                </a:lnTo>
                <a:lnTo>
                  <a:pt x="16362" y="12467"/>
                </a:lnTo>
                <a:lnTo>
                  <a:pt x="16341" y="12467"/>
                </a:lnTo>
                <a:lnTo>
                  <a:pt x="16319" y="12446"/>
                </a:lnTo>
                <a:lnTo>
                  <a:pt x="16298" y="12446"/>
                </a:lnTo>
                <a:lnTo>
                  <a:pt x="16277" y="12446"/>
                </a:lnTo>
                <a:lnTo>
                  <a:pt x="16235" y="12446"/>
                </a:lnTo>
                <a:lnTo>
                  <a:pt x="16192" y="12425"/>
                </a:lnTo>
                <a:lnTo>
                  <a:pt x="16171" y="12404"/>
                </a:lnTo>
                <a:lnTo>
                  <a:pt x="16150" y="12404"/>
                </a:lnTo>
                <a:lnTo>
                  <a:pt x="16150" y="12404"/>
                </a:lnTo>
                <a:lnTo>
                  <a:pt x="16108" y="12382"/>
                </a:lnTo>
                <a:lnTo>
                  <a:pt x="16108" y="12382"/>
                </a:lnTo>
                <a:lnTo>
                  <a:pt x="16087" y="12382"/>
                </a:lnTo>
                <a:lnTo>
                  <a:pt x="16087" y="12382"/>
                </a:lnTo>
                <a:lnTo>
                  <a:pt x="16065" y="12382"/>
                </a:lnTo>
                <a:lnTo>
                  <a:pt x="16044" y="12382"/>
                </a:lnTo>
                <a:lnTo>
                  <a:pt x="16044" y="12382"/>
                </a:lnTo>
                <a:lnTo>
                  <a:pt x="16023" y="12361"/>
                </a:lnTo>
                <a:lnTo>
                  <a:pt x="16023" y="12361"/>
                </a:lnTo>
                <a:lnTo>
                  <a:pt x="16023" y="12361"/>
                </a:lnTo>
                <a:lnTo>
                  <a:pt x="16044" y="12361"/>
                </a:lnTo>
                <a:lnTo>
                  <a:pt x="16087" y="12361"/>
                </a:lnTo>
                <a:lnTo>
                  <a:pt x="16108" y="12361"/>
                </a:lnTo>
                <a:lnTo>
                  <a:pt x="16129" y="12361"/>
                </a:lnTo>
                <a:lnTo>
                  <a:pt x="16150" y="12361"/>
                </a:lnTo>
                <a:lnTo>
                  <a:pt x="16192" y="12361"/>
                </a:lnTo>
                <a:lnTo>
                  <a:pt x="16235" y="12361"/>
                </a:lnTo>
                <a:lnTo>
                  <a:pt x="16256" y="12382"/>
                </a:lnTo>
                <a:lnTo>
                  <a:pt x="16298" y="12404"/>
                </a:lnTo>
                <a:lnTo>
                  <a:pt x="16298" y="12404"/>
                </a:lnTo>
                <a:lnTo>
                  <a:pt x="16319" y="12425"/>
                </a:lnTo>
                <a:lnTo>
                  <a:pt x="16341" y="12425"/>
                </a:lnTo>
                <a:lnTo>
                  <a:pt x="16362" y="12446"/>
                </a:lnTo>
                <a:lnTo>
                  <a:pt x="16383" y="12446"/>
                </a:lnTo>
                <a:lnTo>
                  <a:pt x="16404" y="12446"/>
                </a:lnTo>
                <a:lnTo>
                  <a:pt x="16425" y="12467"/>
                </a:lnTo>
                <a:lnTo>
                  <a:pt x="16425" y="12467"/>
                </a:lnTo>
                <a:lnTo>
                  <a:pt x="16425" y="12467"/>
                </a:lnTo>
                <a:lnTo>
                  <a:pt x="16425" y="12467"/>
                </a:lnTo>
                <a:lnTo>
                  <a:pt x="16446" y="12467"/>
                </a:lnTo>
                <a:lnTo>
                  <a:pt x="16446" y="12488"/>
                </a:lnTo>
                <a:lnTo>
                  <a:pt x="16446" y="12488"/>
                </a:lnTo>
                <a:lnTo>
                  <a:pt x="16468" y="12509"/>
                </a:lnTo>
                <a:lnTo>
                  <a:pt x="16468" y="12509"/>
                </a:lnTo>
                <a:lnTo>
                  <a:pt x="16468" y="12509"/>
                </a:lnTo>
                <a:lnTo>
                  <a:pt x="16468" y="12531"/>
                </a:lnTo>
                <a:lnTo>
                  <a:pt x="16468" y="12531"/>
                </a:lnTo>
                <a:lnTo>
                  <a:pt x="16468" y="12552"/>
                </a:lnTo>
                <a:lnTo>
                  <a:pt x="16468" y="12573"/>
                </a:lnTo>
                <a:lnTo>
                  <a:pt x="16468" y="12594"/>
                </a:lnTo>
                <a:lnTo>
                  <a:pt x="16468" y="12594"/>
                </a:lnTo>
                <a:lnTo>
                  <a:pt x="16468" y="12615"/>
                </a:lnTo>
                <a:lnTo>
                  <a:pt x="16489" y="12615"/>
                </a:lnTo>
                <a:lnTo>
                  <a:pt x="16489" y="12615"/>
                </a:lnTo>
                <a:lnTo>
                  <a:pt x="16510" y="12615"/>
                </a:lnTo>
                <a:lnTo>
                  <a:pt x="16510" y="12636"/>
                </a:lnTo>
                <a:lnTo>
                  <a:pt x="16531" y="12636"/>
                </a:lnTo>
                <a:lnTo>
                  <a:pt x="16531" y="12636"/>
                </a:lnTo>
                <a:lnTo>
                  <a:pt x="16531" y="12658"/>
                </a:lnTo>
                <a:lnTo>
                  <a:pt x="16531" y="12658"/>
                </a:lnTo>
                <a:lnTo>
                  <a:pt x="16531" y="12679"/>
                </a:lnTo>
                <a:lnTo>
                  <a:pt x="16531" y="12679"/>
                </a:lnTo>
                <a:lnTo>
                  <a:pt x="16531" y="12700"/>
                </a:lnTo>
                <a:lnTo>
                  <a:pt x="16531" y="12700"/>
                </a:lnTo>
                <a:lnTo>
                  <a:pt x="16531" y="12721"/>
                </a:lnTo>
                <a:lnTo>
                  <a:pt x="16552" y="12742"/>
                </a:lnTo>
                <a:lnTo>
                  <a:pt x="16552" y="12763"/>
                </a:lnTo>
                <a:lnTo>
                  <a:pt x="16552" y="12785"/>
                </a:lnTo>
                <a:lnTo>
                  <a:pt x="16552" y="12785"/>
                </a:lnTo>
                <a:lnTo>
                  <a:pt x="16552" y="12785"/>
                </a:lnTo>
                <a:lnTo>
                  <a:pt x="16552" y="12806"/>
                </a:lnTo>
                <a:lnTo>
                  <a:pt x="16552" y="12806"/>
                </a:lnTo>
                <a:lnTo>
                  <a:pt x="16552" y="12806"/>
                </a:lnTo>
                <a:lnTo>
                  <a:pt x="16552" y="12827"/>
                </a:lnTo>
                <a:lnTo>
                  <a:pt x="16573" y="12827"/>
                </a:lnTo>
                <a:lnTo>
                  <a:pt x="16573" y="12827"/>
                </a:lnTo>
                <a:lnTo>
                  <a:pt x="16573" y="12827"/>
                </a:lnTo>
                <a:lnTo>
                  <a:pt x="16595" y="12827"/>
                </a:lnTo>
                <a:lnTo>
                  <a:pt x="16573" y="12827"/>
                </a:lnTo>
                <a:lnTo>
                  <a:pt x="16552" y="12827"/>
                </a:lnTo>
                <a:lnTo>
                  <a:pt x="16531" y="12827"/>
                </a:lnTo>
                <a:lnTo>
                  <a:pt x="16510" y="12827"/>
                </a:lnTo>
                <a:lnTo>
                  <a:pt x="16489" y="12827"/>
                </a:lnTo>
                <a:lnTo>
                  <a:pt x="16468" y="12827"/>
                </a:lnTo>
                <a:lnTo>
                  <a:pt x="16446" y="12827"/>
                </a:lnTo>
                <a:lnTo>
                  <a:pt x="16425" y="12827"/>
                </a:lnTo>
                <a:lnTo>
                  <a:pt x="16404" y="12827"/>
                </a:lnTo>
                <a:lnTo>
                  <a:pt x="16383" y="12827"/>
                </a:lnTo>
                <a:lnTo>
                  <a:pt x="16362" y="12827"/>
                </a:lnTo>
                <a:lnTo>
                  <a:pt x="16319" y="12827"/>
                </a:lnTo>
                <a:lnTo>
                  <a:pt x="16298" y="12827"/>
                </a:lnTo>
                <a:lnTo>
                  <a:pt x="16277" y="12827"/>
                </a:lnTo>
                <a:lnTo>
                  <a:pt x="16256" y="12827"/>
                </a:lnTo>
                <a:lnTo>
                  <a:pt x="16235" y="12827"/>
                </a:lnTo>
                <a:lnTo>
                  <a:pt x="16214" y="12848"/>
                </a:lnTo>
                <a:lnTo>
                  <a:pt x="16214" y="12848"/>
                </a:lnTo>
                <a:lnTo>
                  <a:pt x="16192" y="12848"/>
                </a:lnTo>
                <a:lnTo>
                  <a:pt x="16214" y="12848"/>
                </a:lnTo>
                <a:lnTo>
                  <a:pt x="16256" y="12848"/>
                </a:lnTo>
                <a:lnTo>
                  <a:pt x="16298" y="12848"/>
                </a:lnTo>
                <a:lnTo>
                  <a:pt x="16319" y="12848"/>
                </a:lnTo>
                <a:lnTo>
                  <a:pt x="16362" y="12848"/>
                </a:lnTo>
                <a:lnTo>
                  <a:pt x="16425" y="12848"/>
                </a:lnTo>
                <a:lnTo>
                  <a:pt x="16446" y="12848"/>
                </a:lnTo>
                <a:lnTo>
                  <a:pt x="16489" y="12848"/>
                </a:lnTo>
                <a:lnTo>
                  <a:pt x="16510" y="12848"/>
                </a:lnTo>
                <a:lnTo>
                  <a:pt x="16489" y="12848"/>
                </a:lnTo>
                <a:lnTo>
                  <a:pt x="16468" y="12848"/>
                </a:lnTo>
                <a:lnTo>
                  <a:pt x="16425" y="12848"/>
                </a:lnTo>
                <a:lnTo>
                  <a:pt x="16383" y="12848"/>
                </a:lnTo>
                <a:lnTo>
                  <a:pt x="16362" y="12848"/>
                </a:lnTo>
                <a:lnTo>
                  <a:pt x="16341" y="12848"/>
                </a:lnTo>
                <a:lnTo>
                  <a:pt x="16298" y="12848"/>
                </a:lnTo>
                <a:lnTo>
                  <a:pt x="16277" y="12848"/>
                </a:lnTo>
                <a:lnTo>
                  <a:pt x="16256" y="12848"/>
                </a:lnTo>
                <a:lnTo>
                  <a:pt x="16214" y="12869"/>
                </a:lnTo>
                <a:lnTo>
                  <a:pt x="16192" y="12869"/>
                </a:lnTo>
                <a:lnTo>
                  <a:pt x="16192" y="12869"/>
                </a:lnTo>
                <a:lnTo>
                  <a:pt x="16171" y="12869"/>
                </a:lnTo>
                <a:lnTo>
                  <a:pt x="16150" y="12869"/>
                </a:lnTo>
                <a:lnTo>
                  <a:pt x="16129" y="12890"/>
                </a:lnTo>
                <a:lnTo>
                  <a:pt x="16129" y="12890"/>
                </a:lnTo>
                <a:lnTo>
                  <a:pt x="16150" y="12890"/>
                </a:lnTo>
                <a:lnTo>
                  <a:pt x="16171" y="12890"/>
                </a:lnTo>
                <a:lnTo>
                  <a:pt x="16256" y="12890"/>
                </a:lnTo>
                <a:lnTo>
                  <a:pt x="16298" y="12890"/>
                </a:lnTo>
                <a:lnTo>
                  <a:pt x="16319" y="12890"/>
                </a:lnTo>
                <a:lnTo>
                  <a:pt x="16362" y="12890"/>
                </a:lnTo>
                <a:lnTo>
                  <a:pt x="16362" y="12869"/>
                </a:lnTo>
                <a:lnTo>
                  <a:pt x="16341" y="12869"/>
                </a:lnTo>
                <a:lnTo>
                  <a:pt x="16319" y="12848"/>
                </a:lnTo>
                <a:lnTo>
                  <a:pt x="16256" y="12848"/>
                </a:lnTo>
                <a:lnTo>
                  <a:pt x="16171" y="12848"/>
                </a:lnTo>
                <a:lnTo>
                  <a:pt x="16108" y="12827"/>
                </a:lnTo>
                <a:lnTo>
                  <a:pt x="16002" y="12827"/>
                </a:lnTo>
                <a:lnTo>
                  <a:pt x="15938" y="12806"/>
                </a:lnTo>
                <a:lnTo>
                  <a:pt x="15896" y="12785"/>
                </a:lnTo>
                <a:lnTo>
                  <a:pt x="15833" y="12785"/>
                </a:lnTo>
                <a:lnTo>
                  <a:pt x="15790" y="12742"/>
                </a:lnTo>
                <a:lnTo>
                  <a:pt x="15748" y="12721"/>
                </a:lnTo>
                <a:lnTo>
                  <a:pt x="15684" y="12721"/>
                </a:lnTo>
                <a:lnTo>
                  <a:pt x="15621" y="12721"/>
                </a:lnTo>
                <a:lnTo>
                  <a:pt x="15579" y="12721"/>
                </a:lnTo>
                <a:lnTo>
                  <a:pt x="15536" y="12721"/>
                </a:lnTo>
                <a:lnTo>
                  <a:pt x="15473" y="12721"/>
                </a:lnTo>
                <a:lnTo>
                  <a:pt x="15430" y="12721"/>
                </a:lnTo>
                <a:lnTo>
                  <a:pt x="15430" y="12721"/>
                </a:lnTo>
                <a:lnTo>
                  <a:pt x="15409" y="12721"/>
                </a:lnTo>
                <a:lnTo>
                  <a:pt x="15409" y="12679"/>
                </a:lnTo>
                <a:lnTo>
                  <a:pt x="15409" y="12658"/>
                </a:lnTo>
                <a:lnTo>
                  <a:pt x="15430" y="12658"/>
                </a:lnTo>
                <a:lnTo>
                  <a:pt x="15494" y="12615"/>
                </a:lnTo>
                <a:lnTo>
                  <a:pt x="15557" y="12594"/>
                </a:lnTo>
                <a:lnTo>
                  <a:pt x="15621" y="12573"/>
                </a:lnTo>
                <a:lnTo>
                  <a:pt x="15706" y="12573"/>
                </a:lnTo>
                <a:lnTo>
                  <a:pt x="15769" y="12573"/>
                </a:lnTo>
                <a:lnTo>
                  <a:pt x="15811" y="12573"/>
                </a:lnTo>
                <a:lnTo>
                  <a:pt x="15875" y="12573"/>
                </a:lnTo>
                <a:lnTo>
                  <a:pt x="15896" y="12552"/>
                </a:lnTo>
                <a:lnTo>
                  <a:pt x="15917" y="12552"/>
                </a:lnTo>
                <a:lnTo>
                  <a:pt x="15896" y="12552"/>
                </a:lnTo>
                <a:lnTo>
                  <a:pt x="15875" y="12552"/>
                </a:lnTo>
                <a:lnTo>
                  <a:pt x="15875" y="12552"/>
                </a:lnTo>
                <a:lnTo>
                  <a:pt x="15854" y="12552"/>
                </a:lnTo>
                <a:lnTo>
                  <a:pt x="15811" y="12552"/>
                </a:lnTo>
                <a:lnTo>
                  <a:pt x="15769" y="12552"/>
                </a:lnTo>
                <a:lnTo>
                  <a:pt x="15706" y="12552"/>
                </a:lnTo>
                <a:lnTo>
                  <a:pt x="15642" y="12552"/>
                </a:lnTo>
                <a:lnTo>
                  <a:pt x="15579" y="12552"/>
                </a:lnTo>
                <a:lnTo>
                  <a:pt x="15536" y="12552"/>
                </a:lnTo>
                <a:lnTo>
                  <a:pt x="15494" y="12552"/>
                </a:lnTo>
                <a:lnTo>
                  <a:pt x="15473" y="12552"/>
                </a:lnTo>
                <a:lnTo>
                  <a:pt x="15473" y="12552"/>
                </a:lnTo>
                <a:lnTo>
                  <a:pt x="15473" y="12531"/>
                </a:lnTo>
                <a:lnTo>
                  <a:pt x="15473" y="12509"/>
                </a:lnTo>
                <a:lnTo>
                  <a:pt x="15494" y="12488"/>
                </a:lnTo>
                <a:lnTo>
                  <a:pt x="15536" y="12467"/>
                </a:lnTo>
                <a:lnTo>
                  <a:pt x="15579" y="12467"/>
                </a:lnTo>
                <a:lnTo>
                  <a:pt x="15642" y="12425"/>
                </a:lnTo>
                <a:lnTo>
                  <a:pt x="15748" y="12425"/>
                </a:lnTo>
                <a:lnTo>
                  <a:pt x="15790" y="12425"/>
                </a:lnTo>
                <a:lnTo>
                  <a:pt x="15854" y="12425"/>
                </a:lnTo>
                <a:lnTo>
                  <a:pt x="15917" y="12425"/>
                </a:lnTo>
                <a:lnTo>
                  <a:pt x="15960" y="12425"/>
                </a:lnTo>
                <a:lnTo>
                  <a:pt x="16002" y="12425"/>
                </a:lnTo>
                <a:lnTo>
                  <a:pt x="16023" y="12425"/>
                </a:lnTo>
                <a:lnTo>
                  <a:pt x="16044" y="12425"/>
                </a:lnTo>
                <a:lnTo>
                  <a:pt x="16044" y="12425"/>
                </a:lnTo>
                <a:lnTo>
                  <a:pt x="16044" y="12425"/>
                </a:lnTo>
                <a:lnTo>
                  <a:pt x="16044" y="12446"/>
                </a:lnTo>
                <a:lnTo>
                  <a:pt x="16044" y="12446"/>
                </a:lnTo>
                <a:lnTo>
                  <a:pt x="16023" y="12467"/>
                </a:lnTo>
                <a:lnTo>
                  <a:pt x="16023" y="12467"/>
                </a:lnTo>
                <a:lnTo>
                  <a:pt x="16023" y="12509"/>
                </a:lnTo>
                <a:lnTo>
                  <a:pt x="16023" y="12509"/>
                </a:lnTo>
                <a:lnTo>
                  <a:pt x="16023" y="12531"/>
                </a:lnTo>
                <a:lnTo>
                  <a:pt x="16023" y="12531"/>
                </a:lnTo>
                <a:lnTo>
                  <a:pt x="16023" y="12552"/>
                </a:lnTo>
                <a:lnTo>
                  <a:pt x="16002" y="12552"/>
                </a:lnTo>
                <a:lnTo>
                  <a:pt x="16002" y="12573"/>
                </a:lnTo>
                <a:lnTo>
                  <a:pt x="16002" y="12594"/>
                </a:lnTo>
                <a:lnTo>
                  <a:pt x="16002" y="12594"/>
                </a:lnTo>
                <a:lnTo>
                  <a:pt x="16002" y="12615"/>
                </a:lnTo>
                <a:lnTo>
                  <a:pt x="16023" y="12615"/>
                </a:lnTo>
                <a:lnTo>
                  <a:pt x="16065" y="12615"/>
                </a:lnTo>
                <a:lnTo>
                  <a:pt x="16065" y="12615"/>
                </a:lnTo>
                <a:lnTo>
                  <a:pt x="16087" y="12615"/>
                </a:lnTo>
                <a:lnTo>
                  <a:pt x="16129" y="12615"/>
                </a:lnTo>
                <a:lnTo>
                  <a:pt x="16129" y="12615"/>
                </a:lnTo>
                <a:lnTo>
                  <a:pt x="16150" y="12615"/>
                </a:lnTo>
                <a:lnTo>
                  <a:pt x="16171" y="12615"/>
                </a:lnTo>
                <a:lnTo>
                  <a:pt x="16192" y="12615"/>
                </a:lnTo>
                <a:lnTo>
                  <a:pt x="16235" y="12615"/>
                </a:lnTo>
                <a:lnTo>
                  <a:pt x="16277" y="12615"/>
                </a:lnTo>
                <a:lnTo>
                  <a:pt x="16341" y="12615"/>
                </a:lnTo>
                <a:lnTo>
                  <a:pt x="16362" y="12615"/>
                </a:lnTo>
                <a:lnTo>
                  <a:pt x="16383" y="12615"/>
                </a:lnTo>
                <a:lnTo>
                  <a:pt x="16446" y="12615"/>
                </a:lnTo>
                <a:lnTo>
                  <a:pt x="16446" y="12636"/>
                </a:lnTo>
                <a:lnTo>
                  <a:pt x="16468" y="12636"/>
                </a:lnTo>
                <a:lnTo>
                  <a:pt x="16510" y="12658"/>
                </a:lnTo>
                <a:lnTo>
                  <a:pt x="16510" y="12679"/>
                </a:lnTo>
                <a:lnTo>
                  <a:pt x="16552" y="12700"/>
                </a:lnTo>
                <a:lnTo>
                  <a:pt x="16552" y="12721"/>
                </a:lnTo>
                <a:lnTo>
                  <a:pt x="16552" y="12742"/>
                </a:lnTo>
                <a:lnTo>
                  <a:pt x="16552" y="12742"/>
                </a:lnTo>
                <a:lnTo>
                  <a:pt x="16552" y="12785"/>
                </a:lnTo>
                <a:lnTo>
                  <a:pt x="16552" y="12827"/>
                </a:lnTo>
                <a:lnTo>
                  <a:pt x="16552" y="12848"/>
                </a:lnTo>
                <a:lnTo>
                  <a:pt x="16573" y="12848"/>
                </a:lnTo>
                <a:lnTo>
                  <a:pt x="16573" y="12869"/>
                </a:lnTo>
                <a:lnTo>
                  <a:pt x="16573" y="12890"/>
                </a:lnTo>
                <a:lnTo>
                  <a:pt x="16573" y="12890"/>
                </a:lnTo>
                <a:lnTo>
                  <a:pt x="16573" y="12912"/>
                </a:lnTo>
                <a:lnTo>
                  <a:pt x="16573" y="12933"/>
                </a:lnTo>
                <a:lnTo>
                  <a:pt x="16573" y="12933"/>
                </a:lnTo>
                <a:lnTo>
                  <a:pt x="16573" y="12954"/>
                </a:lnTo>
                <a:lnTo>
                  <a:pt x="16573" y="12975"/>
                </a:lnTo>
                <a:lnTo>
                  <a:pt x="16573" y="12975"/>
                </a:lnTo>
                <a:lnTo>
                  <a:pt x="16573" y="12996"/>
                </a:lnTo>
                <a:lnTo>
                  <a:pt x="16573" y="12996"/>
                </a:lnTo>
                <a:lnTo>
                  <a:pt x="16595" y="12975"/>
                </a:lnTo>
                <a:lnTo>
                  <a:pt x="16616" y="12975"/>
                </a:lnTo>
                <a:lnTo>
                  <a:pt x="16616" y="12954"/>
                </a:lnTo>
                <a:lnTo>
                  <a:pt x="16616" y="12933"/>
                </a:lnTo>
                <a:lnTo>
                  <a:pt x="16616" y="12912"/>
                </a:lnTo>
                <a:lnTo>
                  <a:pt x="16637" y="12912"/>
                </a:lnTo>
                <a:lnTo>
                  <a:pt x="16637" y="12890"/>
                </a:lnTo>
                <a:lnTo>
                  <a:pt x="16637" y="12890"/>
                </a:lnTo>
                <a:lnTo>
                  <a:pt x="16637" y="12869"/>
                </a:lnTo>
                <a:lnTo>
                  <a:pt x="16637" y="12848"/>
                </a:lnTo>
                <a:lnTo>
                  <a:pt x="16637" y="12848"/>
                </a:lnTo>
                <a:lnTo>
                  <a:pt x="16637" y="12827"/>
                </a:lnTo>
                <a:lnTo>
                  <a:pt x="16637" y="12827"/>
                </a:lnTo>
                <a:lnTo>
                  <a:pt x="16637" y="12806"/>
                </a:lnTo>
                <a:lnTo>
                  <a:pt x="16637" y="12806"/>
                </a:lnTo>
                <a:lnTo>
                  <a:pt x="16637" y="12785"/>
                </a:lnTo>
                <a:lnTo>
                  <a:pt x="16637" y="12763"/>
                </a:lnTo>
                <a:lnTo>
                  <a:pt x="16616" y="12763"/>
                </a:lnTo>
                <a:lnTo>
                  <a:pt x="16616" y="12742"/>
                </a:lnTo>
                <a:lnTo>
                  <a:pt x="16616" y="12742"/>
                </a:lnTo>
                <a:lnTo>
                  <a:pt x="16595" y="12721"/>
                </a:lnTo>
                <a:lnTo>
                  <a:pt x="16573" y="12721"/>
                </a:lnTo>
                <a:lnTo>
                  <a:pt x="16573" y="12679"/>
                </a:lnTo>
                <a:lnTo>
                  <a:pt x="16552" y="12679"/>
                </a:lnTo>
                <a:lnTo>
                  <a:pt x="16531" y="12679"/>
                </a:lnTo>
                <a:lnTo>
                  <a:pt x="16531" y="12658"/>
                </a:lnTo>
                <a:lnTo>
                  <a:pt x="16510" y="12658"/>
                </a:lnTo>
                <a:lnTo>
                  <a:pt x="16531" y="12658"/>
                </a:lnTo>
                <a:lnTo>
                  <a:pt x="16531" y="12658"/>
                </a:lnTo>
                <a:lnTo>
                  <a:pt x="16552" y="12658"/>
                </a:lnTo>
                <a:lnTo>
                  <a:pt x="16552" y="12658"/>
                </a:lnTo>
                <a:lnTo>
                  <a:pt x="16552" y="12679"/>
                </a:lnTo>
                <a:lnTo>
                  <a:pt x="16573" y="12679"/>
                </a:lnTo>
                <a:lnTo>
                  <a:pt x="16573" y="12679"/>
                </a:lnTo>
                <a:lnTo>
                  <a:pt x="16573" y="12700"/>
                </a:lnTo>
                <a:lnTo>
                  <a:pt x="16573" y="12700"/>
                </a:lnTo>
                <a:lnTo>
                  <a:pt x="16595" y="12700"/>
                </a:lnTo>
                <a:lnTo>
                  <a:pt x="16595" y="12700"/>
                </a:lnTo>
                <a:lnTo>
                  <a:pt x="16595" y="12700"/>
                </a:lnTo>
                <a:lnTo>
                  <a:pt x="16595" y="12700"/>
                </a:lnTo>
                <a:lnTo>
                  <a:pt x="16595" y="12721"/>
                </a:lnTo>
                <a:lnTo>
                  <a:pt x="16595" y="12721"/>
                </a:lnTo>
                <a:lnTo>
                  <a:pt x="16595" y="12742"/>
                </a:lnTo>
                <a:lnTo>
                  <a:pt x="16616" y="12763"/>
                </a:lnTo>
                <a:lnTo>
                  <a:pt x="16616" y="12785"/>
                </a:lnTo>
                <a:lnTo>
                  <a:pt x="16616" y="12785"/>
                </a:lnTo>
                <a:lnTo>
                  <a:pt x="16616" y="12806"/>
                </a:lnTo>
                <a:lnTo>
                  <a:pt x="16637" y="12806"/>
                </a:lnTo>
                <a:lnTo>
                  <a:pt x="16637" y="12827"/>
                </a:lnTo>
                <a:lnTo>
                  <a:pt x="16637" y="12827"/>
                </a:lnTo>
                <a:lnTo>
                  <a:pt x="16658" y="12827"/>
                </a:lnTo>
                <a:lnTo>
                  <a:pt x="16658" y="12827"/>
                </a:lnTo>
                <a:lnTo>
                  <a:pt x="16658" y="12827"/>
                </a:lnTo>
                <a:lnTo>
                  <a:pt x="16637" y="12827"/>
                </a:lnTo>
                <a:lnTo>
                  <a:pt x="16637" y="12848"/>
                </a:lnTo>
                <a:lnTo>
                  <a:pt x="16637" y="12848"/>
                </a:lnTo>
                <a:lnTo>
                  <a:pt x="16637" y="12869"/>
                </a:lnTo>
                <a:lnTo>
                  <a:pt x="16637" y="12869"/>
                </a:lnTo>
                <a:lnTo>
                  <a:pt x="16658" y="12890"/>
                </a:lnTo>
                <a:lnTo>
                  <a:pt x="16658" y="12890"/>
                </a:lnTo>
                <a:lnTo>
                  <a:pt x="16658" y="12890"/>
                </a:lnTo>
                <a:lnTo>
                  <a:pt x="16679" y="12890"/>
                </a:lnTo>
                <a:lnTo>
                  <a:pt x="16679" y="12912"/>
                </a:lnTo>
                <a:lnTo>
                  <a:pt x="16679" y="12912"/>
                </a:lnTo>
                <a:lnTo>
                  <a:pt x="16679" y="12933"/>
                </a:lnTo>
                <a:lnTo>
                  <a:pt x="16679" y="12933"/>
                </a:lnTo>
                <a:lnTo>
                  <a:pt x="16679" y="12954"/>
                </a:lnTo>
                <a:lnTo>
                  <a:pt x="16679" y="12954"/>
                </a:lnTo>
                <a:lnTo>
                  <a:pt x="16679" y="12954"/>
                </a:lnTo>
                <a:lnTo>
                  <a:pt x="16679" y="12975"/>
                </a:lnTo>
                <a:lnTo>
                  <a:pt x="16679" y="12975"/>
                </a:lnTo>
                <a:lnTo>
                  <a:pt x="16679" y="12996"/>
                </a:lnTo>
                <a:lnTo>
                  <a:pt x="16679" y="12996"/>
                </a:lnTo>
                <a:lnTo>
                  <a:pt x="16679" y="13017"/>
                </a:lnTo>
                <a:lnTo>
                  <a:pt x="16679" y="13039"/>
                </a:lnTo>
                <a:lnTo>
                  <a:pt x="16679" y="13060"/>
                </a:lnTo>
                <a:lnTo>
                  <a:pt x="16679" y="13060"/>
                </a:lnTo>
                <a:lnTo>
                  <a:pt x="16679" y="13081"/>
                </a:lnTo>
                <a:lnTo>
                  <a:pt x="16679" y="13102"/>
                </a:lnTo>
                <a:lnTo>
                  <a:pt x="16637" y="13123"/>
                </a:lnTo>
                <a:lnTo>
                  <a:pt x="16637" y="13144"/>
                </a:lnTo>
                <a:lnTo>
                  <a:pt x="16637" y="13144"/>
                </a:lnTo>
                <a:lnTo>
                  <a:pt x="16616" y="13187"/>
                </a:lnTo>
                <a:lnTo>
                  <a:pt x="16595" y="13208"/>
                </a:lnTo>
                <a:lnTo>
                  <a:pt x="16595" y="13229"/>
                </a:lnTo>
                <a:lnTo>
                  <a:pt x="16552" y="13250"/>
                </a:lnTo>
                <a:lnTo>
                  <a:pt x="16552" y="13250"/>
                </a:lnTo>
                <a:lnTo>
                  <a:pt x="16552" y="13271"/>
                </a:lnTo>
                <a:lnTo>
                  <a:pt x="16531" y="13293"/>
                </a:lnTo>
                <a:lnTo>
                  <a:pt x="16510" y="13335"/>
                </a:lnTo>
                <a:lnTo>
                  <a:pt x="16510" y="13335"/>
                </a:lnTo>
                <a:lnTo>
                  <a:pt x="16510" y="13356"/>
                </a:lnTo>
                <a:lnTo>
                  <a:pt x="16489" y="13356"/>
                </a:lnTo>
                <a:lnTo>
                  <a:pt x="16489" y="13377"/>
                </a:lnTo>
                <a:lnTo>
                  <a:pt x="16489" y="13398"/>
                </a:lnTo>
                <a:lnTo>
                  <a:pt x="16468" y="13398"/>
                </a:lnTo>
                <a:lnTo>
                  <a:pt x="16446" y="13398"/>
                </a:lnTo>
                <a:lnTo>
                  <a:pt x="16446" y="13398"/>
                </a:lnTo>
                <a:lnTo>
                  <a:pt x="16446" y="13420"/>
                </a:lnTo>
                <a:lnTo>
                  <a:pt x="16425" y="13420"/>
                </a:lnTo>
                <a:lnTo>
                  <a:pt x="16425" y="13441"/>
                </a:lnTo>
                <a:lnTo>
                  <a:pt x="16425" y="13441"/>
                </a:lnTo>
                <a:lnTo>
                  <a:pt x="16425" y="13441"/>
                </a:lnTo>
                <a:lnTo>
                  <a:pt x="16404" y="13441"/>
                </a:lnTo>
                <a:lnTo>
                  <a:pt x="16404" y="13462"/>
                </a:lnTo>
                <a:lnTo>
                  <a:pt x="16383" y="13462"/>
                </a:lnTo>
                <a:lnTo>
                  <a:pt x="16362" y="13483"/>
                </a:lnTo>
                <a:lnTo>
                  <a:pt x="16362" y="13483"/>
                </a:lnTo>
                <a:lnTo>
                  <a:pt x="16341" y="13483"/>
                </a:lnTo>
                <a:lnTo>
                  <a:pt x="16319" y="13504"/>
                </a:lnTo>
                <a:lnTo>
                  <a:pt x="16298" y="13525"/>
                </a:lnTo>
                <a:lnTo>
                  <a:pt x="16277" y="13547"/>
                </a:lnTo>
                <a:lnTo>
                  <a:pt x="16277" y="13568"/>
                </a:lnTo>
                <a:lnTo>
                  <a:pt x="16235" y="13589"/>
                </a:lnTo>
                <a:lnTo>
                  <a:pt x="16214" y="13610"/>
                </a:lnTo>
                <a:lnTo>
                  <a:pt x="16171" y="13652"/>
                </a:lnTo>
                <a:lnTo>
                  <a:pt x="16171" y="13695"/>
                </a:lnTo>
                <a:lnTo>
                  <a:pt x="16150" y="13716"/>
                </a:lnTo>
                <a:lnTo>
                  <a:pt x="16108" y="13758"/>
                </a:lnTo>
                <a:lnTo>
                  <a:pt x="16087" y="13801"/>
                </a:lnTo>
                <a:lnTo>
                  <a:pt x="16065" y="13843"/>
                </a:lnTo>
                <a:lnTo>
                  <a:pt x="16044" y="13885"/>
                </a:lnTo>
                <a:lnTo>
                  <a:pt x="16002" y="13906"/>
                </a:lnTo>
                <a:lnTo>
                  <a:pt x="16002" y="13906"/>
                </a:lnTo>
                <a:lnTo>
                  <a:pt x="15981" y="13949"/>
                </a:lnTo>
                <a:lnTo>
                  <a:pt x="15981" y="13949"/>
                </a:lnTo>
                <a:lnTo>
                  <a:pt x="15981" y="13970"/>
                </a:lnTo>
                <a:lnTo>
                  <a:pt x="15960" y="13970"/>
                </a:lnTo>
                <a:lnTo>
                  <a:pt x="15938" y="14012"/>
                </a:lnTo>
                <a:lnTo>
                  <a:pt x="15938" y="14012"/>
                </a:lnTo>
                <a:lnTo>
                  <a:pt x="15938" y="14033"/>
                </a:lnTo>
                <a:lnTo>
                  <a:pt x="15938" y="14012"/>
                </a:lnTo>
                <a:lnTo>
                  <a:pt x="15938" y="13991"/>
                </a:lnTo>
                <a:lnTo>
                  <a:pt x="15938" y="13970"/>
                </a:lnTo>
                <a:lnTo>
                  <a:pt x="15938" y="1394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333036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241440" cy="50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MPj03865780000[1]"/>
          <p:cNvPicPr/>
          <p:nvPr/>
        </p:nvPicPr>
        <p:blipFill>
          <a:blip r:embed="rId2"/>
          <a:stretch/>
        </p:blipFill>
        <p:spPr>
          <a:xfrm rot="20818800">
            <a:off x="1476360" y="3141720"/>
            <a:ext cx="22892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rere"/>
          <p:cNvPicPr/>
          <p:nvPr/>
        </p:nvPicPr>
        <p:blipFill>
          <a:blip r:embed="rId1"/>
          <a:stretch/>
        </p:blipFill>
        <p:spPr>
          <a:xfrm>
            <a:off x="0" y="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319040" y="1989000"/>
            <a:ext cx="6480360" cy="4602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rere"/>
          <p:cNvPicPr/>
          <p:nvPr/>
        </p:nvPicPr>
        <p:blipFill>
          <a:blip r:embed="rId3"/>
          <a:stretch/>
        </p:blipFill>
        <p:spPr>
          <a:xfrm>
            <a:off x="7853400" y="0"/>
            <a:ext cx="1290600" cy="144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58680" y="63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ff"/>
                </a:solidFill>
                <a:uFillTx/>
                <a:latin typeface="Impact"/>
              </a:rPr>
              <a:t>FR</a:t>
            </a:r>
            <a:r>
              <a:rPr b="0" lang="en-US" sz="8000" spc="-1" strike="noStrike" u="sng">
                <a:solidFill>
                  <a:srgbClr val="ffffff"/>
                </a:solidFill>
                <a:uFillTx/>
                <a:latin typeface="Impact"/>
              </a:rPr>
              <a:t>ÈRE JACQUES</a:t>
            </a:r>
            <a:endParaRPr b="1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0" y="543240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5"/>
          <a:stretch/>
        </p:blipFill>
        <p:spPr>
          <a:xfrm flipH="1">
            <a:off x="7631280" y="5432400"/>
            <a:ext cx="1512720" cy="1425600"/>
          </a:xfrm>
          <a:prstGeom prst="rect">
            <a:avLst/>
          </a:prstGeom>
          <a:ln w="0">
            <a:noFill/>
          </a:ln>
        </p:spPr>
      </p:pic>
      <p:sp>
        <p:nvSpPr>
          <p:cNvPr id="66" name="WordArt 8"/>
          <p:cNvSpPr txBox="1"/>
          <p:nvPr/>
        </p:nvSpPr>
        <p:spPr>
          <a:xfrm rot="5400000">
            <a:off x="-118872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7" name="WordArt 9"/>
          <p:cNvSpPr txBox="1"/>
          <p:nvPr/>
        </p:nvSpPr>
        <p:spPr>
          <a:xfrm rot="5400000">
            <a:off x="673236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608200" cy="391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2754360" cy="393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2697120" cy="3933720"/>
          </a:xfrm>
          <a:prstGeom prst="rect">
            <a:avLst/>
          </a:prstGeom>
          <a:ln w="0">
            <a:noFill/>
          </a:ln>
        </p:spPr>
      </p:pic>
      <p:sp>
        <p:nvSpPr>
          <p:cNvPr id="148" name="Title 3"/>
          <p:cNvSpPr/>
          <p:nvPr/>
        </p:nvSpPr>
        <p:spPr>
          <a:xfrm>
            <a:off x="75564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2728800" cy="431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6510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751120" cy="403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505240" cy="4030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6300720" y="1268280"/>
            <a:ext cx="2519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5" name="Picture 6" descr="MCj02405690000[1]"/>
          <p:cNvPicPr/>
          <p:nvPr/>
        </p:nvPicPr>
        <p:blipFill>
          <a:blip r:embed="rId1"/>
          <a:stretch/>
        </p:blipFill>
        <p:spPr>
          <a:xfrm>
            <a:off x="3429000" y="4214880"/>
            <a:ext cx="1728720" cy="182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nitting"/>
          <p:cNvPicPr/>
          <p:nvPr/>
        </p:nvPicPr>
        <p:blipFill>
          <a:blip r:embed="rId2"/>
          <a:stretch/>
        </p:blipFill>
        <p:spPr>
          <a:xfrm>
            <a:off x="32400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knitting"/>
          <p:cNvPicPr/>
          <p:nvPr/>
        </p:nvPicPr>
        <p:blipFill>
          <a:blip r:embed="rId3"/>
          <a:stretch/>
        </p:blipFill>
        <p:spPr>
          <a:xfrm>
            <a:off x="788508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MCj02907850000[1]"/>
          <p:cNvPicPr/>
          <p:nvPr/>
        </p:nvPicPr>
        <p:blipFill>
          <a:blip r:embed="rId4"/>
          <a:stretch/>
        </p:blipFill>
        <p:spPr>
          <a:xfrm>
            <a:off x="3348000" y="189000"/>
            <a:ext cx="243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606840" cy="5185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knitting"/>
          <p:cNvPicPr/>
          <p:nvPr/>
        </p:nvPicPr>
        <p:blipFill>
          <a:blip r:embed="rId2"/>
          <a:stretch/>
        </p:blipFill>
        <p:spPr>
          <a:xfrm>
            <a:off x="7885080" y="3141720"/>
            <a:ext cx="907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786200" y="714240"/>
            <a:ext cx="3606840" cy="5185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5000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..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MCPE01075_0000[1]"/>
          <p:cNvPicPr/>
          <p:nvPr/>
        </p:nvPicPr>
        <p:blipFill>
          <a:blip r:embed="rId2"/>
          <a:stretch/>
        </p:blipFill>
        <p:spPr>
          <a:xfrm>
            <a:off x="2627280" y="3716280"/>
            <a:ext cx="1568520" cy="1725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971640" y="62064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lun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1280" y="4005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ouge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3268800" cy="4550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00720" y="228600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859280" y="692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mar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7" descr="MCj03584070000[1]"/>
          <p:cNvPicPr/>
          <p:nvPr/>
        </p:nvPicPr>
        <p:blipFill>
          <a:blip r:embed="rId2"/>
          <a:stretch/>
        </p:blipFill>
        <p:spPr>
          <a:xfrm>
            <a:off x="6588000" y="3573360"/>
            <a:ext cx="1830600" cy="1828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716360" y="692280"/>
            <a:ext cx="1295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500720" y="364500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jaune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4"/>
          <p:cNvSpPr/>
          <p:nvPr/>
        </p:nvSpPr>
        <p:spPr>
          <a:xfrm>
            <a:off x="5000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90120" y="1052640"/>
            <a:ext cx="292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b0f0"/>
                </a:solidFill>
                <a:latin typeface="Comic Sans MS"/>
              </a:rPr>
              <a:t>mercre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F:\LESSON PLANS 2008\Christmas\Knitting\Knitting 003.jpg"/>
          <p:cNvPicPr/>
          <p:nvPr/>
        </p:nvPicPr>
        <p:blipFill>
          <a:blip r:embed="rId1"/>
          <a:stretch/>
        </p:blipFill>
        <p:spPr>
          <a:xfrm>
            <a:off x="4714920" y="785880"/>
            <a:ext cx="3429000" cy="531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MCj03380580000[1]"/>
          <p:cNvPicPr/>
          <p:nvPr/>
        </p:nvPicPr>
        <p:blipFill>
          <a:blip r:embed="rId2"/>
          <a:stretch/>
        </p:blipFill>
        <p:spPr>
          <a:xfrm>
            <a:off x="2556000" y="3716280"/>
            <a:ext cx="1530360" cy="18399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539640" y="3645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b0f0"/>
                </a:solidFill>
                <a:latin typeface="Comic Sans MS"/>
              </a:rPr>
              <a:t>bleue</a:t>
            </a: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3649680" cy="5181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5429160" y="24210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7" descr="MCj02405690000[1]"/>
          <p:cNvPicPr/>
          <p:nvPr/>
        </p:nvPicPr>
        <p:blipFill>
          <a:blip r:embed="rId2"/>
          <a:stretch/>
        </p:blipFill>
        <p:spPr>
          <a:xfrm>
            <a:off x="4356000" y="4221000"/>
            <a:ext cx="1728720" cy="1827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5386320" y="981000"/>
            <a:ext cx="174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b050"/>
                </a:solidFill>
                <a:latin typeface="Comic Sans MS"/>
              </a:rPr>
              <a:t>jeu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6084720" y="3429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b050"/>
                </a:solidFill>
                <a:latin typeface="Comic Sans MS"/>
              </a:rPr>
              <a:t>verte</a:t>
            </a: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4"/>
          <p:cNvSpPr/>
          <p:nvPr/>
        </p:nvSpPr>
        <p:spPr>
          <a:xfrm>
            <a:off x="755640" y="270828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867960" y="1052640"/>
            <a:ext cx="2713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vendre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826920" y="3933720"/>
            <a:ext cx="2519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noire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11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2852640" cy="4141800"/>
          </a:xfrm>
          <a:prstGeom prst="rect">
            <a:avLst/>
          </a:prstGeom>
          <a:ln w="0">
            <a:noFill/>
          </a:ln>
        </p:spPr>
      </p:pic>
      <p:sp>
        <p:nvSpPr>
          <p:cNvPr id="186" name="Ink 9"/>
          <p:cNvSpPr/>
          <p:nvPr/>
        </p:nvSpPr>
        <p:spPr>
          <a:xfrm>
            <a:off x="7451640" y="1523880"/>
            <a:ext cx="770040" cy="800280"/>
          </a:xfrm>
          <a:custGeom>
            <a:avLst/>
            <a:gdLst/>
            <a:ahLst/>
            <a:rect l="l" t="t" r="r" b="b"/>
            <a:pathLst>
              <a:path w="2139" h="2224">
                <a:moveTo>
                  <a:pt x="22564" y="4424"/>
                </a:moveTo>
                <a:cubicBezTo>
                  <a:pt x="22564" y="4410"/>
                  <a:pt x="22564" y="4395"/>
                  <a:pt x="22564" y="4381"/>
                </a:cubicBezTo>
                <a:cubicBezTo>
                  <a:pt x="22595" y="4386"/>
                  <a:pt x="22627" y="4363"/>
                  <a:pt x="22627" y="4403"/>
                </a:cubicBezTo>
                <a:cubicBezTo>
                  <a:pt x="22627" y="4435"/>
                  <a:pt x="22608" y="4451"/>
                  <a:pt x="22606" y="4487"/>
                </a:cubicBezTo>
                <a:cubicBezTo>
                  <a:pt x="22604" y="4529"/>
                  <a:pt x="22606" y="4572"/>
                  <a:pt x="22606" y="4614"/>
                </a:cubicBezTo>
                <a:cubicBezTo>
                  <a:pt x="22606" y="4534"/>
                  <a:pt x="22594" y="4428"/>
                  <a:pt x="22585" y="4381"/>
                </a:cubicBezTo>
                <a:cubicBezTo>
                  <a:pt x="22577" y="4342"/>
                  <a:pt x="22588" y="4326"/>
                  <a:pt x="22606" y="4297"/>
                </a:cubicBezTo>
                <a:cubicBezTo>
                  <a:pt x="22621" y="4272"/>
                  <a:pt x="22597" y="4297"/>
                  <a:pt x="22564" y="4297"/>
                </a:cubicBezTo>
                <a:cubicBezTo>
                  <a:pt x="22564" y="4360"/>
                  <a:pt x="22560" y="4411"/>
                  <a:pt x="22542" y="4445"/>
                </a:cubicBezTo>
                <a:cubicBezTo>
                  <a:pt x="22542" y="4469"/>
                  <a:pt x="22540" y="4478"/>
                  <a:pt x="22521" y="4487"/>
                </a:cubicBezTo>
                <a:cubicBezTo>
                  <a:pt x="22536" y="4513"/>
                  <a:pt x="22540" y="4510"/>
                  <a:pt x="22542" y="4551"/>
                </a:cubicBezTo>
                <a:cubicBezTo>
                  <a:pt x="22552" y="4715"/>
                  <a:pt x="22533" y="4887"/>
                  <a:pt x="22564" y="5038"/>
                </a:cubicBezTo>
                <a:cubicBezTo>
                  <a:pt x="22575" y="5091"/>
                  <a:pt x="22582" y="5070"/>
                  <a:pt x="22585" y="5122"/>
                </a:cubicBezTo>
                <a:cubicBezTo>
                  <a:pt x="22589" y="5191"/>
                  <a:pt x="22571" y="5276"/>
                  <a:pt x="22564" y="5313"/>
                </a:cubicBezTo>
                <a:cubicBezTo>
                  <a:pt x="22557" y="5349"/>
                  <a:pt x="22548" y="5390"/>
                  <a:pt x="22542" y="5419"/>
                </a:cubicBezTo>
                <a:cubicBezTo>
                  <a:pt x="22531" y="5471"/>
                  <a:pt x="22560" y="5528"/>
                  <a:pt x="22564" y="5546"/>
                </a:cubicBezTo>
                <a:cubicBezTo>
                  <a:pt x="22578" y="5611"/>
                  <a:pt x="22568" y="5725"/>
                  <a:pt x="22542" y="5757"/>
                </a:cubicBezTo>
                <a:cubicBezTo>
                  <a:pt x="22519" y="5785"/>
                  <a:pt x="22508" y="5829"/>
                  <a:pt x="22500" y="5863"/>
                </a:cubicBezTo>
                <a:cubicBezTo>
                  <a:pt x="22500" y="5870"/>
                  <a:pt x="22500" y="5877"/>
                  <a:pt x="22500" y="5884"/>
                </a:cubicBezTo>
                <a:cubicBezTo>
                  <a:pt x="22463" y="5889"/>
                  <a:pt x="22459" y="5887"/>
                  <a:pt x="22437" y="5905"/>
                </a:cubicBezTo>
                <a:cubicBezTo>
                  <a:pt x="22437" y="5927"/>
                  <a:pt x="22437" y="5934"/>
                  <a:pt x="22415" y="5927"/>
                </a:cubicBezTo>
              </a:path>
              <a:path w="2139" h="2224">
                <a:moveTo>
                  <a:pt x="22437" y="5905"/>
                </a:moveTo>
                <a:cubicBezTo>
                  <a:pt x="22429" y="5949"/>
                  <a:pt x="22437" y="5952"/>
                  <a:pt x="22415" y="5990"/>
                </a:cubicBezTo>
                <a:cubicBezTo>
                  <a:pt x="22401" y="6015"/>
                  <a:pt x="22386" y="6079"/>
                  <a:pt x="22373" y="6096"/>
                </a:cubicBezTo>
                <a:cubicBezTo>
                  <a:pt x="22354" y="6120"/>
                  <a:pt x="22335" y="6119"/>
                  <a:pt x="22310" y="6138"/>
                </a:cubicBezTo>
                <a:cubicBezTo>
                  <a:pt x="22273" y="6166"/>
                  <a:pt x="22266" y="6147"/>
                  <a:pt x="22225" y="6159"/>
                </a:cubicBezTo>
                <a:cubicBezTo>
                  <a:pt x="22194" y="6168"/>
                  <a:pt x="22191" y="6179"/>
                  <a:pt x="22140" y="6181"/>
                </a:cubicBezTo>
                <a:cubicBezTo>
                  <a:pt x="22028" y="6185"/>
                  <a:pt x="21882" y="6194"/>
                  <a:pt x="21802" y="6202"/>
                </a:cubicBezTo>
                <a:cubicBezTo>
                  <a:pt x="21637" y="6219"/>
                  <a:pt x="21460" y="6202"/>
                  <a:pt x="21294" y="6202"/>
                </a:cubicBezTo>
                <a:cubicBezTo>
                  <a:pt x="21250" y="6164"/>
                  <a:pt x="21308" y="6166"/>
                  <a:pt x="21230" y="6159"/>
                </a:cubicBezTo>
                <a:cubicBezTo>
                  <a:pt x="21087" y="6147"/>
                  <a:pt x="20847" y="6137"/>
                  <a:pt x="20743" y="6181"/>
                </a:cubicBezTo>
                <a:cubicBezTo>
                  <a:pt x="20719" y="6191"/>
                  <a:pt x="20707" y="6195"/>
                  <a:pt x="20701" y="6223"/>
                </a:cubicBezTo>
                <a:cubicBezTo>
                  <a:pt x="20685" y="6292"/>
                  <a:pt x="20701" y="6384"/>
                  <a:pt x="20701" y="6456"/>
                </a:cubicBezTo>
                <a:cubicBezTo>
                  <a:pt x="20764" y="6456"/>
                  <a:pt x="20860" y="6438"/>
                  <a:pt x="20891" y="6435"/>
                </a:cubicBezTo>
                <a:cubicBezTo>
                  <a:pt x="20944" y="6430"/>
                  <a:pt x="21040" y="6416"/>
                  <a:pt x="21061" y="6413"/>
                </a:cubicBezTo>
                <a:cubicBezTo>
                  <a:pt x="21121" y="6405"/>
                  <a:pt x="21181" y="6425"/>
                  <a:pt x="21209" y="6435"/>
                </a:cubicBezTo>
                <a:cubicBezTo>
                  <a:pt x="21244" y="6447"/>
                  <a:pt x="21278" y="6451"/>
                  <a:pt x="21315" y="6456"/>
                </a:cubicBezTo>
                <a:cubicBezTo>
                  <a:pt x="21573" y="6492"/>
                  <a:pt x="22052" y="6515"/>
                  <a:pt x="22288" y="6435"/>
                </a:cubicBezTo>
                <a:cubicBezTo>
                  <a:pt x="22330" y="6421"/>
                  <a:pt x="22333" y="6417"/>
                  <a:pt x="22373" y="6392"/>
                </a:cubicBezTo>
                <a:cubicBezTo>
                  <a:pt x="22400" y="6375"/>
                  <a:pt x="22398" y="6378"/>
                  <a:pt x="22415" y="6350"/>
                </a:cubicBezTo>
                <a:cubicBezTo>
                  <a:pt x="22428" y="6329"/>
                  <a:pt x="22455" y="6293"/>
                  <a:pt x="22458" y="6286"/>
                </a:cubicBezTo>
                <a:cubicBezTo>
                  <a:pt x="22473" y="6256"/>
                  <a:pt x="22467" y="6247"/>
                  <a:pt x="22479" y="6223"/>
                </a:cubicBezTo>
                <a:cubicBezTo>
                  <a:pt x="22483" y="6215"/>
                  <a:pt x="22492" y="6166"/>
                  <a:pt x="22500" y="6159"/>
                </a:cubicBezTo>
                <a:cubicBezTo>
                  <a:pt x="22534" y="6127"/>
                  <a:pt x="22517" y="6167"/>
                  <a:pt x="22542" y="6117"/>
                </a:cubicBezTo>
                <a:cubicBezTo>
                  <a:pt x="22552" y="6098"/>
                  <a:pt x="22560" y="6097"/>
                  <a:pt x="22564" y="6054"/>
                </a:cubicBezTo>
                <a:cubicBezTo>
                  <a:pt x="22605" y="6046"/>
                  <a:pt x="22615" y="6065"/>
                  <a:pt x="22648" y="6032"/>
                </a:cubicBezTo>
                <a:cubicBezTo>
                  <a:pt x="22660" y="6019"/>
                  <a:pt x="22677" y="5995"/>
                  <a:pt x="22691" y="5969"/>
                </a:cubicBezTo>
                <a:cubicBezTo>
                  <a:pt x="22705" y="5943"/>
                  <a:pt x="22701" y="5911"/>
                  <a:pt x="22712" y="5884"/>
                </a:cubicBezTo>
                <a:cubicBezTo>
                  <a:pt x="22725" y="5853"/>
                  <a:pt x="22728" y="5864"/>
                  <a:pt x="22733" y="5821"/>
                </a:cubicBezTo>
                <a:cubicBezTo>
                  <a:pt x="22743" y="5744"/>
                  <a:pt x="22729" y="5683"/>
                  <a:pt x="22754" y="5609"/>
                </a:cubicBezTo>
                <a:cubicBezTo>
                  <a:pt x="22769" y="5564"/>
                  <a:pt x="22813" y="5537"/>
                  <a:pt x="22818" y="5503"/>
                </a:cubicBezTo>
                <a:cubicBezTo>
                  <a:pt x="22818" y="5482"/>
                  <a:pt x="22818" y="5475"/>
                  <a:pt x="22796" y="5482"/>
                </a:cubicBezTo>
              </a:path>
              <a:path w="2139" h="2224">
                <a:moveTo>
                  <a:pt x="22775" y="5694"/>
                </a:moveTo>
                <a:cubicBezTo>
                  <a:pt x="22775" y="5673"/>
                  <a:pt x="22775" y="5651"/>
                  <a:pt x="22775" y="5630"/>
                </a:cubicBezTo>
                <a:cubicBezTo>
                  <a:pt x="22807" y="5619"/>
                  <a:pt x="22796" y="5605"/>
                  <a:pt x="22796" y="5567"/>
                </a:cubicBezTo>
                <a:cubicBezTo>
                  <a:pt x="22796" y="5532"/>
                  <a:pt x="22796" y="5496"/>
                  <a:pt x="22796" y="5461"/>
                </a:cubicBezTo>
                <a:cubicBezTo>
                  <a:pt x="22829" y="5450"/>
                  <a:pt x="22818" y="5436"/>
                  <a:pt x="22818" y="5397"/>
                </a:cubicBezTo>
                <a:cubicBezTo>
                  <a:pt x="22818" y="5300"/>
                  <a:pt x="22818" y="5213"/>
                  <a:pt x="22839" y="5122"/>
                </a:cubicBezTo>
                <a:cubicBezTo>
                  <a:pt x="22846" y="5091"/>
                  <a:pt x="22839" y="5048"/>
                  <a:pt x="22839" y="5016"/>
                </a:cubicBezTo>
                <a:cubicBezTo>
                  <a:pt x="22807" y="5005"/>
                  <a:pt x="22818" y="4991"/>
                  <a:pt x="22818" y="4953"/>
                </a:cubicBezTo>
                <a:cubicBezTo>
                  <a:pt x="22818" y="4925"/>
                  <a:pt x="22818" y="4896"/>
                  <a:pt x="22818" y="4868"/>
                </a:cubicBezTo>
                <a:cubicBezTo>
                  <a:pt x="22787" y="4858"/>
                  <a:pt x="22796" y="4863"/>
                  <a:pt x="22796" y="4826"/>
                </a:cubicBezTo>
                <a:cubicBezTo>
                  <a:pt x="22766" y="4816"/>
                  <a:pt x="22775" y="4820"/>
                  <a:pt x="22775" y="4784"/>
                </a:cubicBezTo>
                <a:cubicBezTo>
                  <a:pt x="22745" y="4774"/>
                  <a:pt x="22754" y="4777"/>
                  <a:pt x="22754" y="4741"/>
                </a:cubicBezTo>
                <a:cubicBezTo>
                  <a:pt x="22720" y="4730"/>
                  <a:pt x="22746" y="4731"/>
                  <a:pt x="22712" y="4720"/>
                </a:cubicBezTo>
                <a:cubicBezTo>
                  <a:pt x="22703" y="4685"/>
                  <a:pt x="22704" y="4686"/>
                  <a:pt x="22669" y="4678"/>
                </a:cubicBezTo>
                <a:cubicBezTo>
                  <a:pt x="22669" y="4657"/>
                  <a:pt x="22669" y="4650"/>
                  <a:pt x="22648" y="4657"/>
                </a:cubicBezTo>
              </a:path>
              <a:path w="2139" h="2224">
                <a:moveTo>
                  <a:pt x="22733" y="4657"/>
                </a:moveTo>
                <a:cubicBezTo>
                  <a:pt x="22733" y="4585"/>
                  <a:pt x="22732" y="4508"/>
                  <a:pt x="22712" y="4466"/>
                </a:cubicBezTo>
                <a:cubicBezTo>
                  <a:pt x="22703" y="4446"/>
                  <a:pt x="22650" y="4407"/>
                  <a:pt x="22648" y="4403"/>
                </a:cubicBezTo>
                <a:cubicBezTo>
                  <a:pt x="22623" y="4344"/>
                  <a:pt x="22648" y="4318"/>
                  <a:pt x="22648" y="4254"/>
                </a:cubicBezTo>
                <a:cubicBezTo>
                  <a:pt x="22648" y="4425"/>
                  <a:pt x="22654" y="4603"/>
                  <a:pt x="22669" y="4762"/>
                </a:cubicBezTo>
                <a:cubicBezTo>
                  <a:pt x="22676" y="4839"/>
                  <a:pt x="22669" y="4875"/>
                  <a:pt x="22669" y="4953"/>
                </a:cubicBezTo>
                <a:cubicBezTo>
                  <a:pt x="22669" y="4946"/>
                  <a:pt x="22669" y="4939"/>
                  <a:pt x="22669" y="4932"/>
                </a:cubicBezTo>
                <a:cubicBezTo>
                  <a:pt x="22682" y="4877"/>
                  <a:pt x="22689" y="4863"/>
                  <a:pt x="22691" y="4805"/>
                </a:cubicBezTo>
                <a:cubicBezTo>
                  <a:pt x="22693" y="4756"/>
                  <a:pt x="22691" y="4748"/>
                  <a:pt x="22691" y="4699"/>
                </a:cubicBezTo>
                <a:cubicBezTo>
                  <a:pt x="22691" y="4706"/>
                  <a:pt x="22691" y="4713"/>
                  <a:pt x="22691" y="4720"/>
                </a:cubicBezTo>
                <a:cubicBezTo>
                  <a:pt x="22691" y="4865"/>
                  <a:pt x="22699" y="5057"/>
                  <a:pt x="22669" y="5165"/>
                </a:cubicBezTo>
                <a:cubicBezTo>
                  <a:pt x="22669" y="5060"/>
                  <a:pt x="22680" y="4919"/>
                  <a:pt x="22648" y="4847"/>
                </a:cubicBezTo>
                <a:cubicBezTo>
                  <a:pt x="22634" y="4816"/>
                  <a:pt x="22639" y="4785"/>
                  <a:pt x="22627" y="4847"/>
                </a:cubicBezTo>
                <a:cubicBezTo>
                  <a:pt x="22618" y="4894"/>
                  <a:pt x="22616" y="4932"/>
                  <a:pt x="22606" y="4974"/>
                </a:cubicBezTo>
                <a:cubicBezTo>
                  <a:pt x="22606" y="4995"/>
                  <a:pt x="22606" y="5002"/>
                  <a:pt x="22606" y="5016"/>
                </a:cubicBezTo>
                <a:cubicBezTo>
                  <a:pt x="22610" y="4958"/>
                  <a:pt x="22623" y="4899"/>
                  <a:pt x="22627" y="4847"/>
                </a:cubicBezTo>
                <a:cubicBezTo>
                  <a:pt x="22630" y="4812"/>
                  <a:pt x="22624" y="4776"/>
                  <a:pt x="22627" y="4741"/>
                </a:cubicBezTo>
                <a:cubicBezTo>
                  <a:pt x="22627" y="4776"/>
                  <a:pt x="22627" y="4770"/>
                  <a:pt x="22627" y="4805"/>
                </a:cubicBezTo>
                <a:cubicBezTo>
                  <a:pt x="22627" y="4856"/>
                  <a:pt x="22638" y="4891"/>
                  <a:pt x="22648" y="4932"/>
                </a:cubicBezTo>
                <a:cubicBezTo>
                  <a:pt x="22661" y="4981"/>
                  <a:pt x="22661" y="4984"/>
                  <a:pt x="22669" y="5016"/>
                </a:cubicBezTo>
                <a:cubicBezTo>
                  <a:pt x="22691" y="5016"/>
                  <a:pt x="22698" y="5016"/>
                  <a:pt x="22669" y="5016"/>
                </a:cubicBezTo>
                <a:cubicBezTo>
                  <a:pt x="22704" y="4990"/>
                  <a:pt x="22701" y="5023"/>
                  <a:pt x="22733" y="4974"/>
                </a:cubicBezTo>
                <a:cubicBezTo>
                  <a:pt x="22750" y="4948"/>
                  <a:pt x="22769" y="4902"/>
                  <a:pt x="22775" y="4868"/>
                </a:cubicBezTo>
                <a:cubicBezTo>
                  <a:pt x="22775" y="4833"/>
                  <a:pt x="22775" y="4826"/>
                  <a:pt x="22775" y="4805"/>
                </a:cubicBezTo>
                <a:cubicBezTo>
                  <a:pt x="22767" y="4834"/>
                  <a:pt x="22768" y="4845"/>
                  <a:pt x="22754" y="4889"/>
                </a:cubicBezTo>
                <a:cubicBezTo>
                  <a:pt x="22736" y="4945"/>
                  <a:pt x="22733" y="4997"/>
                  <a:pt x="22712" y="5059"/>
                </a:cubicBezTo>
                <a:cubicBezTo>
                  <a:pt x="22695" y="5110"/>
                  <a:pt x="22703" y="5135"/>
                  <a:pt x="22691" y="5186"/>
                </a:cubicBezTo>
                <a:cubicBezTo>
                  <a:pt x="22690" y="5192"/>
                  <a:pt x="22670" y="5231"/>
                  <a:pt x="22669" y="5270"/>
                </a:cubicBezTo>
                <a:cubicBezTo>
                  <a:pt x="22667" y="5334"/>
                  <a:pt x="22654" y="5316"/>
                  <a:pt x="22648" y="5355"/>
                </a:cubicBezTo>
                <a:cubicBezTo>
                  <a:pt x="22648" y="5362"/>
                  <a:pt x="22648" y="5369"/>
                  <a:pt x="22648" y="5376"/>
                </a:cubicBezTo>
                <a:cubicBezTo>
                  <a:pt x="22648" y="5288"/>
                  <a:pt x="22640" y="5178"/>
                  <a:pt x="22627" y="5122"/>
                </a:cubicBezTo>
                <a:cubicBezTo>
                  <a:pt x="22631" y="5183"/>
                  <a:pt x="22644" y="5233"/>
                  <a:pt x="22648" y="5292"/>
                </a:cubicBezTo>
                <a:cubicBezTo>
                  <a:pt x="22653" y="5357"/>
                  <a:pt x="22662" y="5428"/>
                  <a:pt x="22669" y="5482"/>
                </a:cubicBezTo>
                <a:cubicBezTo>
                  <a:pt x="22669" y="5489"/>
                  <a:pt x="22669" y="5496"/>
                  <a:pt x="22669" y="5503"/>
                </a:cubicBezTo>
                <a:cubicBezTo>
                  <a:pt x="22685" y="5461"/>
                  <a:pt x="22713" y="5440"/>
                  <a:pt x="22733" y="5397"/>
                </a:cubicBezTo>
                <a:cubicBezTo>
                  <a:pt x="22755" y="5350"/>
                  <a:pt x="22788" y="5263"/>
                  <a:pt x="22796" y="5207"/>
                </a:cubicBezTo>
                <a:cubicBezTo>
                  <a:pt x="22804" y="5155"/>
                  <a:pt x="22813" y="5110"/>
                  <a:pt x="22818" y="5059"/>
                </a:cubicBezTo>
                <a:cubicBezTo>
                  <a:pt x="22820" y="5038"/>
                  <a:pt x="22816" y="5016"/>
                  <a:pt x="22818" y="4995"/>
                </a:cubicBezTo>
                <a:cubicBezTo>
                  <a:pt x="22803" y="5027"/>
                  <a:pt x="22780" y="5043"/>
                  <a:pt x="22775" y="5080"/>
                </a:cubicBezTo>
                <a:cubicBezTo>
                  <a:pt x="22764" y="5163"/>
                  <a:pt x="22775" y="5233"/>
                  <a:pt x="22754" y="5313"/>
                </a:cubicBezTo>
                <a:cubicBezTo>
                  <a:pt x="22745" y="5350"/>
                  <a:pt x="22737" y="5381"/>
                  <a:pt x="22733" y="5419"/>
                </a:cubicBezTo>
                <a:cubicBezTo>
                  <a:pt x="22733" y="5423"/>
                  <a:pt x="22736" y="5583"/>
                  <a:pt x="22712" y="5567"/>
                </a:cubicBezTo>
                <a:cubicBezTo>
                  <a:pt x="22704" y="5562"/>
                  <a:pt x="22713" y="5476"/>
                  <a:pt x="22712" y="5461"/>
                </a:cubicBezTo>
                <a:cubicBezTo>
                  <a:pt x="22708" y="5496"/>
                  <a:pt x="22719" y="5490"/>
                  <a:pt x="22712" y="5524"/>
                </a:cubicBezTo>
                <a:cubicBezTo>
                  <a:pt x="22707" y="5552"/>
                  <a:pt x="22699" y="5624"/>
                  <a:pt x="22691" y="5651"/>
                </a:cubicBezTo>
                <a:cubicBezTo>
                  <a:pt x="22684" y="5658"/>
                  <a:pt x="22676" y="5666"/>
                  <a:pt x="22669" y="5673"/>
                </a:cubicBezTo>
                <a:cubicBezTo>
                  <a:pt x="22661" y="5639"/>
                  <a:pt x="22677" y="5685"/>
                  <a:pt x="22669" y="5651"/>
                </a:cubicBezTo>
                <a:cubicBezTo>
                  <a:pt x="22662" y="5621"/>
                  <a:pt x="22655" y="5582"/>
                  <a:pt x="22648" y="5546"/>
                </a:cubicBezTo>
                <a:cubicBezTo>
                  <a:pt x="22642" y="5517"/>
                  <a:pt x="22634" y="5489"/>
                  <a:pt x="22627" y="5461"/>
                </a:cubicBezTo>
                <a:cubicBezTo>
                  <a:pt x="22604" y="5495"/>
                  <a:pt x="22594" y="5501"/>
                  <a:pt x="22585" y="5546"/>
                </a:cubicBezTo>
                <a:cubicBezTo>
                  <a:pt x="22576" y="5591"/>
                  <a:pt x="22585" y="5648"/>
                  <a:pt x="22585" y="5694"/>
                </a:cubicBezTo>
                <a:cubicBezTo>
                  <a:pt x="22596" y="5664"/>
                  <a:pt x="22587" y="5615"/>
                  <a:pt x="22606" y="5588"/>
                </a:cubicBezTo>
                <a:cubicBezTo>
                  <a:pt x="22648" y="5567"/>
                  <a:pt x="22662" y="5560"/>
                  <a:pt x="22669" y="5524"/>
                </a:cubicBezTo>
                <a:cubicBezTo>
                  <a:pt x="22672" y="5556"/>
                  <a:pt x="22688" y="5588"/>
                  <a:pt x="22691" y="5609"/>
                </a:cubicBezTo>
                <a:cubicBezTo>
                  <a:pt x="22703" y="5704"/>
                  <a:pt x="22680" y="5804"/>
                  <a:pt x="22669" y="5884"/>
                </a:cubicBezTo>
                <a:cubicBezTo>
                  <a:pt x="22669" y="5905"/>
                  <a:pt x="22669" y="5913"/>
                  <a:pt x="22669" y="5927"/>
                </a:cubicBezTo>
                <a:cubicBezTo>
                  <a:pt x="22656" y="5892"/>
                  <a:pt x="22657" y="5890"/>
                  <a:pt x="22648" y="5863"/>
                </a:cubicBezTo>
                <a:cubicBezTo>
                  <a:pt x="22639" y="5836"/>
                  <a:pt x="22667" y="5842"/>
                  <a:pt x="22648" y="5863"/>
                </a:cubicBezTo>
                <a:cubicBezTo>
                  <a:pt x="22618" y="5896"/>
                  <a:pt x="22603" y="5935"/>
                  <a:pt x="22585" y="5969"/>
                </a:cubicBezTo>
                <a:cubicBezTo>
                  <a:pt x="22585" y="5993"/>
                  <a:pt x="22583" y="6002"/>
                  <a:pt x="22564" y="6011"/>
                </a:cubicBezTo>
                <a:cubicBezTo>
                  <a:pt x="22578" y="5987"/>
                  <a:pt x="22576" y="6016"/>
                  <a:pt x="22585" y="5990"/>
                </a:cubicBezTo>
                <a:cubicBezTo>
                  <a:pt x="22602" y="5940"/>
                  <a:pt x="22628" y="5906"/>
                  <a:pt x="22648" y="5863"/>
                </a:cubicBezTo>
                <a:cubicBezTo>
                  <a:pt x="22660" y="5836"/>
                  <a:pt x="22658" y="5805"/>
                  <a:pt x="22669" y="5778"/>
                </a:cubicBezTo>
                <a:cubicBezTo>
                  <a:pt x="22637" y="5823"/>
                  <a:pt x="22638" y="5824"/>
                  <a:pt x="22606" y="5884"/>
                </a:cubicBezTo>
                <a:cubicBezTo>
                  <a:pt x="22600" y="5895"/>
                  <a:pt x="22561" y="5944"/>
                  <a:pt x="22542" y="5969"/>
                </a:cubicBezTo>
                <a:cubicBezTo>
                  <a:pt x="22527" y="5988"/>
                  <a:pt x="22536" y="5972"/>
                  <a:pt x="22521" y="5990"/>
                </a:cubicBezTo>
                <a:cubicBezTo>
                  <a:pt x="22597" y="5935"/>
                  <a:pt x="22585" y="5950"/>
                  <a:pt x="22585" y="5905"/>
                </a:cubicBezTo>
                <a:cubicBezTo>
                  <a:pt x="22585" y="5855"/>
                  <a:pt x="22588" y="5866"/>
                  <a:pt x="22585" y="5821"/>
                </a:cubicBezTo>
                <a:cubicBezTo>
                  <a:pt x="22558" y="5867"/>
                  <a:pt x="22541" y="5905"/>
                  <a:pt x="22521" y="5948"/>
                </a:cubicBezTo>
                <a:cubicBezTo>
                  <a:pt x="22500" y="5992"/>
                  <a:pt x="22474" y="6034"/>
                  <a:pt x="22458" y="6075"/>
                </a:cubicBezTo>
                <a:cubicBezTo>
                  <a:pt x="22447" y="6104"/>
                  <a:pt x="22465" y="6145"/>
                  <a:pt x="22437" y="6159"/>
                </a:cubicBezTo>
                <a:cubicBezTo>
                  <a:pt x="22371" y="6193"/>
                  <a:pt x="22479" y="6074"/>
                  <a:pt x="22479" y="6075"/>
                </a:cubicBezTo>
                <a:cubicBezTo>
                  <a:pt x="22470" y="6124"/>
                  <a:pt x="22412" y="6167"/>
                  <a:pt x="22394" y="6202"/>
                </a:cubicBezTo>
                <a:cubicBezTo>
                  <a:pt x="22377" y="6235"/>
                  <a:pt x="22385" y="6252"/>
                  <a:pt x="22373" y="6286"/>
                </a:cubicBezTo>
                <a:cubicBezTo>
                  <a:pt x="22366" y="6253"/>
                  <a:pt x="22394" y="6228"/>
                  <a:pt x="22373" y="6202"/>
                </a:cubicBezTo>
                <a:cubicBezTo>
                  <a:pt x="22354" y="6179"/>
                  <a:pt x="22336" y="6177"/>
                  <a:pt x="22310" y="6223"/>
                </a:cubicBezTo>
                <a:cubicBezTo>
                  <a:pt x="22300" y="6240"/>
                  <a:pt x="22296" y="6289"/>
                  <a:pt x="22288" y="6308"/>
                </a:cubicBezTo>
                <a:cubicBezTo>
                  <a:pt x="22268" y="6288"/>
                  <a:pt x="22314" y="6276"/>
                  <a:pt x="22288" y="6265"/>
                </a:cubicBezTo>
                <a:cubicBezTo>
                  <a:pt x="22215" y="6235"/>
                  <a:pt x="22055" y="6274"/>
                  <a:pt x="22013" y="6286"/>
                </a:cubicBezTo>
                <a:cubicBezTo>
                  <a:pt x="21980" y="6295"/>
                  <a:pt x="21966" y="6295"/>
                  <a:pt x="21929" y="6308"/>
                </a:cubicBezTo>
                <a:cubicBezTo>
                  <a:pt x="21926" y="6272"/>
                  <a:pt x="21857" y="6351"/>
                  <a:pt x="21929" y="6308"/>
                </a:cubicBezTo>
                <a:cubicBezTo>
                  <a:pt x="21990" y="6271"/>
                  <a:pt x="22006" y="6270"/>
                  <a:pt x="22077" y="6265"/>
                </a:cubicBezTo>
                <a:cubicBezTo>
                  <a:pt x="22098" y="6264"/>
                  <a:pt x="22119" y="6266"/>
                  <a:pt x="22140" y="6265"/>
                </a:cubicBezTo>
                <a:cubicBezTo>
                  <a:pt x="22106" y="6254"/>
                  <a:pt x="22154" y="6273"/>
                  <a:pt x="22119" y="6265"/>
                </a:cubicBezTo>
                <a:cubicBezTo>
                  <a:pt x="22086" y="6257"/>
                  <a:pt x="22071" y="6247"/>
                  <a:pt x="22034" y="6244"/>
                </a:cubicBezTo>
                <a:cubicBezTo>
                  <a:pt x="21979" y="6239"/>
                  <a:pt x="21920" y="6244"/>
                  <a:pt x="21865" y="6244"/>
                </a:cubicBezTo>
                <a:cubicBezTo>
                  <a:pt x="21906" y="6270"/>
                  <a:pt x="21886" y="6267"/>
                  <a:pt x="21950" y="6286"/>
                </a:cubicBezTo>
                <a:cubicBezTo>
                  <a:pt x="22039" y="6311"/>
                  <a:pt x="22111" y="6348"/>
                  <a:pt x="22204" y="6350"/>
                </a:cubicBezTo>
                <a:cubicBezTo>
                  <a:pt x="22274" y="6352"/>
                  <a:pt x="22345" y="6350"/>
                  <a:pt x="22415" y="6350"/>
                </a:cubicBezTo>
                <a:cubicBezTo>
                  <a:pt x="22386" y="6350"/>
                  <a:pt x="22444" y="6350"/>
                  <a:pt x="22415" y="6350"/>
                </a:cubicBezTo>
                <a:cubicBezTo>
                  <a:pt x="22189" y="6350"/>
                  <a:pt x="21964" y="6350"/>
                  <a:pt x="21738" y="6350"/>
                </a:cubicBezTo>
                <a:cubicBezTo>
                  <a:pt x="21763" y="6350"/>
                  <a:pt x="21906" y="6350"/>
                  <a:pt x="21865" y="6350"/>
                </a:cubicBezTo>
                <a:cubicBezTo>
                  <a:pt x="21766" y="6350"/>
                  <a:pt x="21668" y="6350"/>
                  <a:pt x="21569" y="6350"/>
                </a:cubicBezTo>
                <a:cubicBezTo>
                  <a:pt x="21689" y="6350"/>
                  <a:pt x="21809" y="6350"/>
                  <a:pt x="21929" y="6350"/>
                </a:cubicBezTo>
                <a:cubicBezTo>
                  <a:pt x="21891" y="6335"/>
                  <a:pt x="21846" y="6297"/>
                  <a:pt x="21802" y="6286"/>
                </a:cubicBezTo>
                <a:cubicBezTo>
                  <a:pt x="21743" y="6272"/>
                  <a:pt x="21695" y="6267"/>
                  <a:pt x="21632" y="6265"/>
                </a:cubicBezTo>
                <a:cubicBezTo>
                  <a:pt x="21560" y="6263"/>
                  <a:pt x="21503" y="6259"/>
                  <a:pt x="21442" y="6244"/>
                </a:cubicBezTo>
                <a:cubicBezTo>
                  <a:pt x="21497" y="6248"/>
                  <a:pt x="21539" y="6253"/>
                  <a:pt x="21590" y="6265"/>
                </a:cubicBezTo>
                <a:cubicBezTo>
                  <a:pt x="21634" y="6265"/>
                  <a:pt x="21650" y="6266"/>
                  <a:pt x="21675" y="6286"/>
                </a:cubicBezTo>
                <a:cubicBezTo>
                  <a:pt x="21512" y="6286"/>
                  <a:pt x="21343" y="6274"/>
                  <a:pt x="21188" y="6308"/>
                </a:cubicBezTo>
                <a:cubicBezTo>
                  <a:pt x="21145" y="6308"/>
                  <a:pt x="21116" y="6313"/>
                  <a:pt x="21082" y="6329"/>
                </a:cubicBezTo>
                <a:cubicBezTo>
                  <a:pt x="21265" y="6329"/>
                  <a:pt x="21449" y="6329"/>
                  <a:pt x="21632" y="6329"/>
                </a:cubicBezTo>
                <a:cubicBezTo>
                  <a:pt x="21545" y="6329"/>
                  <a:pt x="21452" y="6315"/>
                  <a:pt x="21378" y="6308"/>
                </a:cubicBezTo>
                <a:cubicBezTo>
                  <a:pt x="21302" y="6301"/>
                  <a:pt x="21222" y="6308"/>
                  <a:pt x="21145" y="6308"/>
                </a:cubicBezTo>
                <a:cubicBezTo>
                  <a:pt x="21192" y="6339"/>
                  <a:pt x="21121" y="6302"/>
                  <a:pt x="21209" y="6329"/>
                </a:cubicBezTo>
                <a:cubicBezTo>
                  <a:pt x="21263" y="6345"/>
                  <a:pt x="21315" y="6385"/>
                  <a:pt x="21378" y="6392"/>
                </a:cubicBezTo>
                <a:cubicBezTo>
                  <a:pt x="21420" y="6397"/>
                  <a:pt x="21463" y="6390"/>
                  <a:pt x="21505" y="6392"/>
                </a:cubicBezTo>
                <a:cubicBezTo>
                  <a:pt x="21455" y="6388"/>
                  <a:pt x="21422" y="6403"/>
                  <a:pt x="21399" y="6371"/>
                </a:cubicBezTo>
                <a:cubicBezTo>
                  <a:pt x="21379" y="6343"/>
                  <a:pt x="21406" y="6328"/>
                  <a:pt x="21378" y="6308"/>
                </a:cubicBezTo>
                <a:cubicBezTo>
                  <a:pt x="21357" y="6293"/>
                  <a:pt x="21280" y="6275"/>
                  <a:pt x="21251" y="6265"/>
                </a:cubicBezTo>
                <a:cubicBezTo>
                  <a:pt x="21196" y="6247"/>
                  <a:pt x="21182" y="6246"/>
                  <a:pt x="21124" y="6244"/>
                </a:cubicBezTo>
                <a:cubicBezTo>
                  <a:pt x="21085" y="6243"/>
                  <a:pt x="21046" y="6226"/>
                  <a:pt x="21018" y="6223"/>
                </a:cubicBezTo>
                <a:cubicBezTo>
                  <a:pt x="20983" y="6220"/>
                  <a:pt x="20990" y="6227"/>
                  <a:pt x="20955" y="6223"/>
                </a:cubicBezTo>
                <a:cubicBezTo>
                  <a:pt x="21025" y="6223"/>
                  <a:pt x="21054" y="6223"/>
                  <a:pt x="21124" y="6223"/>
                </a:cubicBezTo>
                <a:cubicBezTo>
                  <a:pt x="21034" y="6223"/>
                  <a:pt x="20948" y="6222"/>
                  <a:pt x="20870" y="6244"/>
                </a:cubicBezTo>
                <a:cubicBezTo>
                  <a:pt x="20861" y="6246"/>
                  <a:pt x="20790" y="6261"/>
                  <a:pt x="20786" y="6265"/>
                </a:cubicBezTo>
                <a:cubicBezTo>
                  <a:pt x="20774" y="6278"/>
                  <a:pt x="20779" y="6335"/>
                  <a:pt x="20764" y="6350"/>
                </a:cubicBezTo>
                <a:cubicBezTo>
                  <a:pt x="20757" y="6350"/>
                  <a:pt x="20750" y="6350"/>
                  <a:pt x="20743" y="6350"/>
                </a:cubicBezTo>
                <a:cubicBezTo>
                  <a:pt x="20849" y="6350"/>
                  <a:pt x="20955" y="6350"/>
                  <a:pt x="21061" y="6350"/>
                </a:cubicBezTo>
                <a:cubicBezTo>
                  <a:pt x="21026" y="6350"/>
                  <a:pt x="21075" y="6350"/>
                  <a:pt x="21040" y="6350"/>
                </a:cubicBezTo>
                <a:cubicBezTo>
                  <a:pt x="20998" y="6350"/>
                  <a:pt x="20955" y="6350"/>
                  <a:pt x="20913" y="6350"/>
                </a:cubicBezTo>
                <a:cubicBezTo>
                  <a:pt x="20956" y="6350"/>
                  <a:pt x="21061" y="6363"/>
                  <a:pt x="21040" y="6350"/>
                </a:cubicBezTo>
                <a:cubicBezTo>
                  <a:pt x="21016" y="6335"/>
                  <a:pt x="20938" y="6309"/>
                  <a:pt x="20934" y="6308"/>
                </a:cubicBezTo>
                <a:cubicBezTo>
                  <a:pt x="20898" y="6308"/>
                  <a:pt x="20877" y="6308"/>
                  <a:pt x="20913" y="63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Ink 10"/>
          <p:cNvSpPr/>
          <p:nvPr/>
        </p:nvSpPr>
        <p:spPr>
          <a:xfrm>
            <a:off x="5380200" y="2514600"/>
            <a:ext cx="952200" cy="677880"/>
          </a:xfrm>
          <a:custGeom>
            <a:avLst/>
            <a:gdLst/>
            <a:ahLst/>
            <a:rect l="l" t="t" r="r" b="b"/>
            <a:pathLst>
              <a:path w="2646" h="1885">
                <a:moveTo>
                  <a:pt x="17399" y="7070"/>
                </a:moveTo>
                <a:cubicBezTo>
                  <a:pt x="17448" y="7070"/>
                  <a:pt x="17498" y="7070"/>
                  <a:pt x="17547" y="7070"/>
                </a:cubicBezTo>
                <a:cubicBezTo>
                  <a:pt x="17547" y="7132"/>
                  <a:pt x="17551" y="7185"/>
                  <a:pt x="17568" y="7218"/>
                </a:cubicBezTo>
                <a:cubicBezTo>
                  <a:pt x="17580" y="7243"/>
                  <a:pt x="17554" y="7233"/>
                  <a:pt x="17568" y="7260"/>
                </a:cubicBezTo>
                <a:cubicBezTo>
                  <a:pt x="17580" y="7284"/>
                  <a:pt x="17571" y="7354"/>
                  <a:pt x="17547" y="7366"/>
                </a:cubicBezTo>
                <a:cubicBezTo>
                  <a:pt x="17518" y="7381"/>
                  <a:pt x="17526" y="7388"/>
                  <a:pt x="17526" y="7429"/>
                </a:cubicBezTo>
                <a:cubicBezTo>
                  <a:pt x="17526" y="7451"/>
                  <a:pt x="17526" y="7458"/>
                  <a:pt x="17526" y="7472"/>
                </a:cubicBezTo>
                <a:cubicBezTo>
                  <a:pt x="17449" y="7472"/>
                  <a:pt x="17361" y="7474"/>
                  <a:pt x="17314" y="7451"/>
                </a:cubicBezTo>
                <a:cubicBezTo>
                  <a:pt x="17283" y="7436"/>
                  <a:pt x="17225" y="7438"/>
                  <a:pt x="17208" y="7429"/>
                </a:cubicBezTo>
                <a:cubicBezTo>
                  <a:pt x="17191" y="7420"/>
                  <a:pt x="17142" y="7410"/>
                  <a:pt x="17124" y="7408"/>
                </a:cubicBezTo>
                <a:cubicBezTo>
                  <a:pt x="17094" y="7405"/>
                  <a:pt x="16959" y="7408"/>
                  <a:pt x="16997" y="7408"/>
                </a:cubicBezTo>
                <a:cubicBezTo>
                  <a:pt x="17004" y="7408"/>
                  <a:pt x="17011" y="7408"/>
                  <a:pt x="17018" y="7408"/>
                </a:cubicBezTo>
                <a:cubicBezTo>
                  <a:pt x="17054" y="7386"/>
                  <a:pt x="17103" y="7380"/>
                  <a:pt x="17124" y="7366"/>
                </a:cubicBezTo>
                <a:cubicBezTo>
                  <a:pt x="17158" y="7344"/>
                  <a:pt x="17201" y="7321"/>
                  <a:pt x="17230" y="7302"/>
                </a:cubicBezTo>
                <a:cubicBezTo>
                  <a:pt x="17248" y="7290"/>
                  <a:pt x="17290" y="7267"/>
                  <a:pt x="17293" y="7260"/>
                </a:cubicBezTo>
                <a:cubicBezTo>
                  <a:pt x="17306" y="7233"/>
                  <a:pt x="17303" y="7242"/>
                  <a:pt x="17335" y="7218"/>
                </a:cubicBezTo>
                <a:cubicBezTo>
                  <a:pt x="17293" y="7218"/>
                  <a:pt x="17076" y="7218"/>
                  <a:pt x="17166" y="7218"/>
                </a:cubicBezTo>
                <a:cubicBezTo>
                  <a:pt x="17198" y="7179"/>
                  <a:pt x="17165" y="7130"/>
                  <a:pt x="17187" y="7175"/>
                </a:cubicBezTo>
                <a:cubicBezTo>
                  <a:pt x="17220" y="7245"/>
                  <a:pt x="17330" y="7189"/>
                  <a:pt x="17399" y="7154"/>
                </a:cubicBezTo>
                <a:cubicBezTo>
                  <a:pt x="17417" y="7145"/>
                  <a:pt x="17458" y="7135"/>
                  <a:pt x="17462" y="7133"/>
                </a:cubicBezTo>
                <a:cubicBezTo>
                  <a:pt x="17486" y="7121"/>
                  <a:pt x="17515" y="7133"/>
                  <a:pt x="17526" y="7112"/>
                </a:cubicBezTo>
                <a:cubicBezTo>
                  <a:pt x="17526" y="7105"/>
                  <a:pt x="17526" y="7098"/>
                  <a:pt x="17526" y="7091"/>
                </a:cubicBezTo>
                <a:cubicBezTo>
                  <a:pt x="17463" y="7091"/>
                  <a:pt x="17384" y="7076"/>
                  <a:pt x="17335" y="7112"/>
                </a:cubicBezTo>
                <a:cubicBezTo>
                  <a:pt x="17279" y="7112"/>
                  <a:pt x="17368" y="7112"/>
                  <a:pt x="17378" y="7112"/>
                </a:cubicBezTo>
                <a:cubicBezTo>
                  <a:pt x="17406" y="7112"/>
                  <a:pt x="17434" y="7112"/>
                  <a:pt x="17462" y="7112"/>
                </a:cubicBezTo>
                <a:cubicBezTo>
                  <a:pt x="17451" y="7145"/>
                  <a:pt x="17429" y="7134"/>
                  <a:pt x="17399" y="7154"/>
                </a:cubicBezTo>
                <a:cubicBezTo>
                  <a:pt x="17357" y="7182"/>
                  <a:pt x="17330" y="7229"/>
                  <a:pt x="17293" y="7260"/>
                </a:cubicBezTo>
                <a:cubicBezTo>
                  <a:pt x="17274" y="7276"/>
                  <a:pt x="17220" y="7295"/>
                  <a:pt x="17272" y="7302"/>
                </a:cubicBezTo>
                <a:cubicBezTo>
                  <a:pt x="17281" y="7303"/>
                  <a:pt x="17371" y="7302"/>
                  <a:pt x="17314" y="7302"/>
                </a:cubicBezTo>
                <a:cubicBezTo>
                  <a:pt x="17290" y="7302"/>
                  <a:pt x="17221" y="7313"/>
                  <a:pt x="17208" y="7324"/>
                </a:cubicBezTo>
                <a:cubicBezTo>
                  <a:pt x="17208" y="7331"/>
                  <a:pt x="17208" y="7338"/>
                  <a:pt x="17208" y="7345"/>
                </a:cubicBezTo>
                <a:cubicBezTo>
                  <a:pt x="17223" y="7258"/>
                  <a:pt x="17228" y="7335"/>
                  <a:pt x="17293" y="7302"/>
                </a:cubicBezTo>
                <a:cubicBezTo>
                  <a:pt x="17327" y="7285"/>
                  <a:pt x="17352" y="7263"/>
                  <a:pt x="17378" y="7260"/>
                </a:cubicBezTo>
                <a:cubicBezTo>
                  <a:pt x="17403" y="7257"/>
                  <a:pt x="17415" y="7311"/>
                  <a:pt x="17399" y="7324"/>
                </a:cubicBezTo>
                <a:cubicBezTo>
                  <a:pt x="17377" y="7343"/>
                  <a:pt x="17368" y="7334"/>
                  <a:pt x="17357" y="7366"/>
                </a:cubicBezTo>
                <a:cubicBezTo>
                  <a:pt x="17408" y="7366"/>
                  <a:pt x="17400" y="7342"/>
                  <a:pt x="17441" y="7324"/>
                </a:cubicBezTo>
                <a:cubicBezTo>
                  <a:pt x="17470" y="7311"/>
                  <a:pt x="17477" y="7253"/>
                  <a:pt x="17462" y="7281"/>
                </a:cubicBezTo>
                <a:cubicBezTo>
                  <a:pt x="17462" y="7288"/>
                  <a:pt x="17462" y="7295"/>
                  <a:pt x="17462" y="7302"/>
                </a:cubicBezTo>
                <a:cubicBezTo>
                  <a:pt x="17462" y="7316"/>
                  <a:pt x="17455" y="7453"/>
                  <a:pt x="17484" y="7387"/>
                </a:cubicBezTo>
                <a:cubicBezTo>
                  <a:pt x="17496" y="7361"/>
                  <a:pt x="17534" y="7365"/>
                  <a:pt x="17547" y="7345"/>
                </a:cubicBezTo>
                <a:cubicBezTo>
                  <a:pt x="17555" y="7332"/>
                  <a:pt x="17588" y="7283"/>
                  <a:pt x="17589" y="7281"/>
                </a:cubicBezTo>
                <a:cubicBezTo>
                  <a:pt x="17589" y="7274"/>
                  <a:pt x="17589" y="7267"/>
                  <a:pt x="17589" y="7260"/>
                </a:cubicBezTo>
                <a:cubicBezTo>
                  <a:pt x="17552" y="7266"/>
                  <a:pt x="17522" y="7298"/>
                  <a:pt x="17505" y="7302"/>
                </a:cubicBezTo>
                <a:cubicBezTo>
                  <a:pt x="17466" y="7312"/>
                  <a:pt x="17440" y="7324"/>
                  <a:pt x="17399" y="7324"/>
                </a:cubicBezTo>
                <a:cubicBezTo>
                  <a:pt x="17372" y="7324"/>
                  <a:pt x="17342" y="7316"/>
                  <a:pt x="17335" y="7302"/>
                </a:cubicBezTo>
                <a:cubicBezTo>
                  <a:pt x="17313" y="7260"/>
                  <a:pt x="17314" y="7286"/>
                  <a:pt x="17293" y="7260"/>
                </a:cubicBezTo>
                <a:cubicBezTo>
                  <a:pt x="17267" y="7228"/>
                  <a:pt x="17315" y="7218"/>
                  <a:pt x="17251" y="7218"/>
                </a:cubicBezTo>
                <a:cubicBezTo>
                  <a:pt x="17244" y="7218"/>
                  <a:pt x="17237" y="7218"/>
                  <a:pt x="17230" y="7218"/>
                </a:cubicBezTo>
              </a:path>
              <a:path w="2646" h="1885">
                <a:moveTo>
                  <a:pt x="17187" y="7197"/>
                </a:moveTo>
                <a:cubicBezTo>
                  <a:pt x="17159" y="7193"/>
                  <a:pt x="17152" y="7181"/>
                  <a:pt x="17124" y="7175"/>
                </a:cubicBezTo>
                <a:cubicBezTo>
                  <a:pt x="17055" y="7161"/>
                  <a:pt x="16934" y="7163"/>
                  <a:pt x="16891" y="7154"/>
                </a:cubicBezTo>
                <a:cubicBezTo>
                  <a:pt x="16863" y="7148"/>
                  <a:pt x="16839" y="7151"/>
                  <a:pt x="16827" y="7133"/>
                </a:cubicBezTo>
                <a:cubicBezTo>
                  <a:pt x="16827" y="7126"/>
                  <a:pt x="16827" y="7119"/>
                  <a:pt x="16827" y="7112"/>
                </a:cubicBezTo>
                <a:cubicBezTo>
                  <a:pt x="16847" y="7100"/>
                  <a:pt x="16847" y="7094"/>
                  <a:pt x="16891" y="7091"/>
                </a:cubicBezTo>
                <a:cubicBezTo>
                  <a:pt x="16989" y="7085"/>
                  <a:pt x="17244" y="7091"/>
                  <a:pt x="17145" y="7091"/>
                </a:cubicBezTo>
                <a:cubicBezTo>
                  <a:pt x="17005" y="7091"/>
                  <a:pt x="16829" y="7091"/>
                  <a:pt x="16722" y="7070"/>
                </a:cubicBezTo>
                <a:cubicBezTo>
                  <a:pt x="16674" y="7060"/>
                  <a:pt x="16658" y="7074"/>
                  <a:pt x="16616" y="7048"/>
                </a:cubicBezTo>
                <a:cubicBezTo>
                  <a:pt x="16591" y="7032"/>
                  <a:pt x="16592" y="7029"/>
                  <a:pt x="16552" y="7027"/>
                </a:cubicBezTo>
                <a:cubicBezTo>
                  <a:pt x="16459" y="7022"/>
                  <a:pt x="16339" y="7018"/>
                  <a:pt x="16277" y="7006"/>
                </a:cubicBezTo>
                <a:cubicBezTo>
                  <a:pt x="16250" y="7001"/>
                  <a:pt x="16242" y="6989"/>
                  <a:pt x="16214" y="6985"/>
                </a:cubicBezTo>
                <a:cubicBezTo>
                  <a:pt x="16121" y="6971"/>
                  <a:pt x="16027" y="6993"/>
                  <a:pt x="15938" y="7006"/>
                </a:cubicBezTo>
                <a:cubicBezTo>
                  <a:pt x="15815" y="7023"/>
                  <a:pt x="15651" y="7008"/>
                  <a:pt x="15557" y="7027"/>
                </a:cubicBezTo>
                <a:cubicBezTo>
                  <a:pt x="15505" y="7037"/>
                  <a:pt x="15433" y="7041"/>
                  <a:pt x="15388" y="7048"/>
                </a:cubicBezTo>
                <a:cubicBezTo>
                  <a:pt x="15353" y="7054"/>
                  <a:pt x="15358" y="7034"/>
                  <a:pt x="15325" y="7048"/>
                </a:cubicBezTo>
                <a:cubicBezTo>
                  <a:pt x="15263" y="7074"/>
                  <a:pt x="15288" y="7081"/>
                  <a:pt x="15282" y="7133"/>
                </a:cubicBezTo>
                <a:cubicBezTo>
                  <a:pt x="15282" y="7154"/>
                  <a:pt x="15282" y="7161"/>
                  <a:pt x="15282" y="7175"/>
                </a:cubicBezTo>
                <a:cubicBezTo>
                  <a:pt x="15268" y="7151"/>
                  <a:pt x="15279" y="7133"/>
                  <a:pt x="15261" y="7112"/>
                </a:cubicBezTo>
                <a:cubicBezTo>
                  <a:pt x="15254" y="7112"/>
                  <a:pt x="15247" y="7112"/>
                  <a:pt x="15240" y="7112"/>
                </a:cubicBezTo>
              </a:path>
              <a:path w="2646" h="1885">
                <a:moveTo>
                  <a:pt x="15325" y="7112"/>
                </a:moveTo>
                <a:cubicBezTo>
                  <a:pt x="15297" y="7112"/>
                  <a:pt x="15268" y="7112"/>
                  <a:pt x="15240" y="7112"/>
                </a:cubicBezTo>
                <a:cubicBezTo>
                  <a:pt x="15229" y="7146"/>
                  <a:pt x="15230" y="7120"/>
                  <a:pt x="15219" y="7154"/>
                </a:cubicBezTo>
                <a:cubicBezTo>
                  <a:pt x="15141" y="7154"/>
                  <a:pt x="15064" y="7154"/>
                  <a:pt x="14986" y="7154"/>
                </a:cubicBezTo>
                <a:cubicBezTo>
                  <a:pt x="14986" y="7175"/>
                  <a:pt x="14986" y="7182"/>
                  <a:pt x="15007" y="7175"/>
                </a:cubicBezTo>
              </a:path>
              <a:path w="2646" h="1885">
                <a:moveTo>
                  <a:pt x="15113" y="7154"/>
                </a:moveTo>
                <a:cubicBezTo>
                  <a:pt x="15094" y="7173"/>
                  <a:pt x="15090" y="7180"/>
                  <a:pt x="15071" y="7175"/>
                </a:cubicBezTo>
                <a:cubicBezTo>
                  <a:pt x="15060" y="7208"/>
                  <a:pt x="15049" y="7193"/>
                  <a:pt x="15049" y="7239"/>
                </a:cubicBezTo>
                <a:cubicBezTo>
                  <a:pt x="15049" y="7246"/>
                  <a:pt x="15049" y="7253"/>
                  <a:pt x="15049" y="7260"/>
                </a:cubicBezTo>
                <a:cubicBezTo>
                  <a:pt x="15017" y="7271"/>
                  <a:pt x="15028" y="7286"/>
                  <a:pt x="15028" y="7324"/>
                </a:cubicBezTo>
                <a:cubicBezTo>
                  <a:pt x="15028" y="7345"/>
                  <a:pt x="15028" y="7366"/>
                  <a:pt x="15028" y="7387"/>
                </a:cubicBezTo>
                <a:cubicBezTo>
                  <a:pt x="15015" y="7391"/>
                  <a:pt x="14976" y="7407"/>
                  <a:pt x="14965" y="7429"/>
                </a:cubicBezTo>
                <a:cubicBezTo>
                  <a:pt x="14965" y="7436"/>
                  <a:pt x="14965" y="7444"/>
                  <a:pt x="14965" y="7451"/>
                </a:cubicBezTo>
                <a:cubicBezTo>
                  <a:pt x="14933" y="7462"/>
                  <a:pt x="14944" y="7476"/>
                  <a:pt x="14944" y="7514"/>
                </a:cubicBezTo>
                <a:cubicBezTo>
                  <a:pt x="14944" y="7535"/>
                  <a:pt x="14944" y="7542"/>
                  <a:pt x="14944" y="7556"/>
                </a:cubicBezTo>
                <a:cubicBezTo>
                  <a:pt x="14982" y="7556"/>
                  <a:pt x="14995" y="7569"/>
                  <a:pt x="15028" y="7578"/>
                </a:cubicBezTo>
                <a:cubicBezTo>
                  <a:pt x="15028" y="7712"/>
                  <a:pt x="15028" y="7846"/>
                  <a:pt x="15028" y="7980"/>
                </a:cubicBezTo>
                <a:cubicBezTo>
                  <a:pt x="15060" y="7991"/>
                  <a:pt x="15047" y="8001"/>
                  <a:pt x="15092" y="8001"/>
                </a:cubicBezTo>
                <a:cubicBezTo>
                  <a:pt x="15102" y="8031"/>
                  <a:pt x="15098" y="8022"/>
                  <a:pt x="15134" y="8022"/>
                </a:cubicBezTo>
                <a:cubicBezTo>
                  <a:pt x="15025" y="8022"/>
                  <a:pt x="15145" y="8017"/>
                  <a:pt x="15155" y="8022"/>
                </a:cubicBezTo>
                <a:cubicBezTo>
                  <a:pt x="15162" y="8029"/>
                  <a:pt x="15169" y="8036"/>
                  <a:pt x="15176" y="8043"/>
                </a:cubicBezTo>
                <a:cubicBezTo>
                  <a:pt x="15182" y="8002"/>
                  <a:pt x="15198" y="7969"/>
                  <a:pt x="15219" y="7937"/>
                </a:cubicBezTo>
                <a:cubicBezTo>
                  <a:pt x="15226" y="7930"/>
                  <a:pt x="15233" y="7923"/>
                  <a:pt x="15240" y="7916"/>
                </a:cubicBezTo>
              </a:path>
              <a:path w="2646" h="1885">
                <a:moveTo>
                  <a:pt x="15938" y="7641"/>
                </a:moveTo>
                <a:cubicBezTo>
                  <a:pt x="16279" y="7641"/>
                  <a:pt x="16673" y="7685"/>
                  <a:pt x="16997" y="7620"/>
                </a:cubicBezTo>
                <a:cubicBezTo>
                  <a:pt x="17042" y="7611"/>
                  <a:pt x="17099" y="7620"/>
                  <a:pt x="17145" y="7620"/>
                </a:cubicBezTo>
                <a:cubicBezTo>
                  <a:pt x="17160" y="7574"/>
                  <a:pt x="17133" y="7585"/>
                  <a:pt x="17187" y="7578"/>
                </a:cubicBezTo>
                <a:cubicBezTo>
                  <a:pt x="17208" y="7575"/>
                  <a:pt x="17230" y="7578"/>
                  <a:pt x="17251" y="7578"/>
                </a:cubicBezTo>
                <a:cubicBezTo>
                  <a:pt x="17272" y="7512"/>
                  <a:pt x="17250" y="7546"/>
                  <a:pt x="17314" y="7535"/>
                </a:cubicBezTo>
                <a:cubicBezTo>
                  <a:pt x="17321" y="7535"/>
                  <a:pt x="17328" y="7535"/>
                  <a:pt x="17335" y="7535"/>
                </a:cubicBezTo>
              </a:path>
              <a:path w="2646" h="1885">
                <a:moveTo>
                  <a:pt x="15896" y="7578"/>
                </a:moveTo>
                <a:cubicBezTo>
                  <a:pt x="15867" y="7599"/>
                  <a:pt x="15845" y="7612"/>
                  <a:pt x="15811" y="7620"/>
                </a:cubicBezTo>
                <a:cubicBezTo>
                  <a:pt x="15800" y="7652"/>
                  <a:pt x="15786" y="7641"/>
                  <a:pt x="15748" y="7641"/>
                </a:cubicBezTo>
                <a:cubicBezTo>
                  <a:pt x="15741" y="7641"/>
                  <a:pt x="15734" y="7641"/>
                  <a:pt x="15727" y="7641"/>
                </a:cubicBezTo>
                <a:cubicBezTo>
                  <a:pt x="15716" y="7673"/>
                  <a:pt x="15706" y="7659"/>
                  <a:pt x="15706" y="7705"/>
                </a:cubicBezTo>
                <a:cubicBezTo>
                  <a:pt x="15706" y="7740"/>
                  <a:pt x="15706" y="7775"/>
                  <a:pt x="15706" y="7810"/>
                </a:cubicBezTo>
              </a:path>
              <a:path w="2646" h="1885">
                <a:moveTo>
                  <a:pt x="15727" y="7874"/>
                </a:moveTo>
                <a:cubicBezTo>
                  <a:pt x="15734" y="7874"/>
                  <a:pt x="15741" y="7874"/>
                  <a:pt x="15748" y="7874"/>
                </a:cubicBezTo>
                <a:cubicBezTo>
                  <a:pt x="15774" y="7906"/>
                  <a:pt x="15758" y="7913"/>
                  <a:pt x="15811" y="7916"/>
                </a:cubicBezTo>
                <a:cubicBezTo>
                  <a:pt x="15854" y="7918"/>
                  <a:pt x="15883" y="7930"/>
                  <a:pt x="15917" y="7937"/>
                </a:cubicBezTo>
                <a:cubicBezTo>
                  <a:pt x="15937" y="7941"/>
                  <a:pt x="15960" y="7934"/>
                  <a:pt x="15981" y="7937"/>
                </a:cubicBezTo>
                <a:cubicBezTo>
                  <a:pt x="15997" y="7965"/>
                  <a:pt x="15996" y="7960"/>
                  <a:pt x="16002" y="8001"/>
                </a:cubicBezTo>
                <a:cubicBezTo>
                  <a:pt x="16057" y="7973"/>
                  <a:pt x="16029" y="8001"/>
                  <a:pt x="16044" y="8043"/>
                </a:cubicBezTo>
                <a:cubicBezTo>
                  <a:pt x="16054" y="8072"/>
                  <a:pt x="16072" y="8093"/>
                  <a:pt x="16087" y="8107"/>
                </a:cubicBezTo>
                <a:cubicBezTo>
                  <a:pt x="16094" y="8114"/>
                  <a:pt x="16101" y="8121"/>
                  <a:pt x="16108" y="8128"/>
                </a:cubicBezTo>
                <a:cubicBezTo>
                  <a:pt x="16101" y="8128"/>
                  <a:pt x="16094" y="8128"/>
                  <a:pt x="16087" y="8128"/>
                </a:cubicBezTo>
                <a:cubicBezTo>
                  <a:pt x="16114" y="8144"/>
                  <a:pt x="16110" y="8143"/>
                  <a:pt x="16150" y="8149"/>
                </a:cubicBezTo>
                <a:cubicBezTo>
                  <a:pt x="16164" y="8199"/>
                  <a:pt x="16173" y="8169"/>
                  <a:pt x="16192" y="8213"/>
                </a:cubicBezTo>
                <a:cubicBezTo>
                  <a:pt x="16192" y="8220"/>
                  <a:pt x="16192" y="8227"/>
                  <a:pt x="16192" y="8234"/>
                </a:cubicBezTo>
                <a:cubicBezTo>
                  <a:pt x="16218" y="8249"/>
                  <a:pt x="16216" y="8253"/>
                  <a:pt x="16256" y="8255"/>
                </a:cubicBezTo>
                <a:cubicBezTo>
                  <a:pt x="16277" y="8255"/>
                  <a:pt x="16284" y="8255"/>
                  <a:pt x="16298" y="8255"/>
                </a:cubicBezTo>
                <a:cubicBezTo>
                  <a:pt x="16301" y="8257"/>
                  <a:pt x="16357" y="8284"/>
                  <a:pt x="16362" y="8297"/>
                </a:cubicBezTo>
                <a:cubicBezTo>
                  <a:pt x="16376" y="8334"/>
                  <a:pt x="16362" y="8405"/>
                  <a:pt x="16362" y="8445"/>
                </a:cubicBezTo>
                <a:cubicBezTo>
                  <a:pt x="16410" y="8461"/>
                  <a:pt x="16394" y="8433"/>
                  <a:pt x="16404" y="8488"/>
                </a:cubicBezTo>
                <a:cubicBezTo>
                  <a:pt x="16404" y="8495"/>
                  <a:pt x="16404" y="8502"/>
                  <a:pt x="16404" y="8509"/>
                </a:cubicBezTo>
                <a:cubicBezTo>
                  <a:pt x="16439" y="8509"/>
                  <a:pt x="16475" y="8509"/>
                  <a:pt x="16510" y="8509"/>
                </a:cubicBezTo>
                <a:cubicBezTo>
                  <a:pt x="16510" y="8537"/>
                  <a:pt x="16510" y="8566"/>
                  <a:pt x="16510" y="8594"/>
                </a:cubicBezTo>
                <a:cubicBezTo>
                  <a:pt x="16522" y="8615"/>
                  <a:pt x="16525" y="8614"/>
                  <a:pt x="16531" y="8657"/>
                </a:cubicBezTo>
                <a:cubicBezTo>
                  <a:pt x="16543" y="8678"/>
                  <a:pt x="16546" y="8678"/>
                  <a:pt x="16552" y="8721"/>
                </a:cubicBezTo>
              </a:path>
              <a:path w="2646" h="1885">
                <a:moveTo>
                  <a:pt x="15113" y="8022"/>
                </a:moveTo>
                <a:lnTo>
                  <a:pt x="15113" y="8022"/>
                </a:lnTo>
                <a:lnTo>
                  <a:pt x="15134" y="8022"/>
                </a:lnTo>
                <a:lnTo>
                  <a:pt x="15134" y="8022"/>
                </a:lnTo>
                <a:lnTo>
                  <a:pt x="15155" y="8022"/>
                </a:lnTo>
                <a:lnTo>
                  <a:pt x="15176" y="8022"/>
                </a:lnTo>
                <a:lnTo>
                  <a:pt x="15198" y="8022"/>
                </a:lnTo>
                <a:lnTo>
                  <a:pt x="15198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19" y="8022"/>
                </a:lnTo>
                <a:lnTo>
                  <a:pt x="15240" y="8022"/>
                </a:lnTo>
                <a:lnTo>
                  <a:pt x="15240" y="8022"/>
                </a:lnTo>
                <a:lnTo>
                  <a:pt x="15240" y="8022"/>
                </a:lnTo>
                <a:lnTo>
                  <a:pt x="15261" y="8022"/>
                </a:lnTo>
                <a:lnTo>
                  <a:pt x="15261" y="8022"/>
                </a:lnTo>
                <a:lnTo>
                  <a:pt x="15261" y="8022"/>
                </a:lnTo>
                <a:lnTo>
                  <a:pt x="15282" y="8022"/>
                </a:lnTo>
                <a:lnTo>
                  <a:pt x="15282" y="8022"/>
                </a:lnTo>
                <a:lnTo>
                  <a:pt x="15303" y="8043"/>
                </a:lnTo>
                <a:lnTo>
                  <a:pt x="15303" y="8043"/>
                </a:lnTo>
                <a:lnTo>
                  <a:pt x="15303" y="8043"/>
                </a:lnTo>
                <a:lnTo>
                  <a:pt x="15303" y="8064"/>
                </a:lnTo>
                <a:lnTo>
                  <a:pt x="15303" y="8064"/>
                </a:lnTo>
                <a:lnTo>
                  <a:pt x="15303" y="8064"/>
                </a:lnTo>
                <a:lnTo>
                  <a:pt x="15303" y="8086"/>
                </a:lnTo>
                <a:lnTo>
                  <a:pt x="15303" y="8086"/>
                </a:lnTo>
                <a:lnTo>
                  <a:pt x="15303" y="8086"/>
                </a:lnTo>
                <a:lnTo>
                  <a:pt x="15303" y="8107"/>
                </a:lnTo>
                <a:lnTo>
                  <a:pt x="15303" y="8107"/>
                </a:lnTo>
                <a:lnTo>
                  <a:pt x="15303" y="8128"/>
                </a:lnTo>
                <a:lnTo>
                  <a:pt x="15303" y="8128"/>
                </a:lnTo>
                <a:lnTo>
                  <a:pt x="15282" y="8128"/>
                </a:lnTo>
                <a:lnTo>
                  <a:pt x="15282" y="8128"/>
                </a:lnTo>
                <a:lnTo>
                  <a:pt x="15303" y="8128"/>
                </a:lnTo>
                <a:lnTo>
                  <a:pt x="15303" y="8128"/>
                </a:lnTo>
                <a:lnTo>
                  <a:pt x="15303" y="8149"/>
                </a:lnTo>
                <a:lnTo>
                  <a:pt x="15303" y="8170"/>
                </a:lnTo>
                <a:lnTo>
                  <a:pt x="15303" y="8170"/>
                </a:lnTo>
                <a:lnTo>
                  <a:pt x="15325" y="8170"/>
                </a:lnTo>
                <a:lnTo>
                  <a:pt x="15325" y="8170"/>
                </a:lnTo>
                <a:lnTo>
                  <a:pt x="15325" y="8191"/>
                </a:lnTo>
                <a:lnTo>
                  <a:pt x="15325" y="8191"/>
                </a:lnTo>
                <a:lnTo>
                  <a:pt x="15346" y="8191"/>
                </a:lnTo>
                <a:lnTo>
                  <a:pt x="15346" y="8191"/>
                </a:lnTo>
                <a:lnTo>
                  <a:pt x="15367" y="8191"/>
                </a:lnTo>
                <a:lnTo>
                  <a:pt x="15367" y="8191"/>
                </a:lnTo>
                <a:lnTo>
                  <a:pt x="15367" y="8213"/>
                </a:lnTo>
                <a:lnTo>
                  <a:pt x="15367" y="8213"/>
                </a:lnTo>
                <a:lnTo>
                  <a:pt x="15388" y="8213"/>
                </a:lnTo>
                <a:lnTo>
                  <a:pt x="15388" y="8213"/>
                </a:lnTo>
                <a:lnTo>
                  <a:pt x="15409" y="8234"/>
                </a:lnTo>
                <a:lnTo>
                  <a:pt x="15409" y="8234"/>
                </a:lnTo>
                <a:lnTo>
                  <a:pt x="15430" y="8234"/>
                </a:lnTo>
                <a:lnTo>
                  <a:pt x="15452" y="8234"/>
                </a:lnTo>
                <a:lnTo>
                  <a:pt x="15452" y="8234"/>
                </a:lnTo>
                <a:lnTo>
                  <a:pt x="15452" y="8234"/>
                </a:lnTo>
                <a:lnTo>
                  <a:pt x="15452" y="8255"/>
                </a:lnTo>
                <a:lnTo>
                  <a:pt x="15452" y="8255"/>
                </a:lnTo>
                <a:lnTo>
                  <a:pt x="15473" y="8255"/>
                </a:lnTo>
                <a:lnTo>
                  <a:pt x="15473" y="8255"/>
                </a:lnTo>
                <a:lnTo>
                  <a:pt x="15494" y="8255"/>
                </a:lnTo>
                <a:lnTo>
                  <a:pt x="15494" y="8255"/>
                </a:lnTo>
                <a:lnTo>
                  <a:pt x="15494" y="8255"/>
                </a:lnTo>
                <a:lnTo>
                  <a:pt x="15494" y="8276"/>
                </a:lnTo>
                <a:lnTo>
                  <a:pt x="15494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15" y="8276"/>
                </a:lnTo>
                <a:lnTo>
                  <a:pt x="15536" y="8276"/>
                </a:lnTo>
                <a:lnTo>
                  <a:pt x="15536" y="8276"/>
                </a:lnTo>
                <a:lnTo>
                  <a:pt x="15536" y="8297"/>
                </a:lnTo>
                <a:lnTo>
                  <a:pt x="15536" y="8297"/>
                </a:lnTo>
                <a:lnTo>
                  <a:pt x="15557" y="8297"/>
                </a:lnTo>
                <a:lnTo>
                  <a:pt x="15515" y="8297"/>
                </a:lnTo>
                <a:lnTo>
                  <a:pt x="15515" y="8318"/>
                </a:lnTo>
                <a:lnTo>
                  <a:pt x="15515" y="8318"/>
                </a:lnTo>
                <a:lnTo>
                  <a:pt x="15536" y="8318"/>
                </a:lnTo>
                <a:lnTo>
                  <a:pt x="15536" y="8318"/>
                </a:lnTo>
                <a:lnTo>
                  <a:pt x="15557" y="8318"/>
                </a:lnTo>
                <a:lnTo>
                  <a:pt x="15579" y="8318"/>
                </a:lnTo>
                <a:lnTo>
                  <a:pt x="15600" y="8318"/>
                </a:lnTo>
                <a:lnTo>
                  <a:pt x="15600" y="8340"/>
                </a:lnTo>
                <a:lnTo>
                  <a:pt x="15621" y="8340"/>
                </a:lnTo>
                <a:lnTo>
                  <a:pt x="15621" y="8340"/>
                </a:lnTo>
                <a:lnTo>
                  <a:pt x="15621" y="8340"/>
                </a:lnTo>
                <a:lnTo>
                  <a:pt x="15621" y="8361"/>
                </a:lnTo>
                <a:lnTo>
                  <a:pt x="15642" y="8361"/>
                </a:lnTo>
                <a:lnTo>
                  <a:pt x="15642" y="8361"/>
                </a:lnTo>
                <a:lnTo>
                  <a:pt x="15642" y="8361"/>
                </a:lnTo>
                <a:lnTo>
                  <a:pt x="15663" y="8361"/>
                </a:lnTo>
                <a:lnTo>
                  <a:pt x="15663" y="8361"/>
                </a:lnTo>
                <a:lnTo>
                  <a:pt x="15684" y="8361"/>
                </a:lnTo>
                <a:lnTo>
                  <a:pt x="15684" y="8382"/>
                </a:lnTo>
                <a:lnTo>
                  <a:pt x="15706" y="8382"/>
                </a:lnTo>
                <a:lnTo>
                  <a:pt x="15706" y="8403"/>
                </a:lnTo>
                <a:lnTo>
                  <a:pt x="15706" y="8403"/>
                </a:lnTo>
                <a:lnTo>
                  <a:pt x="15706" y="8424"/>
                </a:lnTo>
                <a:lnTo>
                  <a:pt x="15706" y="8424"/>
                </a:lnTo>
                <a:lnTo>
                  <a:pt x="15706" y="8424"/>
                </a:lnTo>
                <a:lnTo>
                  <a:pt x="15727" y="8424"/>
                </a:lnTo>
                <a:lnTo>
                  <a:pt x="15727" y="8445"/>
                </a:lnTo>
                <a:lnTo>
                  <a:pt x="15727" y="8445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67"/>
                </a:lnTo>
                <a:lnTo>
                  <a:pt x="15727" y="8488"/>
                </a:lnTo>
                <a:lnTo>
                  <a:pt x="15727" y="8488"/>
                </a:lnTo>
                <a:lnTo>
                  <a:pt x="15727" y="8509"/>
                </a:lnTo>
                <a:lnTo>
                  <a:pt x="15727" y="8509"/>
                </a:lnTo>
                <a:lnTo>
                  <a:pt x="15727" y="8530"/>
                </a:lnTo>
                <a:lnTo>
                  <a:pt x="15727" y="8530"/>
                </a:lnTo>
                <a:lnTo>
                  <a:pt x="15748" y="8551"/>
                </a:lnTo>
                <a:lnTo>
                  <a:pt x="15748" y="8572"/>
                </a:lnTo>
                <a:lnTo>
                  <a:pt x="15748" y="8572"/>
                </a:lnTo>
                <a:lnTo>
                  <a:pt x="15769" y="8594"/>
                </a:lnTo>
                <a:lnTo>
                  <a:pt x="15790" y="8594"/>
                </a:lnTo>
                <a:lnTo>
                  <a:pt x="15790" y="8594"/>
                </a:lnTo>
                <a:lnTo>
                  <a:pt x="15790" y="8594"/>
                </a:lnTo>
                <a:lnTo>
                  <a:pt x="15790" y="8594"/>
                </a:lnTo>
                <a:lnTo>
                  <a:pt x="15811" y="8594"/>
                </a:lnTo>
                <a:lnTo>
                  <a:pt x="15811" y="8594"/>
                </a:lnTo>
                <a:lnTo>
                  <a:pt x="15811" y="8594"/>
                </a:lnTo>
                <a:lnTo>
                  <a:pt x="15811" y="8615"/>
                </a:lnTo>
                <a:lnTo>
                  <a:pt x="15811" y="8615"/>
                </a:lnTo>
                <a:lnTo>
                  <a:pt x="15833" y="8615"/>
                </a:lnTo>
                <a:lnTo>
                  <a:pt x="15833" y="8636"/>
                </a:lnTo>
                <a:lnTo>
                  <a:pt x="15854" y="8636"/>
                </a:lnTo>
                <a:lnTo>
                  <a:pt x="15854" y="8657"/>
                </a:lnTo>
                <a:lnTo>
                  <a:pt x="15875" y="8657"/>
                </a:lnTo>
                <a:lnTo>
                  <a:pt x="15875" y="8657"/>
                </a:lnTo>
                <a:lnTo>
                  <a:pt x="15896" y="8657"/>
                </a:lnTo>
                <a:lnTo>
                  <a:pt x="15896" y="8657"/>
                </a:lnTo>
                <a:lnTo>
                  <a:pt x="15896" y="8657"/>
                </a:lnTo>
                <a:lnTo>
                  <a:pt x="15917" y="8657"/>
                </a:lnTo>
                <a:lnTo>
                  <a:pt x="15917" y="8657"/>
                </a:lnTo>
                <a:lnTo>
                  <a:pt x="15938" y="8657"/>
                </a:lnTo>
                <a:lnTo>
                  <a:pt x="15938" y="8657"/>
                </a:lnTo>
                <a:lnTo>
                  <a:pt x="15960" y="8657"/>
                </a:lnTo>
                <a:lnTo>
                  <a:pt x="15960" y="8657"/>
                </a:lnTo>
                <a:lnTo>
                  <a:pt x="15981" y="8657"/>
                </a:lnTo>
                <a:lnTo>
                  <a:pt x="15981" y="8657"/>
                </a:lnTo>
                <a:lnTo>
                  <a:pt x="15981" y="8657"/>
                </a:lnTo>
                <a:lnTo>
                  <a:pt x="16002" y="8657"/>
                </a:lnTo>
                <a:lnTo>
                  <a:pt x="16002" y="8657"/>
                </a:lnTo>
                <a:lnTo>
                  <a:pt x="16002" y="8678"/>
                </a:lnTo>
                <a:lnTo>
                  <a:pt x="16002" y="8678"/>
                </a:lnTo>
                <a:lnTo>
                  <a:pt x="16002" y="8678"/>
                </a:lnTo>
                <a:lnTo>
                  <a:pt x="16023" y="8678"/>
                </a:lnTo>
                <a:lnTo>
                  <a:pt x="16023" y="8678"/>
                </a:lnTo>
                <a:lnTo>
                  <a:pt x="16023" y="8678"/>
                </a:lnTo>
                <a:lnTo>
                  <a:pt x="16023" y="8699"/>
                </a:lnTo>
                <a:lnTo>
                  <a:pt x="16023" y="8699"/>
                </a:lnTo>
                <a:lnTo>
                  <a:pt x="16023" y="8721"/>
                </a:lnTo>
                <a:lnTo>
                  <a:pt x="16023" y="8721"/>
                </a:lnTo>
                <a:lnTo>
                  <a:pt x="16023" y="8721"/>
                </a:lnTo>
                <a:lnTo>
                  <a:pt x="16023" y="8742"/>
                </a:lnTo>
                <a:lnTo>
                  <a:pt x="16023" y="8742"/>
                </a:lnTo>
                <a:lnTo>
                  <a:pt x="16023" y="8742"/>
                </a:lnTo>
                <a:lnTo>
                  <a:pt x="16023" y="8742"/>
                </a:lnTo>
                <a:lnTo>
                  <a:pt x="16023" y="8763"/>
                </a:lnTo>
                <a:lnTo>
                  <a:pt x="16023" y="8763"/>
                </a:lnTo>
                <a:lnTo>
                  <a:pt x="16023" y="8784"/>
                </a:lnTo>
                <a:lnTo>
                  <a:pt x="16023" y="8784"/>
                </a:lnTo>
                <a:lnTo>
                  <a:pt x="16023" y="8805"/>
                </a:lnTo>
                <a:lnTo>
                  <a:pt x="16023" y="8805"/>
                </a:lnTo>
                <a:lnTo>
                  <a:pt x="16023" y="8805"/>
                </a:lnTo>
                <a:lnTo>
                  <a:pt x="16023" y="8826"/>
                </a:lnTo>
                <a:lnTo>
                  <a:pt x="16023" y="8826"/>
                </a:lnTo>
                <a:lnTo>
                  <a:pt x="16023" y="8826"/>
                </a:lnTo>
                <a:lnTo>
                  <a:pt x="16023" y="8826"/>
                </a:lnTo>
                <a:lnTo>
                  <a:pt x="16023" y="8848"/>
                </a:lnTo>
                <a:lnTo>
                  <a:pt x="16023" y="8848"/>
                </a:lnTo>
                <a:lnTo>
                  <a:pt x="16044" y="8848"/>
                </a:lnTo>
                <a:lnTo>
                  <a:pt x="16023" y="8848"/>
                </a:lnTo>
                <a:lnTo>
                  <a:pt x="16044" y="8848"/>
                </a:lnTo>
                <a:lnTo>
                  <a:pt x="16044" y="8826"/>
                </a:lnTo>
                <a:lnTo>
                  <a:pt x="16065" y="8826"/>
                </a:lnTo>
                <a:lnTo>
                  <a:pt x="16065" y="8826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48"/>
                </a:lnTo>
                <a:lnTo>
                  <a:pt x="16065" y="886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3508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036880" y="4761000"/>
            <a:ext cx="71892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2000160" y="3902040"/>
            <a:ext cx="792360" cy="74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198756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5"/>
          <a:stretch/>
        </p:blipFill>
        <p:spPr>
          <a:xfrm>
            <a:off x="197964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6"/>
          <a:stretch/>
        </p:blipFill>
        <p:spPr>
          <a:xfrm>
            <a:off x="206388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7"/>
          <a:stretch/>
        </p:blipFill>
        <p:spPr>
          <a:xfrm>
            <a:off x="203508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3476520" y="5731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lun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476520" y="14144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mar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476520" y="22575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mercre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476520" y="31003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jeu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76520" y="3941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vendre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476520" y="47847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samedi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3476520" y="56275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dimanch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" name="Picture 16" descr=""/>
          <p:cNvPicPr/>
          <p:nvPr/>
        </p:nvPicPr>
        <p:blipFill>
          <a:blip r:embed="rId8"/>
          <a:stretch/>
        </p:blipFill>
        <p:spPr>
          <a:xfrm>
            <a:off x="6356520" y="558972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9"/>
          <a:stretch/>
        </p:blipFill>
        <p:spPr>
          <a:xfrm>
            <a:off x="6357960" y="47610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10"/>
          <a:stretch/>
        </p:blipFill>
        <p:spPr>
          <a:xfrm>
            <a:off x="6321600" y="3902040"/>
            <a:ext cx="792000" cy="7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11"/>
          <a:stretch/>
        </p:blipFill>
        <p:spPr>
          <a:xfrm>
            <a:off x="6308640" y="3046320"/>
            <a:ext cx="817560" cy="7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/>
          <p:cNvPicPr/>
          <p:nvPr/>
        </p:nvPicPr>
        <p:blipFill>
          <a:blip r:embed="rId12"/>
          <a:stretch/>
        </p:blipFill>
        <p:spPr>
          <a:xfrm>
            <a:off x="6300720" y="2185920"/>
            <a:ext cx="833400" cy="74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13"/>
          <a:stretch/>
        </p:blipFill>
        <p:spPr>
          <a:xfrm>
            <a:off x="6384960" y="13525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"/>
          <p:cNvPicPr/>
          <p:nvPr/>
        </p:nvPicPr>
        <p:blipFill>
          <a:blip r:embed="rId14"/>
          <a:stretch/>
        </p:blipFill>
        <p:spPr>
          <a:xfrm>
            <a:off x="6356520" y="549360"/>
            <a:ext cx="720720" cy="690480"/>
          </a:xfrm>
          <a:prstGeom prst="rect">
            <a:avLst/>
          </a:prstGeom>
          <a:ln w="0">
            <a:noFill/>
          </a:ln>
        </p:spPr>
      </p:pic>
      <p:sp>
        <p:nvSpPr>
          <p:cNvPr id="89" name="WordArt 23"/>
          <p:cNvSpPr txBox="1"/>
          <p:nvPr/>
        </p:nvSpPr>
        <p:spPr>
          <a:xfrm rot="5400000">
            <a:off x="565272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E WEEK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0" name="WordArt 24"/>
          <p:cNvSpPr txBox="1"/>
          <p:nvPr/>
        </p:nvSpPr>
        <p:spPr>
          <a:xfrm rot="5400000">
            <a:off x="-2268360" y="3068640"/>
            <a:ext cx="57592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DAYS OF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3330720" cy="4960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48578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elle tricote avec de la laine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7560" y="1052640"/>
            <a:ext cx="226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samedi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932360" y="3645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omic Sans MS"/>
              </a:rPr>
              <a:t>blanche</a:t>
            </a:r>
            <a:r>
              <a:rPr b="0" i="1" lang="en-US" sz="4800" spc="-1" strike="noStrike">
                <a:solidFill>
                  <a:srgbClr val="bfbfbf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3241440" cy="50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500040" y="2357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bfbfbf"/>
                </a:solidFill>
                <a:latin typeface="Comic Sans MS"/>
              </a:rPr>
              <a:t>...il n’y a plus de laine 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6" descr="MPj03865780000[1]"/>
          <p:cNvPicPr/>
          <p:nvPr/>
        </p:nvPicPr>
        <p:blipFill>
          <a:blip r:embed="rId2"/>
          <a:stretch/>
        </p:blipFill>
        <p:spPr>
          <a:xfrm rot="20818800">
            <a:off x="2050920" y="4869000"/>
            <a:ext cx="2289240" cy="1633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250920" y="357336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bfbfbf"/>
                </a:solidFill>
                <a:latin typeface="Comic Sans MS"/>
              </a:rPr>
              <a:t>« Quel dommage! »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bfbfbf"/>
                </a:solidFill>
                <a:latin typeface="Comic Sans MS"/>
              </a:rPr>
              <a:t> </a:t>
            </a:r>
            <a:r>
              <a:rPr b="0" i="1" lang="fr-FR" sz="3600" spc="-1" strike="noStrike">
                <a:solidFill>
                  <a:srgbClr val="bfbfbf"/>
                </a:solidFill>
                <a:latin typeface="Comic Sans MS"/>
              </a:rPr>
              <a:t>dit Grand-mère Denise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945000" y="1052640"/>
            <a:ext cx="301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omic Sans MS"/>
              </a:rPr>
              <a:t>dimanch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5733720" cy="3533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top_news_diddl_3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43800" y="2857680"/>
            <a:ext cx="1981080" cy="18698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1071720" y="35712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hat kind of presents do you lik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What toys do you think French children might ask for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Castellar"/>
              </a:rPr>
              <a:t>L’Echarpe la plus longue du mon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6" descr="MCj02405690000[1]"/>
          <p:cNvPicPr/>
          <p:nvPr/>
        </p:nvPicPr>
        <p:blipFill>
          <a:blip r:embed="rId1"/>
          <a:stretch/>
        </p:blipFill>
        <p:spPr>
          <a:xfrm>
            <a:off x="3429000" y="4214880"/>
            <a:ext cx="1728720" cy="1827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knitting"/>
          <p:cNvPicPr/>
          <p:nvPr/>
        </p:nvPicPr>
        <p:blipFill>
          <a:blip r:embed="rId2"/>
          <a:stretch/>
        </p:blipFill>
        <p:spPr>
          <a:xfrm>
            <a:off x="32400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knitting"/>
          <p:cNvPicPr/>
          <p:nvPr/>
        </p:nvPicPr>
        <p:blipFill>
          <a:blip r:embed="rId3"/>
          <a:stretch/>
        </p:blipFill>
        <p:spPr>
          <a:xfrm>
            <a:off x="7885080" y="1052640"/>
            <a:ext cx="907920" cy="90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Cj02907850000[1]"/>
          <p:cNvPicPr/>
          <p:nvPr/>
        </p:nvPicPr>
        <p:blipFill>
          <a:blip r:embed="rId4"/>
          <a:stretch/>
        </p:blipFill>
        <p:spPr>
          <a:xfrm>
            <a:off x="3348000" y="189000"/>
            <a:ext cx="243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708800" cy="6454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292720" y="3357720"/>
            <a:ext cx="38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Grand-mère  Denis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Cj03584070000[1]"/>
          <p:cNvPicPr/>
          <p:nvPr/>
        </p:nvPicPr>
        <p:blipFill>
          <a:blip r:embed="rId1"/>
          <a:stretch/>
        </p:blipFill>
        <p:spPr>
          <a:xfrm>
            <a:off x="3203640" y="620640"/>
            <a:ext cx="5703840" cy="5699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4000" y="278136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le tricot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Pj03847050000[1]"/>
          <p:cNvPicPr/>
          <p:nvPr/>
        </p:nvPicPr>
        <p:blipFill>
          <a:blip r:embed="rId1"/>
          <a:stretch/>
        </p:blipFill>
        <p:spPr>
          <a:xfrm>
            <a:off x="1371600" y="596880"/>
            <a:ext cx="6400800" cy="56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708360" y="501336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une écharp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MCj01543700000[1]"/>
          <p:cNvPicPr/>
          <p:nvPr/>
        </p:nvPicPr>
        <p:blipFill>
          <a:blip r:embed="rId1"/>
          <a:stretch/>
        </p:blipFill>
        <p:spPr>
          <a:xfrm>
            <a:off x="2071800" y="500040"/>
            <a:ext cx="4771800" cy="5592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95280" y="4046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la laine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MCj01543700000[1]"/>
          <p:cNvPicPr/>
          <p:nvPr/>
        </p:nvPicPr>
        <p:blipFill>
          <a:blip r:embed="rId1"/>
          <a:stretch/>
        </p:blipFill>
        <p:spPr>
          <a:xfrm>
            <a:off x="6286680" y="3714840"/>
            <a:ext cx="221112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MCj03584070000[1]"/>
          <p:cNvPicPr/>
          <p:nvPr/>
        </p:nvPicPr>
        <p:blipFill>
          <a:blip r:embed="rId2"/>
          <a:stretch/>
        </p:blipFill>
        <p:spPr>
          <a:xfrm>
            <a:off x="4357800" y="571680"/>
            <a:ext cx="2463840" cy="246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642960" y="500040"/>
            <a:ext cx="229248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MPj03847050000[1]"/>
          <p:cNvPicPr/>
          <p:nvPr/>
        </p:nvPicPr>
        <p:blipFill>
          <a:blip r:embed="rId4"/>
          <a:stretch/>
        </p:blipFill>
        <p:spPr>
          <a:xfrm>
            <a:off x="2214720" y="3857760"/>
            <a:ext cx="27968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0:15:02Z</dcterms:created>
  <dc:creator>carole.beeston</dc:creator>
  <dc:description/>
  <dc:language>en-US</dc:language>
  <cp:lastModifiedBy>Clare Seccombe</cp:lastModifiedBy>
  <dcterms:modified xsi:type="dcterms:W3CDTF">2011-01-04T13:07:19Z</dcterms:modified>
  <cp:revision>22</cp:revision>
  <dc:subject/>
  <dc:title>Slide 1</dc:title>
</cp:coreProperties>
</file>