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907588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BD96C-BD9B-4A53-A62B-957D637D1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0E37D-A278-42BA-89F5-A9B0A8F04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64D81-23D6-4D45-B211-B82369D7D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E0E6D-35A2-4F55-87C1-C6D1AA8FA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4212F-4E2E-4888-ACA2-93AE8FBFE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572BA-8F0C-4FF9-9F7A-98F22BE35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D6116-D19A-4D64-A4F1-BC8741D4B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FA6FB-6DB7-4A46-B719-0F98E3945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EEA61-8678-4B3C-B924-ADD20A9CB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B3344-CD9B-4AEF-B663-B966D9045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835F6-7F3B-4A1F-9980-A18DD02E5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8BCB4-07A9-4556-B824-17D77B807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2DD23-CB42-4DB0-AAB2-CE3347B0D5D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951200" y="3695760"/>
            <a:ext cx="5974920" cy="2901960"/>
            <a:chOff x="1951200" y="3695760"/>
            <a:chExt cx="5974920" cy="2901960"/>
          </a:xfrm>
        </p:grpSpPr>
        <p:pic>
          <p:nvPicPr>
            <p:cNvPr id="42" name="" descr=""/>
            <p:cNvPicPr/>
            <p:nvPr/>
          </p:nvPicPr>
          <p:blipFill>
            <a:blip r:embed="rId1"/>
            <a:stretch/>
          </p:blipFill>
          <p:spPr>
            <a:xfrm>
              <a:off x="1951200" y="3695760"/>
              <a:ext cx="2988000" cy="290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" descr=""/>
            <p:cNvPicPr/>
            <p:nvPr/>
          </p:nvPicPr>
          <p:blipFill>
            <a:blip r:embed="rId2"/>
            <a:stretch/>
          </p:blipFill>
          <p:spPr>
            <a:xfrm>
              <a:off x="4939200" y="3695760"/>
              <a:ext cx="2986920" cy="2901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4" name=""/>
          <p:cNvGrpSpPr/>
          <p:nvPr/>
        </p:nvGrpSpPr>
        <p:grpSpPr>
          <a:xfrm>
            <a:off x="1843200" y="260280"/>
            <a:ext cx="6190920" cy="2925720"/>
            <a:chOff x="1843200" y="260280"/>
            <a:chExt cx="6190920" cy="2925720"/>
          </a:xfrm>
        </p:grpSpPr>
        <p:pic>
          <p:nvPicPr>
            <p:cNvPr id="45" name="" descr=""/>
            <p:cNvPicPr/>
            <p:nvPr/>
          </p:nvPicPr>
          <p:blipFill>
            <a:blip r:embed="rId3"/>
            <a:stretch/>
          </p:blipFill>
          <p:spPr>
            <a:xfrm>
              <a:off x="1843200" y="260280"/>
              <a:ext cx="3096000" cy="2925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" descr=""/>
            <p:cNvPicPr/>
            <p:nvPr/>
          </p:nvPicPr>
          <p:blipFill>
            <a:blip r:embed="rId4"/>
            <a:stretch/>
          </p:blipFill>
          <p:spPr>
            <a:xfrm>
              <a:off x="4939200" y="260280"/>
              <a:ext cx="3094920" cy="2925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440160" y="3695760"/>
            <a:ext cx="2987640" cy="29001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3395520" y="260280"/>
            <a:ext cx="3095640" cy="29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432240" y="3670200"/>
            <a:ext cx="3024000" cy="29275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394080" y="260280"/>
            <a:ext cx="3090960" cy="291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1916280" y="3670200"/>
            <a:ext cx="6048360" cy="2927520"/>
            <a:chOff x="1916280" y="3670200"/>
            <a:chExt cx="6048360" cy="2927520"/>
          </a:xfrm>
        </p:grpSpPr>
        <p:pic>
          <p:nvPicPr>
            <p:cNvPr id="52" name="" descr=""/>
            <p:cNvPicPr/>
            <p:nvPr/>
          </p:nvPicPr>
          <p:blipFill>
            <a:blip r:embed="rId1"/>
            <a:stretch/>
          </p:blipFill>
          <p:spPr>
            <a:xfrm>
              <a:off x="4940280" y="3670200"/>
              <a:ext cx="3024360" cy="292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" descr=""/>
            <p:cNvPicPr/>
            <p:nvPr/>
          </p:nvPicPr>
          <p:blipFill>
            <a:blip r:embed="rId2"/>
            <a:stretch/>
          </p:blipFill>
          <p:spPr>
            <a:xfrm>
              <a:off x="1916280" y="3670200"/>
              <a:ext cx="3024000" cy="2927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"/>
          <p:cNvGrpSpPr/>
          <p:nvPr/>
        </p:nvGrpSpPr>
        <p:grpSpPr>
          <a:xfrm>
            <a:off x="1849320" y="260280"/>
            <a:ext cx="6181560" cy="2913120"/>
            <a:chOff x="1849320" y="260280"/>
            <a:chExt cx="6181560" cy="2913120"/>
          </a:xfrm>
        </p:grpSpPr>
        <p:pic>
          <p:nvPicPr>
            <p:cNvPr id="55" name="" descr=""/>
            <p:cNvPicPr/>
            <p:nvPr/>
          </p:nvPicPr>
          <p:blipFill>
            <a:blip r:embed="rId3"/>
            <a:stretch/>
          </p:blipFill>
          <p:spPr>
            <a:xfrm>
              <a:off x="1849320" y="260280"/>
              <a:ext cx="3090600" cy="2913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" descr=""/>
            <p:cNvPicPr/>
            <p:nvPr/>
          </p:nvPicPr>
          <p:blipFill>
            <a:blip r:embed="rId4"/>
            <a:stretch/>
          </p:blipFill>
          <p:spPr>
            <a:xfrm>
              <a:off x="4939920" y="260280"/>
              <a:ext cx="3090960" cy="29131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30T11:08:19Z</dcterms:created>
  <dc:creator>ruth.moreland</dc:creator>
  <dc:description/>
  <dc:language>en-US</dc:language>
  <cp:lastModifiedBy>Clare</cp:lastModifiedBy>
  <dcterms:modified xsi:type="dcterms:W3CDTF">2009-09-29T08:20:36Z</dcterms:modified>
  <cp:revision>3</cp:revision>
  <dc:subject/>
  <dc:title>Slide 1</dc:title>
</cp:coreProperties>
</file>