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BF4-57B5-4BFE-9A5F-C58EDDDF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354-75AF-472A-B521-A91D8B7D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1DF-AC3E-40E2-A226-D6AC9012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01F-D800-48D9-8A29-0859654C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6FC-B30F-4FDE-958F-7F5C5DFE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7A1-7F46-472F-BC79-E4F2B8D7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FA4-E1FE-4434-9E17-4A586B9C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4BA-0927-4739-AAC9-D8B396B2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43E-0AD3-42D2-9B89-CAF3BC6C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07E-399F-4EEE-9DCB-0FF71858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7F3-064F-42E0-9E03-680BDD1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870-730B-4A96-B13B-A35B811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BD2F-D118-43C2-A74A-AAB2C264A1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51200" y="3695760"/>
            <a:ext cx="5974920" cy="2901960"/>
            <a:chOff x="1951200" y="3695760"/>
            <a:chExt cx="5974920" cy="29019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951200" y="3695760"/>
              <a:ext cx="2988000" cy="29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939200" y="3695760"/>
              <a:ext cx="2986920" cy="290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"/>
          <p:cNvGrpSpPr/>
          <p:nvPr/>
        </p:nvGrpSpPr>
        <p:grpSpPr>
          <a:xfrm>
            <a:off x="1843200" y="260280"/>
            <a:ext cx="6190920" cy="2925720"/>
            <a:chOff x="1843200" y="260280"/>
            <a:chExt cx="6190920" cy="292572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43200" y="260280"/>
              <a:ext cx="3096000" cy="29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939200" y="260280"/>
              <a:ext cx="3094920" cy="29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40160" y="3695760"/>
            <a:ext cx="2987640" cy="290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95520" y="260280"/>
            <a:ext cx="30956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32240" y="3670200"/>
            <a:ext cx="3024000" cy="292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94080" y="260280"/>
            <a:ext cx="3090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916280" y="3670200"/>
            <a:ext cx="6048360" cy="2927520"/>
            <a:chOff x="1916280" y="3670200"/>
            <a:chExt cx="6048360" cy="29275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4940280" y="3670200"/>
              <a:ext cx="3024360" cy="29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916280" y="3670200"/>
              <a:ext cx="3024000" cy="292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849320" y="260280"/>
            <a:ext cx="6181560" cy="2913120"/>
            <a:chOff x="1849320" y="260280"/>
            <a:chExt cx="6181560" cy="291312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849320" y="260280"/>
              <a:ext cx="3090600" cy="29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4939920" y="260280"/>
              <a:ext cx="309096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1:08:19Z</dcterms:created>
  <dc:creator>ruth.moreland</dc:creator>
  <dc:description/>
  <dc:language>en-US</dc:language>
  <cp:lastModifiedBy>Clare</cp:lastModifiedBy>
  <dcterms:modified xsi:type="dcterms:W3CDTF">2009-09-29T08:20:36Z</dcterms:modified>
  <cp:revision>3</cp:revision>
  <dc:subject/>
  <dc:title>Slide 1</dc:title>
</cp:coreProperties>
</file>