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DE7-FE2D-4F3F-8178-116709FD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620-D7D2-45F3-8649-3DA12B6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562-E703-478D-946F-73651C8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02B-5C2E-4FD4-85FB-776992FD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FF3-5C2D-4278-95B0-7687EBB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D82-1489-4B26-BB42-3FA003F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33A-CEA1-4FDC-9413-F6E31CD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5D0-A9F3-49CB-8F24-88CDAEFD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F5A-5830-4AF7-A3B4-700E418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BAA-9ADE-46CD-B69B-794D0BF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9AE-4A5E-4BCE-ABB4-39B173F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132-929A-439A-96E4-E97AA82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086-7081-44B3-9F19-90BC003A73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 rot="5400000">
            <a:off x="78480" y="1118880"/>
            <a:ext cx="2217960" cy="140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 rot="5400000">
            <a:off x="2444400" y="1131480"/>
            <a:ext cx="2143080" cy="14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 rot="5400000">
            <a:off x="4623480" y="1124280"/>
            <a:ext cx="2143440" cy="132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 rot="5400000">
            <a:off x="6992640" y="1152000"/>
            <a:ext cx="2071800" cy="129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 rot="5400000">
            <a:off x="-93600" y="499752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m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4677840" y="497772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n’aim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 rot="5400000">
            <a:off x="2581560" y="462492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 rot="5400000">
            <a:off x="6864480" y="4878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tè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6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7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8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9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http://www.kiddymania.co.uk/images/Wilberry%20doll%20Lottie%20rag%20doll.jpg"/>
          <p:cNvPicPr/>
          <p:nvPr/>
        </p:nvPicPr>
        <p:blipFill>
          <a:blip r:embed="rId1"/>
          <a:stretch/>
        </p:blipFill>
        <p:spPr>
          <a:xfrm>
            <a:off x="352440" y="785880"/>
            <a:ext cx="1515960" cy="213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ufty Monkey Cuddly Soft Toy"/>
          <p:cNvPicPr/>
          <p:nvPr/>
        </p:nvPicPr>
        <p:blipFill>
          <a:blip r:embed="rId2"/>
          <a:stretch/>
        </p:blipFill>
        <p:spPr>
          <a:xfrm>
            <a:off x="2658960" y="785880"/>
            <a:ext cx="1582920" cy="201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http://images.asia.ru/img/alibaba/photo/10328468/Maple_Skateboard_Deck.jpg"/>
          <p:cNvPicPr/>
          <p:nvPr/>
        </p:nvPicPr>
        <p:blipFill>
          <a:blip r:embed="rId3"/>
          <a:stretch/>
        </p:blipFill>
        <p:spPr>
          <a:xfrm>
            <a:off x="4902120" y="928800"/>
            <a:ext cx="1648080" cy="202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iwantoneofthose.com/store/assets/images/product/gpxgam/gpxgam_lg.jpg"/>
          <p:cNvPicPr/>
          <p:nvPr/>
        </p:nvPicPr>
        <p:blipFill>
          <a:blip r:embed="rId4"/>
          <a:stretch/>
        </p:blipFill>
        <p:spPr>
          <a:xfrm>
            <a:off x="484200" y="4500720"/>
            <a:ext cx="1305000" cy="13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http://blog.wired.com/gadgets/puma-Bike-Profile.jpg"/>
          <p:cNvPicPr/>
          <p:nvPr/>
        </p:nvPicPr>
        <p:blipFill>
          <a:blip r:embed="rId5"/>
          <a:stretch/>
        </p:blipFill>
        <p:spPr>
          <a:xfrm>
            <a:off x="2658960" y="4500720"/>
            <a:ext cx="1535040" cy="123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http://live.cgcu.net/scripts/t.php?file=files/images/newspic423.jpg&amp;w=300&amp;h=300"/>
          <p:cNvPicPr/>
          <p:nvPr/>
        </p:nvPicPr>
        <p:blipFill>
          <a:blip r:embed="rId6"/>
          <a:stretch/>
        </p:blipFill>
        <p:spPr>
          <a:xfrm>
            <a:off x="5099040" y="4500720"/>
            <a:ext cx="1149480" cy="138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http://www.made-in-china.com/image/2f0j00sMtTInOEbzcCM/Windhobby-RC-Toy-Car-1-10th-Scale-EP-Monster-Truck-TPET-1001-.jpg"/>
          <p:cNvPicPr/>
          <p:nvPr/>
        </p:nvPicPr>
        <p:blipFill>
          <a:blip r:embed="rId7"/>
          <a:stretch/>
        </p:blipFill>
        <p:spPr>
          <a:xfrm>
            <a:off x="7342200" y="1143000"/>
            <a:ext cx="1262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416560" y="7650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719840" y="162864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 rot="5400000">
            <a:off x="-72360" y="4902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pel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2679840" y="501336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 rot="5400000">
            <a:off x="2179440" y="5026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poup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 rot="5400000">
            <a:off x="4788720" y="47941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164360" y="4941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6918480" y="4869000"/>
            <a:ext cx="20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 rot="5400000">
            <a:off x="6842880" y="48996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 rot="5400000">
            <a:off x="214560" y="1405440"/>
            <a:ext cx="20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con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 rot="5400000">
            <a:off x="2770920" y="1337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v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è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 rot="5400000">
            <a:off x="4592520" y="160524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 ba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 rot="5400000">
            <a:off x="7357680" y="148392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8432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964200" y="33336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444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703760" y="33336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8432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6964200" y="3645000"/>
            <a:ext cx="1995480" cy="2879640"/>
          </a:xfrm>
          <a:custGeom>
            <a:avLst/>
            <a:gdLst>
              <a:gd name="textAreaLeft" fmla="*/ 97200 w 1995480"/>
              <a:gd name="textAreaRight" fmla="*/ 1898280 w 199548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69">
                <a:moveTo>
                  <a:pt x="3600" y="0"/>
                </a:moveTo>
                <a:arcTo wR="3600" hR="3600" stAng="16200000" swAng="-5400000"/>
                <a:lnTo>
                  <a:pt x="0" y="27569"/>
                </a:lnTo>
                <a:arcTo wR="3600" hR="3600" stAng="10800000" swAng="-5400000"/>
                <a:lnTo>
                  <a:pt x="18000" y="31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/>
          <p:cNvSpPr/>
          <p:nvPr/>
        </p:nvSpPr>
        <p:spPr>
          <a:xfrm>
            <a:off x="2444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03760" y="3645000"/>
            <a:ext cx="1994040" cy="2879640"/>
          </a:xfrm>
          <a:custGeom>
            <a:avLst/>
            <a:gdLst>
              <a:gd name="textAreaLeft" fmla="*/ 97200 w 1994040"/>
              <a:gd name="textAreaRight" fmla="*/ 1896840 w 1994040"/>
              <a:gd name="textAreaTop" fmla="*/ 97200 h 2879640"/>
              <a:gd name="textAreaBottom" fmla="*/ 2782440 h 2879640"/>
            </a:gdLst>
            <a:ahLst/>
            <a:rect l="textAreaLeft" t="textAreaTop" r="textAreaRight" b="textAreaBottom"/>
            <a:pathLst>
              <a:path w="21600" h="31191">
                <a:moveTo>
                  <a:pt x="3600" y="0"/>
                </a:moveTo>
                <a:arcTo wR="3600" hR="3600" stAng="16200000" swAng="-5400000"/>
                <a:lnTo>
                  <a:pt x="0" y="27591"/>
                </a:lnTo>
                <a:arcTo wR="3600" hR="3600" stAng="10800000" swAng="-5400000"/>
                <a:lnTo>
                  <a:pt x="18000" y="31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411280" y="170028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7288200" y="148428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2:37:43Z</dcterms:created>
  <dc:creator>ruth moreland</dc:creator>
  <dc:description/>
  <dc:language>en-US</dc:language>
  <cp:lastModifiedBy>Clare</cp:lastModifiedBy>
  <dcterms:modified xsi:type="dcterms:W3CDTF">2009-09-29T08:29:05Z</dcterms:modified>
  <cp:revision>6</cp:revision>
  <dc:subject/>
  <dc:title>Slide 1</dc:title>
</cp:coreProperties>
</file>