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D1D-B6FE-49AD-8C04-DD840AAB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D99-698B-46AF-AA94-9A973764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EFA-8CAF-40B5-AAE2-6F79E643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816-1534-4BE2-BE19-F9161F8E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8B9-7285-483F-8D3C-2CC102B0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D5A-F908-4DE0-A49F-F18E787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FEC-59E3-4391-ABEE-5CF13D9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F33-1305-46EC-8959-A6E36FBD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2A5-11B8-41BD-A6CD-D0B9457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6CB-E57B-48EA-983E-9A81021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0E9-CE98-40A0-A696-39DED40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001-80D0-4BF7-86DE-4C609A4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A11B-B3F0-42BD-88DB-93D05F0A48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8432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96420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444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703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18432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696420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6"/>
          <p:cNvSpPr/>
          <p:nvPr/>
        </p:nvSpPr>
        <p:spPr>
          <a:xfrm>
            <a:off x="2444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7"/>
          <p:cNvSpPr/>
          <p:nvPr/>
        </p:nvSpPr>
        <p:spPr>
          <a:xfrm>
            <a:off x="4703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 rot="5400000">
            <a:off x="78480" y="1118880"/>
            <a:ext cx="2217960" cy="140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 rot="5400000">
            <a:off x="2444400" y="1131480"/>
            <a:ext cx="2143080" cy="14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 rot="5400000">
            <a:off x="4623480" y="1124280"/>
            <a:ext cx="2143440" cy="132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 rot="5400000">
            <a:off x="6992640" y="1152000"/>
            <a:ext cx="2071800" cy="129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 rot="5400000">
            <a:off x="-93600" y="499752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m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 rot="5400000">
            <a:off x="4677840" y="497772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n’aime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 rot="5400000">
            <a:off x="2581560" y="4624920"/>
            <a:ext cx="15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 rot="5400000">
            <a:off x="6864480" y="4878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étè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18432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696420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444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703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6"/>
          <p:cNvSpPr/>
          <p:nvPr/>
        </p:nvSpPr>
        <p:spPr>
          <a:xfrm>
            <a:off x="18432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7"/>
          <p:cNvSpPr/>
          <p:nvPr/>
        </p:nvSpPr>
        <p:spPr>
          <a:xfrm>
            <a:off x="696420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8"/>
          <p:cNvSpPr/>
          <p:nvPr/>
        </p:nvSpPr>
        <p:spPr>
          <a:xfrm>
            <a:off x="2444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9"/>
          <p:cNvSpPr/>
          <p:nvPr/>
        </p:nvSpPr>
        <p:spPr>
          <a:xfrm>
            <a:off x="4703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http://www.kiddymania.co.uk/images/Wilberry%20doll%20Lottie%20rag%20doll.jpg"/>
          <p:cNvPicPr/>
          <p:nvPr/>
        </p:nvPicPr>
        <p:blipFill>
          <a:blip r:embed="rId1"/>
          <a:stretch/>
        </p:blipFill>
        <p:spPr>
          <a:xfrm>
            <a:off x="352440" y="785880"/>
            <a:ext cx="1515960" cy="213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Tufty Monkey Cuddly Soft Toy"/>
          <p:cNvPicPr/>
          <p:nvPr/>
        </p:nvPicPr>
        <p:blipFill>
          <a:blip r:embed="rId2"/>
          <a:stretch/>
        </p:blipFill>
        <p:spPr>
          <a:xfrm>
            <a:off x="2658960" y="785880"/>
            <a:ext cx="1582920" cy="201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http://images.asia.ru/img/alibaba/photo/10328468/Maple_Skateboard_Deck.jpg"/>
          <p:cNvPicPr/>
          <p:nvPr/>
        </p:nvPicPr>
        <p:blipFill>
          <a:blip r:embed="rId3"/>
          <a:stretch/>
        </p:blipFill>
        <p:spPr>
          <a:xfrm>
            <a:off x="4902120" y="928800"/>
            <a:ext cx="1648080" cy="202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://www.iwantoneofthose.com/store/assets/images/product/gpxgam/gpxgam_lg.jpg"/>
          <p:cNvPicPr/>
          <p:nvPr/>
        </p:nvPicPr>
        <p:blipFill>
          <a:blip r:embed="rId4"/>
          <a:stretch/>
        </p:blipFill>
        <p:spPr>
          <a:xfrm>
            <a:off x="484200" y="4500720"/>
            <a:ext cx="1305000" cy="13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http://blog.wired.com/gadgets/puma-Bike-Profile.jpg"/>
          <p:cNvPicPr/>
          <p:nvPr/>
        </p:nvPicPr>
        <p:blipFill>
          <a:blip r:embed="rId5"/>
          <a:stretch/>
        </p:blipFill>
        <p:spPr>
          <a:xfrm>
            <a:off x="2658960" y="4500720"/>
            <a:ext cx="1535040" cy="123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http://live.cgcu.net/scripts/t.php?file=files/images/newspic423.jpg&amp;w=300&amp;h=300"/>
          <p:cNvPicPr/>
          <p:nvPr/>
        </p:nvPicPr>
        <p:blipFill>
          <a:blip r:embed="rId6"/>
          <a:stretch/>
        </p:blipFill>
        <p:spPr>
          <a:xfrm>
            <a:off x="5099040" y="4500720"/>
            <a:ext cx="1149480" cy="138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http://www.made-in-china.com/image/2f0j00sMtTInOEbzcCM/Windhobby-RC-Toy-Car-1-10th-Scale-EP-Monster-Truck-TPET-1001-.jpg"/>
          <p:cNvPicPr/>
          <p:nvPr/>
        </p:nvPicPr>
        <p:blipFill>
          <a:blip r:embed="rId7"/>
          <a:stretch/>
        </p:blipFill>
        <p:spPr>
          <a:xfrm>
            <a:off x="7342200" y="1143000"/>
            <a:ext cx="1262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8432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96420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2444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4703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8432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696420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2444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4703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416560" y="76500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7719840" y="162864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 rot="5400000">
            <a:off x="-72360" y="49028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pel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2679840" y="501336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 rot="5400000">
            <a:off x="2179440" y="50266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poup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 rot="5400000">
            <a:off x="4788720" y="47941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 s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164360" y="4941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6918480" y="4869000"/>
            <a:ext cx="204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 rot="5400000">
            <a:off x="6842880" y="489960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vo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 rot="5400000">
            <a:off x="214560" y="1405440"/>
            <a:ext cx="20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con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 rot="5400000">
            <a:off x="2770920" y="1337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 v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è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 rot="5400000">
            <a:off x="4592520" y="160524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 ba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 rot="5400000">
            <a:off x="7357680" y="148392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8432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696420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444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703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8432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696420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"/>
          <p:cNvSpPr/>
          <p:nvPr/>
        </p:nvSpPr>
        <p:spPr>
          <a:xfrm>
            <a:off x="2444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03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2411280" y="170028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7288200" y="148428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2:37:43Z</dcterms:created>
  <dc:creator>ruth moreland</dc:creator>
  <dc:description/>
  <dc:language>en-US</dc:language>
  <cp:lastModifiedBy>Clare</cp:lastModifiedBy>
  <dcterms:modified xsi:type="dcterms:W3CDTF">2009-09-29T08:29:05Z</dcterms:modified>
  <cp:revision>6</cp:revision>
  <dc:subject/>
  <dc:title>Slide 1</dc:title>
</cp:coreProperties>
</file>