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A4E8-B6A9-496C-8FAF-C46A3DFF5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3A1D-DD1D-4C85-9B05-2F0E031E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96E2-5D06-469B-983E-EC943DE20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2945-AE10-4AED-B6A5-1B837EBC9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8E47-CA37-478C-A281-7F1F0A1C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3F16-93E2-4537-9CED-A07CCD64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F9E8-2DCD-4F7F-883E-4CEDFB33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6BD8-5627-433A-894E-561E5CED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E68F-2D52-4795-B849-78159023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FC6B-508D-4610-9841-A67A965B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8B91-C5BF-44CA-AA8E-B98D274D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40B8-FD69-4BA1-B277-C8A92096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25C7-C3D6-4F6A-AEF9-2C7286DE580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2920" y="142920"/>
          <a:ext cx="8786880" cy="1361880"/>
        </p:xfrm>
        <a:graphic>
          <a:graphicData uri="http://schemas.openxmlformats.org/drawingml/2006/table">
            <a:tbl>
              <a:tblPr/>
              <a:tblGrid>
                <a:gridCol w="8786880"/>
              </a:tblGrid>
              <a:tr h="13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 Agend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142920" y="1143000"/>
          <a:ext cx="8786880" cy="512136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3" name="TextBox 12"/>
          <p:cNvSpPr/>
          <p:nvPr/>
        </p:nvSpPr>
        <p:spPr>
          <a:xfrm>
            <a:off x="714240" y="1214280"/>
            <a:ext cx="20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13"/>
          <p:cNvSpPr/>
          <p:nvPr/>
        </p:nvSpPr>
        <p:spPr>
          <a:xfrm>
            <a:off x="4357800" y="121428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ctivi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1:56:12Z</dcterms:created>
  <dc:creator>ruth moreland</dc:creator>
  <dc:description/>
  <dc:language>en-US</dc:language>
  <cp:lastModifiedBy>P.Seccombe</cp:lastModifiedBy>
  <dcterms:modified xsi:type="dcterms:W3CDTF">2009-09-29T10:21:53Z</dcterms:modified>
  <cp:revision>2</cp:revision>
  <dc:subject/>
  <dc:title>Slide 1</dc:title>
</cp:coreProperties>
</file>