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989-B0A5-45CB-AB94-160B8761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42E-68E4-47D9-989F-040B6B16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51A0-9DF4-483A-87B4-6C419CF6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C09D-ED6F-4B0F-B8D7-56163761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4A9A-189C-4501-90DA-254F5A14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7187-C466-4D61-84C6-E8D7FCCF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60C9-821B-48C8-8DB1-1A214511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E9FB-B5FC-4A21-9E82-977E7935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C79-61FC-44D9-83B1-64D1831C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F85-E2D6-4F6E-9E9B-1BED055E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782-B1AF-455A-9B60-FB058870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C72-0C8C-458A-BB06-C8B07DCE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C6E4-2292-47B6-AE6D-25312C0316E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2920" y="142920"/>
          <a:ext cx="8786880" cy="1361880"/>
        </p:xfrm>
        <a:graphic>
          <a:graphicData uri="http://schemas.openxmlformats.org/drawingml/2006/table">
            <a:tbl>
              <a:tblPr/>
              <a:tblGrid>
                <a:gridCol w="8786880"/>
              </a:tblGrid>
              <a:tr h="13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 Agend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42920" y="1143000"/>
          <a:ext cx="8786880" cy="512136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" name="TextBox 12"/>
          <p:cNvSpPr/>
          <p:nvPr/>
        </p:nvSpPr>
        <p:spPr>
          <a:xfrm>
            <a:off x="714240" y="121428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4357800" y="121428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ctivi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1:56:12Z</dcterms:created>
  <dc:creator>ruth moreland</dc:creator>
  <dc:description/>
  <dc:language>en-US</dc:language>
  <cp:lastModifiedBy>P.Seccombe</cp:lastModifiedBy>
  <dcterms:modified xsi:type="dcterms:W3CDTF">2009-09-29T10:21:53Z</dcterms:modified>
  <cp:revision>2</cp:revision>
  <dc:subject/>
  <dc:title>Slide 1</dc:title>
</cp:coreProperties>
</file>