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3A2A-C410-40EA-927C-9EBB82FB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3C5-76D2-4194-B9B9-8E5B1EF1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6777-215D-491D-AA01-3A7C3FDC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62A0-5B09-4C2F-90D8-88EB1E8A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1172-40F0-4B31-9E37-BAD6D2F5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70F9-BF32-4212-8767-BB5A18C0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DF38-19D4-4516-8895-06B4CF3A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2A87-DE43-4062-ABEF-BE2A2B02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CC81-736E-4DC2-9B27-DA242D33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E5B1-6A72-49FE-A26C-80A49A2A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909D-AFF2-41CB-9C5B-C390B28D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91E0-3B3E-4CCD-9204-2FD0234F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B51D-D6AC-46DA-A14A-3D779B496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sunderlandschools.org/mfl-sunderland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10.jpeg"/><Relationship Id="rId7" Type="http://schemas.openxmlformats.org/officeDocument/2006/relationships/image" Target="../media/image12.png"/><Relationship Id="rId8" Type="http://schemas.openxmlformats.org/officeDocument/2006/relationships/image" Target="../media/image6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10.jpeg"/><Relationship Id="rId8" Type="http://schemas.openxmlformats.org/officeDocument/2006/relationships/image" Target="../media/image12.png"/><Relationship Id="rId9" Type="http://schemas.openxmlformats.org/officeDocument/2006/relationships/image" Target="../media/image6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10.jpeg"/><Relationship Id="rId8" Type="http://schemas.openxmlformats.org/officeDocument/2006/relationships/image" Target="../media/image12.png"/><Relationship Id="rId9" Type="http://schemas.openxmlformats.org/officeDocument/2006/relationships/image" Target="../media/image6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10.jpeg"/><Relationship Id="rId8" Type="http://schemas.openxmlformats.org/officeDocument/2006/relationships/image" Target="../media/image12.png"/><Relationship Id="rId9" Type="http://schemas.openxmlformats.org/officeDocument/2006/relationships/image" Target="../media/image6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268280"/>
            <a:ext cx="828036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Learning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To learn a song about foods that are good (yummy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and foods that are good for your heal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443640" y="620640"/>
            <a:ext cx="1536840" cy="1536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5013360"/>
            <a:ext cx="1944360" cy="1378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95640" y="6597720"/>
            <a:ext cx="5148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 Rounded MT Bold"/>
              </a:rPr>
              <a:t>©MFL Sunderland 2009 CB </a:t>
            </a:r>
            <a:r>
              <a:rPr b="0" lang="en-GB" sz="800" spc="-1" strike="noStrike" u="sng">
                <a:solidFill>
                  <a:srgbClr val="cc3300"/>
                </a:solidFill>
                <a:uFillTx/>
                <a:latin typeface="Arial Rounded MT Bold"/>
                <a:hlinkClick r:id="rId3"/>
              </a:rPr>
              <a:t>http://www.sunderlandschools.org/mfl-sunder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42920" y="404640"/>
            <a:ext cx="68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df53"/>
                </a:solidFill>
                <a:latin typeface="Kristen ITC"/>
              </a:rPr>
              <a:t>C’est bon…..mmmm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944720" cy="1697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411280" y="2133720"/>
            <a:ext cx="1943280" cy="161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50920" y="1268280"/>
            <a:ext cx="2016000" cy="1508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572000" y="3213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549360"/>
            <a:ext cx="77407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           </a:t>
            </a: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3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                             </a:t>
            </a: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54936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bdf53"/>
                </a:solidFill>
                <a:latin typeface="Kristen ITC"/>
              </a:rPr>
              <a:t>mais il faut aussi mang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95280" y="1628640"/>
            <a:ext cx="2232000" cy="1800000"/>
            <a:chOff x="395280" y="1628640"/>
            <a:chExt cx="2232000" cy="1800000"/>
          </a:xfrm>
        </p:grpSpPr>
        <p:sp>
          <p:nvSpPr>
            <p:cNvPr id="53" name=""/>
            <p:cNvSpPr/>
            <p:nvPr/>
          </p:nvSpPr>
          <p:spPr>
            <a:xfrm>
              <a:off x="395280" y="1628640"/>
              <a:ext cx="2232000" cy="18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539640" y="1844280"/>
              <a:ext cx="1871640" cy="1409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659640" y="1916280"/>
            <a:ext cx="1871640" cy="1347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971640" y="458136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804000" y="4653000"/>
            <a:ext cx="1349280" cy="1711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132000" y="2924280"/>
            <a:ext cx="2783160" cy="1857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1197000"/>
            <a:ext cx="971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133720"/>
            <a:ext cx="6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1989000"/>
            <a:ext cx="7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501336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df53"/>
                </a:solidFill>
                <a:latin typeface="Comic Sans MS"/>
              </a:rPr>
              <a:t>4                      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95280" y="1628640"/>
            <a:ext cx="2232000" cy="1800000"/>
            <a:chOff x="395280" y="1628640"/>
            <a:chExt cx="2232000" cy="1800000"/>
          </a:xfrm>
        </p:grpSpPr>
        <p:sp>
          <p:nvSpPr>
            <p:cNvPr id="64" name=""/>
            <p:cNvSpPr/>
            <p:nvPr/>
          </p:nvSpPr>
          <p:spPr>
            <a:xfrm>
              <a:off x="395280" y="1628640"/>
              <a:ext cx="2232000" cy="18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6"/>
            <a:stretch/>
          </p:blipFill>
          <p:spPr>
            <a:xfrm>
              <a:off x="539640" y="1844280"/>
              <a:ext cx="1871640" cy="1409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6659640" y="1916280"/>
            <a:ext cx="1871640" cy="1347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3132000" y="2924280"/>
            <a:ext cx="27831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1871640" cy="1409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276720" y="4869000"/>
            <a:ext cx="2087280" cy="1503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300720" y="2637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755640" y="836640"/>
            <a:ext cx="1684440" cy="1398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6300720" y="652320"/>
            <a:ext cx="1800360" cy="1347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3419640" y="333360"/>
            <a:ext cx="1576080" cy="1998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3132000" y="2852640"/>
            <a:ext cx="2293920" cy="1530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6588000" y="4581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826920" y="4797360"/>
            <a:ext cx="172908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324000" y="-447840"/>
            <a:ext cx="9744120" cy="7305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867280" y="414972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492360" y="4221000"/>
            <a:ext cx="1362240" cy="981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867280" y="256536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1619280" y="1268280"/>
            <a:ext cx="1181160" cy="981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1692360" y="2637000"/>
            <a:ext cx="1361880" cy="1019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3851280" y="2565360"/>
            <a:ext cx="781200" cy="99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5724360" y="692280"/>
            <a:ext cx="2294280" cy="1530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1763640" y="41497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>
            <a:off x="3635280" y="1052640"/>
            <a:ext cx="1123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324000" y="-447840"/>
            <a:ext cx="9744120" cy="7305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619280" y="2637000"/>
            <a:ext cx="1428840" cy="1076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403280" y="4292640"/>
            <a:ext cx="1362240" cy="981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692360" y="1197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5724360" y="2637000"/>
            <a:ext cx="1181160" cy="981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5724360" y="407664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3851280" y="2565360"/>
            <a:ext cx="781200" cy="990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3276720" y="4076640"/>
            <a:ext cx="1871640" cy="1249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>
            <a:off x="3635280" y="1052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>
            <a:off x="5796000" y="1052640"/>
            <a:ext cx="1123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324000" y="-447840"/>
            <a:ext cx="9744120" cy="7305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47640" y="414972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619280" y="1341360"/>
            <a:ext cx="1361880" cy="981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708360" y="422100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1547640" y="2781360"/>
            <a:ext cx="1181160" cy="98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3851280" y="263700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6012000" y="4221000"/>
            <a:ext cx="780840" cy="990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3419640" y="981000"/>
            <a:ext cx="1873080" cy="1249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6012000" y="112536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5724360" y="2637000"/>
            <a:ext cx="11242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4:10:22Z</dcterms:created>
  <dc:creator>BeestonC</dc:creator>
  <dc:description/>
  <dc:language>en-US</dc:language>
  <cp:lastModifiedBy>P.Seccombe</cp:lastModifiedBy>
  <dcterms:modified xsi:type="dcterms:W3CDTF">2009-09-29T10:12:31Z</dcterms:modified>
  <cp:revision>4</cp:revision>
  <dc:subject/>
  <dc:title>Slide 1</dc:title>
</cp:coreProperties>
</file>