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EEAE-BEF8-47C8-B8FD-7DB45BB0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F83B-2712-4774-8F8B-F37234B0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7EFB-6ECD-47EA-93CC-2486F643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14E9-A1B0-41CB-973B-4482AB05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5736-31E0-4FCD-B433-9490714E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A168-C0CE-4E8A-9E6D-34562A36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B7DB-A627-413B-A47D-7BFF74C9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3FAF-C08D-41CC-8FEB-5549BF47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4C85-53E5-4E34-BCA4-B8411151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122A-9733-40C0-826D-E0E12E41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86F2-49F2-44B5-94FC-C1C37FD5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9275-5BDA-44E2-A696-6FC39A02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B89B-0458-423B-A7FD-4502A3215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sunderlandschools.org/mfl-sunderland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10.jpeg"/><Relationship Id="rId7" Type="http://schemas.openxmlformats.org/officeDocument/2006/relationships/image" Target="../media/image12.png"/><Relationship Id="rId8" Type="http://schemas.openxmlformats.org/officeDocument/2006/relationships/image" Target="../media/image6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10.jpeg"/><Relationship Id="rId8" Type="http://schemas.openxmlformats.org/officeDocument/2006/relationships/image" Target="../media/image12.png"/><Relationship Id="rId9" Type="http://schemas.openxmlformats.org/officeDocument/2006/relationships/image" Target="../media/image6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10.jpeg"/><Relationship Id="rId8" Type="http://schemas.openxmlformats.org/officeDocument/2006/relationships/image" Target="../media/image12.png"/><Relationship Id="rId9" Type="http://schemas.openxmlformats.org/officeDocument/2006/relationships/image" Target="../media/image6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10.jpeg"/><Relationship Id="rId8" Type="http://schemas.openxmlformats.org/officeDocument/2006/relationships/image" Target="../media/image12.png"/><Relationship Id="rId9" Type="http://schemas.openxmlformats.org/officeDocument/2006/relationships/image" Target="../media/image6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268280"/>
            <a:ext cx="828036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Learning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To learn a song about foods that are good (yummy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and foods that are good for your heal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443640" y="620640"/>
            <a:ext cx="1536840" cy="1536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5013360"/>
            <a:ext cx="1944360" cy="1378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95640" y="6597720"/>
            <a:ext cx="5148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 Rounded MT Bold"/>
              </a:rPr>
              <a:t>©MFL Sunderland 2009 CB </a:t>
            </a:r>
            <a:r>
              <a:rPr b="0" lang="en-GB" sz="800" spc="-1" strike="noStrike" u="sng">
                <a:solidFill>
                  <a:srgbClr val="cc3300"/>
                </a:solidFill>
                <a:uFillTx/>
                <a:latin typeface="Arial Rounded MT Bold"/>
                <a:hlinkClick r:id="rId3"/>
              </a:rPr>
              <a:t>http://www.sunderlandschools.org/mfl-sunder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42920" y="404640"/>
            <a:ext cx="68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df53"/>
                </a:solidFill>
                <a:latin typeface="Kristen ITC"/>
              </a:rPr>
              <a:t>C’est bon…..mmmm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944720" cy="1697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411280" y="2133720"/>
            <a:ext cx="1943280" cy="161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50920" y="1268280"/>
            <a:ext cx="2016000" cy="1508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572000" y="3213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549360"/>
            <a:ext cx="77407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           </a:t>
            </a: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3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                             </a:t>
            </a: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54936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bdf53"/>
                </a:solidFill>
                <a:latin typeface="Kristen ITC"/>
              </a:rPr>
              <a:t>mais il faut aussi mang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95280" y="1628640"/>
            <a:ext cx="2232000" cy="1800000"/>
            <a:chOff x="395280" y="1628640"/>
            <a:chExt cx="2232000" cy="1800000"/>
          </a:xfrm>
        </p:grpSpPr>
        <p:sp>
          <p:nvSpPr>
            <p:cNvPr id="53" name=""/>
            <p:cNvSpPr/>
            <p:nvPr/>
          </p:nvSpPr>
          <p:spPr>
            <a:xfrm>
              <a:off x="395280" y="1628640"/>
              <a:ext cx="2232000" cy="18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539640" y="1844280"/>
              <a:ext cx="1871640" cy="1409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659640" y="1916280"/>
            <a:ext cx="1871640" cy="1347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971640" y="458136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804000" y="4653000"/>
            <a:ext cx="1349280" cy="1711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132000" y="2924280"/>
            <a:ext cx="2783160" cy="1857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1197000"/>
            <a:ext cx="971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133720"/>
            <a:ext cx="6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1989000"/>
            <a:ext cx="7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501336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4                      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95280" y="1628640"/>
            <a:ext cx="2232000" cy="1800000"/>
            <a:chOff x="395280" y="1628640"/>
            <a:chExt cx="2232000" cy="1800000"/>
          </a:xfrm>
        </p:grpSpPr>
        <p:sp>
          <p:nvSpPr>
            <p:cNvPr id="64" name=""/>
            <p:cNvSpPr/>
            <p:nvPr/>
          </p:nvSpPr>
          <p:spPr>
            <a:xfrm>
              <a:off x="395280" y="1628640"/>
              <a:ext cx="2232000" cy="18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6"/>
            <a:stretch/>
          </p:blipFill>
          <p:spPr>
            <a:xfrm>
              <a:off x="539640" y="1844280"/>
              <a:ext cx="1871640" cy="1409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6659640" y="1916280"/>
            <a:ext cx="1871640" cy="1347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3132000" y="2924280"/>
            <a:ext cx="27831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1871640" cy="1409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276720" y="4869000"/>
            <a:ext cx="2087280" cy="1503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300720" y="2637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755640" y="836640"/>
            <a:ext cx="1684440" cy="1398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6300720" y="652320"/>
            <a:ext cx="1800360" cy="1347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3419640" y="333360"/>
            <a:ext cx="1576080" cy="1998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3132000" y="2852640"/>
            <a:ext cx="2293920" cy="1530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6588000" y="4581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826920" y="4797360"/>
            <a:ext cx="172908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324000" y="-447840"/>
            <a:ext cx="9744120" cy="7305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867280" y="414972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492360" y="4221000"/>
            <a:ext cx="1362240" cy="981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867280" y="256536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1619280" y="1268280"/>
            <a:ext cx="1181160" cy="981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1692360" y="2637000"/>
            <a:ext cx="1361880" cy="1019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3851280" y="2565360"/>
            <a:ext cx="781200" cy="99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5724360" y="692280"/>
            <a:ext cx="2294280" cy="1530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1763640" y="41497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>
            <a:off x="3635280" y="1052640"/>
            <a:ext cx="1123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324000" y="-447840"/>
            <a:ext cx="9744120" cy="7305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619280" y="2637000"/>
            <a:ext cx="1428840" cy="1076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403280" y="4292640"/>
            <a:ext cx="1362240" cy="981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692360" y="1197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5724360" y="2637000"/>
            <a:ext cx="1181160" cy="981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5724360" y="407664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3851280" y="2565360"/>
            <a:ext cx="781200" cy="990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3276720" y="4076640"/>
            <a:ext cx="1871640" cy="1249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>
            <a:off x="3635280" y="1052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>
            <a:off x="5796000" y="1052640"/>
            <a:ext cx="1123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324000" y="-447840"/>
            <a:ext cx="9744120" cy="7305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47640" y="414972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619280" y="1341360"/>
            <a:ext cx="1361880" cy="981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708360" y="422100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1547640" y="2781360"/>
            <a:ext cx="1181160" cy="98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3851280" y="263700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6012000" y="4221000"/>
            <a:ext cx="780840" cy="990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3419640" y="981000"/>
            <a:ext cx="1873080" cy="1249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6012000" y="112536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5724360" y="2637000"/>
            <a:ext cx="11242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4:10:22Z</dcterms:created>
  <dc:creator>BeestonC</dc:creator>
  <dc:description/>
  <dc:language>en-US</dc:language>
  <cp:lastModifiedBy>P.Seccombe</cp:lastModifiedBy>
  <dcterms:modified xsi:type="dcterms:W3CDTF">2009-09-29T10:12:31Z</dcterms:modified>
  <cp:revision>4</cp:revision>
  <dc:subject/>
  <dc:title>Slide 1</dc:title>
</cp:coreProperties>
</file>