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E80-DFE6-47C8-868E-A821B475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2FF-9C41-4D6A-BF67-988A296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E2C-386B-4FE1-8A7E-3DEEFEB4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F3F-BC46-40B6-8BEE-8FFF41DB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6F9-BBBA-4C84-869A-6212327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48D-B5F9-4C68-90A2-96E7C86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C28-A6B4-4480-9353-B3E0232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4AD-7EDD-411F-9B89-5EE8A8A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883-CC7F-4888-93E3-EAEFE12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64C-352A-4609-992D-72BD05C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DC-B194-4E74-B868-765E503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333-7DEC-4318-A179-2294802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634-1E69-41ED-A39A-442C2F64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626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3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11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51000" y="1484280"/>
            <a:ext cx="38926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4624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8:05:39Z</dcterms:created>
  <dc:creator>Wendy Adeniji</dc:creator>
  <dc:description/>
  <dc:language>en-US</dc:language>
  <cp:lastModifiedBy>P.Seccombe</cp:lastModifiedBy>
  <dcterms:modified xsi:type="dcterms:W3CDTF">2009-09-29T12:06:18Z</dcterms:modified>
  <cp:revision>2</cp:revision>
  <dc:subject/>
  <dc:title>Slide 1</dc:title>
</cp:coreProperties>
</file>