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8B0-37C2-4D00-A0FC-21C322FF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C2E-A78F-414C-A357-C5670AF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E3A-F439-4B9B-A042-64CF2FA9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B18-95CB-4A02-861E-3F9A41A5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EA7-95EB-42C4-91E9-9A33D0E7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F78-59DA-4B91-BDD1-1EB3D6A8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AEF-B582-49B7-A945-E6029B0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347-6D97-4D82-9F2E-7B0554B2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84E-945D-49D7-B6B7-C91DC2E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5C9-FEDF-4E45-B3EE-AB9AFED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4F8-5FE9-49D6-BC4D-6BF0378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C84-4D18-4987-B8EC-31C66AA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40FD-162E-4E6C-AA8E-C20047AB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626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3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11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51000" y="1484280"/>
            <a:ext cx="38926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4624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8:05:39Z</dcterms:created>
  <dc:creator>Wendy Adeniji</dc:creator>
  <dc:description/>
  <dc:language>en-US</dc:language>
  <cp:lastModifiedBy>P.Seccombe</cp:lastModifiedBy>
  <dcterms:modified xsi:type="dcterms:W3CDTF">2009-09-29T12:06:18Z</dcterms:modified>
  <cp:revision>2</cp:revision>
  <dc:subject/>
  <dc:title>Slide 1</dc:title>
</cp:coreProperties>
</file>