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109-ED70-4DD5-B961-A489E40B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4EE-4FA1-4D81-96A9-D8EF65E7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563-B530-4C3A-9F5A-6C871B69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758-E45E-409B-8418-9F4BCBB5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9F3-9A3A-4A9F-9814-312D0FCF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2B5-6543-4AE0-9EC8-652FC711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964-2277-4815-9C8C-CF021690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6F9-1526-4703-A91F-D2B2F114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9B3-4612-4FBA-90BA-8813456E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D11-0E97-4159-A94B-581ABBDA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72B-FD9D-480E-965F-D852A7D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967-E755-4955-A921-34F7504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FAA2-989D-473A-84BD-42015C573E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goelephants.co.uk/Resources/Elephant-Facts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upload.wikimedia.org/wikipedia/commons/0/0c/Tortoise_closeup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64360" cy="4969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286080" y="28584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sav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071800" y="60008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sava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ruth.moreland\Local Settings\Temporary Internet Files\Content.IE5\XSXQI11T\MPj04333650000[1].jpg"/>
          <p:cNvPicPr/>
          <p:nvPr/>
        </p:nvPicPr>
        <p:blipFill>
          <a:blip r:embed="rId1"/>
          <a:stretch/>
        </p:blipFill>
        <p:spPr>
          <a:xfrm>
            <a:off x="571680" y="1214280"/>
            <a:ext cx="7643520" cy="4757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Mute Swan"/>
          <p:cNvPicPr/>
          <p:nvPr/>
        </p:nvPicPr>
        <p:blipFill>
          <a:blip r:embed="rId2"/>
          <a:stretch/>
        </p:blipFill>
        <p:spPr>
          <a:xfrm>
            <a:off x="1500120" y="4572000"/>
            <a:ext cx="1509840" cy="100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541447~Australian-Kangaroo-Posters.jpg"/>
          <p:cNvPicPr/>
          <p:nvPr/>
        </p:nvPicPr>
        <p:blipFill>
          <a:blip r:embed="rId3"/>
          <a:stretch/>
        </p:blipFill>
        <p:spPr>
          <a:xfrm>
            <a:off x="6500880" y="2714760"/>
            <a:ext cx="1395360" cy="942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1071720" y="1571760"/>
            <a:ext cx="61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kangourous,et les  cyg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--- -- --------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1071720" y="2071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bitent dans la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53 0.10477 C 0.22014 0.08418 0.21945 0.0643 0.2165 0.04394 C 0.21615 0.03793 0.21598 0.03192 0.21528 0.02591 C 0.21389 0.01272 0.20556 0.00625 0.19931 -0.00208 C 0.19653 -0.00578 0.1941 -0.00948 0.19184 -0.01364 C 0.1908 -0.01572 0.19063 -0.0185 0.18941 -0.02012 C 0.18872 -0.02104 0.18073 -0.02335 0.18073 -0.02335 C 0.17657 -0.02289 0.1724 -0.02312 0.16841 -0.02174 C 0.16441 -0.02012 0.1632 -0.01572 0.16094 -0.01179 C 0.15729 -0.00532 0.15174 0.0007 0.14861 0.00787 C 0.14288 0.02151 0.14931 0.01157 0.14375 0.01943 C 0.14132 0.02799 0.13959 0.03539 0.1375 0.04394 C 0.13768 0.04579 0.1375 0.0821 0.14132 0.05875 C 0.14219 0.03631 0.1467 0.00463 0.13386 -0.01364 C 0.13212 -0.02243 0.12952 -0.02844 0.12396 -0.0333 C 0.1191 -0.04394 0.11302 -0.05249 0.10799 -0.0629 C 0.10608 -0.06683 0.10052 -0.07285 0.10052 -0.07285 C 0.09688 -0.06938 0.08941 -0.0629 0.08941 -0.0629 C 0.08351 -0.04741 0.08663 -0.05365 0.08073 -0.04324 C 0.07865 -0.03469 0.07795 -0.03122 0.07327 -0.02497 C 0.07188 -0.01919 0.07153 -0.01457 0.06841 -0.01017 C 0.06702 -0.00485 0.06615 0.0007 0.06476 0.00625 C 0.06441 0.01342 0.0632 0.02036 0.06354 0.02752 C 0.06372 0.03099 0.06598 0.03747 0.06598 0.03747 C 0.06424 0.02359 0.06285 0.01134 0.05973 -0.00208 C 0.05816 -0.00902 0.05764 -0.0185 0.05486 -0.02497 C 0.05104 -0.03353 0.04219 -0.04278 0.03629 -0.0481 C 0.03038 -0.05342 0.02223 -0.05111 0.01528 -0.05296 C -0.00416 -0.05064 0.00608 -0.05319 -0.00573 -0.04139 C -0.00746 -0.03168 -0.01093 -0.02405 -0.01423 -0.01526 C -0.01614 -0.01017 -0.02048 -0.00046 -0.02048 -0.00046 C -0.02274 0.00879 -0.02448 0.01827 -0.02673 0.02752 C -0.02743 0.03076 -0.02916 0.03747 -0.02916 0.03747 C -0.03003 0.02614 -0.03038 0.0192 -0.03402 0.00949 C -0.03524 0.000699999999999999 -0.03593 -0.00208 -0.04149 -0.00693 C -0.04305 -0.01017 -0.04479 -0.01364 -0.04635 -0.01688 C -0.04705 -0.01827 -0.04652 -0.02081 -0.04757 -0.02174 C -0.05034 -0.02428 -0.05416 -0.02359 -0.05746 -0.02497 C -0.06198 -0.03099 -0.06736 -0.03446 -0.07361 -0.03654 C -0.08663 -0.04532 -0.09253 -0.04093 -0.11059 -0.03977 C -0.11389 -0.03538 -0.11493 -0.03099 -0.11805 -0.02659 C -0.11892 -0.02335 -0.11962 -0.02012 -0.12048 -0.01688 C -0.12083 -0.01526 -0.1217 -0.01179 -0.1217 -0.01179 C -0.12257 -0.00208 -0.12239 0.0074 -0.12795 0.01434 C -0.12986 0.02706 -0.12916 0.01989 -0.12916 0.03585 E">
                                      <p:cBhvr>
                                        <p:cTn id="10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360" y="285480"/>
            <a:ext cx="872964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njour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njour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u t’appelles com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m’appelle 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L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Tu t’appelles com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m’appelle 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oisea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Quel âge as-tu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h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s. Tu habites où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habite dans la forêt. Et toi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habite dans 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la savan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215120" cy="4526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500280" y="285840"/>
            <a:ext cx="56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000160" y="592920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m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858080" cy="4526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071880" y="285840"/>
            <a:ext cx="37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forê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928880" y="592920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forê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2864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928960" y="28584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fer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857240" y="585792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une fer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campa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785960" y="578628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camp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ruth.moreland\Local Settings\Temporary Internet Files\Content.IE5\K9YB8967\MPj04333650000[1].jpg"/>
          <p:cNvPicPr/>
          <p:nvPr/>
        </p:nvPicPr>
        <p:blipFill>
          <a:blip r:embed="rId1"/>
          <a:stretch/>
        </p:blipFill>
        <p:spPr>
          <a:xfrm>
            <a:off x="1000080" y="1071720"/>
            <a:ext cx="70722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64360" cy="4969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286080" y="2858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 sav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71800" y="60008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sava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African Lion"/>
          <p:cNvPicPr/>
          <p:nvPr/>
        </p:nvPicPr>
        <p:blipFill>
          <a:blip r:embed="rId2"/>
          <a:stretch/>
        </p:blipFill>
        <p:spPr>
          <a:xfrm>
            <a:off x="2071800" y="3857760"/>
            <a:ext cx="214308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world's biggest  elepha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57880" y="3786120"/>
            <a:ext cx="2286000" cy="14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2357280" y="1357200"/>
            <a:ext cx="5072400" cy="1068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lions et les éléphants habitent dans la sav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215120" cy="452628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500280" y="57168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000160" y="592920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m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upload.wikimedia.org/wikipedia/commons/d/d8/Clown_fish_swimming.jpg"/>
          <p:cNvPicPr/>
          <p:nvPr/>
        </p:nvPicPr>
        <p:blipFill>
          <a:blip r:embed="rId2"/>
          <a:stretch/>
        </p:blipFill>
        <p:spPr>
          <a:xfrm>
            <a:off x="3357720" y="3643200"/>
            <a:ext cx="2000160" cy="1295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2500200" y="1785960"/>
            <a:ext cx="4357800" cy="10688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poissons habitent dans la 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2864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928960" y="28584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e fe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857240" y="585792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une fer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farm4.static.flickr.com/3035/2784333787_6b87d2768d.jpg?v=0"/>
          <p:cNvPicPr/>
          <p:nvPr/>
        </p:nvPicPr>
        <p:blipFill>
          <a:blip r:embed="rId2"/>
          <a:stretch/>
        </p:blipFill>
        <p:spPr>
          <a:xfrm>
            <a:off x="3714840" y="4286160"/>
            <a:ext cx="19717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lerwick.shetlandsales.com/pics/donkey.jpg"/>
          <p:cNvPicPr/>
          <p:nvPr/>
        </p:nvPicPr>
        <p:blipFill>
          <a:blip r:embed="rId3"/>
          <a:stretch/>
        </p:blipFill>
        <p:spPr>
          <a:xfrm>
            <a:off x="9858240" y="6500880"/>
            <a:ext cx="2095560" cy="1342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1071720" y="1214280"/>
            <a:ext cx="7072200" cy="10688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ânes , les poules, et les tort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-------   dans une fe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071720" y="1714680"/>
            <a:ext cx="1857240" cy="581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bi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http://upload.wikimedia.org/wikipedia/commons/0/0c/Tortoise_closeup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429080"/>
            <a:ext cx="1268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146 -0.30421 C -0.21337 -0.32248 -0.21528 -0.34052 -0.21719 -0.35879 C -0.21997 -0.38561 -0.22413 -0.4025 -0.24531 -0.40943 C -0.25452 -0.41244 -0.26406 -0.41452 -0.27344 -0.41684 C -0.29236 -0.42169 -0.28611 -0.4203 -0.3059 -0.42239 C -0.34861 -0.41961 -0.32327 -0.42724 -0.34531 -0.41313 C -0.35365 -0.40782 -0.37066 -0.3981 -0.37066 -0.3981 C -0.37917 -0.38677 -0.37882 -0.37636 -0.38056 -0.36064 C -0.38142 -0.34491 -0.37969 -0.32872 -0.38333 -0.31369 C -0.38403 -0.31068 -0.38403 -0.31993 -0.38472 -0.32294 C -0.38629 -0.32942 -0.38837 -0.33566 -0.39028 -0.3419 C -0.39531 -0.35925 -0.39479 -0.34769 -0.40156 -0.35879 C -0.40434 -0.36341 -0.40573 -0.36943 -0.40868 -0.37359 C -0.41754 -0.38608 -0.41979 -0.38261 -0.42847 -0.39255 C -0.43264 -0.39741 -0.44149 -0.40851 -0.44531 -0.41684 C -0.44636 -0.41915 -0.44653 -0.42262 -0.44809 -0.42447 C -0.45469 -0.43164 -0.46215 -0.43696 -0.46927 -0.4432 C -0.47865 -0.45153 -0.50365 -0.45731 -0.51563 -0.46193 C -0.52413 -0.46124 -0.53281 -0.46216 -0.54115 -0.46008 C -0.54219 -0.45985 -0.55208 -0.44343 -0.55226 -0.4432 C -0.55695 -0.43487 -0.55747 -0.43048 -0.56354 -0.42447 C -0.57934 -0.40851 -0.55816 -0.43534 -0.57483 -0.41313 C -0.57674 -0.40296 -0.57899 -0.40342 -0.58056 -0.39255 C -0.58177 -0.37683 -0.58108 -0.37428 -0.58472 -0.36064 C -0.58663 -0.35393 -0.58993 -0.34861 -0.59184 -0.3419 C -0.59879 -0.35717 -0.60816 -0.36989 -0.61563 -0.38492 C -0.62031 -0.3944 -0.62066 -0.40042 -0.62847 -0.4055 C -0.6434 -0.43279 -0.6625 -0.45083 -0.6875 -0.45823 C -0.69774 -0.47858 -0.73177 -0.46471 -0.74115 -0.46378 C -0.75955 -0.44759 -0.78073 -0.43048 -0.79323 -0.4055 C -0.79722 -0.38585 -0.80278 -0.37151 -0.80868 -0.35301 C -0.81007 -0.34214 -0.81233 -0.33173 -0.81424 -0.32109 C -0.81823 -0.33797 -0.81424 -0.31947 -0.81719 -0.35879 C -0.81823 -0.37266 -0.82622 -0.38099 -0.83403 -0.38862 C -0.83455 -0.39186 -0.83438 -0.3951 -0.83542 -0.3981 C -0.83681 -0.40227 -0.84115 -0.40943 -0.84115 -0.40943 C -0.84167 -0.41244 -0.84149 -0.41591 -0.84254 -0.41869 C -0.84392 -0.42285 -0.84809 -0.43002 -0.84809 -0.43002 C -0.86979 -0.42585 -0.91146 -0.4055 -0.91146 -0.4055 C -0.91615 -0.40111 -0.92188 -0.39833 -0.92552 -0.39255 C -0.93368 -0.37937 -0.92865 -0.37289 -0.9382 -0.36434 C -0.94497 -0.34676 -0.94531 -0.34607 -0.94531 -0.32294 E">
                                      <p:cBhvr>
                                        <p:cTn id="4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858080" cy="4526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071880" y="50004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 forê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928880" y="592920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 habite dans la forê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http://www.birding.in/images/Birds/pied_cuckoo.jpg"/>
          <p:cNvPicPr/>
          <p:nvPr/>
        </p:nvPicPr>
        <p:blipFill>
          <a:blip r:embed="rId2"/>
          <a:stretch/>
        </p:blipFill>
        <p:spPr>
          <a:xfrm>
            <a:off x="1571760" y="2786040"/>
            <a:ext cx="1506240" cy="97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farm4.static.flickr.com/3268/2398947747_505c980ced_o.jpg"/>
          <p:cNvPicPr/>
          <p:nvPr/>
        </p:nvPicPr>
        <p:blipFill>
          <a:blip r:embed="rId3"/>
          <a:stretch/>
        </p:blipFill>
        <p:spPr>
          <a:xfrm>
            <a:off x="5357880" y="3000240"/>
            <a:ext cx="1162080" cy="849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1571760" y="1428840"/>
            <a:ext cx="6643440" cy="1068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coucous et les oiseaux habitent ----   la forê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357720" y="1928880"/>
            <a:ext cx="1071360" cy="1068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0:31:07Z</dcterms:created>
  <dc:creator>ruth moreland</dc:creator>
  <dc:description/>
  <dc:language>en-US</dc:language>
  <cp:lastModifiedBy>Clare</cp:lastModifiedBy>
  <dcterms:modified xsi:type="dcterms:W3CDTF">2009-09-28T08:59:32Z</dcterms:modified>
  <cp:revision>8</cp:revision>
  <dc:subject/>
  <dc:title>Slide 1</dc:title>
</cp:coreProperties>
</file>