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5DFF-C264-4BC0-ABEC-388189D7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730-7007-4DBC-920B-09A21352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636-8A3C-468F-807D-4F3360CD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0A13-670F-41E9-B013-E6623AA9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DD6-611E-464E-AC04-E5CFA43B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824D-0CE6-450E-B849-574D51C6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2F6-951E-49A2-9D8D-BD1EE013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9FD6-F2F1-44FD-9F82-DE7028EE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CF52-753A-49F0-8F66-8BC7738F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610-516E-42D6-BE82-B47EDD11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806D-21E9-4C64-B24E-BAEBB9F0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70A-858F-453B-B24E-5CAC25D5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FAEE-E8B4-4034-A78A-704FDD1130B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28760" y="1000080"/>
            <a:ext cx="8064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857160" y="1214280"/>
            <a:ext cx="721512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78580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928800" y="1071720"/>
            <a:ext cx="728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ruth.moreland\Local Settings\Temporary Internet Files\Content.IE5\K9YB8967\MPj04333650000[1].jpg"/>
          <p:cNvPicPr/>
          <p:nvPr/>
        </p:nvPicPr>
        <p:blipFill>
          <a:blip r:embed="rId1"/>
          <a:stretch/>
        </p:blipFill>
        <p:spPr>
          <a:xfrm>
            <a:off x="642960" y="785880"/>
            <a:ext cx="75153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0:31:07Z</dcterms:created>
  <dc:creator>ruth moreland</dc:creator>
  <dc:description/>
  <dc:language>en-US</dc:language>
  <cp:lastModifiedBy>Clare</cp:lastModifiedBy>
  <dcterms:modified xsi:type="dcterms:W3CDTF">2009-09-28T09:00:09Z</dcterms:modified>
  <cp:revision>9</cp:revision>
  <dc:subject/>
  <dc:title>Slide 1</dc:title>
</cp:coreProperties>
</file>