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4C9-FAF4-41F6-825D-61D40808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F9C2-2D0E-432A-B422-E8595319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C3E-C8A4-44B6-8FC9-04058349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C02-ED2B-4D4D-BABF-CBDC3D36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804-E188-4848-9D9C-6860B625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2E0D-2A5B-4E2D-BF4E-8B3C83C5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E38-6DBC-4D19-B887-E80BE58A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BAC1-610E-4EB3-8F8B-30187E95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03BB-8D40-40C3-B376-72DBF791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8375-0F86-484B-8CE2-AD3B82E7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526-7D0F-4B3F-8007-75A997D6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DB62-B464-4AEF-AB83-30043AF4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7615-CFF0-4539-8186-7B36179B7BF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28760" y="1000080"/>
            <a:ext cx="8064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857160" y="1214280"/>
            <a:ext cx="721512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78580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928800" y="1071720"/>
            <a:ext cx="728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ruth.moreland\Local Settings\Temporary Internet Files\Content.IE5\K9YB8967\MPj04333650000[1].jpg"/>
          <p:cNvPicPr/>
          <p:nvPr/>
        </p:nvPicPr>
        <p:blipFill>
          <a:blip r:embed="rId1"/>
          <a:stretch/>
        </p:blipFill>
        <p:spPr>
          <a:xfrm>
            <a:off x="642960" y="785880"/>
            <a:ext cx="75153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0:31:07Z</dcterms:created>
  <dc:creator>ruth moreland</dc:creator>
  <dc:description/>
  <dc:language>en-US</dc:language>
  <cp:lastModifiedBy>Clare</cp:lastModifiedBy>
  <dcterms:modified xsi:type="dcterms:W3CDTF">2009-09-28T09:00:09Z</dcterms:modified>
  <cp:revision>9</cp:revision>
  <dc:subject/>
  <dc:title>Slide 1</dc:title>
</cp:coreProperties>
</file>