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1FB-47A2-41FA-B8C6-3D45583A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2C5-F916-4705-A3CD-841AD1B5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FF4-E312-4BA7-8A0C-FD2A7FBE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0E1-B8E7-4801-AB31-1FF3E073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CFE-8029-426B-997E-063BD75F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612-8939-478E-966E-2DC5786B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3F3-2592-44C6-A13D-405AE72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38D-DD4C-4849-91E1-E8C79D74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A2D-AF6A-4B59-BF4A-EB97C66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F34-7EB4-43E3-BCF0-A964ACF4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930-6518-4562-8519-2509A34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4BB-415E-4350-A8C9-35F2F3EF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EB66-70F5-4110-AEA7-7A042939B8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lker.com/clipart-6350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1857240" y="785880"/>
            <a:ext cx="5643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www.studyzone.org/testprep/ela4/g/j0290671%5B1%5D.gif"/>
          <p:cNvPicPr/>
          <p:nvPr/>
        </p:nvPicPr>
        <p:blipFill>
          <a:blip r:embed="rId1"/>
          <a:stretch/>
        </p:blipFill>
        <p:spPr>
          <a:xfrm>
            <a:off x="2143080" y="1285920"/>
            <a:ext cx="45007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1"/>
          <a:stretch/>
        </p:blipFill>
        <p:spPr>
          <a:xfrm>
            <a:off x="1928880" y="714240"/>
            <a:ext cx="56433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:\Documents and Settings\ruth.moreland\Local Settings\Temporary Internet Files\Content.IE5\OTANSH2N\MCj04414700000[1].png"/>
          <p:cNvPicPr/>
          <p:nvPr/>
        </p:nvPicPr>
        <p:blipFill>
          <a:blip r:embed="rId1"/>
          <a:stretch/>
        </p:blipFill>
        <p:spPr>
          <a:xfrm>
            <a:off x="928800" y="928800"/>
            <a:ext cx="7572240" cy="638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Aiga Symbol Signs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104440" y="-26051040"/>
            <a:ext cx="28576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iki.openstreetmap.org/images/thumb/8/8f/Playground.png/120px-Playground.png"/>
          <p:cNvPicPr/>
          <p:nvPr/>
        </p:nvPicPr>
        <p:blipFill>
          <a:blip r:embed="rId1"/>
          <a:stretch/>
        </p:blipFill>
        <p:spPr>
          <a:xfrm>
            <a:off x="1643040" y="428760"/>
            <a:ext cx="61437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714680" y="1000080"/>
            <a:ext cx="57862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429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clker.com/cliparts/7/a/1/2/1207431902490181434pedestrian%20crossing%20black.svg.thumb.png"/>
          <p:cNvPicPr/>
          <p:nvPr/>
        </p:nvPicPr>
        <p:blipFill>
          <a:blip r:embed="rId1"/>
          <a:stretch/>
        </p:blipFill>
        <p:spPr>
          <a:xfrm>
            <a:off x="1857240" y="714240"/>
            <a:ext cx="5668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ruth.moreland\Local Settings\Temporary Internet Files\Content.IE5\OTANSH2N\MCSY00857_0000[1].wmf"/>
          <p:cNvPicPr/>
          <p:nvPr/>
        </p:nvPicPr>
        <p:blipFill>
          <a:blip r:embed="rId1"/>
          <a:stretch/>
        </p:blipFill>
        <p:spPr>
          <a:xfrm>
            <a:off x="785880" y="7142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3" descr="C:\Documents and Settings\ruth.moreland\Local Settings\Temporary Internet Files\Content.IE5\WDEBW167\MCj04114060000[1].wmf"/>
          <p:cNvPicPr/>
          <p:nvPr/>
        </p:nvPicPr>
        <p:blipFill>
          <a:blip r:embed="rId2"/>
          <a:stretch/>
        </p:blipFill>
        <p:spPr>
          <a:xfrm>
            <a:off x="7143840" y="857160"/>
            <a:ext cx="1146240" cy="110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ruth.moreland\Local Settings\Temporary Internet Files\Content.IE5\OTANSH2N\MCj04414700000[1].png"/>
          <p:cNvPicPr/>
          <p:nvPr/>
        </p:nvPicPr>
        <p:blipFill>
          <a:blip r:embed="rId3"/>
          <a:stretch/>
        </p:blipFill>
        <p:spPr>
          <a:xfrm>
            <a:off x="500040" y="3000240"/>
            <a:ext cx="16099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iki.openstreetmap.org/images/thumb/8/8f/Playground.png/120px-Playground.png"/>
          <p:cNvPicPr/>
          <p:nvPr/>
        </p:nvPicPr>
        <p:blipFill>
          <a:blip r:embed="rId4"/>
          <a:stretch/>
        </p:blipFill>
        <p:spPr>
          <a:xfrm>
            <a:off x="3857760" y="3143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1028880" y="5286240"/>
            <a:ext cx="1752480" cy="10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clker.com/cliparts/7/a/1/2/1207431902490181434pedestrian%20crossing%20black.svg.thumb.png"/>
          <p:cNvPicPr/>
          <p:nvPr/>
        </p:nvPicPr>
        <p:blipFill>
          <a:blip r:embed="rId6"/>
          <a:stretch/>
        </p:blipFill>
        <p:spPr>
          <a:xfrm>
            <a:off x="6858000" y="52149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7"/>
          <a:stretch/>
        </p:blipFill>
        <p:spPr>
          <a:xfrm>
            <a:off x="6786720" y="2857680"/>
            <a:ext cx="1377720" cy="12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www.studyzone.org/testprep/ela4/g/j0290671%5B1%5D.gif"/>
          <p:cNvPicPr/>
          <p:nvPr/>
        </p:nvPicPr>
        <p:blipFill>
          <a:blip r:embed="rId8"/>
          <a:stretch/>
        </p:blipFill>
        <p:spPr>
          <a:xfrm>
            <a:off x="4143240" y="642960"/>
            <a:ext cx="1316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8:54:23Z</dcterms:created>
  <dc:creator>ruth moreland</dc:creator>
  <dc:description/>
  <dc:language>en-US</dc:language>
  <cp:lastModifiedBy>Clare Seccombe</cp:lastModifiedBy>
  <dcterms:modified xsi:type="dcterms:W3CDTF">2010-09-07T12:55:27Z</dcterms:modified>
  <cp:revision>2</cp:revision>
  <dc:subject/>
  <dc:title>Slide 1</dc:title>
</cp:coreProperties>
</file>