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121B-AC46-4C64-9704-8D662B251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E735-927E-4B69-8901-CF5823F7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FF4E-E43D-4649-BEAC-45E53D374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438F-AB52-4C26-B6AA-00A97180F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99FB-F707-45B9-93E9-47A35207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277D-85A8-457A-AB18-ED7BB68B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9C27-25CE-46EF-9EB7-D13287D6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910D-9BB4-463A-9354-28CD93F9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5635-E2F8-4E1E-A398-14302084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B1DA-1575-48A0-9787-4D427049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D61A-2E74-4EBB-9783-4D751DCA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9CD0-549D-4259-9E8E-B1D46C13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2CD5-C63F-4C6A-B62A-BC40277C982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clker.com/clipart-6350.html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11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ruth.moreland\Local Settings\Temporary Internet Files\Content.IE5\OTANSH2N\MCSY00857_0000[1].wmf"/>
          <p:cNvPicPr/>
          <p:nvPr/>
        </p:nvPicPr>
        <p:blipFill>
          <a:blip r:embed="rId1"/>
          <a:stretch/>
        </p:blipFill>
        <p:spPr>
          <a:xfrm>
            <a:off x="1857240" y="785880"/>
            <a:ext cx="564372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ttp://www.studyzone.org/testprep/ela4/g/j0290671%5B1%5D.gif"/>
          <p:cNvPicPr/>
          <p:nvPr/>
        </p:nvPicPr>
        <p:blipFill>
          <a:blip r:embed="rId1"/>
          <a:stretch/>
        </p:blipFill>
        <p:spPr>
          <a:xfrm>
            <a:off x="2143080" y="1285920"/>
            <a:ext cx="450072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3" descr="C:\Documents and Settings\ruth.moreland\Local Settings\Temporary Internet Files\Content.IE5\WDEBW167\MCj04114060000[1].wmf"/>
          <p:cNvPicPr/>
          <p:nvPr/>
        </p:nvPicPr>
        <p:blipFill>
          <a:blip r:embed="rId1"/>
          <a:stretch/>
        </p:blipFill>
        <p:spPr>
          <a:xfrm>
            <a:off x="1928880" y="714240"/>
            <a:ext cx="564336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C:\Documents and Settings\ruth.moreland\Local Settings\Temporary Internet Files\Content.IE5\OTANSH2N\MCj04414700000[1].png"/>
          <p:cNvPicPr/>
          <p:nvPr/>
        </p:nvPicPr>
        <p:blipFill>
          <a:blip r:embed="rId1"/>
          <a:stretch/>
        </p:blipFill>
        <p:spPr>
          <a:xfrm>
            <a:off x="928800" y="928800"/>
            <a:ext cx="7572240" cy="6386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Aiga Symbol Signs Clipar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104440" y="-26051040"/>
            <a:ext cx="285768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http://wiki.openstreetmap.org/images/thumb/8/8f/Playground.png/120px-Playground.png"/>
          <p:cNvPicPr/>
          <p:nvPr/>
        </p:nvPicPr>
        <p:blipFill>
          <a:blip r:embed="rId1"/>
          <a:stretch/>
        </p:blipFill>
        <p:spPr>
          <a:xfrm>
            <a:off x="1643040" y="428760"/>
            <a:ext cx="614376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1714680" y="1000080"/>
            <a:ext cx="57862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285840" y="642960"/>
            <a:ext cx="842940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www.clker.com/cliparts/7/a/1/2/1207431902490181434pedestrian%20crossing%20black.svg.thumb.png"/>
          <p:cNvPicPr/>
          <p:nvPr/>
        </p:nvPicPr>
        <p:blipFill>
          <a:blip r:embed="rId1"/>
          <a:stretch/>
        </p:blipFill>
        <p:spPr>
          <a:xfrm>
            <a:off x="1857240" y="714240"/>
            <a:ext cx="566892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ruth.moreland\Local Settings\Temporary Internet Files\Content.IE5\OTANSH2N\MCSY00857_0000[1].wmf"/>
          <p:cNvPicPr/>
          <p:nvPr/>
        </p:nvPicPr>
        <p:blipFill>
          <a:blip r:embed="rId1"/>
          <a:stretch/>
        </p:blipFill>
        <p:spPr>
          <a:xfrm>
            <a:off x="785880" y="714240"/>
            <a:ext cx="1214280" cy="121464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3" descr="C:\Documents and Settings\ruth.moreland\Local Settings\Temporary Internet Files\Content.IE5\WDEBW167\MCj04114060000[1].wmf"/>
          <p:cNvPicPr/>
          <p:nvPr/>
        </p:nvPicPr>
        <p:blipFill>
          <a:blip r:embed="rId2"/>
          <a:stretch/>
        </p:blipFill>
        <p:spPr>
          <a:xfrm>
            <a:off x="7143840" y="857160"/>
            <a:ext cx="1146240" cy="1106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C:\Documents and Settings\ruth.moreland\Local Settings\Temporary Internet Files\Content.IE5\OTANSH2N\MCj04414700000[1].png"/>
          <p:cNvPicPr/>
          <p:nvPr/>
        </p:nvPicPr>
        <p:blipFill>
          <a:blip r:embed="rId3"/>
          <a:stretch/>
        </p:blipFill>
        <p:spPr>
          <a:xfrm>
            <a:off x="500040" y="3000240"/>
            <a:ext cx="1609920" cy="1357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wiki.openstreetmap.org/images/thumb/8/8f/Playground.png/120px-Playground.png"/>
          <p:cNvPicPr/>
          <p:nvPr/>
        </p:nvPicPr>
        <p:blipFill>
          <a:blip r:embed="rId4"/>
          <a:stretch/>
        </p:blipFill>
        <p:spPr>
          <a:xfrm>
            <a:off x="3857760" y="3143160"/>
            <a:ext cx="1214280" cy="1214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5"/>
          <a:stretch/>
        </p:blipFill>
        <p:spPr>
          <a:xfrm>
            <a:off x="1028880" y="5286240"/>
            <a:ext cx="1752480" cy="1095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://www.clker.com/cliparts/7/a/1/2/1207431902490181434pedestrian%20crossing%20black.svg.thumb.png"/>
          <p:cNvPicPr/>
          <p:nvPr/>
        </p:nvPicPr>
        <p:blipFill>
          <a:blip r:embed="rId6"/>
          <a:stretch/>
        </p:blipFill>
        <p:spPr>
          <a:xfrm>
            <a:off x="6858000" y="521496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7"/>
          <a:stretch/>
        </p:blipFill>
        <p:spPr>
          <a:xfrm>
            <a:off x="6786720" y="2857680"/>
            <a:ext cx="1377720" cy="1204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http://www.studyzone.org/testprep/ela4/g/j0290671%5B1%5D.gif"/>
          <p:cNvPicPr/>
          <p:nvPr/>
        </p:nvPicPr>
        <p:blipFill>
          <a:blip r:embed="rId8"/>
          <a:stretch/>
        </p:blipFill>
        <p:spPr>
          <a:xfrm>
            <a:off x="4143240" y="642960"/>
            <a:ext cx="1316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4T08:54:23Z</dcterms:created>
  <dc:creator>ruth moreland</dc:creator>
  <dc:description/>
  <dc:language>en-US</dc:language>
  <cp:lastModifiedBy>Clare Seccombe</cp:lastModifiedBy>
  <dcterms:modified xsi:type="dcterms:W3CDTF">2010-09-07T12:55:27Z</dcterms:modified>
  <cp:revision>2</cp:revision>
  <dc:subject/>
  <dc:title>Slide 1</dc:title>
</cp:coreProperties>
</file>