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67.wmf" ContentType="image/x-wmf"/>
  <Override PartName="/ppt/media/image3.jpeg" ContentType="image/jpeg"/>
  <Override PartName="/ppt/media/image30.png" ContentType="image/png"/>
  <Override PartName="/ppt/media/image18.wmf" ContentType="image/x-wmf"/>
  <Override PartName="/ppt/media/image20.wmf" ContentType="image/x-wmf"/>
  <Override PartName="/ppt/media/image58.wmf" ContentType="image/x-wmf"/>
  <Override PartName="/ppt/media/image60.png" ContentType="image/png"/>
  <Override PartName="/ppt/media/image21.wmf" ContentType="image/x-wmf"/>
  <Override PartName="/ppt/media/image57.png" ContentType="image/png"/>
  <Override PartName="/ppt/media/image14.wmf" ContentType="image/x-wmf"/>
  <Override PartName="/ppt/media/image2.jpeg" ContentType="image/jpeg"/>
  <Override PartName="/ppt/media/image31.png" ContentType="image/png"/>
  <Override PartName="/ppt/media/image1.png" ContentType="image/png"/>
  <Override PartName="/ppt/media/image66.png" ContentType="image/png"/>
  <Override PartName="/ppt/media/image65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61.png" ContentType="image/png"/>
  <Override PartName="/ppt/media/image26.png" ContentType="image/png"/>
  <Override PartName="/ppt/media/image25.png" ContentType="image/png"/>
  <Override PartName="/ppt/media/image19.wmf" ContentType="image/x-wmf"/>
  <Override PartName="/ppt/media/image3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5.wmf" ContentType="image/x-wmf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52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0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3.wmf" ContentType="image/x-wmf"/>
  <Override PartName="/ppt/media/image32.png" ContentType="image/png"/>
  <Override PartName="/ppt/media/image33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517-A8D5-447C-9287-5E097199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FEC-9F59-40C2-87F5-952F85C2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691-DD53-4D76-AB2A-EEAE439B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771-779A-44F2-9D0B-4E54E9C3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F58-7B2F-42EC-B5A0-02462C3A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BE20-E816-4CAE-8154-9B276A8C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71C-1840-42DB-A51C-CD19AEFF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47D2-866C-47A0-8564-B4B91E9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508A-D062-45E0-8981-6AA7F902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1B62-1E34-4C58-84D2-AEFFE1D2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2B6-FDA9-45CD-947F-AE3B72D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345-8D32-4CB2-A8A9-759FC567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E281-64C4-4BBF-A352-76985D7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A032-950C-4638-A9E8-07A733E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7D13-7DBF-45CF-A00B-570FBE7A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2B1-5F44-4381-8B05-1E1A0D49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137-71B8-4E52-8E15-2984FECE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A7F0-D128-420D-802C-35371A3E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7044-AD6D-4A07-83F0-15091E9C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E59A-9CB9-4060-BB2F-29F981F9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9680-6FCB-4B70-9B54-3C574A0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0495-FCA8-484B-9857-50A2A0D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6E8-B7F6-4142-9865-06E71411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47D2-DC8F-4BA4-AD9E-04871E0C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69F6-C327-4739-ACF0-17D4243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4999-2CB6-4159-AADE-1300FE70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4668-0A33-4C32-84C1-F8F8392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876A9-F7AE-4F30-A000-17873AE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2D11-C1CD-4A05-B791-DECAE890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B1D9-AC68-4916-AFE8-3030816B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F0D-51D8-408D-B6B2-7A3DEB4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BDA-C87F-4825-9534-EE29678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0DA-130D-4B44-AAAC-34E936D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0A5-58C3-400B-AF7E-9605D34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F26-F230-4138-AED9-3616A19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E7B-EA64-4ED4-9AED-3915983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9913-52F8-4F73-8912-579F4474C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06B4-EAE3-4EBB-A39C-8AF7B5CF0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7BD-5C61-4169-8064-BA180BCF7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wmf"/><Relationship Id="rId4" Type="http://schemas.openxmlformats.org/officeDocument/2006/relationships/image" Target="../media/image56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36.png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png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5 French – Lesson 50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Da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2327400" y="1981080"/>
            <a:ext cx="4464000" cy="4327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50920" y="42696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lundi </a:t>
            </a:r>
            <a:r>
              <a:rPr b="1" lang="en-GB" sz="6600" spc="-1" strike="noStrike">
                <a:solidFill>
                  <a:srgbClr val="0000ff"/>
                </a:solidFill>
                <a:latin typeface="Comic Sans MS"/>
              </a:rPr>
              <a:t>premier</a:t>
            </a: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 janvi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57360"/>
            <a:ext cx="3960720" cy="581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undi 2 déc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2360" y="2690640"/>
            <a:ext cx="396072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2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52360" y="3824280"/>
            <a:ext cx="3960720" cy="581400"/>
          </a:xfrm>
          <a:prstGeom prst="rect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0 ju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52360" y="4957920"/>
            <a:ext cx="3960720" cy="581400"/>
          </a:xfrm>
          <a:prstGeom prst="rect">
            <a:avLst/>
          </a:prstGeom>
          <a:solidFill>
            <a:srgbClr val="33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1 a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50920" y="6093000"/>
            <a:ext cx="3960720" cy="58140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rcredi 3 fév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932360" y="1557360"/>
            <a:ext cx="396072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3 j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930920" y="2690640"/>
            <a:ext cx="3960720" cy="581400"/>
          </a:xfrm>
          <a:prstGeom prst="rect">
            <a:avLst/>
          </a:prstGeom>
          <a:solidFill>
            <a:srgbClr val="cc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manche 4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930920" y="3824280"/>
            <a:ext cx="3960720" cy="581400"/>
          </a:xfrm>
          <a:prstGeom prst="rect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6 av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930920" y="4957920"/>
            <a:ext cx="39607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8 oct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932360" y="6093000"/>
            <a:ext cx="3960720" cy="581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lundi 1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692360" y="171360"/>
            <a:ext cx="57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TOUCHEZ LA D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1"/>
          <a:stretch/>
        </p:blipFill>
        <p:spPr>
          <a:xfrm>
            <a:off x="250920" y="0"/>
            <a:ext cx="1217520" cy="144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"/>
          <p:cNvPicPr/>
          <p:nvPr/>
        </p:nvPicPr>
        <p:blipFill>
          <a:blip r:embed="rId2"/>
          <a:stretch/>
        </p:blipFill>
        <p:spPr>
          <a:xfrm flipH="1">
            <a:off x="7667640" y="0"/>
            <a:ext cx="1217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’est quel jour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457200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elle est la date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71640" y="15876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QUESTION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414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14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’est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quel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jour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457200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Que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est la date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457280" y="2997360"/>
            <a:ext cx="1657440" cy="144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"/>
          <p:cNvPicPr/>
          <p:nvPr/>
        </p:nvPicPr>
        <p:blipFill>
          <a:blip r:embed="rId4"/>
          <a:stretch/>
        </p:blipFill>
        <p:spPr>
          <a:xfrm>
            <a:off x="6148440" y="3003480"/>
            <a:ext cx="141912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5"/>
          <p:cNvSpPr/>
          <p:nvPr/>
        </p:nvSpPr>
        <p:spPr>
          <a:xfrm>
            <a:off x="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’est </a:t>
            </a:r>
            <a:r>
              <a:rPr b="1" lang="en-GB" sz="3600" spc="-1" strike="noStrike" u="sng">
                <a:solidFill>
                  <a:srgbClr val="0000ff"/>
                </a:solidFill>
                <a:uFillTx/>
                <a:latin typeface="Comic Sans MS"/>
              </a:rPr>
              <a:t>quel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jour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457200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Que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est la date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7" descr=""/>
          <p:cNvPicPr/>
          <p:nvPr/>
        </p:nvPicPr>
        <p:blipFill>
          <a:blip r:embed="rId5"/>
          <a:stretch/>
        </p:blipFill>
        <p:spPr>
          <a:xfrm flipH="1">
            <a:off x="3131640" y="4869000"/>
            <a:ext cx="1195560" cy="1439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8" descr=""/>
          <p:cNvPicPr/>
          <p:nvPr/>
        </p:nvPicPr>
        <p:blipFill>
          <a:blip r:embed="rId6"/>
          <a:stretch/>
        </p:blipFill>
        <p:spPr>
          <a:xfrm flipH="1">
            <a:off x="7451640" y="4869000"/>
            <a:ext cx="1198800" cy="1439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9"/>
          <p:cNvSpPr/>
          <p:nvPr/>
        </p:nvSpPr>
        <p:spPr>
          <a:xfrm>
            <a:off x="250920" y="4869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Mascu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4572000" y="4869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Fem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50920" y="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undi 15 janv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0920" y="342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undi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le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 15 janv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992320" y="4684680"/>
            <a:ext cx="3130560" cy="2173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3895560" y="1268280"/>
            <a:ext cx="1309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824120" y="1246320"/>
            <a:ext cx="5472000" cy="43084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250920" y="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mardi 14 juillet 17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7"/>
          <p:cNvSpPr txBox="1"/>
          <p:nvPr/>
        </p:nvSpPr>
        <p:spPr>
          <a:xfrm>
            <a:off x="971640" y="5734080"/>
            <a:ext cx="72007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ASTILL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1908000" y="2160720"/>
            <a:ext cx="48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To write the date in Fr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1908000" y="2160720"/>
            <a:ext cx="48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To say the date in Fr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932280" y="2043000"/>
            <a:ext cx="1224000" cy="72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5819760" y="2038320"/>
            <a:ext cx="1165320" cy="72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7537320" y="2033640"/>
            <a:ext cx="1200240" cy="72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250920" y="3059280"/>
            <a:ext cx="1160280" cy="726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5"/>
          <a:stretch/>
        </p:blipFill>
        <p:spPr>
          <a:xfrm>
            <a:off x="1870200" y="3060720"/>
            <a:ext cx="1454040" cy="74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6"/>
          <a:stretch/>
        </p:blipFill>
        <p:spPr>
          <a:xfrm>
            <a:off x="3781440" y="3067200"/>
            <a:ext cx="1527120" cy="73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7"/>
          <a:stretch/>
        </p:blipFill>
        <p:spPr>
          <a:xfrm>
            <a:off x="5843520" y="3065400"/>
            <a:ext cx="1117800" cy="72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7389720" y="3056040"/>
            <a:ext cx="1492200" cy="74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9"/>
          <a:stretch/>
        </p:blipFill>
        <p:spPr>
          <a:xfrm>
            <a:off x="525600" y="0"/>
            <a:ext cx="609480" cy="719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10"/>
          <a:stretch/>
        </p:blipFill>
        <p:spPr>
          <a:xfrm>
            <a:off x="2314440" y="6480"/>
            <a:ext cx="561960" cy="70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11"/>
          <a:stretch/>
        </p:blipFill>
        <p:spPr>
          <a:xfrm>
            <a:off x="4211640" y="0"/>
            <a:ext cx="66816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12"/>
          <a:stretch/>
        </p:blipFill>
        <p:spPr>
          <a:xfrm>
            <a:off x="6132600" y="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13"/>
          <a:stretch/>
        </p:blipFill>
        <p:spPr>
          <a:xfrm>
            <a:off x="7848720" y="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4"/>
          <a:stretch/>
        </p:blipFill>
        <p:spPr>
          <a:xfrm>
            <a:off x="563400" y="1012680"/>
            <a:ext cx="535320" cy="70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"/>
          <p:cNvPicPr/>
          <p:nvPr/>
        </p:nvPicPr>
        <p:blipFill>
          <a:blip r:embed="rId15"/>
          <a:stretch/>
        </p:blipFill>
        <p:spPr>
          <a:xfrm>
            <a:off x="2181240" y="1008000"/>
            <a:ext cx="828720" cy="73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"/>
          <p:cNvPicPr/>
          <p:nvPr/>
        </p:nvPicPr>
        <p:blipFill>
          <a:blip r:embed="rId16"/>
          <a:stretch/>
        </p:blipFill>
        <p:spPr>
          <a:xfrm>
            <a:off x="4057560" y="1017720"/>
            <a:ext cx="973080" cy="72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"/>
          <p:cNvPicPr/>
          <p:nvPr/>
        </p:nvPicPr>
        <p:blipFill>
          <a:blip r:embed="rId17"/>
          <a:stretch/>
        </p:blipFill>
        <p:spPr>
          <a:xfrm>
            <a:off x="6046920" y="1019160"/>
            <a:ext cx="709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18"/>
          <a:stretch/>
        </p:blipFill>
        <p:spPr>
          <a:xfrm>
            <a:off x="7507440" y="1015920"/>
            <a:ext cx="1260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"/>
          <p:cNvPicPr/>
          <p:nvPr/>
        </p:nvPicPr>
        <p:blipFill>
          <a:blip r:embed="rId19"/>
          <a:stretch/>
        </p:blipFill>
        <p:spPr>
          <a:xfrm>
            <a:off x="254160" y="2009880"/>
            <a:ext cx="1152360" cy="75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"/>
          <p:cNvPicPr/>
          <p:nvPr/>
        </p:nvPicPr>
        <p:blipFill>
          <a:blip r:embed="rId20"/>
          <a:stretch/>
        </p:blipFill>
        <p:spPr>
          <a:xfrm>
            <a:off x="2075040" y="2041560"/>
            <a:ext cx="1044360" cy="72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4" descr=""/>
          <p:cNvPicPr/>
          <p:nvPr/>
        </p:nvPicPr>
        <p:blipFill>
          <a:blip r:embed="rId21"/>
          <a:stretch/>
        </p:blipFill>
        <p:spPr>
          <a:xfrm>
            <a:off x="1928880" y="5114880"/>
            <a:ext cx="1333440" cy="723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22"/>
          <a:stretch/>
        </p:blipFill>
        <p:spPr>
          <a:xfrm>
            <a:off x="5807160" y="5106960"/>
            <a:ext cx="1189080" cy="725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"/>
          <p:cNvPicPr/>
          <p:nvPr/>
        </p:nvPicPr>
        <p:blipFill>
          <a:blip r:embed="rId23"/>
          <a:stretch/>
        </p:blipFill>
        <p:spPr>
          <a:xfrm>
            <a:off x="3987720" y="6132600"/>
            <a:ext cx="1116000" cy="72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"/>
          <p:cNvPicPr/>
          <p:nvPr/>
        </p:nvPicPr>
        <p:blipFill>
          <a:blip r:embed="rId24"/>
          <a:stretch/>
        </p:blipFill>
        <p:spPr>
          <a:xfrm>
            <a:off x="7470720" y="5108400"/>
            <a:ext cx="1332000" cy="72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"/>
          <p:cNvPicPr/>
          <p:nvPr/>
        </p:nvPicPr>
        <p:blipFill>
          <a:blip r:embed="rId25"/>
          <a:stretch/>
        </p:blipFill>
        <p:spPr>
          <a:xfrm>
            <a:off x="3789360" y="5118120"/>
            <a:ext cx="1511280" cy="716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"/>
          <p:cNvPicPr/>
          <p:nvPr/>
        </p:nvPicPr>
        <p:blipFill>
          <a:blip r:embed="rId26"/>
          <a:stretch/>
        </p:blipFill>
        <p:spPr>
          <a:xfrm>
            <a:off x="272880" y="5106960"/>
            <a:ext cx="1116360" cy="730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"/>
          <p:cNvPicPr/>
          <p:nvPr/>
        </p:nvPicPr>
        <p:blipFill>
          <a:blip r:embed="rId27"/>
          <a:stretch/>
        </p:blipFill>
        <p:spPr>
          <a:xfrm>
            <a:off x="7578720" y="4095720"/>
            <a:ext cx="1117440" cy="71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"/>
          <p:cNvPicPr/>
          <p:nvPr/>
        </p:nvPicPr>
        <p:blipFill>
          <a:blip r:embed="rId28"/>
          <a:stretch/>
        </p:blipFill>
        <p:spPr>
          <a:xfrm>
            <a:off x="5862600" y="4091040"/>
            <a:ext cx="1079640" cy="717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"/>
          <p:cNvPicPr/>
          <p:nvPr/>
        </p:nvPicPr>
        <p:blipFill>
          <a:blip r:embed="rId29"/>
          <a:stretch/>
        </p:blipFill>
        <p:spPr>
          <a:xfrm>
            <a:off x="3933720" y="4100400"/>
            <a:ext cx="1222560" cy="72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"/>
          <p:cNvPicPr/>
          <p:nvPr/>
        </p:nvPicPr>
        <p:blipFill>
          <a:blip r:embed="rId30"/>
          <a:stretch/>
        </p:blipFill>
        <p:spPr>
          <a:xfrm>
            <a:off x="2038320" y="4098960"/>
            <a:ext cx="1117800" cy="72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"/>
          <p:cNvPicPr/>
          <p:nvPr/>
        </p:nvPicPr>
        <p:blipFill>
          <a:blip r:embed="rId31"/>
          <a:stretch/>
        </p:blipFill>
        <p:spPr>
          <a:xfrm>
            <a:off x="254160" y="4079880"/>
            <a:ext cx="1152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03508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036880" y="4761000"/>
            <a:ext cx="71892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2000160" y="3902040"/>
            <a:ext cx="792360" cy="74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198756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5"/>
          <a:stretch/>
        </p:blipFill>
        <p:spPr>
          <a:xfrm>
            <a:off x="197964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6"/>
          <a:stretch/>
        </p:blipFill>
        <p:spPr>
          <a:xfrm>
            <a:off x="206388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7"/>
          <a:stretch/>
        </p:blipFill>
        <p:spPr>
          <a:xfrm>
            <a:off x="203508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3476520" y="5731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476520" y="14144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r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476520" y="22575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erc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476520" y="31003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eu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3476520" y="3941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vend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476520" y="47847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am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3476520" y="56275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iman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"/>
          <p:cNvPicPr/>
          <p:nvPr/>
        </p:nvPicPr>
        <p:blipFill>
          <a:blip r:embed="rId8"/>
          <a:stretch/>
        </p:blipFill>
        <p:spPr>
          <a:xfrm>
            <a:off x="635652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9"/>
          <a:stretch/>
        </p:blipFill>
        <p:spPr>
          <a:xfrm>
            <a:off x="6357960" y="47610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10"/>
          <a:stretch/>
        </p:blipFill>
        <p:spPr>
          <a:xfrm>
            <a:off x="6321600" y="3902040"/>
            <a:ext cx="792000" cy="746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11"/>
          <a:stretch/>
        </p:blipFill>
        <p:spPr>
          <a:xfrm>
            <a:off x="630864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12"/>
          <a:stretch/>
        </p:blipFill>
        <p:spPr>
          <a:xfrm>
            <a:off x="630072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13"/>
          <a:stretch/>
        </p:blipFill>
        <p:spPr>
          <a:xfrm>
            <a:off x="638496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14"/>
          <a:stretch/>
        </p:blipFill>
        <p:spPr>
          <a:xfrm>
            <a:off x="635652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92" name="WordArt 25"/>
          <p:cNvSpPr txBox="1"/>
          <p:nvPr/>
        </p:nvSpPr>
        <p:spPr>
          <a:xfrm rot="5400000">
            <a:off x="565272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3" name="WordArt 26"/>
          <p:cNvSpPr txBox="1"/>
          <p:nvPr/>
        </p:nvSpPr>
        <p:spPr>
          <a:xfrm rot="5400000">
            <a:off x="-226836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AYS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2"/>
          <p:cNvSpPr/>
          <p:nvPr/>
        </p:nvSpPr>
        <p:spPr>
          <a:xfrm>
            <a:off x="186048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86048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860480" y="3313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86048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86048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1835280" y="5950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474012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474012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740120" y="33130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74012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74012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4714920" y="595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46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6"/>
          <p:cNvSpPr/>
          <p:nvPr/>
        </p:nvSpPr>
        <p:spPr>
          <a:xfrm>
            <a:off x="250920" y="2649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MONTHS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7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126180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"/>
          <p:cNvPicPr/>
          <p:nvPr/>
        </p:nvPicPr>
        <p:blipFill>
          <a:blip r:embed="rId4"/>
          <a:stretch/>
        </p:blipFill>
        <p:spPr>
          <a:xfrm>
            <a:off x="325440" y="24354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"/>
          <p:cNvPicPr/>
          <p:nvPr/>
        </p:nvPicPr>
        <p:blipFill>
          <a:blip r:embed="rId5"/>
          <a:stretch/>
        </p:blipFill>
        <p:spPr>
          <a:xfrm>
            <a:off x="324000" y="3314880"/>
            <a:ext cx="1261800" cy="75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"/>
          <p:cNvPicPr/>
          <p:nvPr/>
        </p:nvPicPr>
        <p:blipFill>
          <a:blip r:embed="rId6"/>
          <a:stretch/>
        </p:blipFill>
        <p:spPr>
          <a:xfrm>
            <a:off x="32544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1" descr=""/>
          <p:cNvPicPr/>
          <p:nvPr/>
        </p:nvPicPr>
        <p:blipFill>
          <a:blip r:embed="rId7"/>
          <a:stretch/>
        </p:blipFill>
        <p:spPr>
          <a:xfrm>
            <a:off x="324000" y="5950080"/>
            <a:ext cx="1260360" cy="76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2" descr=""/>
          <p:cNvPicPr/>
          <p:nvPr/>
        </p:nvPicPr>
        <p:blipFill>
          <a:blip r:embed="rId8"/>
          <a:stretch/>
        </p:blipFill>
        <p:spPr>
          <a:xfrm>
            <a:off x="325440" y="50706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"/>
          <p:cNvPicPr/>
          <p:nvPr/>
        </p:nvPicPr>
        <p:blipFill>
          <a:blip r:embed="rId9"/>
          <a:stretch/>
        </p:blipFill>
        <p:spPr>
          <a:xfrm>
            <a:off x="7524720" y="1557360"/>
            <a:ext cx="1260360" cy="752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"/>
          <p:cNvPicPr/>
          <p:nvPr/>
        </p:nvPicPr>
        <p:blipFill>
          <a:blip r:embed="rId10"/>
          <a:stretch/>
        </p:blipFill>
        <p:spPr>
          <a:xfrm>
            <a:off x="7526160" y="2430360"/>
            <a:ext cx="1260720" cy="75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5" descr=""/>
          <p:cNvPicPr/>
          <p:nvPr/>
        </p:nvPicPr>
        <p:blipFill>
          <a:blip r:embed="rId11"/>
          <a:stretch/>
        </p:blipFill>
        <p:spPr>
          <a:xfrm>
            <a:off x="7526160" y="3308400"/>
            <a:ext cx="1260720" cy="757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6" descr=""/>
          <p:cNvPicPr/>
          <p:nvPr/>
        </p:nvPicPr>
        <p:blipFill>
          <a:blip r:embed="rId12"/>
          <a:stretch/>
        </p:blipFill>
        <p:spPr>
          <a:xfrm>
            <a:off x="752472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7" descr=""/>
          <p:cNvPicPr/>
          <p:nvPr/>
        </p:nvPicPr>
        <p:blipFill>
          <a:blip r:embed="rId13"/>
          <a:stretch/>
        </p:blipFill>
        <p:spPr>
          <a:xfrm>
            <a:off x="7524720" y="5068800"/>
            <a:ext cx="1260360" cy="75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8" descr=""/>
          <p:cNvPicPr/>
          <p:nvPr/>
        </p:nvPicPr>
        <p:blipFill>
          <a:blip r:embed="rId14"/>
          <a:stretch/>
        </p:blipFill>
        <p:spPr>
          <a:xfrm>
            <a:off x="7524720" y="5950080"/>
            <a:ext cx="1260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2432160" y="1989000"/>
            <a:ext cx="4255920" cy="4319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50920" y="549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Quelle est la date aujourd’h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50920" y="549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ff"/>
                </a:solidFill>
                <a:uFillTx/>
                <a:latin typeface="Comic Sans MS"/>
              </a:rPr>
              <a:t>Quelle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 est la date aujourd’h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1700280"/>
            <a:ext cx="208908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QUESTION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574560" y="27082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Line 8"/>
          <p:cNvSpPr/>
          <p:nvPr/>
        </p:nvSpPr>
        <p:spPr>
          <a:xfrm flipV="1">
            <a:off x="1295280" y="126828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141720" y="1989000"/>
            <a:ext cx="2836800" cy="2880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50920" y="549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Quelle est la date aujourd’h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0" y="544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ujourd’hui, c’est </a:t>
            </a:r>
            <a:r>
              <a:rPr b="1" lang="en-GB" sz="4400" spc="-1" strike="noStrike">
                <a:solidFill>
                  <a:srgbClr val="00ff00"/>
                </a:solidFill>
                <a:latin typeface="Comic Sans MS"/>
              </a:rPr>
              <a:t>mardi 5 juin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50920" y="1268280"/>
            <a:ext cx="3960720" cy="581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undi 2 déc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52360" y="2455920"/>
            <a:ext cx="396072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2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2360" y="3645000"/>
            <a:ext cx="3960720" cy="581400"/>
          </a:xfrm>
          <a:prstGeom prst="rect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0 ju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52360" y="4832280"/>
            <a:ext cx="3960720" cy="581400"/>
          </a:xfrm>
          <a:prstGeom prst="rect">
            <a:avLst/>
          </a:prstGeom>
          <a:solidFill>
            <a:srgbClr val="33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1 a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50920" y="6021360"/>
            <a:ext cx="3960720" cy="58140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rcredi 3 fév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932360" y="1268280"/>
            <a:ext cx="396072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3 j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4930920" y="2455920"/>
            <a:ext cx="3960720" cy="581400"/>
          </a:xfrm>
          <a:prstGeom prst="rect">
            <a:avLst/>
          </a:prstGeom>
          <a:solidFill>
            <a:srgbClr val="cc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manche 4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930920" y="3645000"/>
            <a:ext cx="3960720" cy="581400"/>
          </a:xfrm>
          <a:prstGeom prst="rect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6 av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4930920" y="4832280"/>
            <a:ext cx="39607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8 oct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Répétez si c’est la vérité</a:t>
            </a:r>
            <a:r>
              <a:rPr b="1" lang="fr-FR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260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Comic Sans MS"/>
              </a:rPr>
              <a:t>lundi </a:t>
            </a:r>
            <a:r>
              <a:rPr b="1" lang="en-GB" sz="88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GB" sz="8800" spc="-1" strike="noStrike">
                <a:solidFill>
                  <a:srgbClr val="000000"/>
                </a:solidFill>
                <a:latin typeface="Comic Sans MS"/>
              </a:rPr>
              <a:t> janvi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327400" y="1981080"/>
            <a:ext cx="446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 Seccombe</cp:lastModifiedBy>
  <dcterms:modified xsi:type="dcterms:W3CDTF">2010-09-07T13:18:17Z</dcterms:modified>
  <cp:revision>203</cp:revision>
  <dc:subject/>
  <dc:title>KS2 Yr 5 French – Lesson 1  </dc:title>
</cp:coreProperties>
</file>