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7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9B0-D542-4C12-8F31-EAF74B33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A66-F060-4041-89D3-3C62D33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051-C89C-4E49-B715-6CB98F3F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67D-2E76-494E-B2D4-E2EB259E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C783-0044-4267-B1E7-C6B19DF8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C77-6CC3-423F-AFC7-2E9CA3C1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3FE-9F7D-4615-81B2-E6F4346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8C28-CE2D-4D48-9E93-8627E6FF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BD6-E4CF-4F90-A75A-1726A904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C090-FEEE-4B71-8ADC-C788AC82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EDBC-CA66-464D-90CA-90E7A81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348-211C-46F4-8D61-E8EEC44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FFA-94E4-41B4-8054-3E10800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A2F-97DE-41F4-A231-9F13920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1BB-26AC-437B-8602-6D248526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2CBB-638A-49AE-AC7A-46681A42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8820-AC68-4B39-832A-E82CA84A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485-224E-49F9-A4B8-8698D4A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E30-B952-4210-9BC9-97BD8394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735-FD98-4878-A636-A167F91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712-D8F4-414F-8129-18243E6F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B96-994A-489C-B86E-FEB57CF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D46-1C23-432C-B963-71DE829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BCE-3200-4234-937B-EB3034D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F1D-9BA0-4BF7-AEFD-C3E4569315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954-F447-4514-95B1-BF5D68A18033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3/JamesIEngland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Gunpowde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0000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Guy Faw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Picture 6" descr="GFAWKES"/>
          <p:cNvPicPr/>
          <p:nvPr/>
        </p:nvPicPr>
        <p:blipFill>
          <a:blip r:embed="rId1"/>
          <a:stretch/>
        </p:blipFill>
        <p:spPr>
          <a:xfrm>
            <a:off x="2328840" y="1981080"/>
            <a:ext cx="44863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 lived 400 years ago in Lond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5" descr="Houses of Parliament"/>
          <p:cNvPicPr/>
          <p:nvPr/>
        </p:nvPicPr>
        <p:blipFill>
          <a:blip r:embed="rId1"/>
          <a:stretch/>
        </p:blipFill>
        <p:spPr>
          <a:xfrm>
            <a:off x="1979640" y="1773360"/>
            <a:ext cx="416088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uy Fawkes and his friends made a plot to kill the king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6" descr="PMAN"/>
          <p:cNvPicPr/>
          <p:nvPr/>
        </p:nvPicPr>
        <p:blipFill>
          <a:blip r:embed="rId1"/>
          <a:stretch/>
        </p:blipFill>
        <p:spPr>
          <a:xfrm>
            <a:off x="2668680" y="2658960"/>
            <a:ext cx="1189080" cy="284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STMAN"/>
          <p:cNvPicPr/>
          <p:nvPr/>
        </p:nvPicPr>
        <p:blipFill>
          <a:blip r:embed="rId2"/>
          <a:stretch/>
        </p:blipFill>
        <p:spPr>
          <a:xfrm>
            <a:off x="3276720" y="2205000"/>
            <a:ext cx="1511280" cy="331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PWOMAN"/>
          <p:cNvPicPr/>
          <p:nvPr/>
        </p:nvPicPr>
        <p:blipFill>
          <a:blip r:embed="rId3"/>
          <a:stretch/>
        </p:blipFill>
        <p:spPr>
          <a:xfrm>
            <a:off x="4500720" y="2276640"/>
            <a:ext cx="126360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king found out about the plo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8" descr="Image:JamesIEngl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2997000" cy="5157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0000"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uy Fawkes was caught and hung. So were his friend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6" descr="STOCKS"/>
          <p:cNvPicPr/>
          <p:nvPr/>
        </p:nvPicPr>
        <p:blipFill>
          <a:blip r:embed="rId1"/>
          <a:stretch/>
        </p:blipFill>
        <p:spPr>
          <a:xfrm>
            <a:off x="2124000" y="2205000"/>
            <a:ext cx="35863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e remember this story on 5</a:t>
            </a:r>
            <a:r>
              <a:rPr b="0" lang="en-GB" sz="4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November. People light bonfires and firework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Picture 5" descr="FIREWRK4"/>
          <p:cNvPicPr/>
          <p:nvPr/>
        </p:nvPicPr>
        <p:blipFill>
          <a:blip r:embed="rId1"/>
          <a:stretch/>
        </p:blipFill>
        <p:spPr>
          <a:xfrm>
            <a:off x="1258920" y="2492280"/>
            <a:ext cx="2703600" cy="4114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WHAM"/>
          <p:cNvPicPr/>
          <p:nvPr/>
        </p:nvPicPr>
        <p:blipFill>
          <a:blip r:embed="rId2"/>
          <a:stretch/>
        </p:blipFill>
        <p:spPr>
          <a:xfrm>
            <a:off x="4716360" y="2997360"/>
            <a:ext cx="3959280" cy="3557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05:27Z</dcterms:created>
  <dc:creator>PENNY</dc:creator>
  <dc:description/>
  <dc:language>en-US</dc:language>
  <cp:lastModifiedBy>Clare Seccombe</cp:lastModifiedBy>
  <dcterms:modified xsi:type="dcterms:W3CDTF">2010-09-07T13:22:42Z</dcterms:modified>
  <cp:revision>4</cp:revision>
  <dc:subject/>
  <dc:title>Guy Fawkes</dc:title>
</cp:coreProperties>
</file>