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7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353-24BC-46B5-A032-809B7D50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7AA-F472-4E72-9185-66717CB4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790-11C4-40B2-A960-60BBA92F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650-FAE5-4F67-9A56-4627DFC5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21D9-CF62-487A-9359-89280D97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16D6-72C7-4332-8903-5096A3DD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3999-6E6D-4340-AF69-0ABFC48E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409C-C1EA-444B-A5EB-F51B477E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CAD6-0FBE-4727-B7CF-C94B870E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8BFF-A2BF-46BA-8704-6C04BD74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414C-1EDB-4D9B-9F3B-A087AAD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F51-4108-446E-AEAF-42303B58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8915-130A-4653-94F8-E35120DA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1D9F-DE84-4DF1-AB34-C9CCC897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5E9C-D0ED-460E-9991-0CCA8C83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C0BA-03D3-404A-99D9-481E7CBB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9719-CFAA-49AD-8B49-EABA9122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F77-F774-42F3-894A-4F71E6A5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810-043B-4E35-A3E5-3995176D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D2C-E0B0-4493-A85F-DAB40D73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A8B-BAFF-4D70-A52B-C725D705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5E8-5CF3-4B86-8C77-A46F7B38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1C1-4568-4D8A-9D1F-37556F51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E4E-DDF1-4DBB-A2BE-C7F8EB9E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43C7-D7D7-4DF2-8B4C-EAC9F5E078E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45F6-4D5F-4D87-8245-10D69D05C75E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3/JamesIEngland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Gunpowder Pl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10000">
    <p:wheel spokes="8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Guy Faw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Picture 6" descr="GFAWKES"/>
          <p:cNvPicPr/>
          <p:nvPr/>
        </p:nvPicPr>
        <p:blipFill>
          <a:blip r:embed="rId1"/>
          <a:stretch/>
        </p:blipFill>
        <p:spPr>
          <a:xfrm>
            <a:off x="2328840" y="1981080"/>
            <a:ext cx="448632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 lived 400 years ago in London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Picture 5" descr="Houses of Parliament"/>
          <p:cNvPicPr/>
          <p:nvPr/>
        </p:nvPicPr>
        <p:blipFill>
          <a:blip r:embed="rId1"/>
          <a:stretch/>
        </p:blipFill>
        <p:spPr>
          <a:xfrm>
            <a:off x="1979640" y="1773360"/>
            <a:ext cx="416088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Guy Fawkes and his friends made a plot to kill the king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Picture 6" descr="PMAN"/>
          <p:cNvPicPr/>
          <p:nvPr/>
        </p:nvPicPr>
        <p:blipFill>
          <a:blip r:embed="rId1"/>
          <a:stretch/>
        </p:blipFill>
        <p:spPr>
          <a:xfrm>
            <a:off x="2668680" y="2658960"/>
            <a:ext cx="1189080" cy="2845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STMAN"/>
          <p:cNvPicPr/>
          <p:nvPr/>
        </p:nvPicPr>
        <p:blipFill>
          <a:blip r:embed="rId2"/>
          <a:stretch/>
        </p:blipFill>
        <p:spPr>
          <a:xfrm>
            <a:off x="3276720" y="2205000"/>
            <a:ext cx="1511280" cy="3313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PWOMAN"/>
          <p:cNvPicPr/>
          <p:nvPr/>
        </p:nvPicPr>
        <p:blipFill>
          <a:blip r:embed="rId3"/>
          <a:stretch/>
        </p:blipFill>
        <p:spPr>
          <a:xfrm>
            <a:off x="4500720" y="2276640"/>
            <a:ext cx="1263600" cy="324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king found out about the plo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Picture 8" descr="Image:JamesIEngl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700280"/>
            <a:ext cx="2997000" cy="5157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10000">
    <p:wheel spokes="8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Guy Fawkes was caught and hung. So were his friends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Picture 6" descr="STOCKS"/>
          <p:cNvPicPr/>
          <p:nvPr/>
        </p:nvPicPr>
        <p:blipFill>
          <a:blip r:embed="rId1"/>
          <a:stretch/>
        </p:blipFill>
        <p:spPr>
          <a:xfrm>
            <a:off x="2124000" y="2205000"/>
            <a:ext cx="358632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e remember this story on 5</a:t>
            </a:r>
            <a:r>
              <a:rPr b="0" lang="en-GB" sz="40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November. People light bonfires and fireworks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Picture 5" descr="FIREWRK4"/>
          <p:cNvPicPr/>
          <p:nvPr/>
        </p:nvPicPr>
        <p:blipFill>
          <a:blip r:embed="rId1"/>
          <a:stretch/>
        </p:blipFill>
        <p:spPr>
          <a:xfrm>
            <a:off x="1258920" y="2492280"/>
            <a:ext cx="2703600" cy="4114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WHAM"/>
          <p:cNvPicPr/>
          <p:nvPr/>
        </p:nvPicPr>
        <p:blipFill>
          <a:blip r:embed="rId2"/>
          <a:stretch/>
        </p:blipFill>
        <p:spPr>
          <a:xfrm>
            <a:off x="4716360" y="2997360"/>
            <a:ext cx="3959280" cy="3557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05:27Z</dcterms:created>
  <dc:creator>PENNY</dc:creator>
  <dc:description/>
  <dc:language>en-US</dc:language>
  <cp:lastModifiedBy>Clare Seccombe</cp:lastModifiedBy>
  <dcterms:modified xsi:type="dcterms:W3CDTF">2010-09-07T13:22:42Z</dcterms:modified>
  <cp:revision>4</cp:revision>
  <dc:subject/>
  <dc:title>Guy Fawkes</dc:title>
</cp:coreProperties>
</file>